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CB1-B24E-4A0F-B9BF-075155F0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9AE-4B15-49DE-ABE9-E10DD4A2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2BFA2-4103-4C95-8A90-D5FC45CF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E81BA-5B07-4516-9F85-FA9831DF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8B3C1-6E37-47CC-807C-3495DFF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C43AA-4C6E-48A1-AD5A-298A5B4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C131E-E6F2-41E2-A5B3-F56FD0F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71B71-3960-4B3C-860B-1050D4C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061F1-6023-4F28-8577-87640AFB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C959B-3DEA-4FA0-A7C8-FF87F444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37218-87F5-4CA5-BB69-4B66711E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13CFE-BC9E-4DC5-A096-BCC3DF82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C09-CED2-418C-8C7D-5ECC517F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4EBE2-862C-4EB4-B32F-237F9A86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22D9D-2404-415A-B0CB-BE907CEF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FCC71-C721-44A3-BE52-2057A8E4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A331E-53F6-4584-9768-095FE532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F7E31-7299-44F5-A8CF-00E4D71B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73AFE-EF6E-47EC-B6D0-8159012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E7236-6F1D-4A58-BCA4-BF92B17E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72E5D-2928-49AE-8E56-3DCF46F9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D91FC-6D11-41A8-A3FA-4E9541F7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4385D-9DA4-49E7-8B65-BA77AB0D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B01-237C-4F8B-A942-1792D97B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A1966-77B5-4796-A92D-1D9AF828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DE9C8-955C-4A3A-9E59-F9AE9D16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70EC6-402C-4728-94E0-FBFAF2BB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F4D63-B3A3-47FD-9E85-526E43AA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66C77-735B-4900-B170-75858867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37FF2-BBB4-4341-919B-C908E5D4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26368-8A6E-46E3-ABE1-8E749BB0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908B2-CAC8-4B57-8571-E6467A52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610F0-C21A-4B84-B7D1-522BCEF8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5AD1C-D3CD-4AE4-B69A-91F5B6D3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86CC-F19A-419F-A5E5-442B875B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7836E-992B-43CA-99DD-A8D6B0BC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AAA5D-2EBF-456B-9E7C-5C18B002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C47D4-D577-49C9-ABC0-BC197A39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DF724-D6AD-4D6E-8072-AF316E95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6D75A-97ED-43C2-AFB0-D9FB984B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A19AD-FB7F-44B3-9595-8D778B40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939C1-FD00-4140-A866-B398BBA3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6D299-A227-4C45-98B3-E0F53332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C1261-2EDF-4A10-B56B-CF10A129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5C915-1772-4CE3-B018-ECBF97E5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607-43A9-49DB-9613-D9166663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3A65D-505A-4E2B-AD40-A2F2CE8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BF1AE-8FEA-422F-A088-468F97D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DC87F-A9B0-4920-909B-6138F41B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7FB38-A185-41C0-A63D-0FC2A372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F21B1-33DE-4CB1-BCC8-98788D43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63CA7-DDFE-45C7-AB98-574F4F49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CC7DD-C311-4B34-85E2-9C87EEE2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56260-7977-4176-A087-6F8B53C4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E1762-1BFC-4971-8234-9A4532FD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49E9D-219E-4FCE-BA17-4085756E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3AED-0A79-426B-BBF2-0DD54ACD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AD1F4-4D3B-4DA3-B934-2A51E6F1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6B65B-1FC1-4D2A-ABE6-01BEB771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C5730-FDA1-4D02-AF34-AF557694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0DAE1-B10E-43E5-9FC5-1D060FA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5225C-0481-42DC-8FB5-5721B6D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DECB1-1331-4C95-A1A8-65A3D165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235B4-062E-4C61-A67C-39C50DB7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AF25E-8685-4CBA-9452-508A7C83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681B6-E4FF-439B-AC61-0CF24699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508D4-B16C-4F81-A47C-F3EB7E29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7A46-6C5E-4E40-8D6A-4F2C8048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58B7B-F1CB-44DC-9EFE-AED4DC45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FB4C2-470D-4D3F-B82D-7D3E9DE7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1B8A7-A32E-4317-8DD9-FD1CF09F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2BB73-BF71-4308-9939-F9D0BEB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B923B-BC6B-4CD7-ACA5-F6A232DF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AD818-4F67-4CCB-B792-2930DA41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BF4A0-D2EF-48E6-B568-CB1C7994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1AD3F-BBBE-4D0B-ACBE-2D82C3AA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C52E8-278F-4CB1-A017-949D1EEC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84F26-A0FE-4AAF-A747-09DFDBF6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2347-BA9F-46AB-897D-82BBDB88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B19B8-798B-4FFB-AE7B-025F7B4B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0823E-CAD9-4F0D-AD06-25016CEB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5B5E1-F0C9-4D2F-B902-F73D5883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9D85F-6CA5-45CE-AFCC-D63A4B27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C8E23-D2B9-47F0-B11A-865679C1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54300-A730-4FEC-83DD-93F100A4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2CE78-22E1-4BC9-818D-79F40072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C90B5-6415-4DC3-A216-568FC26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A47CC9-1AB3-4470-943C-4DAF4DC1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ACD28-C584-47FF-B2C7-6240A9AE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7B4A-816B-465E-BB34-4C7AC28B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BA394-1BAF-486F-A555-C0D93683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B50E4-7D2E-4458-B866-79942C8E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56B7E-2827-4BEE-B001-F3BFBAC6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DF019-2D07-4C86-B4AA-01855C5A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E2368-A8E8-444C-A938-E9C710BF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FDE71-FFA9-47B5-8217-CCB0D307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A0D06-F558-45FE-A044-7DE0B2CF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E5D8F-26B1-468F-BD4F-4DD7BAD0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67B16-FAD1-426F-A078-56248F36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4E025-6159-4D71-8356-63C1620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4268-A872-42B9-A272-6C61EEE9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DF83D-5C08-40D5-A32F-740C249C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D9099-09BC-4770-9EE3-5674727A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81206-4158-4F6E-8BF9-B67EC852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503C6-056D-4178-AC79-40E55DD9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A29C3-59F9-4CE7-A54F-727195B7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2BA85-A374-4157-A0E9-31F4DB20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51AED-EA61-4F12-9A20-E5DFBC35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2CFA3-69EC-454F-97FB-DA9E571A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E4D81-E196-4BAE-97D0-DE65811F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26FB5-CFA5-4AE6-9C55-5F597A1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E57-F4DC-4A8E-96DE-5974FB3B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B850-E361-4940-A213-3C2C195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A2085-CF8C-46FE-9D43-CE221DF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8018F-F0DC-4D23-A622-5AC8D7A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4B6F4-9750-49D0-A90C-E5B34BF1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A83B6-21A6-4CDA-AC0F-7034B87B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6502D-DFAB-4F54-83E0-108D7A03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AF6CF-8989-4BF8-877E-4374348F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49E52C-6A18-415C-B2C6-12788EEF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AA4F39-193E-40C3-BD44-EBE487E4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B0EE9E-93B3-4918-8241-D1DF5242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ABCFB-E0BF-45CA-9217-FC80CAEF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39C5-6CD3-45CC-916D-50C8417A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7AD185-BB7C-46D6-9071-112E1EFB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3F665-867A-4D44-AA19-8FDC1FBA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F23C9-6087-4E88-AF93-D60BF6E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1EAB1-EE2A-41DF-A8E9-CCB6081A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5A406-07A5-4D49-AF1B-410E2E93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E3C67-ED5C-4B73-BEE5-5A559CD8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1B06F-D30A-4DBD-A27F-991BDB16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18AFE-FA18-4C97-86B0-1962F7AB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00C9F-1AC5-4C82-A58A-FF9D1931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9F011-5DBF-44D5-AF20-488CF3A1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090F-6AFC-41D1-B429-D14E825C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2EB84-4114-46F4-A81D-5B1300A1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AF145-C999-4A6B-B792-629D3F5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8BA320-3696-441D-8B00-A9C15EFA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BFE29D-61FB-489A-AE01-36E23841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801C0-11E1-4644-94EB-2D4158A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46978-B5CA-44E6-88CF-4D84477E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A14C6E-9CC2-4B9B-BC3A-0829C96C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803DF1-F48E-44D7-9203-1D4B064A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065A09-9072-4B2D-9CB3-43D53889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6440B-7C42-4E62-AE6E-A19DCE22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6ED6-B34E-4F95-96F2-183C91B3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53E123-BC5F-4144-9135-465307D8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91586-7914-491F-9C6A-3EBB28C4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83B9F7-B9C3-4DD3-BBBC-E4479F8C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8B0493-760B-4FEB-B3D3-27250454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A611C-F395-4886-BA1B-365D1EAF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0B5238-F5CE-4936-A6C2-B4DA1B06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39B39-A999-45A4-9C76-9BFB58D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C67A6-240B-4FEA-9241-400F392C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10C8C-353C-48B5-861B-0DD84164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045C1D-837C-48B5-8E24-414F35BB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6311-0A0A-4403-8DEC-EA73141F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E74D59-929F-4F46-94A8-C9BD5157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83D3A-3D4A-47AA-847D-F0439D41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967363-A252-4625-8037-B8ACD9E3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9E688-265B-4818-97BD-8F1E9593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CC784-3E32-4468-90AC-E1990103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61E92-F061-4B80-A3B6-1686526E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A93F71-B2B7-49FD-A3C4-75536524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E745C-629E-4D9A-90C2-FC2E461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FF61F-21ED-4848-B814-4C19A43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F0F8D2-9F86-42FB-9CA7-04F4E0A8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8E38-CE47-4CD9-94E7-D3ADFC80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4361E-660F-472E-81C1-A1E8D16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BF010-CE7B-4F78-80B5-C17280F1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A2BAB-FB10-494E-AE47-0B468EE5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B5D3F9-8903-4D11-BFF1-66057B43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5A0773-4787-4059-A586-F4494672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7ABF70-0DF2-45C7-AEBC-60E59E0D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CA531-763C-4EA7-8FE4-D5D2ED2C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3B308-862F-41B4-A77F-7CAE8560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FB15E8-9B7A-436D-8069-43CC67E2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B92C87-3EB1-410D-A653-17B5BD1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CE9E-3B0A-4173-BF93-91C9AB66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9A8A85-0F5F-4BEA-AEEA-5AF0F09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CE9585-EB26-4B30-B815-56B83A3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077D00-376C-48DF-9A47-8743C0A3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1941BC-C170-426E-9AA1-B1A9A36F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811357-1F4C-410B-B824-010C99FC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F819B9-2107-4D94-A9FA-1B788992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9843CC-E7C6-457B-80EB-24DC175C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B98C1A-7742-4F20-BC34-FBEADF92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EE0911-7427-42F1-A2BC-D9E90A8E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CEC993-3A97-4D14-9942-A0DA391E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D8F65-9D1B-4E84-AF63-1581F17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53125A-1799-4A24-B41B-B0442E9F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8676C9-ACBA-4B34-8F7C-48244F3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F67606-DB70-48CD-A341-FF2307EE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4DFA82-159C-4168-91FE-62954DF8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1BD1E1-366F-4E44-BB00-FF4E794D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8DF3F9-4EE4-48B2-B78D-5E390EAB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CBF800-83AD-405D-80A8-24C5727F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AFF0F-A2D8-47E8-81DB-F0B185D3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DA0F-45D0-4CB4-BCCF-609B5188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DE1-2C92-47C4-9077-C5CE1EE8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D2458-7F84-46D8-8C03-3C72B182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2835-661B-403C-B7F1-313F3A0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013C-5BBD-4D6A-90A6-9155197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B20A-6CAE-48A8-AE56-6BB2447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649F-83D3-488C-9DBD-8DE34C59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7CD6-1A7D-49C7-AB43-A4A342AC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D09B-58B0-4031-AAEF-44377A4B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5DE7-ECF3-432E-AFD2-237D9936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D1CE-413D-404E-BA49-E2D28A7F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7A01-96FC-4517-B63A-DF02F50C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3C1-1CB6-4504-B45C-71286363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A8AD-8624-41FF-81D5-768B5F2D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C24DD-FE08-4732-BB39-F221DE4B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98AE2-771F-450C-B95E-F0583A31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E38B-3BBB-4BAF-8796-6010AF83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1035-56CD-431B-85FD-A2D226F2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384C7-6C49-4411-B562-EC8E4C2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E7C9-31A6-4ABB-ADE5-28D0028A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7F21-F5AC-43A6-A034-83ABF99C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5618-017C-4294-861E-D1C49F43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8260-D939-4AE1-BAEC-C1CE64F5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768-A27F-4233-88D2-0B216145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E5A8-F6CF-4A91-B81C-F6B1802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89325-2DA0-431C-833B-E7B2A64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9492D-E4BD-4E54-9037-0E4DF103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EE76-7BA3-45BA-A617-3ED69C0F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C37F4-0830-4A47-ADA5-E4AC7CD0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25A7D-810E-449E-917F-D5F0F3E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16E8-A293-43F4-91D5-8A7D74DF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6C38-138F-4A73-AD97-44711013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F9230-2769-4A0A-8601-63ED2345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E70C-3669-4B65-B78D-045B2CE5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DB0-BFAF-4A54-B4A3-DC97CEC8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64D87-1C9E-44C8-AA5A-5BC4A3F7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F8B07-AC0B-4AEF-A47B-73B311A6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CA8A-5989-4E3B-9867-ED81602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5D6DA-DAE5-497D-9F1C-5B120CCE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7C533-B20F-4215-9CA0-8453F48A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A263A-2656-427D-894C-A6A80FD8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B9B22-0E65-4C2E-9436-ABF6DF04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E790-2C6B-4921-90BE-D3B39A2E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690B6-75B6-4A41-8424-86381D8F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B6AD-C9F9-4A74-9A55-4B44C425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268-01D8-4BD6-A0C8-43A7FC45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2556-B2DF-49A0-9BCC-6F46023B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99AE-CA2A-4A6B-AA8B-F279B4ED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C6D62-3A31-4BAC-8CDB-81701933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19287-22E9-4F13-A3F1-3BD69112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01712-F1B2-4A70-B514-09E3D85E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1B602-4B10-44A4-943F-CFA9C57D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EF34-8029-4513-AB20-0C51D0A9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BB6F9-4BE7-41BD-BB4F-98DC35B4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B57C1-6C02-4D2A-B3A4-C7E02F42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3C228-1FEB-4DA7-8101-5C8C815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FA3-9403-41C3-ACE4-1C50940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C8F0-6D3C-4360-AED0-68A543D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063A0-17E0-4EC5-AE52-FE76A49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EA49-74F7-4647-A122-C610EA5F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A7223-C37B-4014-9917-8FAC49C0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B304-C247-4346-BC43-5E7502D8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89123-548C-4398-AED3-1DDE0728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D141B-1A4B-43D5-BFF3-996B590E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AD6E6-AA96-47D2-A61D-EDF4B5CB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F00F5-7E5F-4CF0-A4AF-01C9531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D5615-4862-4244-85ED-76C8D975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94B-7E94-4272-AE3C-B788C07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387F-6BF6-49F5-B619-0F05C50E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18BE0-6346-4EF9-A0CA-FF50C2A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60A0D-6FA4-4391-A6AE-7DABA12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D90C-B807-441B-ACE7-D38C8F57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072DE-3BD1-46C7-9F6A-BB379DC0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44B8-9235-4B3C-8DD6-591D3310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F035E-AC4E-4787-8690-016F581B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8E8E5-B229-4738-9B7A-CE834279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3BB13-6249-4151-8CC3-3EC8514E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FF3B0-86CE-4FBC-9933-7C3F43FE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9CBF-980D-4E8A-BC4D-2909EC5AF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6911-ABBA-4BAC-AE4D-4FC3326BA4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7B54-2B16-47D6-8F81-8FD58B850D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CAB8-F913-4494-9C6E-AC014C3AF2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A8D-E2D2-443F-A992-DB001555E8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A6F5-E2E9-4933-8FE1-2CB6A9381B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DC0-D90B-4E25-818F-1A8AA5F213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6FE5-A4EE-42F8-9796-A199855AF8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5BA-A4BC-4560-9156-F27BE46C2B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A690-E67E-4791-BD88-488273AB46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ADB3-3ECF-4CEE-875D-039C04556E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70AB-DB56-478B-B630-84BB2BF6AF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6003-CAE7-4EAA-A8BC-BED6051A63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131E-8802-471F-8BB5-6020AA665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7144-C8A3-4CF2-A9BB-87E476E68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4C6B-B6FE-40AA-A052-4B3F8FEFBC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1EB6-BC25-49F2-BC9D-1E9A4373D5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9088-9DA1-4A94-80D6-0C1E2A6220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9409-A1EA-49DC-92E6-D99AE9C11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C38F-17A5-4626-9CCD-39C3A4261F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ACEF-E6F2-49BC-BDED-E01EDCEB32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679A-8E0B-4938-B8A0-C089A59763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CCDB-7453-4AFC-A510-F2CE2EFF9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0398-3BCE-45C1-B09E-291DD14369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4D6D-09BB-4ACA-B83A-312B32217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3E0F-459A-4FF6-B571-F1D8B6665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B7AA-63CA-4F79-9597-6AD3B3675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983C-A5D8-4932-944F-2A404D79FD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296B-63C0-409F-AFCE-3EEC481C4B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AAAA-5DA9-4C1D-BA29-5382C5231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6F98-186B-488D-B2D6-45E1B6BFC9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401F-8711-46CC-9043-FFB9A72E5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B20C-0385-4B72-A7AE-ECBD024F5A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8350-FE6D-4E1A-8BB8-271F95973E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A414-2282-4E9A-A5DF-16CF897026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1406-84E5-4919-9020-95C8D4D27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98C4-2A56-4632-8608-7B1490DDE8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A826-AE70-4498-B65A-76D555A49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FF2A-72B6-4A31-AAA4-25348AD2CB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DCB-536C-47C7-B24A-083A34A868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6F9D-C01C-4F15-81ED-B7E91B47A3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1F4-5CE5-4F8C-8D7E-94B00CFF28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166840" y="1371600"/>
            <a:ext cx="4810320" cy="11714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255600" y="3703680"/>
            <a:ext cx="86328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1082520" y="701640"/>
            <a:ext cx="7209000" cy="60501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6732720" y="249228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6732720" y="3068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6732720" y="4076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6732720" y="465300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6732720" y="522936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8"/>
          <a:stretch/>
        </p:blipFill>
        <p:spPr>
          <a:xfrm>
            <a:off x="6732720" y="56894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9"/>
          <a:stretch/>
        </p:blipFill>
        <p:spPr>
          <a:xfrm>
            <a:off x="6732720" y="626580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338040" y="1933560"/>
            <a:ext cx="8467920" cy="29908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003640" y="422100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793800" y="517680"/>
            <a:ext cx="6797520" cy="62611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547640" y="3227400"/>
            <a:ext cx="547236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835280" y="4797360"/>
            <a:ext cx="5472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204840" y="1643040"/>
            <a:ext cx="8734320" cy="3571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329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438120" y="800280"/>
            <a:ext cx="8267760" cy="52578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6012000" y="28368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940360" y="5084640"/>
            <a:ext cx="223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523800" y="1995480"/>
            <a:ext cx="8096400" cy="2867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194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43080" y="792000"/>
            <a:ext cx="8458200" cy="5648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71640" y="515772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3059280" y="5157720"/>
            <a:ext cx="57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71640" y="5877000"/>
            <a:ext cx="576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30320" y="1590840"/>
            <a:ext cx="8883360" cy="191268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2" descr=""/>
          <p:cNvPicPr/>
          <p:nvPr/>
        </p:nvPicPr>
        <p:blipFill>
          <a:blip r:embed="rId2"/>
          <a:stretch/>
        </p:blipFill>
        <p:spPr>
          <a:xfrm>
            <a:off x="1370160" y="3940200"/>
            <a:ext cx="6829200" cy="22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33908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132000" y="2637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601200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5940360" y="25797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8567640" y="2060640"/>
            <a:ext cx="3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8718480" y="2593800"/>
            <a:ext cx="3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3492360" y="450864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3492360" y="515772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1"/>
          <a:stretch/>
        </p:blipFill>
        <p:spPr>
          <a:xfrm>
            <a:off x="6732720" y="4508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2"/>
          <a:stretch/>
        </p:blipFill>
        <p:spPr>
          <a:xfrm>
            <a:off x="6732720" y="515772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8:2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