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811-3E99-437B-8339-29F7A833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2EF-9C51-496F-AC70-CB0EF8C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17ECD-BE60-48A1-86FC-1EA7BDA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F6ECF-A5AB-4723-8B96-CEC83D2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F49C9-D717-4B87-B2E7-A801DCE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D0137-DB86-4817-8E1A-1670F34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B12A-316C-44AB-95F4-0E0A975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349F7-66BA-459D-9EAD-D515F0F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0C8AF-13D3-4020-9613-E1F8582B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DEF1C-3863-4FEF-83D5-8084EA19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FF73-C84A-4DDA-B6E8-0AA36B29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B0386-91E2-4C7C-95FE-5D79270E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2DA-DA50-4920-9077-D4273017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3E254-3970-457C-BC28-9FA6A6D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C27C7-0B25-4A7D-AFA0-32DF564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24FC5-B6A5-4027-800E-16325AC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24C4D-8945-4CBA-83DB-8D36C4B3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43D02-CD25-4243-BAA2-4643166B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CFA70-1474-4D09-9980-82D350D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2EAF2-3DA4-439B-9CBB-201C2BC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70037-A2D4-4CFD-9C12-D99C2967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5F69-4293-4316-8881-28803FC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43E3A-4C0D-4E55-8EFB-5DD838AF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712-9422-4649-87C4-C185D750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6D411-3096-4DE3-8A2F-B4D004F5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EB1A-B43F-4FC5-98B9-B259B4BD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29352-57C2-466E-B1B0-BA1A748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ECD08-6123-4E6F-B36B-C3BFD1A7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46EF3-DE9A-47DA-A544-C7BAC3E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D1287-4F52-49C8-8966-F204CCB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09A92-8530-4C9B-BE48-DFDDC9AC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C365-EA78-44B1-B9A3-DBA2F12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60FB-B6EE-431B-B8FF-2ACBDC4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59AB-630F-4998-BFED-E34B7FD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7947-20A4-4DC7-A1FC-0898B50A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FF36-BA1C-4149-90E1-DA519DA6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421C7-05C4-417D-B642-692C92C9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5F68D-D877-4F9D-93C8-981BB19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E69E4-A829-4367-B11F-D226E5F4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F910-767F-498C-97A8-D5602AE1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BB9EE-E90A-4140-BFEF-96BD7D3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D0D14-6089-43E5-BDF5-30E75AE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4F80B-31FD-4C32-9792-9BDC2339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9C8C8-FF93-44ED-A562-6F7C2DD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A01BA-0D3A-4D8F-A987-3222659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3AF-E142-42C3-8857-F3CD8A6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213C8-95CE-448B-8C8B-CC345AE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B1228-577F-4CCD-9B43-12B007C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2619-3759-4AF8-8F19-5C78F581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64FCC-075C-46A9-8874-C1A2BA28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9EA6D-6121-4A57-B86C-07C206E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C80F5-59C9-406C-95DF-0161C9D2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040D7-A65A-4D9B-8D6C-671D0727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336D2-F5CE-491E-BFC0-E60D47F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D2206-1E57-49CE-A4C2-51A6643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1AE1-8E79-45A0-84DA-D1C6C733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D40A-A292-4D6D-B2E9-8536B70F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6FE8B-D19D-4C73-B492-FA85918A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520C2-2EC1-44A4-B1D8-BE2B183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405D0-F2F0-4FBD-B12A-41B8AAF0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29C3F-6CB2-4276-A643-2459E70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DC4EB-7796-425A-B42A-48A6509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75C0B-1BC1-436B-8029-32B2F7B0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8FBA5-4A19-4C89-A1C4-D0A84EC2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4F357-731C-4967-9C1F-A3D5941E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BE706-02C2-4FE3-9BFC-4D877A5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ADFA6-23F4-43CB-9A6E-7948EA4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1AA5-06A2-4F38-BD9A-084D39A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40311-13C1-410D-8AE3-2A4EAED5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31AC3-844E-4770-830F-75F0B1A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D6DF8-955E-47F1-A333-3F24F6C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90B29-587F-4426-B77F-280E4C1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F4859-B5B8-4C59-A366-BB18D43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AFCF1-E218-4B52-B4B2-B32BC3D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FA728-30C8-4450-B821-E89C4D4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D5EDF-1B18-45F6-A732-801201CD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D39D8-8CE7-49D3-9C62-4E2C2E2E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B342E-7DE0-421F-B631-C82B8D2C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4F7A-EE9B-4474-BBAB-5F0A7E3A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7F87F-AC15-4E83-9BBF-AB4DF8B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5E457-056D-4F4D-A6A6-60D0C9E9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11D13-11BB-4E72-8C4D-B6B72990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29B78-AF6A-4C3B-8EE2-322B253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A92AE-0462-4DF4-8D0F-6F6BD3A6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ABF2E-B215-4F2C-82DA-C0EBDE5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FF5DC-72A1-4BB0-9558-D7A3649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4C690-C60F-4D2E-97A6-7AB9B25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0C8BC-8D47-446A-9DFD-559C265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24796-C9CF-4464-80A0-F5A0554C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B94-88F1-4126-BE37-862F453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6BBBD-12E2-430B-8D26-D17997DC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D48D4-5011-4196-8C48-6AFA3BED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A40B6-62AB-4D2E-B7A1-D3EEEADE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85FF2-B5C4-4AFB-93B9-0880843E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9B9DE-E312-48C9-8205-1BF21D2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2FA74-B298-4630-8943-5C7251B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43778-5099-411E-98D7-43920CB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901B4-B579-497C-A480-6388084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B3A19-B205-458B-AD64-B0554A5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75E47-7377-4EE5-A5BC-C0155AE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F7F-EDCC-4651-90AA-0268E302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D9530-EB8D-4B4B-8E4B-C23FC23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79F89-6E3B-4876-A11F-013D002D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E3CA1-7C51-408E-B9E0-3047000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2EFE8-685E-4227-BB17-B1023D53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0CD68-0B2F-4085-9127-E26BC8D3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8B15B-C543-43C7-A30C-61EB3F09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11BD6-2F5B-4750-BB78-C66D224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BB9F5-2F4D-4D0B-9163-B6C5B1B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F11EE-AE2D-48D7-9CF0-D60F3DA3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C010D-1CAC-4135-A840-BDE1CC5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746-04B6-4A57-AA25-9A214B9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97F2-4E0F-4E25-8FD2-95F203C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8FE86-5B37-473E-B123-3951E87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9E934-4BDA-4220-B5F0-3A62CF2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F34CE-B0C3-4C89-9B7B-5736E70A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5A385-835B-4AF7-82A8-733892D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D3CC0-D736-43A5-9F05-683DC0E3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F86BD-179D-4AC2-9653-E7765B23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78BE7-CE4D-4A44-BDAD-AF68B2F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EEF99-ABEA-4D0E-B88F-771AD0B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F4225-FA20-4703-AAE9-7234AFC5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78DEB-4DD2-4E70-8300-323787F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8BB-6138-493B-8D1F-0EBA3E5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D72EF-6684-431B-B41A-C2683EEF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5DE68B-AE50-460E-8BEE-E532D80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E516D-93D5-459C-9170-A628CC1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082D1-B7B5-4BB9-9CC4-5D8B9D3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70428-51C2-409E-8989-0DE1915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E69EA-73F1-4A3D-B406-878D4B21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E15EC-62E6-415D-99E5-4A8CCEDF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2F9FF-70CC-4060-ABBA-449BC7AE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211DA-ADC3-494D-BDB3-107A8241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AAC1E-900B-45D1-8730-9973372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9649-0327-4E02-BE43-BAA366E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01276-B4FD-4BC8-B913-2293DD86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15F87-8AF8-49E1-84BA-69E104E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1C257-294A-41A9-9FBB-80E57B7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A5233-DC92-4D3C-9582-2443F5B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D90B1-6048-4B82-A1D4-C79BC06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53A13-9F26-4F63-911D-C5BC379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8EA9E-1406-4C62-A3E9-E275B66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FCFB0-027C-4C50-9A12-F361893B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F7A75-4CA0-4087-81AB-44F3AFC0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A89C7-C516-4922-AC59-64E6A857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8545-CCCC-43A2-BE34-F317E51A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7D9CE-81F6-4020-BA3A-1953ABBC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21005-E574-4E9E-BB44-030FBE9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7EA91C-5CF6-4EC5-8F82-E9C7ED4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FDC5B-B0B4-42F3-BEFA-67AB940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C940D-943F-48D8-8648-481F060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94644-C2A9-4B9A-8FAC-30BDB1E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E4C7F-2AC0-4B60-A205-C966B87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EE0DD-1823-4C71-9B8B-C52E22A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B9157-A7EB-454E-B551-734A493D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B50B4-5B1D-4850-8EC3-C04699E5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023-8103-43C2-8B5D-1B280FF6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FFFAB-2C2F-476F-8372-EDE63628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18557-2EEE-4E1A-879C-43B636D1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12864-5CF7-4458-BA29-AE479CD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A0D5C-6894-4649-8082-5D3D0F9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0FB0A-2079-45DA-A000-57A7E70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ECD32-524E-4DDD-8A28-1809077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501B8-EFB2-4044-9B1E-F92711A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AC9DB9-6829-4A32-AFD4-A0A5585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0550E-1E8C-44D1-BEBD-7017C95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993CB-1283-4BE1-B717-DE400EC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80C3-1D5B-41E0-9905-6317D300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97806-2B1A-49CE-8B17-94316BF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83FFB-C6A8-41AD-830C-27AAF9C3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CA1A7-A3DA-42EF-B720-A32FB3ED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6122-439B-4A29-B718-FBB9836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8C56-B5E8-470D-BCF9-4837567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7E3D-D366-46AE-AD49-616E148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D13D-EDA3-4BEC-A880-6A14D7E8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FE9-F9AD-438E-B214-A8046F02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2B8C-76ED-4D97-8EDD-29E05BE9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301A-D18D-4514-B054-FFF33E6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76CC-2A60-47AA-A957-A1863F7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146D-5600-4E28-8116-95A7DC2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B507-A1E6-4FDD-A553-EA02625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48C9-8A53-43B6-97B6-C91A356E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DF96-2EE3-43E6-AA4D-68A924E3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42A5-9F16-4577-8201-19CB541F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06B8-60D9-455D-A652-B093639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B4E5-4EE0-4EC0-B8AD-4803515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CF1-F5D9-4850-8BE8-90B6180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4433D-C02F-441A-B9F5-1018EE02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A1FC-3E8B-4A16-A6AE-D0BCEEA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C1677-06A9-4AAD-8E41-9357FA4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8E05-4417-4A6F-BCDA-A98B8E1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34BE-8B60-453F-9CD2-E9F5B24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56C4-2C23-4126-8A4C-CACB5ED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C834-E159-4C93-BF3D-A67447C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7CF6-3AC2-4C71-BC6D-3EF140C0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1759-8AAA-4697-A018-90345FE2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60E2-51ED-4ED2-8259-E2C85030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52D-22AB-439B-A3E6-BABF571C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3247-EDD8-4838-801A-BCF77B8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C529-B3E4-417C-8B62-4632CA6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41673-5C80-43A4-82A6-1431A72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CFEC-FF7D-4CAB-ABC6-3CB651E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AD99-4528-4E35-8A63-CA1BF23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B0E4-7559-4A37-AE01-DAE4AFA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1D9CC-C609-4FFB-802C-9E6CB77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DA87-7998-4B16-B7D8-8803A12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8BB0-293A-4792-92AF-8C4A2D2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1451-4A8E-4E2F-A998-F5B18326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6DE-04DD-42ED-BB1D-BE8CDFD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E517-E242-45F5-8F0D-B49E4E81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5FFA-2EF7-490D-8DAE-C82F79CC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CC53-CF96-48C4-BCD8-158BF3F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959A-2884-495C-960B-2AA2AF5E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F0C6-48D1-4EEE-9284-91FDEF54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F6FC-AD87-4B35-B8A5-649BDA46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2A63-7011-4ACC-ACB9-CA4767A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B6699-A506-4792-8F4F-3BB26DC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7515B-9D16-4417-A79C-3B05C56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8C9E-8E57-4002-8336-AF188E45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8A2-0074-4D98-885A-741A904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25AA-C703-4F74-84DC-320F4B3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B17C-C946-4D0B-AE3B-848FBA0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FD2A-8FE6-497E-80AB-E0DB51D8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46D7-751C-41B5-A378-D1DFDDFF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E9B1-14F9-41A0-8AF8-28CDD154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DC9C-7099-488F-85C9-24306405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55E1-EE6B-453E-91E2-D357230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4D29-8156-4E8C-986F-53D45CB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2AB9-E3F6-4CBE-AE1C-8FC994DB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6ED7-EC03-4E96-BDD4-BE7AA3B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427-01F6-46C3-9F9D-31AD07A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53B7-1B7C-4AD4-959B-31903D3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8C90-B6CE-4F2E-9DB2-35DA374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D8BE-B658-4329-A747-B58F890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1484-3BC2-4D9E-907C-ACDB473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D6C5-16BA-43B8-B383-31363790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F17F7-2645-40D0-BA88-85EDB670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BD08-D765-4439-90AC-49024A0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50FBE-A787-4555-B718-F123C78A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F8A1-E18F-426B-A917-7DDF725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4CD9-86D5-4707-AE32-B9C4409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B15-EAD5-4B02-B912-B0A0884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797F-A0EC-44F9-88A6-A39181F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8322D-FF6A-4287-A2A4-C4CEA712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B78F-AAD9-4F6F-96CD-521B122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512A-72CB-42FA-8BD6-B9D85B1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CB0EE-7B21-43E8-9E1C-D7A26B0B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EA534-C0FF-428F-9B9D-150C3834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2A8CB-9464-4E94-916B-B63BA2A6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79209-EA69-4F09-8F17-9AD1D189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1CB0D-B462-4543-8F26-ED115A8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0829D-3607-4EE6-AB6E-5A23C2D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066-D1F1-45C6-80F1-D68AF2FD14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3F8-EA93-4554-9FFF-1920AB444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B99A-5AB4-4F9A-B7BD-170DE2005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0788-8909-445E-ADA1-D9F333AB7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DF9-CACF-4E7F-BF1B-916612398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DE4-8445-4B32-A8D4-A777CF95C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19D-94B6-4343-9A45-E30FBE73D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D36B-AB44-4A88-A784-770B4C5C4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90C-8B49-4D83-9963-E2F65C2B8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582-A9EC-487D-84E0-B0A1DC6B3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623-3687-4CD4-908F-EDEB53F494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B0D-4841-43D6-B7BE-9ED6B51D4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F7B-5823-4378-AF46-E27022980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9645-5966-4E04-8561-F6B72F0A9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7B15-ED0D-45FB-B1FF-874A95C20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CB67-7A43-48D2-9FB3-1BD222498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894-78EC-42CD-89DC-405D930A8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A10B-5B8C-48BF-BB8C-9AF2F242D6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4D2-235E-423B-A8B0-A09CCB647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ED3-5FB8-4166-9A3A-501CD1714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2F0-2674-4FDD-BF5E-3D4919CF9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125-A78E-474A-BCE3-5D79930A4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2BBC-D341-4F16-BABC-19DF71B2D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E44-3448-4EF0-B8D5-FB40CDD8E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289-2504-446D-8D23-4D97A1A1D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817-B64C-4180-AAB9-D83AC87A7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815-9524-41AD-A369-ED0D00E03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3E6-D20C-4FD6-9419-C2AF9705CB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2B4-1477-4CCF-911D-A7154AB86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893E-F0DB-42AE-B758-EE28C5EF9C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28D9-C80A-49BD-8884-D705A4379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4D74-7F2C-43C5-9BEF-2E8AFDE50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901-4FE7-42ED-A500-5FDB8ACD6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50FC-0B42-48BC-87EE-7981AAA3C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8B0-4442-492E-9694-13C3D735FA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D16F-7057-401B-BA72-E2481F2AF1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705-6D7E-43DA-9736-4AE675F2E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EAF-09B0-4786-91E6-5E9224C12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C392-9D71-46B2-BD8F-EF95AB7C2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513D-D1D7-47CE-B7FC-F2E56185D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3024360"/>
            <a:ext cx="45720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7200" y="162000"/>
            <a:ext cx="8229600" cy="6534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627280" y="30542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313160" y="3068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16720" y="3011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9636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627280" y="5992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59641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435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443640" y="59500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96360" y="5964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000080" y="1119240"/>
            <a:ext cx="7143840" cy="461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050920" y="31114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932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940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948360" y="31273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5580000" y="43070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580000" y="47386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5580000" y="51721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795240" y="866880"/>
            <a:ext cx="7553520" cy="5657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3256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56360" y="2852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149960" y="286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2354400" y="579132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409572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517680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184800" y="57913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7178760" y="5805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7352" descr=""/>
          <p:cNvPicPr/>
          <p:nvPr/>
        </p:nvPicPr>
        <p:blipFill>
          <a:blip r:embed="rId1"/>
          <a:stretch/>
        </p:blipFill>
        <p:spPr>
          <a:xfrm>
            <a:off x="1023840" y="1033560"/>
            <a:ext cx="7096320" cy="4790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4932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962760" y="3068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5853240" y="41925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867280" y="466740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5911920" y="508464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6324" descr=""/>
          <p:cNvPicPr/>
          <p:nvPr/>
        </p:nvPicPr>
        <p:blipFill>
          <a:blip r:embed="rId1"/>
          <a:stretch/>
        </p:blipFill>
        <p:spPr>
          <a:xfrm>
            <a:off x="281160" y="1343160"/>
            <a:ext cx="8581680" cy="4171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2901960" y="29242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020000" y="29383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05928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02000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694836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3059280" y="4970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7020000" y="4970520"/>
            <a:ext cx="1150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84360" y="365904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11280" y="501336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39640" y="5705640"/>
            <a:ext cx="828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4276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572320" cy="62956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55640" y="3962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39640" y="47102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39640" y="541656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684360" y="610704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271440" y="1004760"/>
            <a:ext cx="8601120" cy="4848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"/>
          <a:stretch/>
        </p:blipFill>
        <p:spPr>
          <a:xfrm>
            <a:off x="2484360" y="25938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3"/>
          <a:stretch/>
        </p:blipFill>
        <p:spPr>
          <a:xfrm>
            <a:off x="4643280" y="259380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4"/>
          <a:stretch/>
        </p:blipFill>
        <p:spPr>
          <a:xfrm>
            <a:off x="2411280" y="3284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5"/>
          <a:stretch/>
        </p:blipFill>
        <p:spPr>
          <a:xfrm>
            <a:off x="4356000" y="3298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6"/>
          <a:stretch/>
        </p:blipFill>
        <p:spPr>
          <a:xfrm>
            <a:off x="2484360" y="39625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7"/>
          <a:stretch/>
        </p:blipFill>
        <p:spPr>
          <a:xfrm>
            <a:off x="464328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9"/>
          <a:stretch/>
        </p:blipFill>
        <p:spPr>
          <a:xfrm>
            <a:off x="4643280" y="4653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0"/>
          <a:stretch/>
        </p:blipFill>
        <p:spPr>
          <a:xfrm>
            <a:off x="900000" y="5373720"/>
            <a:ext cx="42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1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