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DF7-8734-445F-8895-1113DC0F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6FB-3DA5-4B35-9224-D8E294C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B3FDD-A23B-4342-B580-B4F1AC83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FCCA-B117-408B-8BE4-62EA7B1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AA054-DA3E-4681-BF61-5DD588C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EFCCD-B362-4747-87B7-D22587D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D1996-0ABD-4BC5-A627-AD38489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8A1A8-5FAF-416B-8EC1-14734B4B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0C545-2527-4184-874A-6BADCDC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FE50E-93A8-49AF-9C49-235D48F7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CECE1-DEAE-43BC-AB2E-508F7255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3300-40DD-4FCD-B3F2-44FE0CDF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525-5FAA-402C-A16D-05DC652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0D719-DE44-4E5E-9D82-A709159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3E4B-414C-4726-9322-88E96B0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F240-160F-408F-992C-6886A1E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7B763-1F6D-46E5-B640-FFF5218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35740-8CB0-467F-8D21-6765FDDA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75FBD-16DB-4B57-857B-1F9EB25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697C8-25CF-45A3-A098-D3575090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6DB88-5B4B-4FBA-A94E-A38160F9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2A078-FB0A-4B6D-B55C-EB0A543E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F8947-4C31-4FA7-B410-1B15E4E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E11-4B42-489E-9089-6909285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D932-032C-4351-8A3D-0F0C8AE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6602-DAE2-41B4-A301-39B5EE2B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570AA-B7D0-4D54-B5DF-249E671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3D15-8075-47D3-9EBD-FFF0CDF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3495E-026B-4243-ABA5-92114EFF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ACB95-CFAB-4767-8D55-54C745EE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89FC-C539-4578-A9F8-4B713A89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0FA2A-C9AB-4FFA-B681-16AAA68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B285-AA6E-4EF8-95E1-ACCDDAB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41786-DCFA-4014-8F28-5BD0C73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029-F741-4B01-8B00-D4F64A43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C1CF4-31AA-49E7-BC79-8FCF07D8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B90D0-1E73-4A07-9561-5B153C77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0CF7-73A3-4481-88FB-E3FF2357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45F8F-AF3D-40EC-9B12-E34AA8B3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9FEBE-B152-4A51-B46E-33A1AD2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03BEE-502E-4C38-AAFB-54F4F58A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74B07-30BD-4190-B3C0-838FF97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2B184-9967-4C57-91B3-84636136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C447D-1341-4A3E-BD6A-10C05B3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01168-080F-445E-A652-811976B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A740-44AD-4443-9488-3D3939C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51D06-E200-4313-9BC1-8AF0595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676BF-D602-4ACE-A428-762B9EE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B3309-C410-4622-B534-6B1E58A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91BED-A8B6-49F9-A916-352CBB40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1B8DF-6C67-4247-B439-1975453B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B7947-921D-4635-BC3A-0402A85A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C46EA-9795-4FB0-A903-0BCA201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612EE-A4D8-430A-8ED5-6C0E6CE9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9CC0F-F1E4-4BCA-A8EF-25FC9FF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265C0-EE36-40D3-92EB-23BB7AC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E3E-FBA4-4064-8DB6-894EDB67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7ADD9-7711-4279-91AD-F4C5D01F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F81A2-80B4-4CC7-AA31-75F27D9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82E43-AD2D-4A5D-B185-DD4897C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7E2F8-19F4-43DB-9C99-7CEF49B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9C8C-AFF0-49F1-8974-4A6262D0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96555-290E-49D8-93CA-35CCADEB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837F6-BC5E-4298-AB24-1F41DD9C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BCB3C-1D04-414B-9AC2-12A00AD9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9CFA3-6531-47BA-9A2A-80C46D6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824FF-8A6D-4472-834E-5481F10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AFCE-016C-42FF-92F9-252E337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CC0BC-9FE2-491A-8B30-C8398FF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70A76-FDED-49A6-A872-A069C6B6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AC881-FCD3-4E1E-B31A-8F50A15D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BD5AC-945E-4603-897A-84355E1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70F9C-2664-4526-AAE6-5006E71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1FB9D-5626-4C2E-B094-4F14A00D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BC0A7-D8DC-4558-A821-9104AF3C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31B29-DF2A-4BFA-B7A9-29638CB7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5BCC4-4359-409C-8A38-4F41FB47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8DCE0-5F3B-4656-9505-59F0F0F0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AA7D-8F07-4DB4-8907-653C111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5C13A-3DB1-4D14-9D6E-2B5F729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BCC92-7381-453C-8E31-8601B83E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E4473-55D6-4351-BDF4-019C937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80E1D-A057-4770-8F81-D99937D0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E26B6-5E68-4730-BC1A-0FEA53C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3F7DD-359C-46BB-ACCB-B65A365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65748-7528-4C86-A5B9-87C687D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CECF4-BA29-4F32-A9CC-BE0E661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3C578-F0EA-43F1-AA31-0059570E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B90EC-482A-40C2-B426-14AD561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298C-9932-4CB6-B2A8-128A252A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C78F7-A7F3-48B4-BEFC-D2B14D97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9B992-9C9A-48BB-A370-397F2B0E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6AD04-73F5-4373-BDBB-DB901221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ABEC1-42DC-483E-934F-15C835AC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BFB03-9F90-46FE-AD3F-A6873ABC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ADB37-4E4C-4F53-8E3D-93ACD94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3602B-B5A4-4CDC-8BED-AF4A5636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1D52C-E6C6-44B0-91B8-5DA019EB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E3B5B-5C42-4A72-8A2E-BCC7C087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B26C9-F860-4B4A-8C5C-9AE7A3E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12F-1F1D-4C46-BE0B-9ADDE9F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9D423-1084-4C96-BA94-BEB9B87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2793F-5BFA-47E3-AA37-DC1219FA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040A7-0CF4-4FD2-AC24-E80C57C9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594DD-5EFB-47E2-991D-20A63630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EFB7E-47E7-43B3-A2D3-A2D267A2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B8F5D-63E1-43E4-99F3-ED9E4A8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EEC64-E624-4CF4-B25F-CEF65CB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E0528-E53E-475C-803A-2088AB2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BED35-3BF5-457D-A535-0145095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8D9B6-AB3D-4367-8376-47145D8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C66-1EA4-4CDC-B741-4BE2C620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C04D-CB9E-4D1C-A603-0ABE391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4F938-3432-49FA-AA07-4EB6845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1AB2F-8F84-4CB7-A4A8-E7702EA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D1067-CA64-4DF9-BE6F-7A969CAF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0A135-61A7-47B7-8C0F-12EC24C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68559-0FEF-49D8-896D-0683C06C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E803D-9853-445F-92CB-62747443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85645-D8EA-4D9E-9FC3-40A3AC38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B1BAB-5C7A-4F11-94EE-1453FC05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7A6A4-3374-432E-B950-C84079E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C63D6-0FEB-43D3-8210-2333678D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E52A-BF17-463C-B621-73865D1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00831-522F-448D-A852-A4FA1E5A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12C07-C709-49BC-A9ED-61EEB41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C8026-240A-400B-A036-0AACCA6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C1C6A-22C6-47DB-BE2B-881CA94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C944C-4986-4A05-B544-8C594995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AA93A-0194-4587-844A-D6C22768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F1077-9252-4214-BBBD-DED162BD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8F1F3-E204-4A0B-833E-521A94FC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CA9FE-EADA-427B-ABF5-5357288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018B6-BB4D-4D35-8DF5-6698DBB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2C60-694E-408C-AD88-77569F2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5F655-8BD6-4393-9094-BE68262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A1B17-192B-474C-A5A2-DE4DF82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EA195-7798-4534-89F9-6722909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25D2D-FD8C-45E8-8C1F-90B5D8B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9ECC9-7CDD-40D8-997B-01CE826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7BF03-1406-437E-89E7-975D799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AEEEE-4E03-4CDA-B54C-92499DD6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16639-790E-447A-8D02-F3108374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7C1CE-C7B8-4562-B061-5D624961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67BDE-E5D6-44FA-90AD-E2281829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010-C7D5-4CC3-88A8-D943678C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C21D0-59C0-4E2E-9CCC-8099DE91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42644-2699-4F28-BA19-E93CB9E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9C617-4935-480A-AAF5-2973B51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25CAD-CD1E-4ED2-ABF0-1DB31163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903AA-30E7-45AD-842D-F512B3A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AB986-4E2D-48D3-A6C9-EAF0007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2FB77-418B-45E1-AB7C-B0FEB7E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9B60F-2763-4B4C-AF30-03385A7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6E183-1D04-439D-8631-0452F09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FD474-A617-42DE-8B41-0A0187C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7E0F-731E-4044-8CCF-E38CCA38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8910B-8F28-4483-8BD2-2EF60B4A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751365-E3C0-4701-A544-B73912FB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9A5C85-4DEC-45A6-878D-3D8F203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C8D6F-2EC3-41BE-A6F5-C1ED4C10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5734A0-39FE-47F6-820A-2FD5CCF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85159-858D-4B1F-B8D3-86E2CAD4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53A13-BCC4-4F9B-820A-523FD01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749FA-B297-4811-B39E-1028EEE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55C51-BD6F-4200-8C5C-7E8BDA0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04BD5-ED23-416E-AA29-F89CE8D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7B4D-4E82-4880-8037-81D50726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AD738-F62C-492D-A7DC-80E2CE2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1AA14-B7DB-4A76-A8E8-EFD47F12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A4F0E-ADB3-4611-9E86-1FA4F6F2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87E8-95A5-4740-A622-CD078C6C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AC68-DF1C-46DB-B26A-5FF39910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17DE-2D4F-4D0C-8FA7-F94269A9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B353-1BA5-4A3B-8B11-DB213FA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1D5-C8F8-4467-A156-9756EAF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35E3-DB29-48D7-B1ED-BCBDEBE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3B9B-F800-46B6-901F-79877EA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928A5-0FF3-4DEA-AA0E-EEF85CC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3FCD-6F45-43AC-BB9E-6E55E7E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63A8-5411-4CB3-B752-41DCD75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92EC-675E-4C21-8993-5397A4BE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9CE2-7BC7-4379-BE5E-44F68005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9E39-FEC3-43D3-B098-3FCA337E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2426-0445-4839-B519-24E1B04C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D640-4154-476F-966A-F57B24F4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2E3-FE15-4ABE-83DC-E8EC6699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0816-C444-409C-9939-A1B1983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D611-82FF-4717-836E-624A8E17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AD0F-B88B-4A66-8FBB-2EF30A6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A5D6-5F7E-4348-AAE6-515CC1E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CE99-6CA7-4512-8761-3D6590F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CCA3-44C0-4E4A-9DB4-44EB7C1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186D-5FF2-42F3-B4E6-8B62A081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AA5C-0803-44E0-9525-BD0A6545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BF58-A063-4FF9-B8DA-283950B7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1BC0-CA86-4960-8F60-045B906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AB0-6970-4C97-BA70-A231893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B87F-BB2D-43CE-8606-C1FF4FF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C0C0-3946-49C8-BC58-0B728C98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28601-20F9-4683-9440-B186463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6F54-5DB2-45BF-BD36-C798DF50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1DD05-92A5-4CAC-AE22-E867D1C1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C57B-EF18-441C-9114-FAC6F14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0B5B-51E7-4C6E-9622-976E308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51DC-C544-4F9A-B508-AFD4833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7DCC-3BC1-4133-B8F3-DAF3CF5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8C59-E205-4FC7-A794-61F60B5F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B99-E4DF-4918-A6E4-44C2DA7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B82B-1095-4274-90BF-FF367BCF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E7FC-7636-4EB6-A683-36DEA8F6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FDA5-BE30-49E7-A85C-EC468B9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ED601-E95E-4626-B2B1-FAC485E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247A-CAC0-4662-AF31-12CBBB6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9A8A-349A-4C22-B457-A55F469E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D682-A3EE-4305-A9FA-B3A4EA3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AA97-B7F2-48B8-9236-E89545B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FF6B-182B-46C8-855A-74BFEE3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FE57-DD9F-419F-BC33-D723AD7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E58-C5A9-4047-96F9-6D475EB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558CB-26A9-45FF-AB45-DB91098E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1EF08-B4EF-4E03-9C3F-38539EA9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6D576-BBD5-41CF-882F-99F7C9F5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BB11-44FF-460B-9D9A-A091ED2E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03105-8738-41B7-A4F8-F873B4DE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B4B4-E8A9-433F-BB3E-1CE333C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7282-FD25-4A99-BB01-36DCDA7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E0A2-B16B-41FA-9AAC-0057B05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D1AF-A005-4F7E-B217-BA633B8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9AB4-9BF1-4ABF-AF27-2BFB38E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F84-326D-4E8B-88C8-5935B8F5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E948-B30A-4043-8305-1C1F0DA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7DA0-8C24-49E1-BAEB-4EA20C63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3751-AA37-44F1-87CB-60483AB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94BC-04F9-4C71-BE36-292D512D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C096-079D-432D-8613-B416340B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DE1D-3884-44A7-BA3F-020BE457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5090-C760-4FD2-A01B-E4BBB40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F102-8A23-491D-88D8-71E406F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25BB1-3536-4432-852D-12ACE46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4F943-DC55-4970-805C-B7B65B3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D35-F774-40E4-A821-CA4D022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B0B5-D7A4-4633-B7FD-4921463B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85732-FAB3-4D98-AC95-8E94FBC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06F0-F4FB-45FD-BFAB-45FBD71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7338-9FEE-4FF4-B32C-E3EFA63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FDB1-B66A-400B-953D-64BD69F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FE79-D930-4E04-A901-A6E2319D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18B2-0E86-4A84-93C7-894B0B50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7812-1DFB-4996-9C7F-C0B02F6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67AC9-21EC-4390-A38B-3B5195D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648F4-5D30-4419-81D7-45B9A94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B33A-6D00-4EBB-97F3-E5A573C6C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B737-AE75-4088-93A2-CAAED3F31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8923-6E3E-4213-911D-74DD57427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A4F-EE77-4674-B3CB-8E5B713B8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F6C7-8B13-44A7-B3B2-BF59658A4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5EC-34C0-4133-AF6E-7AA673AEF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F6D-ED0B-449B-A1C8-4E22E44BE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5DD-4CE6-4430-9425-DBE49436F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40E-58FA-4643-AD36-909774B44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DA6-4523-45AE-95F1-0633E4097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6C4-BDAC-41DA-ABFC-E041AE4B4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9FC-ADE4-461D-A353-C17335EBC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559F-2538-4FDC-A668-9BC4F22E8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C2E-79AB-4F8B-AC65-AB338B1C8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98C2-0040-4DE8-9F5F-28D715DC6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D198-8F42-4EA1-9604-1D7D21A2C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8737-1D55-433C-9441-1F0BC9C65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064-1C3E-42B4-AB74-615B9619F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EBC8-2204-4358-9211-97F402A4F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C298-BC5E-4485-B2D9-0B65FA5B1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67D-2E90-4F04-8605-A16CCE1DC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A821-AE5C-47C5-A23C-E8EC3072D1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F362-0BE6-4DEA-A284-6DBE9D6AD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0271-8CD2-4496-9DDC-C91995417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513-8D57-4286-9C87-242B7E111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1FD-5BDB-4653-9BA2-F914C00D1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B14-0D54-43BC-B756-F73405FFD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A3FF-F71B-4C24-80DC-ECDEC38BDC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9784-F40A-4462-B243-98D78D2EA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AB01-1CEE-4BB6-9AEB-C3833B585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D99-C963-4CF9-BB13-1857122D8F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44D-E4C2-4740-9A53-1B9C91CDE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39F-E0D8-48D4-988B-1E553A1C4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448-168B-4A26-B7AD-B693BD6CCA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1A8E-518F-4CE9-BE21-FFB25646D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07AD-0D74-416B-8E88-1A770BA49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760-5D4C-446A-9646-A40584889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36E-2C46-4B63-AF83-098D5F8F5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DEA2-E990-45DF-B638-076AF4A39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D62A-F893-4F50-83F5-96827D88D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90720" y="2886120"/>
            <a:ext cx="5362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638280" y="1438200"/>
            <a:ext cx="7867440" cy="3981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157320" y="1197000"/>
            <a:ext cx="8829360" cy="223848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8610" descr=""/>
          <p:cNvPicPr/>
          <p:nvPr/>
        </p:nvPicPr>
        <p:blipFill>
          <a:blip r:embed="rId2"/>
          <a:stretch/>
        </p:blipFill>
        <p:spPr>
          <a:xfrm>
            <a:off x="1195560" y="3467160"/>
            <a:ext cx="6752880" cy="2409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3995640" y="15858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8136000" y="16286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4384800" y="244944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107200" y="246384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3909960" y="393372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7020000" y="39481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9"/>
          <a:stretch/>
        </p:blipFill>
        <p:spPr>
          <a:xfrm>
            <a:off x="3808440" y="4869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0"/>
          <a:stretch/>
        </p:blipFill>
        <p:spPr>
          <a:xfrm>
            <a:off x="7207200" y="4869000"/>
            <a:ext cx="93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838080"/>
            <a:ext cx="8524800" cy="568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300720" y="4019400"/>
            <a:ext cx="223200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4883040"/>
            <a:ext cx="194328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95640" y="5748480"/>
            <a:ext cx="194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352440" y="1119240"/>
            <a:ext cx="84391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90400" y="696960"/>
            <a:ext cx="7963200" cy="5972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4898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6913800" cy="935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042920" y="6208560"/>
            <a:ext cx="6553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290520" y="1523880"/>
            <a:ext cx="8562960" cy="3810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8137800" cy="936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304920" y="1833480"/>
            <a:ext cx="8534160" cy="3191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773520"/>
            <a:ext cx="59770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9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5300" descr=""/>
          <p:cNvPicPr/>
          <p:nvPr/>
        </p:nvPicPr>
        <p:blipFill>
          <a:blip r:embed="rId1"/>
          <a:stretch/>
        </p:blipFill>
        <p:spPr>
          <a:xfrm>
            <a:off x="281160" y="1233360"/>
            <a:ext cx="8581680" cy="4391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5640" y="3313080"/>
            <a:ext cx="8064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8064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06472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80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271440" y="1562040"/>
            <a:ext cx="860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2231" descr=""/>
          <p:cNvPicPr/>
          <p:nvPr/>
        </p:nvPicPr>
        <p:blipFill>
          <a:blip r:embed="rId1"/>
          <a:stretch/>
        </p:blipFill>
        <p:spPr>
          <a:xfrm>
            <a:off x="561960" y="1238400"/>
            <a:ext cx="8020080" cy="4381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11280" y="1297080"/>
            <a:ext cx="53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1873080"/>
            <a:ext cx="29509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4067280" y="1859040"/>
            <a:ext cx="295092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11280" y="2506680"/>
            <a:ext cx="6840360" cy="922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539640" y="3500280"/>
            <a:ext cx="684072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39640" y="4522680"/>
            <a:ext cx="4608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468360" y="5099040"/>
            <a:ext cx="828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4:5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