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6973-CB5D-48B7-830F-E3172499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1B37-A094-400E-B5E1-B46E774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B8654-B51A-4846-94BA-80C0353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0DC02-236F-40F7-A8CB-F020511D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517A2-F7F7-4F16-A1B7-99010881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AA9FA-E3F1-4FF0-B931-2D1D1DCD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5BE320-00C4-428A-96B8-FDB0C73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CBFAC-229E-4FA8-822C-926FA0FB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CD06C-793B-4989-A232-01FD3154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987AC-88E2-445B-8926-0F79F77B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D7A4-07A8-414C-BEC9-D5DFA6BB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7B3C6-25CA-4084-A5C8-16DF9A12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3733-85CB-4986-B7E7-CA8B8EAC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1FE1-20C5-4636-9157-6D939024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0C8CD-EADE-4A51-A46F-5486FC36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FDF5A-A789-442D-B627-D3875C79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815CE-E2B6-47D1-8ACE-6977F102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09D47-5748-4DD2-804B-A2E6D1F7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8BD9-1D10-48D6-AF8E-2EF4A3A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28359-5CA1-4B4E-9B67-912B73F2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2DBDD-D076-4131-AA5F-4BBE7662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F193F-22DD-49BC-A2F0-EF6156F7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A994D-8386-40CC-8B32-E082DDE0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2ED-46C8-40CD-AA2B-365C7C1E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E45543-D616-4E91-AEB3-E84D1985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9C408-DC88-4885-AA06-175F94C4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F8063-7811-40B9-9E14-EDF535C6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2C217-B9C2-4E4E-9510-923A9AF7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D129-91E1-4542-99E8-9ACCB8D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5632A-4B76-4ADC-B540-212BCE1F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E1B36-C011-476E-8213-AB874ADB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8E987C-1F3E-4B61-83A6-2B01627D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D2FA7-2517-4599-B1DC-E71847F0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FC5BA-462E-404C-ABA6-280BBA0F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B6DE-B5C8-4F40-9976-4F4F2CA4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8773D-E2D4-4D1B-A301-3E3E745B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79AFC-BE95-48B8-80DA-96E22167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1A7B6-846A-485F-B469-80E9D1D9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4759C-30AB-4505-8BB1-72901D01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E00D0-7D04-45B4-B4D4-7FE5A52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E0EFA-E544-4415-8E7B-5C2751D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FB7E25-E0A1-46CD-87BF-1A6BEB67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EA041-2C03-4BFB-9D64-6DF01FE0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32824-3A31-4620-A9FD-F91B491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282A9-738B-43F1-9438-AD54B7F2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9241-B689-457F-8382-25224B82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DAA46-0D9E-4ED9-9811-A79E1FD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C5080-4354-4097-AF57-8EA4E16E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528AB-A215-4AA0-BB12-A5730C42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1EC0C-B12A-437B-AA9F-E4885F93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CAD12-6CF7-4174-B769-F7C6BA02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52A93-E2DD-4D20-AE47-93C0CFD9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FCD95-3EFD-4542-8A2C-8492DD91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7758C-67A1-437A-A519-4EAF0F16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12B95-2C4C-41AE-AC7B-DA736EBC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E4CA9-EEEF-47D4-885B-23E8DB2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4BCF-189F-4932-A337-DA893F24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708FE-56AA-44D0-9653-3633E0A6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3DA53-0A47-4798-8035-766E7E8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B01D8-67CC-44B8-ABB2-FBEABC1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4C386-7DD0-4B94-908A-04727CFA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C48E2-5715-4BA7-989D-A36C1AE2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4F0C6B-89F5-44CF-9DEF-0E1E67A3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156C4A-D403-499D-B2E5-41EF1AF6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8839C1-C7A5-4AE8-A603-85DD53F1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5D251-261B-4812-B4DC-8D020885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4D4C5-0A8A-4682-B040-B9F18B3A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5013-38AA-4CAC-89A6-2EDE46A3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7FF6D-366C-47A1-B22C-73C26251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F977B9-C40C-4BAB-BA6D-B2F35657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C45E3-FF6F-4164-9D10-AA8A1E6C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559B9-3D28-445B-83AC-247D4D2C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1E5DE-D5FB-401D-92A0-3B01726C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E1010-EAB3-4F03-B205-9A7E3BFF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6AA5D6-4819-49CD-9151-F20E9140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0DF70-636A-46A3-A377-074ADF90A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E685D-6D88-462E-83A2-4F9CF48D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8615E-2393-496F-A498-B3026F2F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B801-3D53-48F9-A22C-AA694BA5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E0624-EAD1-497A-9D28-0BE90117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752D8-4502-4904-8F6F-CD47F1CC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E7C98-D251-40F4-94E4-ADDCA8FA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A2117-7014-417F-89A8-7102647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8FA213-8249-442D-8DC1-E00E01CB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9671F-845A-49F9-B571-C2A8314B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39506-F481-448E-90F9-64E60DBB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7CDA8-9405-4EFA-9016-BFB8271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7B386-57C5-4644-A00B-3EAFCAF1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84DE83-ACB4-4CA1-A9BC-DDF86885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D73B-216E-4011-A390-570E02E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A17FD-E294-4425-9D13-96D596C3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5CFF8-DA1E-40A9-B5C0-ED51BB2C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1B579-8242-4B3E-AC07-81803C61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B22AB-8E3C-40F4-9143-B18C9585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28229-CA60-4F9C-9DA4-5A2F3C02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7DF902-2198-41AE-ABB3-8BD46484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1975C-F141-442F-9A1E-7D72B338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BC5394-0311-47F1-B276-FF375382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5A69E-C5F3-4A80-8AC7-8E5C04DF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067770-0CA3-4E43-B7BF-C8461EF6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3B4A-590B-467D-97A3-5770B194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EF5BE-4627-41E9-8E69-8A8D824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393C14-3269-4DB0-9D39-06B10014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0AE9C-0E75-45C2-96DA-276A7EFB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F2A8BC-9A01-4CD9-9A85-574CCEBA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204AC-CEA8-4599-BC74-DEE504C4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773AC2-2EBE-4307-B17B-A5ED8C4F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83E8A-C91B-42EF-B319-9DD995C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52C8B-9FB1-47F3-9265-8ED14FAF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519BD-9459-4B0D-AD1F-1E99546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16EBB-3BC7-4115-B842-A36DFFBE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0FE-39BA-4969-A2AB-F68DCC1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CA98-307A-4116-9D87-40430D79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F74C9-C965-4987-953D-2033042B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FE827-54D5-4CBA-B0DA-DDDC3AE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2BC24-6F39-4C5B-8158-FBC9C76F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DBD2D2-C86D-472B-8264-43E1351F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BD29D-9977-4908-8192-BC381E26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C03A0-AD69-4D78-B5F5-F15EE818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273148-DC9F-4242-B686-0C3D1420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4D0F4-ECC4-45D7-B80A-09797DF9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E6AA8-084D-4A13-8AE1-0571ED0E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086B6D-28E8-449E-ABEC-1028A77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67E0-A164-489A-AB1E-49D2E2A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1AEF9-C214-4FC4-90C7-3E64D4A5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C7E34-8698-429D-B415-7C95325E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07B3B-03B6-4F46-A2F4-321CC50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1B64A-CA86-4ED1-8E54-D6C55FC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14560A-3423-4506-931F-5914BE36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8ED4BA-8799-421F-8F6F-DCBD8EB7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B8968-C389-4445-B933-435FB255A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126F6-B5C5-4726-8D0D-0114BC74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E2B9A-1464-4F52-842E-A857F7B7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B7C561-3704-4DDA-86BC-B971BE62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DE20-6A8A-4BC7-A9A5-7D907A3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2D132-FB87-49F3-9D53-DB72EF2B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2BF03-56AF-4938-87E7-9BA7D27D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133B3-F8B1-49E7-8182-C6EE244D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DC752-00F3-43DF-911D-53A1944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47D22-E64D-4DAB-92F0-28CFF3AF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9D588-0265-463F-87A3-5C4F2480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CE7C1-72E9-4B5B-9BC5-D865DF01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EF27D-623E-4495-A1D7-047A033A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1DBDC-21B8-4684-BDE6-773B0682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1C37A1-FD10-4A95-AEB1-C022170C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2939-4061-4D40-823F-0CA70B8A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A993C-27A2-41D7-8378-981343E6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E6F33-E532-4170-99DF-34D1CF67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ED39A-6C54-47CB-9944-C0C88EE5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B3784-6E41-4C2A-9653-6C32B01A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07F3E-6236-4CB0-9109-61931DE3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90CF6A-899F-4125-9CC1-80127E54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7B4106-BB71-4105-9ADF-370840DA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38F7B-A43F-4666-B305-77043EF9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45011-997F-436C-AE06-E248651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92739E-1338-4D37-B8BE-E6414472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73B-4904-487C-A807-CD86DF8E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F4B7CB-6A43-40D5-A626-74FED4B97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25667B-8E44-4F86-926E-E19E8C3E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A4F0B-9376-41F0-AFCF-1B72855B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4C3C1B-0153-41FC-80EF-0F082E4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D7C93-2AB6-40EB-8DE4-D4927B7E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EB67BF-8BB5-47A9-BE33-08A703C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79AB3-F654-4357-8080-4D04F79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D6595B-E7E0-4C34-BFD4-04A63DC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1BDD77-FEFF-4063-B7F2-D095E1BA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62CD8D-C5AE-4518-BFC1-90243780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349A-D2FD-4417-97A0-6C7C2D35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AAF0DE-FCA5-4D46-A3FE-496D0690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2A31E-98BD-4C74-8F7F-F95C0F12B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FA6A5B-D289-4453-B723-4AF09217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D98F54-53FF-4A89-8179-B5B72DE5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AB656-7D1C-4B99-A337-77C4705E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5EC2EA-BFC0-4479-969D-464D07EC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FB8C7-907C-43F7-A686-BDE80A35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3C6614-DC95-4B12-A38E-4B3B8F243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3D1AAB-5E4F-4657-BF13-CA81DF3C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B950E0-73EA-4599-A8E9-BE4A40C9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EF53-C743-4D6A-B308-6EC2E0DC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01E16-0B20-42EB-9B7E-8DD4F31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149120-73B6-4626-9690-D9CCFD5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E00B5-81B8-4CFD-AC78-4958071A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AC3369-DC7C-474E-A255-26B0B6BB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0934FF-C60B-439D-8E92-36050FFE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95FC2-8389-4871-9143-75BDF43B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42CE-18D1-4806-B5F9-D9D92E3C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BCCCB-FA64-409E-83AA-DD4BF5A5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448E-B199-4265-888B-F84BA0E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80C6-6AE5-40A1-8593-397E6E05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84FF5-F488-4F50-AD67-97EEF369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4821-373A-4DEF-9778-5BF06C52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B7E5A-40E7-4403-8BA5-514992C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B3D0F-4E02-4FBC-8244-26C04515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BD9C3-5160-4310-8136-52D58A276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C266-0AC9-4F73-A411-BDE29F9D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8666-233D-46CC-A875-8609B176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C5DB0-E942-4052-A0C6-6C017EB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D9FE-B64C-45D8-83EA-8AEE643B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3CB-BFD7-4EF7-BCDF-23C906A2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9624A-24B6-4EF6-A9F1-9C840992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C994F-2C33-4E3F-8F9B-6BC829E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9E906-0753-49A4-84E4-93B7EFA2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B2ABE-1D9D-4D1E-B305-E1D41FE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158A-7436-47BB-9E39-E5C6F1C7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AB735-E40F-4492-A8F0-8CB15BAC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C7A1-5409-4E91-B175-993399A3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1208-D901-4D36-BD7E-113C3F08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2025B-7C8D-4FE5-9B13-C14F30E0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8C420-4797-43EC-ACF4-3B948CDD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1A58-24D5-4EBA-AD5D-3E00BCF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18404-73E0-4C29-997A-70C29416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1A1A7-FC04-4FA4-BF5B-A0352413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28A8E-05DC-4280-9431-A8FE8C1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255D9-0ED0-4C52-A5B1-586F1A10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A6470-A85C-439D-A6BD-68BFF554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A1C99-5720-4C94-A289-E31421C9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D3E2-93D4-4F5B-A666-664454B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B0F3C-1A37-49E5-96E5-8FF8495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B3A7-C2F9-4E47-86F3-F47856E5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2166A-C194-4369-9A57-63E83367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23B0-58F5-4922-865B-E315D92C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86E74-1378-4629-AF92-9D4F4673D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43475-F019-449B-8BD5-563C0B4C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6E7FE-BD66-4E82-B506-1F358525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52D7E5-F4DD-4AF8-A133-576D7AD4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C77224-0EB6-43C7-88B4-89284951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D5DF0-26B3-4486-9189-A0DE1AF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51185-B21B-45C5-A08F-4B339B6E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D3E97-21D0-43E4-BE10-7CD91BA9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3B6BF-5C32-4A26-9CC5-7192F965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F1A20-6AB3-4051-BD66-B7BEDE3C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199-463F-4C7A-BFB2-707CCFB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C18A9C-096B-428D-85F9-55BC9F0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C4A8F4-0246-419B-B5F4-CD620140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ACAA7-1161-48BD-8C51-A8A250AD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52D2-2AFB-491A-9F93-0B710C6E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4AB13-4EC1-421D-9F62-B3622CD1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65275-26AC-4146-B8D7-638D8D4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FC1EC-65B6-4B3C-9AC7-3BA1A250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C8624-5081-4891-AC76-CE0033BB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45387-D923-462E-8B38-BBF59211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997C6-8E94-4773-9CFA-2B221B3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BC65-A1B0-423E-B335-AAFBD781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FC192-5D3A-49A2-A18C-2F9D2261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7EA1-C03A-41E6-8F44-E6956D0C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0D2D8-4998-455B-A8E2-776473FE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34254-4609-480E-8B96-DC8BC0E98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9C53F-DB2C-489E-A98F-297B193A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04553-36A9-4FD6-A3A1-CB76B096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8230-86ED-4068-920E-41D8D2C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19E2D-2F07-4539-878B-F990D34C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D4803-3B81-40DB-8466-11875464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1DC6-2916-481D-86B7-DF8FE326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333C-89F4-4D6F-9C2E-40F6D660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F951-A8FF-4A9B-8B48-77AD05BE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A2C20-664B-4FAC-80C1-2227BB9A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6AD5D-5328-4E50-89EC-04B7381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5A346-9544-450B-BAC5-34D7BA3E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0EC21-AC66-48F8-A7E8-91D3FB8D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EF49-1EF0-473A-814B-166818CD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D7E22-F015-4D93-831C-FA4EACC1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C89AB8-636A-4CB0-996F-F5973DA9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FCFF0-9EA3-43D7-B851-7CF97714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D2B03-11E5-4EC7-A97C-617D040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A0C3-406D-4868-B074-E68176513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9721-764B-4203-9F17-397F88EBA1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D4FC-E804-4687-BBB6-E3D176C4E4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06"/>
          <p:cNvSpPr/>
          <p:nvPr/>
        </p:nvSpPr>
        <p:spPr>
          <a:xfrm>
            <a:off x="2527200" y="63828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106"/>
          <p:cNvSpPr/>
          <p:nvPr/>
        </p:nvSpPr>
        <p:spPr>
          <a:xfrm>
            <a:off x="1692360" y="1231920"/>
            <a:ext cx="952560" cy="5652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图片 90" descr=""/>
          <p:cNvPicPr/>
          <p:nvPr/>
        </p:nvPicPr>
        <p:blipFill>
          <a:blip r:embed="rId2"/>
          <a:stretch/>
        </p:blipFill>
        <p:spPr>
          <a:xfrm>
            <a:off x="417600" y="257040"/>
            <a:ext cx="1298520" cy="1635120"/>
          </a:xfrm>
          <a:prstGeom prst="rect">
            <a:avLst/>
          </a:prstGeom>
          <a:ln w="0">
            <a:noFill/>
          </a:ln>
        </p:spPr>
      </p:pic>
      <p:pic>
        <p:nvPicPr>
          <p:cNvPr id="436" name="图片 92" descr=""/>
          <p:cNvPicPr/>
          <p:nvPr/>
        </p:nvPicPr>
        <p:blipFill>
          <a:blip r:embed="rId3"/>
          <a:stretch/>
        </p:blipFill>
        <p:spPr>
          <a:xfrm>
            <a:off x="0" y="5214960"/>
            <a:ext cx="9144000" cy="1643040"/>
          </a:xfrm>
          <a:prstGeom prst="rect">
            <a:avLst/>
          </a:prstGeom>
          <a:ln w="0">
            <a:noFill/>
          </a:ln>
        </p:spPr>
      </p:pic>
      <p:pic>
        <p:nvPicPr>
          <p:cNvPr id="437" name="图片 94" descr=""/>
          <p:cNvPicPr/>
          <p:nvPr/>
        </p:nvPicPr>
        <p:blipFill>
          <a:blip r:embed="rId4"/>
          <a:stretch/>
        </p:blipFill>
        <p:spPr>
          <a:xfrm>
            <a:off x="7278840" y="4546440"/>
            <a:ext cx="1842840" cy="2262240"/>
          </a:xfrm>
          <a:prstGeom prst="rect">
            <a:avLst/>
          </a:prstGeom>
          <a:ln w="0">
            <a:noFill/>
          </a:ln>
        </p:spPr>
      </p:pic>
      <p:pic>
        <p:nvPicPr>
          <p:cNvPr id="438" name="图片 96" descr=""/>
          <p:cNvPicPr/>
          <p:nvPr/>
        </p:nvPicPr>
        <p:blipFill>
          <a:blip r:embed="rId5"/>
          <a:stretch/>
        </p:blipFill>
        <p:spPr>
          <a:xfrm>
            <a:off x="8134200" y="3645000"/>
            <a:ext cx="777960" cy="104760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139B-C28C-4D00-B4E7-AEDEFF30A3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F11D-6054-4AA1-BF0D-4067A64C8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图片 7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FFBC-D991-4711-BD31-DB3F534074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EE9-4B8C-41A2-9B18-CABE8931A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图片 7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274-1885-43CF-96B8-9A89624826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B2D1-DFCA-447A-A88C-920CC94305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图片 5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574-5500-4A6D-BDEF-F4578BFAA8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FB3E-F1B6-42BB-99D5-6E9C862A6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5"/>
          <p:cNvGrpSpPr/>
          <p:nvPr/>
        </p:nvGrpSpPr>
        <p:grpSpPr>
          <a:xfrm>
            <a:off x="-781200" y="3821040"/>
            <a:ext cx="10780920" cy="3041640"/>
            <a:chOff x="-781200" y="3821040"/>
            <a:chExt cx="10780920" cy="3041640"/>
          </a:xfrm>
        </p:grpSpPr>
        <p:sp>
          <p:nvSpPr>
            <p:cNvPr id="611" name="任意多边形: 形状 6"/>
            <p:cNvSpPr/>
            <p:nvPr/>
          </p:nvSpPr>
          <p:spPr>
            <a:xfrm>
              <a:off x="-781200" y="3821040"/>
              <a:ext cx="10780920" cy="3041640"/>
            </a:xfrm>
            <a:custGeom>
              <a:avLst/>
              <a:gdLst/>
              <a:ahLst/>
              <a:rect l="l" t="t" r="r" b="b"/>
              <a:pathLst>
                <a:path w="16099157" h="4574668">
                  <a:moveTo>
                    <a:pt x="0" y="4574667"/>
                  </a:moveTo>
                  <a:cubicBezTo>
                    <a:pt x="3044190" y="1857883"/>
                    <a:pt x="9254618" y="0"/>
                    <a:pt x="16099156" y="4574667"/>
                  </a:cubicBezTo>
                  <a:close/>
                </a:path>
              </a:pathLst>
            </a:custGeom>
            <a:solidFill>
              <a:srgbClr val="e77d5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: 形状 7"/>
            <p:cNvSpPr/>
            <p:nvPr/>
          </p:nvSpPr>
          <p:spPr>
            <a:xfrm>
              <a:off x="-79200" y="4417560"/>
              <a:ext cx="9132840" cy="2445120"/>
            </a:xfrm>
            <a:custGeom>
              <a:avLst/>
              <a:gdLst/>
              <a:ahLst/>
              <a:rect l="l" t="t" r="r" b="b"/>
              <a:pathLst>
                <a:path w="13637642" h="3677413">
                  <a:moveTo>
                    <a:pt x="0" y="3677412"/>
                  </a:moveTo>
                  <a:cubicBezTo>
                    <a:pt x="2578735" y="1493520"/>
                    <a:pt x="7839583" y="0"/>
                    <a:pt x="13637641" y="3677412"/>
                  </a:cubicBezTo>
                  <a:close/>
                </a:path>
              </a:pathLst>
            </a:custGeom>
            <a:solidFill>
              <a:srgbClr val="919d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: 形状 8"/>
            <p:cNvSpPr/>
            <p:nvPr/>
          </p:nvSpPr>
          <p:spPr>
            <a:xfrm>
              <a:off x="898200" y="4957560"/>
              <a:ext cx="7160040" cy="1905120"/>
            </a:xfrm>
            <a:custGeom>
              <a:avLst/>
              <a:gdLst/>
              <a:ahLst/>
              <a:rect l="l" t="t" r="r" b="b"/>
              <a:pathLst>
                <a:path w="10692004" h="2865502">
                  <a:moveTo>
                    <a:pt x="0" y="2865501"/>
                  </a:moveTo>
                  <a:cubicBezTo>
                    <a:pt x="2021713" y="1163701"/>
                    <a:pt x="6146292" y="0"/>
                    <a:pt x="10692003" y="2865501"/>
                  </a:cubicBezTo>
                  <a:close/>
                </a:path>
              </a:pathLst>
            </a:custGeom>
            <a:solidFill>
              <a:srgbClr val="c66b6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: 形状 9"/>
            <p:cNvSpPr/>
            <p:nvPr/>
          </p:nvSpPr>
          <p:spPr>
            <a:xfrm>
              <a:off x="1163880" y="5419440"/>
              <a:ext cx="6534000" cy="1428840"/>
            </a:xfrm>
            <a:custGeom>
              <a:avLst/>
              <a:gdLst/>
              <a:ahLst/>
              <a:rect l="l" t="t" r="r" b="b"/>
              <a:pathLst>
                <a:path w="9757284" h="2148841">
                  <a:moveTo>
                    <a:pt x="0" y="2148840"/>
                  </a:moveTo>
                  <a:cubicBezTo>
                    <a:pt x="1662303" y="1125728"/>
                    <a:pt x="4767707" y="0"/>
                    <a:pt x="9757283" y="2148840"/>
                  </a:cubicBezTo>
                  <a:close/>
                </a:path>
              </a:pathLst>
            </a:custGeom>
            <a:solidFill>
              <a:srgbClr val="ebe46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任意多边形: 形状 10"/>
            <p:cNvSpPr/>
            <p:nvPr/>
          </p:nvSpPr>
          <p:spPr>
            <a:xfrm>
              <a:off x="2058480" y="5843880"/>
              <a:ext cx="4857840" cy="1004040"/>
            </a:xfrm>
            <a:custGeom>
              <a:avLst/>
              <a:gdLst/>
              <a:ahLst/>
              <a:rect l="l" t="t" r="r" b="b"/>
              <a:pathLst>
                <a:path w="7253987" h="1510158">
                  <a:moveTo>
                    <a:pt x="0" y="1510157"/>
                  </a:moveTo>
                  <a:cubicBezTo>
                    <a:pt x="1235837" y="791083"/>
                    <a:pt x="3544443" y="0"/>
                    <a:pt x="7253986" y="1510157"/>
                  </a:cubicBezTo>
                  <a:close/>
                </a:path>
              </a:pathLst>
            </a:custGeom>
            <a:solidFill>
              <a:srgbClr val="7fc26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11"/>
            <p:cNvSpPr/>
            <p:nvPr/>
          </p:nvSpPr>
          <p:spPr>
            <a:xfrm>
              <a:off x="3077280" y="6378840"/>
              <a:ext cx="2944440" cy="469440"/>
            </a:xfrm>
            <a:custGeom>
              <a:avLst/>
              <a:gdLst/>
              <a:ahLst/>
              <a:rect l="l" t="t" r="r" b="b"/>
              <a:pathLst>
                <a:path w="4396868" h="705994">
                  <a:moveTo>
                    <a:pt x="0" y="705993"/>
                  </a:moveTo>
                  <a:cubicBezTo>
                    <a:pt x="1465580" y="207518"/>
                    <a:pt x="2581021" y="0"/>
                    <a:pt x="4396867" y="705993"/>
                  </a:cubicBezTo>
                  <a:close/>
                </a:path>
              </a:pathLst>
            </a:custGeom>
            <a:solidFill>
              <a:srgbClr val="c284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12"/>
          <p:cNvGrpSpPr/>
          <p:nvPr/>
        </p:nvGrpSpPr>
        <p:grpSpPr>
          <a:xfrm>
            <a:off x="5151600" y="1397160"/>
            <a:ext cx="3411360" cy="4392360"/>
            <a:chOff x="5151600" y="1397160"/>
            <a:chExt cx="3411360" cy="4392360"/>
          </a:xfrm>
        </p:grpSpPr>
        <p:grpSp>
          <p:nvGrpSpPr>
            <p:cNvPr id="618" name="组合 13"/>
            <p:cNvGrpSpPr/>
            <p:nvPr/>
          </p:nvGrpSpPr>
          <p:grpSpPr>
            <a:xfrm>
              <a:off x="6642720" y="1397160"/>
              <a:ext cx="1920240" cy="4392360"/>
              <a:chOff x="6642720" y="1397160"/>
              <a:chExt cx="1920240" cy="4392360"/>
            </a:xfrm>
          </p:grpSpPr>
          <p:sp>
            <p:nvSpPr>
              <p:cNvPr id="619" name="任意多边形: 形状 44"/>
              <p:cNvSpPr/>
              <p:nvPr/>
            </p:nvSpPr>
            <p:spPr>
              <a:xfrm>
                <a:off x="7778160" y="4055760"/>
                <a:ext cx="293760" cy="1731960"/>
              </a:xfrm>
              <a:custGeom>
                <a:avLst/>
                <a:gdLst/>
                <a:ahLst/>
                <a:rect l="l" t="t" r="r" b="b"/>
                <a:pathLst>
                  <a:path w="552831" h="2443226">
                    <a:moveTo>
                      <a:pt x="337312" y="84328"/>
                    </a:moveTo>
                    <a:lnTo>
                      <a:pt x="552831" y="2443226"/>
                    </a:lnTo>
                    <a:lnTo>
                      <a:pt x="285369" y="2412365"/>
                    </a:lnTo>
                    <a:lnTo>
                      <a:pt x="0" y="0"/>
                    </a:lnTo>
                    <a:lnTo>
                      <a:pt x="337312" y="84328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任意多边形: 形状 45"/>
              <p:cNvSpPr/>
              <p:nvPr/>
            </p:nvSpPr>
            <p:spPr>
              <a:xfrm>
                <a:off x="7949520" y="4129920"/>
                <a:ext cx="172080" cy="1659600"/>
              </a:xfrm>
              <a:custGeom>
                <a:avLst/>
                <a:gdLst/>
                <a:ahLst/>
                <a:rect l="l" t="t" r="r" b="b"/>
                <a:pathLst>
                  <a:path w="324231" h="2341118">
                    <a:moveTo>
                      <a:pt x="324231" y="2290064"/>
                    </a:moveTo>
                    <a:lnTo>
                      <a:pt x="233426" y="2341118"/>
                    </a:lnTo>
                    <a:lnTo>
                      <a:pt x="0" y="0"/>
                    </a:lnTo>
                    <a:lnTo>
                      <a:pt x="95250" y="19558"/>
                    </a:lnTo>
                    <a:lnTo>
                      <a:pt x="324231" y="2290064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任意多边形: 形状 46"/>
              <p:cNvSpPr/>
              <p:nvPr/>
            </p:nvSpPr>
            <p:spPr>
              <a:xfrm>
                <a:off x="7783560" y="1410840"/>
                <a:ext cx="96480" cy="464040"/>
              </a:xfrm>
              <a:custGeom>
                <a:avLst/>
                <a:gdLst/>
                <a:ahLst/>
                <a:rect l="l" t="t" r="r" b="b"/>
                <a:pathLst>
                  <a:path w="181610" h="655066">
                    <a:moveTo>
                      <a:pt x="181610" y="58420"/>
                    </a:moveTo>
                    <a:lnTo>
                      <a:pt x="90805" y="0"/>
                    </a:lnTo>
                    <a:lnTo>
                      <a:pt x="0" y="645287"/>
                    </a:lnTo>
                    <a:lnTo>
                      <a:pt x="100584" y="655066"/>
                    </a:lnTo>
                    <a:lnTo>
                      <a:pt x="181610" y="58420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任意多边形: 形状 47"/>
              <p:cNvSpPr/>
              <p:nvPr/>
            </p:nvSpPr>
            <p:spPr>
              <a:xfrm>
                <a:off x="6642720" y="4001400"/>
                <a:ext cx="592920" cy="1553760"/>
              </a:xfrm>
              <a:custGeom>
                <a:avLst/>
                <a:gdLst/>
                <a:ahLst/>
                <a:rect l="l" t="t" r="r" b="b"/>
                <a:pathLst>
                  <a:path w="1115315" h="2191894">
                    <a:moveTo>
                      <a:pt x="793242" y="0"/>
                    </a:moveTo>
                    <a:lnTo>
                      <a:pt x="0" y="2055749"/>
                    </a:lnTo>
                    <a:lnTo>
                      <a:pt x="285369" y="2191893"/>
                    </a:lnTo>
                    <a:lnTo>
                      <a:pt x="1067181" y="110236"/>
                    </a:lnTo>
                    <a:lnTo>
                      <a:pt x="1115314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任意多边形: 形状 48"/>
              <p:cNvSpPr/>
              <p:nvPr/>
            </p:nvSpPr>
            <p:spPr>
              <a:xfrm>
                <a:off x="7999920" y="4143960"/>
                <a:ext cx="331920" cy="1107720"/>
              </a:xfrm>
              <a:custGeom>
                <a:avLst/>
                <a:gdLst/>
                <a:ahLst/>
                <a:rect l="l" t="t" r="r" b="b"/>
                <a:pathLst>
                  <a:path w="624587" h="1562863">
                    <a:moveTo>
                      <a:pt x="371602" y="1562862"/>
                    </a:moveTo>
                    <a:lnTo>
                      <a:pt x="0" y="0"/>
                    </a:lnTo>
                    <a:lnTo>
                      <a:pt x="228981" y="26035"/>
                    </a:lnTo>
                    <a:lnTo>
                      <a:pt x="624586" y="1562862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任意多边形: 形状 49"/>
              <p:cNvSpPr/>
              <p:nvPr/>
            </p:nvSpPr>
            <p:spPr>
              <a:xfrm>
                <a:off x="8121960" y="4161960"/>
                <a:ext cx="254880" cy="1089720"/>
              </a:xfrm>
              <a:custGeom>
                <a:avLst/>
                <a:gdLst/>
                <a:ahLst/>
                <a:rect l="l" t="t" r="r" b="b"/>
                <a:pathLst>
                  <a:path w="479806" h="1537335">
                    <a:moveTo>
                      <a:pt x="479806" y="1476375"/>
                    </a:moveTo>
                    <a:lnTo>
                      <a:pt x="395605" y="1537335"/>
                    </a:lnTo>
                    <a:lnTo>
                      <a:pt x="0" y="508"/>
                    </a:lnTo>
                    <a:lnTo>
                      <a:pt x="83312" y="0"/>
                    </a:lnTo>
                    <a:lnTo>
                      <a:pt x="479806" y="1476375"/>
                    </a:lnTo>
                  </a:path>
                </a:pathLst>
              </a:custGeom>
              <a:solidFill>
                <a:srgbClr val="aa79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任意多边形: 形状 50"/>
              <p:cNvSpPr/>
              <p:nvPr/>
            </p:nvSpPr>
            <p:spPr>
              <a:xfrm>
                <a:off x="8332200" y="2079720"/>
                <a:ext cx="230760" cy="2114640"/>
              </a:xfrm>
              <a:custGeom>
                <a:avLst/>
                <a:gdLst/>
                <a:ahLst/>
                <a:rect l="l" t="t" r="r" b="b"/>
                <a:pathLst>
                  <a:path w="434467" h="2983103">
                    <a:moveTo>
                      <a:pt x="434467" y="58293"/>
                    </a:moveTo>
                    <a:lnTo>
                      <a:pt x="343662" y="0"/>
                    </a:lnTo>
                    <a:lnTo>
                      <a:pt x="0" y="2983103"/>
                    </a:lnTo>
                    <a:lnTo>
                      <a:pt x="77724" y="2957195"/>
                    </a:lnTo>
                    <a:lnTo>
                      <a:pt x="434467" y="58293"/>
                    </a:lnTo>
                  </a:path>
                </a:pathLst>
              </a:custGeom>
              <a:solidFill>
                <a:srgbClr val="b27d4d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任意多边形: 形状 51"/>
              <p:cNvSpPr/>
              <p:nvPr/>
            </p:nvSpPr>
            <p:spPr>
              <a:xfrm>
                <a:off x="7500960" y="1854360"/>
                <a:ext cx="358560" cy="217800"/>
              </a:xfrm>
              <a:custGeom>
                <a:avLst/>
                <a:gdLst/>
                <a:ahLst/>
                <a:rect l="l" t="t" r="r" b="b"/>
                <a:pathLst>
                  <a:path w="674497" h="307467">
                    <a:moveTo>
                      <a:pt x="57277" y="0"/>
                    </a:moveTo>
                    <a:lnTo>
                      <a:pt x="0" y="300990"/>
                    </a:lnTo>
                    <a:lnTo>
                      <a:pt x="648589" y="307467"/>
                    </a:lnTo>
                    <a:lnTo>
                      <a:pt x="674497" y="28829"/>
                    </a:lnTo>
                    <a:lnTo>
                      <a:pt x="57277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任意多边形: 形状 52"/>
              <p:cNvSpPr/>
              <p:nvPr/>
            </p:nvSpPr>
            <p:spPr>
              <a:xfrm>
                <a:off x="7845840" y="1872720"/>
                <a:ext cx="46800" cy="199440"/>
              </a:xfrm>
              <a:custGeom>
                <a:avLst/>
                <a:gdLst/>
                <a:ahLst/>
                <a:rect l="l" t="t" r="r" b="b"/>
                <a:pathLst>
                  <a:path w="88265" h="281559">
                    <a:moveTo>
                      <a:pt x="88265" y="50165"/>
                    </a:moveTo>
                    <a:lnTo>
                      <a:pt x="21971" y="0"/>
                    </a:lnTo>
                    <a:lnTo>
                      <a:pt x="0" y="281559"/>
                    </a:lnTo>
                    <a:lnTo>
                      <a:pt x="64770" y="277241"/>
                    </a:lnTo>
                    <a:lnTo>
                      <a:pt x="88265" y="50165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任意多边形: 形状 53"/>
              <p:cNvSpPr/>
              <p:nvPr/>
            </p:nvSpPr>
            <p:spPr>
              <a:xfrm>
                <a:off x="7609320" y="1397160"/>
                <a:ext cx="222120" cy="470880"/>
              </a:xfrm>
              <a:custGeom>
                <a:avLst/>
                <a:gdLst/>
                <a:ahLst/>
                <a:rect l="l" t="t" r="r" b="b"/>
                <a:pathLst>
                  <a:path w="418338" h="664718">
                    <a:moveTo>
                      <a:pt x="113538" y="0"/>
                    </a:moveTo>
                    <a:lnTo>
                      <a:pt x="418338" y="19431"/>
                    </a:lnTo>
                    <a:lnTo>
                      <a:pt x="327533" y="664718"/>
                    </a:lnTo>
                    <a:lnTo>
                      <a:pt x="0" y="656717"/>
                    </a:lnTo>
                    <a:lnTo>
                      <a:pt x="113538" y="0"/>
                    </a:lnTo>
                  </a:path>
                </a:pathLst>
              </a:custGeom>
              <a:solidFill>
                <a:srgbClr val="b29351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任意多边形: 形状 54"/>
              <p:cNvSpPr/>
              <p:nvPr/>
            </p:nvSpPr>
            <p:spPr>
              <a:xfrm>
                <a:off x="6794280" y="4079520"/>
                <a:ext cx="455040" cy="1475640"/>
              </a:xfrm>
              <a:custGeom>
                <a:avLst/>
                <a:gdLst/>
                <a:ahLst/>
                <a:rect l="l" t="t" r="r" b="b"/>
                <a:pathLst>
                  <a:path w="856107" h="2081657">
                    <a:moveTo>
                      <a:pt x="856107" y="8763"/>
                    </a:moveTo>
                    <a:lnTo>
                      <a:pt x="149352" y="2049272"/>
                    </a:lnTo>
                    <a:lnTo>
                      <a:pt x="0" y="2081657"/>
                    </a:lnTo>
                    <a:lnTo>
                      <a:pt x="781812" y="0"/>
                    </a:lnTo>
                    <a:lnTo>
                      <a:pt x="856107" y="8763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任意多边形: 形状 55"/>
              <p:cNvSpPr/>
              <p:nvPr/>
            </p:nvSpPr>
            <p:spPr>
              <a:xfrm>
                <a:off x="6887160" y="5075640"/>
                <a:ext cx="1018800" cy="427320"/>
              </a:xfrm>
              <a:custGeom>
                <a:avLst/>
                <a:gdLst/>
                <a:ahLst/>
                <a:rect l="l" t="t" r="r" b="b"/>
                <a:pathLst>
                  <a:path w="1916303" h="602996">
                    <a:moveTo>
                      <a:pt x="1916303" y="602996"/>
                    </a:moveTo>
                    <a:lnTo>
                      <a:pt x="0" y="217932"/>
                    </a:lnTo>
                    <a:lnTo>
                      <a:pt x="81407" y="0"/>
                    </a:lnTo>
                    <a:lnTo>
                      <a:pt x="1888490" y="319913"/>
                    </a:lnTo>
                    <a:lnTo>
                      <a:pt x="1916303" y="602996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任意多边形: 形状 56"/>
              <p:cNvSpPr/>
              <p:nvPr/>
            </p:nvSpPr>
            <p:spPr>
              <a:xfrm>
                <a:off x="6930360" y="5066280"/>
                <a:ext cx="960480" cy="235800"/>
              </a:xfrm>
              <a:custGeom>
                <a:avLst/>
                <a:gdLst/>
                <a:ahLst/>
                <a:rect l="l" t="t" r="r" b="b"/>
                <a:pathLst>
                  <a:path w="1807083" h="332994">
                    <a:moveTo>
                      <a:pt x="115697" y="0"/>
                    </a:moveTo>
                    <a:lnTo>
                      <a:pt x="0" y="13081"/>
                    </a:lnTo>
                    <a:lnTo>
                      <a:pt x="1807083" y="332994"/>
                    </a:lnTo>
                    <a:lnTo>
                      <a:pt x="1800606" y="272415"/>
                    </a:lnTo>
                    <a:lnTo>
                      <a:pt x="115697" y="0"/>
                    </a:lnTo>
                  </a:path>
                </a:pathLst>
              </a:custGeom>
              <a:solidFill>
                <a:srgbClr val="ae7b4c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任意多边形: 形状 57"/>
              <p:cNvSpPr/>
              <p:nvPr/>
            </p:nvSpPr>
            <p:spPr>
              <a:xfrm>
                <a:off x="6732360" y="2056680"/>
                <a:ext cx="1782360" cy="2137680"/>
              </a:xfrm>
              <a:custGeom>
                <a:avLst/>
                <a:gdLst/>
                <a:ahLst/>
                <a:rect l="l" t="t" r="r" b="b"/>
                <a:pathLst>
                  <a:path w="3352800" h="3015488">
                    <a:moveTo>
                      <a:pt x="427990" y="0"/>
                    </a:moveTo>
                    <a:lnTo>
                      <a:pt x="0" y="2671826"/>
                    </a:lnTo>
                    <a:lnTo>
                      <a:pt x="3009138" y="3015488"/>
                    </a:lnTo>
                    <a:lnTo>
                      <a:pt x="3352800" y="32385"/>
                    </a:lnTo>
                    <a:lnTo>
                      <a:pt x="427990" y="0"/>
                    </a:lnTo>
                  </a:path>
                </a:pathLst>
              </a:custGeom>
              <a:solidFill>
                <a:srgbClr val="bc99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任意多边形: 形状 58"/>
              <p:cNvSpPr/>
              <p:nvPr/>
            </p:nvSpPr>
            <p:spPr>
              <a:xfrm>
                <a:off x="6794280" y="2121120"/>
                <a:ext cx="1613520" cy="1958400"/>
              </a:xfrm>
              <a:custGeom>
                <a:avLst/>
                <a:gdLst/>
                <a:ahLst/>
                <a:rect l="l" t="t" r="r" b="b"/>
                <a:pathLst>
                  <a:path w="3035046" h="2762758">
                    <a:moveTo>
                      <a:pt x="402082" y="0"/>
                    </a:moveTo>
                    <a:lnTo>
                      <a:pt x="0" y="2464435"/>
                    </a:lnTo>
                    <a:lnTo>
                      <a:pt x="2717292" y="2762758"/>
                    </a:lnTo>
                    <a:lnTo>
                      <a:pt x="3035046" y="42164"/>
                    </a:lnTo>
                    <a:lnTo>
                      <a:pt x="402082" y="0"/>
                    </a:lnTo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: 形状 59"/>
              <p:cNvSpPr/>
              <p:nvPr/>
            </p:nvSpPr>
            <p:spPr>
              <a:xfrm>
                <a:off x="7462080" y="2038320"/>
                <a:ext cx="452880" cy="105480"/>
              </a:xfrm>
              <a:custGeom>
                <a:avLst/>
                <a:gdLst/>
                <a:ahLst/>
                <a:rect l="l" t="t" r="r" b="b"/>
                <a:pathLst>
                  <a:path w="851916" h="149225">
                    <a:moveTo>
                      <a:pt x="0" y="0"/>
                    </a:moveTo>
                    <a:lnTo>
                      <a:pt x="0" y="130429"/>
                    </a:lnTo>
                    <a:lnTo>
                      <a:pt x="851916" y="149225"/>
                    </a:lnTo>
                    <a:lnTo>
                      <a:pt x="851916" y="260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任意多边形: 形状 60"/>
              <p:cNvSpPr/>
              <p:nvPr/>
            </p:nvSpPr>
            <p:spPr>
              <a:xfrm>
                <a:off x="7093080" y="3831120"/>
                <a:ext cx="721800" cy="340200"/>
              </a:xfrm>
              <a:custGeom>
                <a:avLst/>
                <a:gdLst/>
                <a:ahLst/>
                <a:rect l="l" t="t" r="r" b="b"/>
                <a:pathLst>
                  <a:path w="1357630" h="479933">
                    <a:moveTo>
                      <a:pt x="25908" y="0"/>
                    </a:moveTo>
                    <a:lnTo>
                      <a:pt x="0" y="324231"/>
                    </a:lnTo>
                    <a:lnTo>
                      <a:pt x="1318641" y="479933"/>
                    </a:lnTo>
                    <a:lnTo>
                      <a:pt x="1357630" y="160020"/>
                    </a:lnTo>
                    <a:lnTo>
                      <a:pt x="25908" y="0"/>
                    </a:lnTo>
                  </a:path>
                </a:pathLst>
              </a:custGeom>
              <a:solidFill>
                <a:srgbClr val="b79652"/>
              </a:solidFill>
              <a:ln w="648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61"/>
              <p:cNvSpPr/>
              <p:nvPr/>
            </p:nvSpPr>
            <p:spPr>
              <a:xfrm>
                <a:off x="7778160" y="3943080"/>
                <a:ext cx="87120" cy="225000"/>
              </a:xfrm>
              <a:custGeom>
                <a:avLst/>
                <a:gdLst/>
                <a:ahLst/>
                <a:rect l="l" t="t" r="r" b="b"/>
                <a:pathLst>
                  <a:path w="164339" h="317755">
                    <a:moveTo>
                      <a:pt x="164338" y="15113"/>
                    </a:moveTo>
                    <a:lnTo>
                      <a:pt x="67057" y="0"/>
                    </a:lnTo>
                    <a:lnTo>
                      <a:pt x="0" y="317754"/>
                    </a:lnTo>
                    <a:cubicBezTo>
                      <a:pt x="59309" y="300736"/>
                      <a:pt x="103759" y="288163"/>
                      <a:pt x="121032" y="283210"/>
                    </a:cubicBezTo>
                    <a:close/>
                  </a:path>
                </a:pathLst>
              </a:custGeom>
              <a:solidFill>
                <a:srgbClr val="ae7b4c"/>
              </a:solidFill>
              <a:ln w="12600">
                <a:solidFill>
                  <a:srgbClr val="412c1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62"/>
              <p:cNvSpPr/>
              <p:nvPr/>
            </p:nvSpPr>
            <p:spPr>
              <a:xfrm>
                <a:off x="7263360" y="2787840"/>
                <a:ext cx="682560" cy="717120"/>
              </a:xfrm>
              <a:custGeom>
                <a:avLst/>
                <a:gdLst/>
                <a:ahLst/>
                <a:rect l="l" t="t" r="r" b="b"/>
                <a:pathLst>
                  <a:path w="1283970" h="1011682">
                    <a:moveTo>
                      <a:pt x="1225677" y="1011682"/>
                    </a:moveTo>
                    <a:lnTo>
                      <a:pt x="1283970" y="84328"/>
                    </a:lnTo>
                    <a:lnTo>
                      <a:pt x="77851" y="0"/>
                    </a:lnTo>
                    <a:lnTo>
                      <a:pt x="0" y="880618"/>
                    </a:lnTo>
                    <a:lnTo>
                      <a:pt x="1225677" y="1011682"/>
                    </a:lnTo>
                  </a:path>
                </a:pathLst>
              </a:custGeom>
              <a:solidFill>
                <a:srgbClr val="e76f0b"/>
              </a:solidFill>
              <a:ln w="6480">
                <a:solidFill>
                  <a:srgbClr val="fac5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63"/>
              <p:cNvSpPr/>
              <p:nvPr/>
            </p:nvSpPr>
            <p:spPr>
              <a:xfrm>
                <a:off x="7216560" y="2451960"/>
                <a:ext cx="756720" cy="395280"/>
              </a:xfrm>
              <a:custGeom>
                <a:avLst/>
                <a:gdLst/>
                <a:ahLst/>
                <a:rect l="l" t="t" r="r" b="b"/>
                <a:pathLst>
                  <a:path w="1423543" h="557784">
                    <a:moveTo>
                      <a:pt x="729615" y="0"/>
                    </a:moveTo>
                    <a:lnTo>
                      <a:pt x="0" y="463677"/>
                    </a:lnTo>
                    <a:lnTo>
                      <a:pt x="1423543" y="557784"/>
                    </a:lnTo>
                    <a:lnTo>
                      <a:pt x="729615" y="0"/>
                    </a:lnTo>
                  </a:path>
                </a:pathLst>
              </a:custGeom>
              <a:solidFill>
                <a:srgbClr val="a842d9"/>
              </a:solidFill>
              <a:ln w="6480">
                <a:solidFill>
                  <a:srgbClr val="cb8e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64"/>
              <p:cNvSpPr/>
              <p:nvPr/>
            </p:nvSpPr>
            <p:spPr>
              <a:xfrm>
                <a:off x="7390440" y="2824920"/>
                <a:ext cx="246960" cy="293040"/>
              </a:xfrm>
              <a:custGeom>
                <a:avLst/>
                <a:gdLst/>
                <a:ahLst/>
                <a:rect l="l" t="t" r="r" b="b"/>
                <a:pathLst>
                  <a:path w="465075" h="413640">
                    <a:moveTo>
                      <a:pt x="26289" y="229616"/>
                    </a:moveTo>
                    <a:cubicBezTo>
                      <a:pt x="16637" y="127635"/>
                      <a:pt x="0" y="21082"/>
                      <a:pt x="162433" y="35052"/>
                    </a:cubicBezTo>
                    <a:cubicBezTo>
                      <a:pt x="232410" y="2159"/>
                      <a:pt x="298323" y="0"/>
                      <a:pt x="356997" y="51308"/>
                    </a:cubicBezTo>
                    <a:cubicBezTo>
                      <a:pt x="416433" y="63246"/>
                      <a:pt x="443484" y="90170"/>
                      <a:pt x="438023" y="132334"/>
                    </a:cubicBezTo>
                    <a:cubicBezTo>
                      <a:pt x="462788" y="166116"/>
                      <a:pt x="465074" y="198628"/>
                      <a:pt x="438023" y="229616"/>
                    </a:cubicBezTo>
                    <a:cubicBezTo>
                      <a:pt x="370967" y="223774"/>
                      <a:pt x="324612" y="257302"/>
                      <a:pt x="292100" y="317119"/>
                    </a:cubicBezTo>
                    <a:cubicBezTo>
                      <a:pt x="274447" y="386334"/>
                      <a:pt x="234442" y="413639"/>
                      <a:pt x="172085" y="399161"/>
                    </a:cubicBezTo>
                    <a:cubicBezTo>
                      <a:pt x="82423" y="353568"/>
                      <a:pt x="12827" y="302514"/>
                      <a:pt x="26289" y="229616"/>
                    </a:cubicBezTo>
                    <a:close/>
                  </a:path>
                </a:pathLst>
              </a:custGeom>
              <a:solidFill>
                <a:srgbClr val="f8a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14"/>
            <p:cNvGrpSpPr/>
            <p:nvPr/>
          </p:nvGrpSpPr>
          <p:grpSpPr>
            <a:xfrm>
              <a:off x="5151600" y="1931400"/>
              <a:ext cx="2343240" cy="3803040"/>
              <a:chOff x="5151600" y="1931400"/>
              <a:chExt cx="2343240" cy="3803040"/>
            </a:xfrm>
          </p:grpSpPr>
          <p:grpSp>
            <p:nvGrpSpPr>
              <p:cNvPr id="641" name="组合 15"/>
              <p:cNvGrpSpPr/>
              <p:nvPr/>
            </p:nvGrpSpPr>
            <p:grpSpPr>
              <a:xfrm>
                <a:off x="5151600" y="1931400"/>
                <a:ext cx="2343240" cy="3803040"/>
                <a:chOff x="5151600" y="1931400"/>
                <a:chExt cx="2343240" cy="3803040"/>
              </a:xfrm>
            </p:grpSpPr>
            <p:sp>
              <p:nvSpPr>
                <p:cNvPr id="642" name="任意多边形: 形状 23"/>
                <p:cNvSpPr/>
                <p:nvPr/>
              </p:nvSpPr>
              <p:spPr>
                <a:xfrm>
                  <a:off x="6028560" y="4867200"/>
                  <a:ext cx="162720" cy="527400"/>
                </a:xfrm>
                <a:custGeom>
                  <a:avLst/>
                  <a:gdLst/>
                  <a:ahLst/>
                  <a:rect l="l" t="t" r="r" b="b"/>
                  <a:pathLst>
                    <a:path w="331471" h="804800">
                      <a:moveTo>
                        <a:pt x="46101" y="791210"/>
                      </a:moveTo>
                      <a:cubicBezTo>
                        <a:pt x="149987" y="804799"/>
                        <a:pt x="247650" y="779526"/>
                        <a:pt x="331470" y="729615"/>
                      </a:cubicBezTo>
                      <a:cubicBezTo>
                        <a:pt x="268224" y="537972"/>
                        <a:pt x="263144" y="281178"/>
                        <a:pt x="279527" y="0"/>
                      </a:cubicBezTo>
                      <a:lnTo>
                        <a:pt x="13716" y="0"/>
                      </a:lnTo>
                      <a:cubicBezTo>
                        <a:pt x="4318" y="325247"/>
                        <a:pt x="0" y="653034"/>
                        <a:pt x="46101" y="79121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任意多边形: 形状 24"/>
                <p:cNvSpPr/>
                <p:nvPr/>
              </p:nvSpPr>
              <p:spPr>
                <a:xfrm>
                  <a:off x="5348160" y="2207520"/>
                  <a:ext cx="1347840" cy="1426680"/>
                </a:xfrm>
                <a:custGeom>
                  <a:avLst/>
                  <a:gdLst/>
                  <a:ahLst/>
                  <a:rect l="l" t="t" r="r" b="b"/>
                  <a:pathLst>
                    <a:path w="2741677" h="2176146">
                      <a:moveTo>
                        <a:pt x="2379980" y="632333"/>
                      </a:moveTo>
                      <a:cubicBezTo>
                        <a:pt x="2741676" y="1211580"/>
                        <a:pt x="2441194" y="1634998"/>
                        <a:pt x="1689354" y="1951990"/>
                      </a:cubicBezTo>
                      <a:cubicBezTo>
                        <a:pt x="1648587" y="1981962"/>
                        <a:pt x="1633728" y="2048129"/>
                        <a:pt x="1627759" y="2127123"/>
                      </a:cubicBezTo>
                      <a:cubicBezTo>
                        <a:pt x="1548892" y="2176145"/>
                        <a:pt x="1481836" y="2170049"/>
                        <a:pt x="1430020" y="2091436"/>
                      </a:cubicBezTo>
                      <a:cubicBezTo>
                        <a:pt x="1436751" y="2009394"/>
                        <a:pt x="1390904" y="1966468"/>
                        <a:pt x="1319784" y="1942338"/>
                      </a:cubicBezTo>
                      <a:cubicBezTo>
                        <a:pt x="940435" y="1919605"/>
                        <a:pt x="578739" y="1948180"/>
                        <a:pt x="466979" y="1760728"/>
                      </a:cubicBezTo>
                      <a:lnTo>
                        <a:pt x="0" y="1096010"/>
                      </a:lnTo>
                      <a:lnTo>
                        <a:pt x="350139" y="463677"/>
                      </a:lnTo>
                      <a:lnTo>
                        <a:pt x="1089406" y="285369"/>
                      </a:lnTo>
                      <a:lnTo>
                        <a:pt x="1549908" y="0"/>
                      </a:lnTo>
                      <a:lnTo>
                        <a:pt x="1890395" y="29210"/>
                      </a:ln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: 形状 25"/>
                <p:cNvSpPr/>
                <p:nvPr/>
              </p:nvSpPr>
              <p:spPr>
                <a:xfrm>
                  <a:off x="5697000" y="4937400"/>
                  <a:ext cx="183240" cy="633960"/>
                </a:xfrm>
                <a:custGeom>
                  <a:avLst/>
                  <a:gdLst/>
                  <a:ahLst/>
                  <a:rect l="l" t="t" r="r" b="b"/>
                  <a:pathLst>
                    <a:path w="373000" h="967106">
                      <a:moveTo>
                        <a:pt x="97409" y="0"/>
                      </a:moveTo>
                      <a:cubicBezTo>
                        <a:pt x="53340" y="333121"/>
                        <a:pt x="0" y="647954"/>
                        <a:pt x="19558" y="882015"/>
                      </a:cubicBezTo>
                      <a:cubicBezTo>
                        <a:pt x="86995" y="967105"/>
                        <a:pt x="193802" y="919480"/>
                        <a:pt x="288671" y="865759"/>
                      </a:cubicBezTo>
                      <a:cubicBezTo>
                        <a:pt x="287147" y="524002"/>
                        <a:pt x="302006" y="211582"/>
                        <a:pt x="372999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: 形状 26"/>
                <p:cNvSpPr/>
                <p:nvPr/>
              </p:nvSpPr>
              <p:spPr>
                <a:xfrm>
                  <a:off x="5678280" y="3740400"/>
                  <a:ext cx="165600" cy="110880"/>
                </a:xfrm>
                <a:custGeom>
                  <a:avLst/>
                  <a:gdLst/>
                  <a:ahLst/>
                  <a:rect l="l" t="t" r="r" b="b"/>
                  <a:pathLst>
                    <a:path w="337186" h="169165">
                      <a:moveTo>
                        <a:pt x="142621" y="0"/>
                      </a:moveTo>
                      <a:lnTo>
                        <a:pt x="0" y="169164"/>
                      </a:lnTo>
                      <a:cubicBezTo>
                        <a:pt x="100457" y="136779"/>
                        <a:pt x="337185" y="113411"/>
                        <a:pt x="337185" y="113411"/>
                      </a:cubicBezTo>
                      <a:cubicBezTo>
                        <a:pt x="337185" y="113411"/>
                        <a:pt x="260731" y="19812"/>
                        <a:pt x="142621" y="0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: 形状 27"/>
                <p:cNvSpPr/>
                <p:nvPr/>
              </p:nvSpPr>
              <p:spPr>
                <a:xfrm>
                  <a:off x="6404040" y="3046320"/>
                  <a:ext cx="587520" cy="640440"/>
                </a:xfrm>
                <a:custGeom>
                  <a:avLst/>
                  <a:gdLst/>
                  <a:ahLst/>
                  <a:rect l="l" t="t" r="r" b="b"/>
                  <a:pathLst>
                    <a:path w="1195197" h="977266">
                      <a:moveTo>
                        <a:pt x="64516" y="977265"/>
                      </a:moveTo>
                      <a:cubicBezTo>
                        <a:pt x="306324" y="854456"/>
                        <a:pt x="553085" y="663702"/>
                        <a:pt x="754126" y="429387"/>
                      </a:cubicBezTo>
                      <a:cubicBezTo>
                        <a:pt x="834136" y="402463"/>
                        <a:pt x="874522" y="361950"/>
                        <a:pt x="870839" y="306197"/>
                      </a:cubicBezTo>
                      <a:cubicBezTo>
                        <a:pt x="981075" y="279146"/>
                        <a:pt x="1060577" y="166751"/>
                        <a:pt x="1039495" y="150495"/>
                      </a:cubicBezTo>
                      <a:cubicBezTo>
                        <a:pt x="1018414" y="134238"/>
                        <a:pt x="919988" y="183769"/>
                        <a:pt x="841756" y="234823"/>
                      </a:cubicBezTo>
                      <a:cubicBezTo>
                        <a:pt x="892556" y="178563"/>
                        <a:pt x="927734" y="114173"/>
                        <a:pt x="1123823" y="124587"/>
                      </a:cubicBezTo>
                      <a:lnTo>
                        <a:pt x="1195196" y="111633"/>
                      </a:lnTo>
                      <a:cubicBezTo>
                        <a:pt x="1170939" y="48387"/>
                        <a:pt x="1066545" y="0"/>
                        <a:pt x="948817" y="56515"/>
                      </a:cubicBezTo>
                      <a:cubicBezTo>
                        <a:pt x="861313" y="62992"/>
                        <a:pt x="809751" y="116459"/>
                        <a:pt x="760730" y="173228"/>
                      </a:cubicBezTo>
                      <a:cubicBezTo>
                        <a:pt x="573913" y="450469"/>
                        <a:pt x="323088" y="650875"/>
                        <a:pt x="0" y="764413"/>
                      </a:cubicBezTo>
                      <a:cubicBezTo>
                        <a:pt x="21717" y="837438"/>
                        <a:pt x="24130" y="915924"/>
                        <a:pt x="64516" y="977265"/>
                      </a:cubicBezTo>
                      <a:close/>
                    </a:path>
                  </a:pathLst>
                </a:custGeom>
                <a:solidFill>
                  <a:srgbClr val="fbf5f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: 形状 28"/>
                <p:cNvSpPr/>
                <p:nvPr/>
              </p:nvSpPr>
              <p:spPr>
                <a:xfrm>
                  <a:off x="5669640" y="3520800"/>
                  <a:ext cx="788400" cy="1060200"/>
                </a:xfrm>
                <a:custGeom>
                  <a:avLst/>
                  <a:gdLst/>
                  <a:ahLst/>
                  <a:rect l="l" t="t" r="r" b="b"/>
                  <a:pathLst>
                    <a:path w="1604011" h="1616965">
                      <a:moveTo>
                        <a:pt x="99441" y="337185"/>
                      </a:moveTo>
                      <a:cubicBezTo>
                        <a:pt x="210439" y="357759"/>
                        <a:pt x="315341" y="407162"/>
                        <a:pt x="410718" y="501523"/>
                      </a:cubicBezTo>
                      <a:lnTo>
                        <a:pt x="0" y="1292733"/>
                      </a:lnTo>
                      <a:cubicBezTo>
                        <a:pt x="271272" y="1474089"/>
                        <a:pt x="661035" y="1560957"/>
                        <a:pt x="1089533" y="1616964"/>
                      </a:cubicBezTo>
                      <a:cubicBezTo>
                        <a:pt x="1203452" y="1285621"/>
                        <a:pt x="1279779" y="930402"/>
                        <a:pt x="1301369" y="540385"/>
                      </a:cubicBezTo>
                      <a:cubicBezTo>
                        <a:pt x="1301242" y="423799"/>
                        <a:pt x="1425067" y="367157"/>
                        <a:pt x="1604010" y="337185"/>
                      </a:cubicBezTo>
                      <a:lnTo>
                        <a:pt x="1478661" y="0"/>
                      </a:lnTo>
                      <a:cubicBezTo>
                        <a:pt x="1231264" y="74676"/>
                        <a:pt x="1042289" y="85979"/>
                        <a:pt x="987298" y="38862"/>
                      </a:cubicBezTo>
                      <a:cubicBezTo>
                        <a:pt x="967359" y="224790"/>
                        <a:pt x="772794" y="140462"/>
                        <a:pt x="765048" y="26035"/>
                      </a:cubicBezTo>
                      <a:cubicBezTo>
                        <a:pt x="445770" y="36068"/>
                        <a:pt x="249936" y="183134"/>
                        <a:pt x="99441" y="337185"/>
                      </a:cubicBezTo>
                      <a:close/>
                    </a:path>
                  </a:pathLst>
                </a:custGeom>
                <a:solidFill>
                  <a:srgbClr val="a49dc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: 形状 29"/>
                <p:cNvSpPr/>
                <p:nvPr/>
              </p:nvSpPr>
              <p:spPr>
                <a:xfrm>
                  <a:off x="5679720" y="4401360"/>
                  <a:ext cx="578520" cy="569160"/>
                </a:xfrm>
                <a:custGeom>
                  <a:avLst/>
                  <a:gdLst/>
                  <a:ahLst/>
                  <a:rect l="l" t="t" r="r" b="b"/>
                  <a:pathLst>
                    <a:path w="1176783" h="868046">
                      <a:moveTo>
                        <a:pt x="64897" y="0"/>
                      </a:moveTo>
                      <a:cubicBezTo>
                        <a:pt x="17272" y="261620"/>
                        <a:pt x="0" y="523240"/>
                        <a:pt x="16256" y="784733"/>
                      </a:cubicBezTo>
                      <a:cubicBezTo>
                        <a:pt x="167259" y="836549"/>
                        <a:pt x="341503" y="868045"/>
                        <a:pt x="625856" y="804164"/>
                      </a:cubicBezTo>
                      <a:cubicBezTo>
                        <a:pt x="789432" y="852551"/>
                        <a:pt x="951484" y="850900"/>
                        <a:pt x="1112266" y="804164"/>
                      </a:cubicBezTo>
                      <a:cubicBezTo>
                        <a:pt x="1167384" y="594233"/>
                        <a:pt x="1176782" y="337566"/>
                        <a:pt x="1160907" y="55118"/>
                      </a:cubicBezTo>
                      <a:cubicBezTo>
                        <a:pt x="821817" y="181610"/>
                        <a:pt x="455803" y="183388"/>
                        <a:pt x="64897" y="0"/>
                      </a:cubicBezTo>
                      <a:close/>
                    </a:path>
                  </a:pathLst>
                </a:custGeom>
                <a:solidFill>
                  <a:srgbClr val="d57f3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: 形状 30"/>
                <p:cNvSpPr/>
                <p:nvPr/>
              </p:nvSpPr>
              <p:spPr>
                <a:xfrm>
                  <a:off x="5799240" y="3547440"/>
                  <a:ext cx="585720" cy="1506600"/>
                </a:xfrm>
                <a:custGeom>
                  <a:avLst/>
                  <a:gdLst/>
                  <a:ahLst/>
                  <a:rect l="l" t="t" r="r" b="b"/>
                  <a:pathLst>
                    <a:path w="1191516" h="2297812">
                      <a:moveTo>
                        <a:pt x="203328" y="32385"/>
                      </a:moveTo>
                      <a:lnTo>
                        <a:pt x="348870" y="0"/>
                      </a:lnTo>
                      <a:cubicBezTo>
                        <a:pt x="460376" y="126746"/>
                        <a:pt x="518796" y="242951"/>
                        <a:pt x="521082" y="347980"/>
                      </a:cubicBezTo>
                      <a:cubicBezTo>
                        <a:pt x="636906" y="317500"/>
                        <a:pt x="752984" y="310515"/>
                        <a:pt x="869062" y="326390"/>
                      </a:cubicBezTo>
                      <a:cubicBezTo>
                        <a:pt x="863347" y="201549"/>
                        <a:pt x="835661" y="95631"/>
                        <a:pt x="776098" y="17272"/>
                      </a:cubicBezTo>
                      <a:lnTo>
                        <a:pt x="890652" y="28067"/>
                      </a:lnTo>
                      <a:cubicBezTo>
                        <a:pt x="1166749" y="377952"/>
                        <a:pt x="1191515" y="1202055"/>
                        <a:pt x="1118743" y="2210308"/>
                      </a:cubicBezTo>
                      <a:cubicBezTo>
                        <a:pt x="878840" y="2297811"/>
                        <a:pt x="409194" y="2271649"/>
                        <a:pt x="0" y="2236216"/>
                      </a:cubicBezTo>
                      <a:cubicBezTo>
                        <a:pt x="201550" y="1260221"/>
                        <a:pt x="441453" y="379857"/>
                        <a:pt x="203328" y="32385"/>
                      </a:cubicBezTo>
                      <a:close/>
                    </a:path>
                  </a:pathLst>
                </a:custGeom>
                <a:solidFill>
                  <a:srgbClr val="e7e875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: 形状 31"/>
                <p:cNvSpPr/>
                <p:nvPr/>
              </p:nvSpPr>
              <p:spPr>
                <a:xfrm>
                  <a:off x="5655240" y="5505120"/>
                  <a:ext cx="397800" cy="229320"/>
                </a:xfrm>
                <a:custGeom>
                  <a:avLst/>
                  <a:gdLst/>
                  <a:ahLst/>
                  <a:rect l="l" t="t" r="r" b="b"/>
                  <a:pathLst>
                    <a:path w="809753" h="350267">
                      <a:moveTo>
                        <a:pt x="98425" y="9779"/>
                      </a:moveTo>
                      <a:cubicBezTo>
                        <a:pt x="0" y="218186"/>
                        <a:pt x="279527" y="350266"/>
                        <a:pt x="724281" y="278892"/>
                      </a:cubicBezTo>
                      <a:cubicBezTo>
                        <a:pt x="809752" y="243205"/>
                        <a:pt x="809752" y="132969"/>
                        <a:pt x="743712" y="90805"/>
                      </a:cubicBezTo>
                      <a:cubicBezTo>
                        <a:pt x="664083" y="20066"/>
                        <a:pt x="520827" y="8382"/>
                        <a:pt x="374015" y="0"/>
                      </a:cubicBezTo>
                      <a:cubicBezTo>
                        <a:pt x="291211" y="60579"/>
                        <a:pt x="197231" y="50419"/>
                        <a:pt x="98425" y="9779"/>
                      </a:cubicBezTo>
                      <a:close/>
                    </a:path>
                  </a:pathLst>
                </a:custGeom>
                <a:solidFill>
                  <a:srgbClr val="89b8d7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任意多边形: 形状 32"/>
                <p:cNvSpPr/>
                <p:nvPr/>
              </p:nvSpPr>
              <p:spPr>
                <a:xfrm>
                  <a:off x="6047280" y="5318280"/>
                  <a:ext cx="336960" cy="176040"/>
                </a:xfrm>
                <a:custGeom>
                  <a:avLst/>
                  <a:gdLst/>
                  <a:ahLst/>
                  <a:rect l="l" t="t" r="r" b="b"/>
                  <a:pathLst>
                    <a:path w="686055" h="268606">
                      <a:moveTo>
                        <a:pt x="14097" y="103251"/>
                      </a:moveTo>
                      <a:cubicBezTo>
                        <a:pt x="0" y="175768"/>
                        <a:pt x="55626" y="232791"/>
                        <a:pt x="205359" y="268605"/>
                      </a:cubicBezTo>
                      <a:cubicBezTo>
                        <a:pt x="366649" y="265176"/>
                        <a:pt x="520319" y="256413"/>
                        <a:pt x="626872" y="213487"/>
                      </a:cubicBezTo>
                      <a:cubicBezTo>
                        <a:pt x="673354" y="197231"/>
                        <a:pt x="686054" y="141224"/>
                        <a:pt x="648970" y="103251"/>
                      </a:cubicBezTo>
                      <a:cubicBezTo>
                        <a:pt x="569849" y="0"/>
                        <a:pt x="431673" y="2159"/>
                        <a:pt x="297815" y="10795"/>
                      </a:cubicBezTo>
                      <a:cubicBezTo>
                        <a:pt x="260477" y="116586"/>
                        <a:pt x="144526" y="102616"/>
                        <a:pt x="14097" y="103251"/>
                      </a:cubicBezTo>
                      <a:close/>
                    </a:path>
                  </a:pathLst>
                </a:custGeom>
                <a:solidFill>
                  <a:srgbClr val="87b2c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任意多边形: 形状 33"/>
                <p:cNvSpPr/>
                <p:nvPr/>
              </p:nvSpPr>
              <p:spPr>
                <a:xfrm>
                  <a:off x="5315400" y="3680640"/>
                  <a:ext cx="995400" cy="833400"/>
                </a:xfrm>
                <a:custGeom>
                  <a:avLst/>
                  <a:gdLst/>
                  <a:ahLst/>
                  <a:rect l="l" t="t" r="r" b="b"/>
                  <a:pathLst>
                    <a:path w="2025016" h="1271398">
                      <a:moveTo>
                        <a:pt x="1597787" y="341376"/>
                      </a:moveTo>
                      <a:cubicBezTo>
                        <a:pt x="1130046" y="0"/>
                        <a:pt x="0" y="384048"/>
                        <a:pt x="267589" y="768858"/>
                      </a:cubicBezTo>
                      <a:cubicBezTo>
                        <a:pt x="669671" y="1271397"/>
                        <a:pt x="2025015" y="1255268"/>
                        <a:pt x="1908810" y="752602"/>
                      </a:cubicBezTo>
                      <a:cubicBezTo>
                        <a:pt x="1853565" y="648081"/>
                        <a:pt x="1751203" y="600329"/>
                        <a:pt x="1620012" y="587248"/>
                      </a:cubicBezTo>
                      <a:cubicBezTo>
                        <a:pt x="1567180" y="568452"/>
                        <a:pt x="1567815" y="484378"/>
                        <a:pt x="1584071" y="477012"/>
                      </a:cubicBezTo>
                      <a:cubicBezTo>
                        <a:pt x="1600327" y="469645"/>
                        <a:pt x="1621282" y="389509"/>
                        <a:pt x="1597787" y="341376"/>
                      </a:cubicBezTo>
                      <a:close/>
                    </a:path>
                  </a:pathLst>
                </a:custGeom>
                <a:solidFill>
                  <a:srgbClr val="dac4a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: 形状 34"/>
                <p:cNvSpPr/>
                <p:nvPr/>
              </p:nvSpPr>
              <p:spPr>
                <a:xfrm>
                  <a:off x="6611040" y="3066840"/>
                  <a:ext cx="622800" cy="144000"/>
                </a:xfrm>
                <a:custGeom>
                  <a:avLst/>
                  <a:gdLst/>
                  <a:ahLst/>
                  <a:rect l="l" t="t" r="r" b="b"/>
                  <a:pathLst>
                    <a:path w="1267080" h="219838">
                      <a:moveTo>
                        <a:pt x="93218" y="203327"/>
                      </a:moveTo>
                      <a:cubicBezTo>
                        <a:pt x="0" y="189992"/>
                        <a:pt x="371602" y="123571"/>
                        <a:pt x="1244346" y="0"/>
                      </a:cubicBezTo>
                      <a:lnTo>
                        <a:pt x="1267079" y="34671"/>
                      </a:lnTo>
                      <a:cubicBezTo>
                        <a:pt x="788162" y="161036"/>
                        <a:pt x="393573" y="219837"/>
                        <a:pt x="93218" y="203327"/>
                      </a:cubicBezTo>
                      <a:close/>
                    </a:path>
                  </a:pathLst>
                </a:custGeom>
                <a:solidFill>
                  <a:srgbClr val="b34334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任意多边形: 形状 35"/>
                <p:cNvSpPr/>
                <p:nvPr/>
              </p:nvSpPr>
              <p:spPr>
                <a:xfrm>
                  <a:off x="7218360" y="2991240"/>
                  <a:ext cx="195480" cy="144000"/>
                </a:xfrm>
                <a:custGeom>
                  <a:avLst/>
                  <a:gdLst/>
                  <a:ahLst/>
                  <a:rect l="l" t="t" r="r" b="b"/>
                  <a:pathLst>
                    <a:path w="398273" h="219965">
                      <a:moveTo>
                        <a:pt x="5842" y="98425"/>
                      </a:moveTo>
                      <a:cubicBezTo>
                        <a:pt x="0" y="27559"/>
                        <a:pt x="158750" y="9906"/>
                        <a:pt x="362585" y="0"/>
                      </a:cubicBezTo>
                      <a:lnTo>
                        <a:pt x="398272" y="115570"/>
                      </a:lnTo>
                      <a:cubicBezTo>
                        <a:pt x="273685" y="167513"/>
                        <a:pt x="149098" y="219964"/>
                        <a:pt x="31877" y="150241"/>
                      </a:cubicBezTo>
                      <a:cubicBezTo>
                        <a:pt x="17526" y="134620"/>
                        <a:pt x="10160" y="116967"/>
                        <a:pt x="5842" y="98425"/>
                      </a:cubicBezTo>
                      <a:close/>
                    </a:path>
                  </a:pathLst>
                </a:custGeom>
                <a:solidFill>
                  <a:srgbClr val="78201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任意多边形: 形状 36"/>
                <p:cNvSpPr/>
                <p:nvPr/>
              </p:nvSpPr>
              <p:spPr>
                <a:xfrm>
                  <a:off x="7332480" y="2902680"/>
                  <a:ext cx="162360" cy="193320"/>
                </a:xfrm>
                <a:custGeom>
                  <a:avLst/>
                  <a:gdLst/>
                  <a:ahLst/>
                  <a:rect l="l" t="t" r="r" b="b"/>
                  <a:pathLst>
                    <a:path w="330709" h="295022">
                      <a:moveTo>
                        <a:pt x="330708" y="0"/>
                      </a:moveTo>
                      <a:cubicBezTo>
                        <a:pt x="301498" y="250571"/>
                        <a:pt x="155575" y="295021"/>
                        <a:pt x="86487" y="182626"/>
                      </a:cubicBezTo>
                      <a:cubicBezTo>
                        <a:pt x="0" y="46482"/>
                        <a:pt x="254000" y="120523"/>
                        <a:pt x="330708" y="0"/>
                      </a:cubicBezTo>
                      <a:close/>
                    </a:path>
                  </a:pathLst>
                </a:custGeom>
                <a:solidFill>
                  <a:srgbClr val="da6634"/>
                </a:solidFill>
                <a:ln w="12600">
                  <a:solidFill>
                    <a:srgbClr val="fac5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: 形状 37"/>
                <p:cNvSpPr/>
                <p:nvPr/>
              </p:nvSpPr>
              <p:spPr>
                <a:xfrm>
                  <a:off x="5151600" y="1931400"/>
                  <a:ext cx="1384200" cy="1485720"/>
                </a:xfrm>
                <a:custGeom>
                  <a:avLst/>
                  <a:gdLst/>
                  <a:ahLst/>
                  <a:rect l="l" t="t" r="r" b="b"/>
                  <a:pathLst>
                    <a:path w="2815591" h="2266189">
                      <a:moveTo>
                        <a:pt x="782574" y="437388"/>
                      </a:moveTo>
                      <a:cubicBezTo>
                        <a:pt x="0" y="1125093"/>
                        <a:pt x="240792" y="1710690"/>
                        <a:pt x="782574" y="2266188"/>
                      </a:cubicBezTo>
                      <a:cubicBezTo>
                        <a:pt x="839597" y="2193544"/>
                        <a:pt x="889000" y="2117979"/>
                        <a:pt x="889635" y="2022983"/>
                      </a:cubicBezTo>
                      <a:cubicBezTo>
                        <a:pt x="558927" y="1977644"/>
                        <a:pt x="555625" y="1607947"/>
                        <a:pt x="986917" y="1731137"/>
                      </a:cubicBezTo>
                      <a:cubicBezTo>
                        <a:pt x="1129284" y="1503680"/>
                        <a:pt x="1164844" y="1229487"/>
                        <a:pt x="1084199" y="904240"/>
                      </a:cubicBezTo>
                      <a:cubicBezTo>
                        <a:pt x="1323594" y="1020064"/>
                        <a:pt x="1466596" y="1219835"/>
                        <a:pt x="1551178" y="1439291"/>
                      </a:cubicBezTo>
                      <a:lnTo>
                        <a:pt x="1896491" y="1327404"/>
                      </a:lnTo>
                      <a:cubicBezTo>
                        <a:pt x="1923161" y="1138682"/>
                        <a:pt x="1827530" y="922020"/>
                        <a:pt x="1706753" y="690245"/>
                      </a:cubicBezTo>
                      <a:cubicBezTo>
                        <a:pt x="1869440" y="902589"/>
                        <a:pt x="1977136" y="1106678"/>
                        <a:pt x="1969389" y="1293368"/>
                      </a:cubicBezTo>
                      <a:lnTo>
                        <a:pt x="2212594" y="1205865"/>
                      </a:lnTo>
                      <a:cubicBezTo>
                        <a:pt x="2230628" y="1053719"/>
                        <a:pt x="2138807" y="846328"/>
                        <a:pt x="2001774" y="602742"/>
                      </a:cubicBezTo>
                      <a:cubicBezTo>
                        <a:pt x="2168270" y="752856"/>
                        <a:pt x="2279903" y="945769"/>
                        <a:pt x="2368169" y="1157224"/>
                      </a:cubicBezTo>
                      <a:lnTo>
                        <a:pt x="2504313" y="1118362"/>
                      </a:lnTo>
                      <a:cubicBezTo>
                        <a:pt x="2525268" y="939292"/>
                        <a:pt x="2427351" y="734568"/>
                        <a:pt x="2261108" y="515239"/>
                      </a:cubicBezTo>
                      <a:cubicBezTo>
                        <a:pt x="2465197" y="698119"/>
                        <a:pt x="2614041" y="877570"/>
                        <a:pt x="2659888" y="1050290"/>
                      </a:cubicBezTo>
                      <a:lnTo>
                        <a:pt x="2815590" y="1011428"/>
                      </a:lnTo>
                      <a:cubicBezTo>
                        <a:pt x="2559431" y="456946"/>
                        <a:pt x="2058035" y="0"/>
                        <a:pt x="1152144" y="291592"/>
                      </a:cubicBezTo>
                      <a:cubicBezTo>
                        <a:pt x="1048385" y="301371"/>
                        <a:pt x="989203" y="204978"/>
                        <a:pt x="957580" y="126239"/>
                      </a:cubicBezTo>
                      <a:cubicBezTo>
                        <a:pt x="932942" y="204344"/>
                        <a:pt x="947547" y="279019"/>
                        <a:pt x="1006221" y="350013"/>
                      </a:cubicBezTo>
                      <a:cubicBezTo>
                        <a:pt x="947547" y="280290"/>
                        <a:pt x="860298" y="250699"/>
                        <a:pt x="743585" y="262510"/>
                      </a:cubicBezTo>
                      <a:cubicBezTo>
                        <a:pt x="817880" y="307341"/>
                        <a:pt x="869442" y="352680"/>
                        <a:pt x="889508" y="398654"/>
                      </a:cubicBezTo>
                      <a:cubicBezTo>
                        <a:pt x="786892" y="347854"/>
                        <a:pt x="718820" y="364110"/>
                        <a:pt x="613918" y="427864"/>
                      </a:cubicBezTo>
                      <a:cubicBezTo>
                        <a:pt x="698119" y="412496"/>
                        <a:pt x="758952" y="412623"/>
                        <a:pt x="782574" y="437388"/>
                      </a:cubicBezTo>
                      <a:close/>
                    </a:path>
                  </a:pathLst>
                </a:custGeom>
                <a:solidFill>
                  <a:srgbClr val="d8660a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任意多边形: 形状 38"/>
                <p:cNvSpPr/>
                <p:nvPr/>
              </p:nvSpPr>
              <p:spPr>
                <a:xfrm>
                  <a:off x="5824080" y="3879720"/>
                  <a:ext cx="113040" cy="77400"/>
                </a:xfrm>
                <a:custGeom>
                  <a:avLst/>
                  <a:gdLst/>
                  <a:ahLst/>
                  <a:rect l="l" t="t" r="r" b="b"/>
                  <a:pathLst>
                    <a:path w="230125" h="118365">
                      <a:moveTo>
                        <a:pt x="230124" y="44577"/>
                      </a:moveTo>
                      <a:cubicBezTo>
                        <a:pt x="230124" y="66421"/>
                        <a:pt x="202565" y="118364"/>
                        <a:pt x="115062" y="108585"/>
                      </a:cubicBezTo>
                      <a:cubicBezTo>
                        <a:pt x="15748" y="109982"/>
                        <a:pt x="0" y="68072"/>
                        <a:pt x="0" y="44577"/>
                      </a:cubicBezTo>
                      <a:cubicBezTo>
                        <a:pt x="0" y="21082"/>
                        <a:pt x="51562" y="0"/>
                        <a:pt x="115062" y="0"/>
                      </a:cubicBezTo>
                      <a:cubicBezTo>
                        <a:pt x="178562" y="0"/>
                        <a:pt x="230124" y="22733"/>
                        <a:pt x="230124" y="44577"/>
                      </a:cubicBezTo>
                      <a:close/>
                    </a:path>
                  </a:pathLst>
                </a:custGeom>
                <a:solidFill>
                  <a:srgbClr val="a842d9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任意多边形: 形状 39"/>
                <p:cNvSpPr/>
                <p:nvPr/>
              </p:nvSpPr>
              <p:spPr>
                <a:xfrm>
                  <a:off x="5644440" y="3908160"/>
                  <a:ext cx="103320" cy="64800"/>
                </a:xfrm>
                <a:custGeom>
                  <a:avLst/>
                  <a:gdLst/>
                  <a:ahLst/>
                  <a:rect l="l" t="t" r="r" b="b"/>
                  <a:pathLst>
                    <a:path w="210821" h="98934">
                      <a:moveTo>
                        <a:pt x="210820" y="36449"/>
                      </a:moveTo>
                      <a:cubicBezTo>
                        <a:pt x="210820" y="0"/>
                        <a:pt x="163576" y="0"/>
                        <a:pt x="105410" y="0"/>
                      </a:cubicBezTo>
                      <a:cubicBezTo>
                        <a:pt x="47244" y="0"/>
                        <a:pt x="0" y="45847"/>
                        <a:pt x="0" y="66040"/>
                      </a:cubicBezTo>
                      <a:cubicBezTo>
                        <a:pt x="0" y="98933"/>
                        <a:pt x="47244" y="98933"/>
                        <a:pt x="105410" y="98933"/>
                      </a:cubicBezTo>
                      <a:cubicBezTo>
                        <a:pt x="163576" y="98933"/>
                        <a:pt x="210820" y="72898"/>
                        <a:pt x="210820" y="36449"/>
                      </a:cubicBezTo>
                      <a:close/>
                    </a:path>
                  </a:pathLst>
                </a:custGeom>
                <a:solidFill>
                  <a:srgbClr val="e76f0b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任意多边形: 形状 40"/>
                <p:cNvSpPr/>
                <p:nvPr/>
              </p:nvSpPr>
              <p:spPr>
                <a:xfrm>
                  <a:off x="5513760" y="4030920"/>
                  <a:ext cx="109800" cy="73080"/>
                </a:xfrm>
                <a:custGeom>
                  <a:avLst/>
                  <a:gdLst/>
                  <a:ahLst/>
                  <a:rect l="l" t="t" r="r" b="b"/>
                  <a:pathLst>
                    <a:path w="223775" h="111761">
                      <a:moveTo>
                        <a:pt x="223774" y="66421"/>
                      </a:moveTo>
                      <a:cubicBezTo>
                        <a:pt x="223774" y="111760"/>
                        <a:pt x="168656" y="111760"/>
                        <a:pt x="111887" y="111760"/>
                      </a:cubicBezTo>
                      <a:cubicBezTo>
                        <a:pt x="50165" y="111760"/>
                        <a:pt x="0" y="110109"/>
                        <a:pt x="0" y="66421"/>
                      </a:cubicBezTo>
                      <a:cubicBezTo>
                        <a:pt x="0" y="22733"/>
                        <a:pt x="50038" y="0"/>
                        <a:pt x="111887" y="0"/>
                      </a:cubicBezTo>
                      <a:cubicBezTo>
                        <a:pt x="173736" y="0"/>
                        <a:pt x="223774" y="21082"/>
                        <a:pt x="223774" y="66421"/>
                      </a:cubicBezTo>
                      <a:close/>
                    </a:path>
                  </a:pathLst>
                </a:custGeom>
                <a:solidFill>
                  <a:srgbClr val="60b74c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任意多边形: 形状 41"/>
                <p:cNvSpPr/>
                <p:nvPr/>
              </p:nvSpPr>
              <p:spPr>
                <a:xfrm>
                  <a:off x="5568840" y="4150800"/>
                  <a:ext cx="115560" cy="80640"/>
                </a:xfrm>
                <a:custGeom>
                  <a:avLst/>
                  <a:gdLst/>
                  <a:ahLst/>
                  <a:rect l="l" t="t" r="r" b="b"/>
                  <a:pathLst>
                    <a:path w="235713" h="123191">
                      <a:moveTo>
                        <a:pt x="235712" y="55118"/>
                      </a:moveTo>
                      <a:cubicBezTo>
                        <a:pt x="235712" y="103759"/>
                        <a:pt x="183007" y="123190"/>
                        <a:pt x="117856" y="123190"/>
                      </a:cubicBezTo>
                      <a:cubicBezTo>
                        <a:pt x="52832" y="123190"/>
                        <a:pt x="0" y="92329"/>
                        <a:pt x="0" y="55118"/>
                      </a:cubicBezTo>
                      <a:cubicBezTo>
                        <a:pt x="0" y="17780"/>
                        <a:pt x="52705" y="0"/>
                        <a:pt x="117856" y="0"/>
                      </a:cubicBezTo>
                      <a:cubicBezTo>
                        <a:pt x="183007" y="0"/>
                        <a:pt x="235712" y="6477"/>
                        <a:pt x="235712" y="55118"/>
                      </a:cubicBezTo>
                      <a:close/>
                    </a:path>
                  </a:pathLst>
                </a:custGeom>
                <a:solidFill>
                  <a:srgbClr val="87adb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任意多边形: 形状 42"/>
                <p:cNvSpPr/>
                <p:nvPr/>
              </p:nvSpPr>
              <p:spPr>
                <a:xfrm>
                  <a:off x="5717160" y="4214520"/>
                  <a:ext cx="109800" cy="89280"/>
                </a:xfrm>
                <a:custGeom>
                  <a:avLst/>
                  <a:gdLst/>
                  <a:ahLst/>
                  <a:rect l="l" t="t" r="r" b="b"/>
                  <a:pathLst>
                    <a:path w="223775" h="136272">
                      <a:moveTo>
                        <a:pt x="223774" y="58420"/>
                      </a:moveTo>
                      <a:cubicBezTo>
                        <a:pt x="223774" y="17907"/>
                        <a:pt x="173736" y="0"/>
                        <a:pt x="111887" y="0"/>
                      </a:cubicBezTo>
                      <a:cubicBezTo>
                        <a:pt x="50038" y="0"/>
                        <a:pt x="0" y="47625"/>
                        <a:pt x="0" y="58420"/>
                      </a:cubicBezTo>
                      <a:cubicBezTo>
                        <a:pt x="0" y="103759"/>
                        <a:pt x="50038" y="136271"/>
                        <a:pt x="111887" y="136271"/>
                      </a:cubicBezTo>
                      <a:cubicBezTo>
                        <a:pt x="173736" y="136271"/>
                        <a:pt x="223774" y="98933"/>
                        <a:pt x="223774" y="58420"/>
                      </a:cubicBezTo>
                      <a:close/>
                    </a:path>
                  </a:pathLst>
                </a:custGeom>
                <a:solidFill>
                  <a:srgbClr val="8e93c8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任意多边形: 形状 43"/>
                <p:cNvSpPr/>
                <p:nvPr/>
              </p:nvSpPr>
              <p:spPr>
                <a:xfrm>
                  <a:off x="5880600" y="4219560"/>
                  <a:ext cx="120240" cy="83880"/>
                </a:xfrm>
                <a:custGeom>
                  <a:avLst/>
                  <a:gdLst/>
                  <a:ahLst/>
                  <a:rect l="l" t="t" r="r" b="b"/>
                  <a:pathLst>
                    <a:path w="244857" h="128144">
                      <a:moveTo>
                        <a:pt x="244856" y="60833"/>
                      </a:moveTo>
                      <a:cubicBezTo>
                        <a:pt x="244856" y="94107"/>
                        <a:pt x="189992" y="128143"/>
                        <a:pt x="122428" y="128143"/>
                      </a:cubicBezTo>
                      <a:cubicBezTo>
                        <a:pt x="54864" y="128143"/>
                        <a:pt x="0" y="95758"/>
                        <a:pt x="0" y="60833"/>
                      </a:cubicBezTo>
                      <a:cubicBezTo>
                        <a:pt x="0" y="45212"/>
                        <a:pt x="54864" y="0"/>
                        <a:pt x="122428" y="0"/>
                      </a:cubicBezTo>
                      <a:cubicBezTo>
                        <a:pt x="189992" y="0"/>
                        <a:pt x="244856" y="27559"/>
                        <a:pt x="244856" y="60833"/>
                      </a:cubicBezTo>
                      <a:close/>
                    </a:path>
                  </a:pathLst>
                </a:custGeom>
                <a:solidFill>
                  <a:srgbClr val="eae630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" name="组合 16"/>
              <p:cNvGrpSpPr/>
              <p:nvPr/>
            </p:nvGrpSpPr>
            <p:grpSpPr>
              <a:xfrm>
                <a:off x="6001200" y="2765880"/>
                <a:ext cx="520920" cy="522000"/>
                <a:chOff x="6001200" y="2765880"/>
                <a:chExt cx="520920" cy="522000"/>
              </a:xfrm>
            </p:grpSpPr>
            <p:sp>
              <p:nvSpPr>
                <p:cNvPr id="664" name="任意多边形: 形状 17"/>
                <p:cNvSpPr/>
                <p:nvPr/>
              </p:nvSpPr>
              <p:spPr>
                <a:xfrm>
                  <a:off x="6001200" y="2895120"/>
                  <a:ext cx="130680" cy="225360"/>
                </a:xfrm>
                <a:custGeom>
                  <a:avLst/>
                  <a:gdLst/>
                  <a:ahLst/>
                  <a:rect l="l" t="t" r="r" b="b"/>
                  <a:pathLst>
                    <a:path w="265939" h="343663">
                      <a:moveTo>
                        <a:pt x="265938" y="171831"/>
                      </a:moveTo>
                      <a:cubicBezTo>
                        <a:pt x="265938" y="266700"/>
                        <a:pt x="217297" y="343662"/>
                        <a:pt x="143891" y="343662"/>
                      </a:cubicBezTo>
                      <a:cubicBezTo>
                        <a:pt x="70485" y="343662"/>
                        <a:pt x="0" y="266700"/>
                        <a:pt x="0" y="171831"/>
                      </a:cubicBezTo>
                      <a:cubicBezTo>
                        <a:pt x="0" y="76962"/>
                        <a:pt x="49403" y="0"/>
                        <a:pt x="122809" y="0"/>
                      </a:cubicBezTo>
                      <a:cubicBezTo>
                        <a:pt x="196342" y="0"/>
                        <a:pt x="265938" y="76962"/>
                        <a:pt x="265938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任意多边形: 形状 18"/>
                <p:cNvSpPr/>
                <p:nvPr/>
              </p:nvSpPr>
              <p:spPr>
                <a:xfrm>
                  <a:off x="6392880" y="2765880"/>
                  <a:ext cx="124560" cy="225360"/>
                </a:xfrm>
                <a:custGeom>
                  <a:avLst/>
                  <a:gdLst/>
                  <a:ahLst/>
                  <a:rect l="l" t="t" r="r" b="b"/>
                  <a:pathLst>
                    <a:path w="253493" h="343663">
                      <a:moveTo>
                        <a:pt x="253492" y="171831"/>
                      </a:moveTo>
                      <a:cubicBezTo>
                        <a:pt x="253492" y="266700"/>
                        <a:pt x="206375" y="343662"/>
                        <a:pt x="132969" y="343662"/>
                      </a:cubicBezTo>
                      <a:cubicBezTo>
                        <a:pt x="59563" y="343662"/>
                        <a:pt x="0" y="266700"/>
                        <a:pt x="0" y="171831"/>
                      </a:cubicBezTo>
                      <a:cubicBezTo>
                        <a:pt x="0" y="76962"/>
                        <a:pt x="59563" y="0"/>
                        <a:pt x="132969" y="0"/>
                      </a:cubicBezTo>
                      <a:cubicBezTo>
                        <a:pt x="206375" y="0"/>
                        <a:pt x="253492" y="76835"/>
                        <a:pt x="253492" y="171831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任意多边形: 形状 19"/>
                <p:cNvSpPr/>
                <p:nvPr/>
              </p:nvSpPr>
              <p:spPr>
                <a:xfrm>
                  <a:off x="6060600" y="2940480"/>
                  <a:ext cx="73080" cy="118080"/>
                </a:xfrm>
                <a:custGeom>
                  <a:avLst/>
                  <a:gdLst/>
                  <a:ahLst/>
                  <a:rect l="l" t="t" r="r" b="b"/>
                  <a:pathLst>
                    <a:path w="149226" h="180468">
                      <a:moveTo>
                        <a:pt x="108077" y="0"/>
                      </a:moveTo>
                      <a:cubicBezTo>
                        <a:pt x="149225" y="50800"/>
                        <a:pt x="148463" y="111125"/>
                        <a:pt x="126365" y="176276"/>
                      </a:cubicBezTo>
                      <a:cubicBezTo>
                        <a:pt x="19431" y="180467"/>
                        <a:pt x="0" y="17018"/>
                        <a:pt x="108077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任意多边形: 形状 20"/>
                <p:cNvSpPr/>
                <p:nvPr/>
              </p:nvSpPr>
              <p:spPr>
                <a:xfrm>
                  <a:off x="6444000" y="2809080"/>
                  <a:ext cx="78120" cy="122760"/>
                </a:xfrm>
                <a:custGeom>
                  <a:avLst/>
                  <a:gdLst/>
                  <a:ahLst/>
                  <a:rect l="l" t="t" r="r" b="b"/>
                  <a:pathLst>
                    <a:path w="159259" h="187199">
                      <a:moveTo>
                        <a:pt x="119761" y="0"/>
                      </a:moveTo>
                      <a:cubicBezTo>
                        <a:pt x="159258" y="52070"/>
                        <a:pt x="156591" y="112268"/>
                        <a:pt x="132334" y="176784"/>
                      </a:cubicBezTo>
                      <a:cubicBezTo>
                        <a:pt x="24003" y="187198"/>
                        <a:pt x="0" y="2921"/>
                        <a:pt x="119761" y="0"/>
                      </a:cubicBezTo>
                      <a:close/>
                    </a:path>
                  </a:pathLst>
                </a:custGeom>
                <a:solidFill>
                  <a:srgbClr val="35332e"/>
                </a:solidFill>
                <a:ln w="12600">
                  <a:solidFill>
                    <a:srgbClr val="412c1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任意多边形: 形状 21"/>
                <p:cNvSpPr/>
                <p:nvPr/>
              </p:nvSpPr>
              <p:spPr>
                <a:xfrm>
                  <a:off x="6292800" y="2991240"/>
                  <a:ext cx="63720" cy="86040"/>
                </a:xfrm>
                <a:custGeom>
                  <a:avLst/>
                  <a:gdLst/>
                  <a:ahLst/>
                  <a:rect l="l" t="t" r="r" b="b"/>
                  <a:pathLst>
                    <a:path w="130176" h="131573">
                      <a:moveTo>
                        <a:pt x="0" y="0"/>
                      </a:moveTo>
                      <a:cubicBezTo>
                        <a:pt x="130175" y="19939"/>
                        <a:pt x="98171" y="70231"/>
                        <a:pt x="7239" y="131572"/>
                      </a:cubicBezTo>
                      <a:cubicBezTo>
                        <a:pt x="109474" y="56261"/>
                        <a:pt x="102108" y="25527"/>
                        <a:pt x="0" y="0"/>
                      </a:cubicBezTo>
                      <a:close/>
                    </a:path>
                  </a:pathLst>
                </a:custGeom>
                <a:solidFill>
                  <a:srgbClr val="2a2a2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任意多边形: 形状 22"/>
                <p:cNvSpPr/>
                <p:nvPr/>
              </p:nvSpPr>
              <p:spPr>
                <a:xfrm>
                  <a:off x="6133680" y="3191760"/>
                  <a:ext cx="215640" cy="96120"/>
                </a:xfrm>
                <a:custGeom>
                  <a:avLst/>
                  <a:gdLst/>
                  <a:ahLst/>
                  <a:rect l="l" t="t" r="r" b="b"/>
                  <a:pathLst>
                    <a:path w="438532" h="146686">
                      <a:moveTo>
                        <a:pt x="0" y="106172"/>
                      </a:moveTo>
                      <a:cubicBezTo>
                        <a:pt x="161290" y="146685"/>
                        <a:pt x="366903" y="126238"/>
                        <a:pt x="438531" y="0"/>
                      </a:cubicBezTo>
                      <a:cubicBezTo>
                        <a:pt x="353441" y="105283"/>
                        <a:pt x="178308" y="134493"/>
                        <a:pt x="0" y="106172"/>
                      </a:cubicBezTo>
                      <a:close/>
                    </a:path>
                  </a:pathLst>
                </a:custGeom>
                <a:solidFill>
                  <a:srgbClr val="2c2b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0" name="组合 65"/>
          <p:cNvGrpSpPr/>
          <p:nvPr/>
        </p:nvGrpSpPr>
        <p:grpSpPr>
          <a:xfrm>
            <a:off x="7912080" y="4732200"/>
            <a:ext cx="839880" cy="1203480"/>
            <a:chOff x="7912080" y="4732200"/>
            <a:chExt cx="839880" cy="1203480"/>
          </a:xfrm>
        </p:grpSpPr>
        <p:grpSp>
          <p:nvGrpSpPr>
            <p:cNvPr id="671" name="组合 66"/>
            <p:cNvGrpSpPr/>
            <p:nvPr/>
          </p:nvGrpSpPr>
          <p:grpSpPr>
            <a:xfrm>
              <a:off x="8082360" y="5505120"/>
              <a:ext cx="421200" cy="430560"/>
              <a:chOff x="8082360" y="5505120"/>
              <a:chExt cx="421200" cy="430560"/>
            </a:xfrm>
          </p:grpSpPr>
          <p:sp>
            <p:nvSpPr>
              <p:cNvPr id="672" name="任意多边形: 形状 73"/>
              <p:cNvSpPr/>
              <p:nvPr/>
            </p:nvSpPr>
            <p:spPr>
              <a:xfrm>
                <a:off x="8367120" y="5505120"/>
                <a:ext cx="136440" cy="420840"/>
              </a:xfrm>
              <a:custGeom>
                <a:avLst/>
                <a:gdLst/>
                <a:ahLst/>
                <a:rect l="l" t="t" r="r" b="b"/>
                <a:pathLst>
                  <a:path w="98934" h="228474">
                    <a:moveTo>
                      <a:pt x="98933" y="183134"/>
                    </a:moveTo>
                    <a:cubicBezTo>
                      <a:pt x="87630" y="217170"/>
                      <a:pt x="22733" y="228473"/>
                      <a:pt x="0" y="183134"/>
                    </a:cubicBezTo>
                    <a:lnTo>
                      <a:pt x="8128" y="6477"/>
                    </a:lnTo>
                    <a:lnTo>
                      <a:pt x="75565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74"/>
              <p:cNvSpPr/>
              <p:nvPr/>
            </p:nvSpPr>
            <p:spPr>
              <a:xfrm>
                <a:off x="8082360" y="5551920"/>
                <a:ext cx="128880" cy="383760"/>
              </a:xfrm>
              <a:custGeom>
                <a:avLst/>
                <a:gdLst/>
                <a:ahLst/>
                <a:rect l="l" t="t" r="r" b="b"/>
                <a:pathLst>
                  <a:path w="93346" h="208281">
                    <a:moveTo>
                      <a:pt x="93345" y="165735"/>
                    </a:moveTo>
                    <a:cubicBezTo>
                      <a:pt x="83185" y="196850"/>
                      <a:pt x="22225" y="208280"/>
                      <a:pt x="0" y="167386"/>
                    </a:cubicBezTo>
                    <a:lnTo>
                      <a:pt x="4699" y="6985"/>
                    </a:lnTo>
                    <a:lnTo>
                      <a:pt x="68199" y="0"/>
                    </a:lnTo>
                    <a:close/>
                  </a:path>
                </a:pathLst>
              </a:custGeom>
              <a:solidFill>
                <a:srgbClr val="591f12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组合 67"/>
            <p:cNvGrpSpPr/>
            <p:nvPr/>
          </p:nvGrpSpPr>
          <p:grpSpPr>
            <a:xfrm>
              <a:off x="7912080" y="4732200"/>
              <a:ext cx="839880" cy="954360"/>
              <a:chOff x="7912080" y="4732200"/>
              <a:chExt cx="839880" cy="954360"/>
            </a:xfrm>
          </p:grpSpPr>
          <p:sp>
            <p:nvSpPr>
              <p:cNvPr id="675" name="任意多边形: 形状 71"/>
              <p:cNvSpPr/>
              <p:nvPr/>
            </p:nvSpPr>
            <p:spPr>
              <a:xfrm>
                <a:off x="8098560" y="4732200"/>
                <a:ext cx="653400" cy="785160"/>
              </a:xfrm>
              <a:custGeom>
                <a:avLst/>
                <a:gdLst/>
                <a:ahLst/>
                <a:rect l="l" t="t" r="r" b="b"/>
                <a:pathLst>
                  <a:path w="473330" h="426086">
                    <a:moveTo>
                      <a:pt x="210693" y="0"/>
                    </a:moveTo>
                    <a:cubicBezTo>
                      <a:pt x="403606" y="0"/>
                      <a:pt x="473329" y="401701"/>
                      <a:pt x="236601" y="426085"/>
                    </a:cubicBezTo>
                    <a:cubicBezTo>
                      <a:pt x="0" y="426085"/>
                      <a:pt x="48514" y="38608"/>
                      <a:pt x="210693" y="0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72"/>
              <p:cNvSpPr/>
              <p:nvPr/>
            </p:nvSpPr>
            <p:spPr>
              <a:xfrm>
                <a:off x="7912080" y="5051520"/>
                <a:ext cx="510480" cy="635040"/>
              </a:xfrm>
              <a:custGeom>
                <a:avLst/>
                <a:gdLst/>
                <a:ahLst/>
                <a:rect l="l" t="t" r="r" b="b"/>
                <a:pathLst>
                  <a:path w="369952" h="344679">
                    <a:moveTo>
                      <a:pt x="126238" y="19685"/>
                    </a:moveTo>
                    <a:cubicBezTo>
                      <a:pt x="277876" y="0"/>
                      <a:pt x="369951" y="278892"/>
                      <a:pt x="186182" y="320421"/>
                    </a:cubicBezTo>
                    <a:cubicBezTo>
                      <a:pt x="0" y="344678"/>
                      <a:pt x="2413" y="63754"/>
                      <a:pt x="126238" y="19685"/>
                    </a:cubicBezTo>
                    <a:close/>
                  </a:path>
                </a:pathLst>
              </a:custGeom>
              <a:solidFill>
                <a:srgbClr val="2aac38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组合 68"/>
            <p:cNvGrpSpPr/>
            <p:nvPr/>
          </p:nvGrpSpPr>
          <p:grpSpPr>
            <a:xfrm>
              <a:off x="8059320" y="5056920"/>
              <a:ext cx="484920" cy="447480"/>
              <a:chOff x="8059320" y="5056920"/>
              <a:chExt cx="484920" cy="447480"/>
            </a:xfrm>
          </p:grpSpPr>
          <p:sp>
            <p:nvSpPr>
              <p:cNvPr id="678" name="椭圆 69"/>
              <p:cNvSpPr/>
              <p:nvPr/>
            </p:nvSpPr>
            <p:spPr>
              <a:xfrm>
                <a:off x="8398440" y="5056920"/>
                <a:ext cx="145800" cy="2685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椭圆 70"/>
              <p:cNvSpPr/>
              <p:nvPr/>
            </p:nvSpPr>
            <p:spPr>
              <a:xfrm>
                <a:off x="8059320" y="5288040"/>
                <a:ext cx="112320" cy="216360"/>
              </a:xfrm>
              <a:prstGeom prst="ellipse">
                <a:avLst/>
              </a:prstGeom>
              <a:solidFill>
                <a:srgbClr val="f0dee5"/>
              </a:solidFill>
              <a:ln w="12600">
                <a:solidFill>
                  <a:srgbClr val="382a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Freeform 106"/>
          <p:cNvSpPr/>
          <p:nvPr/>
        </p:nvSpPr>
        <p:spPr>
          <a:xfrm>
            <a:off x="6539040" y="1101600"/>
            <a:ext cx="62676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06"/>
          <p:cNvSpPr/>
          <p:nvPr/>
        </p:nvSpPr>
        <p:spPr>
          <a:xfrm>
            <a:off x="4297320" y="306360"/>
            <a:ext cx="62568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06"/>
          <p:cNvSpPr/>
          <p:nvPr/>
        </p:nvSpPr>
        <p:spPr>
          <a:xfrm>
            <a:off x="2327400" y="955800"/>
            <a:ext cx="952200" cy="56340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2318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78"/>
          <p:cNvGrpSpPr/>
          <p:nvPr/>
        </p:nvGrpSpPr>
        <p:grpSpPr>
          <a:xfrm>
            <a:off x="297000" y="290520"/>
            <a:ext cx="1295280" cy="1623960"/>
            <a:chOff x="297000" y="290520"/>
            <a:chExt cx="1295280" cy="1623960"/>
          </a:xfrm>
        </p:grpSpPr>
        <p:sp>
          <p:nvSpPr>
            <p:cNvPr id="684" name="任意多边形: 形状 79"/>
            <p:cNvSpPr/>
            <p:nvPr/>
          </p:nvSpPr>
          <p:spPr>
            <a:xfrm>
              <a:off x="586440" y="754920"/>
              <a:ext cx="602280" cy="678960"/>
            </a:xfrm>
            <a:custGeom>
              <a:avLst/>
              <a:gdLst/>
              <a:ahLst/>
              <a:rect l="l" t="t" r="r" b="b"/>
              <a:pathLst>
                <a:path w="665227" h="562103">
                  <a:moveTo>
                    <a:pt x="665226" y="298958"/>
                  </a:moveTo>
                  <a:cubicBezTo>
                    <a:pt x="665226" y="446405"/>
                    <a:pt x="513842" y="562102"/>
                    <a:pt x="366395" y="562102"/>
                  </a:cubicBezTo>
                  <a:cubicBezTo>
                    <a:pt x="218948" y="562102"/>
                    <a:pt x="47498" y="532257"/>
                    <a:pt x="47498" y="384810"/>
                  </a:cubicBezTo>
                  <a:cubicBezTo>
                    <a:pt x="0" y="160020"/>
                    <a:pt x="218948" y="0"/>
                    <a:pt x="366395" y="0"/>
                  </a:cubicBezTo>
                  <a:cubicBezTo>
                    <a:pt x="513842" y="127"/>
                    <a:pt x="665226" y="69342"/>
                    <a:pt x="665226" y="298958"/>
                  </a:cubicBezTo>
                  <a:close/>
                </a:path>
              </a:pathLst>
            </a:custGeom>
            <a:solidFill>
              <a:srgbClr val="d866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80"/>
            <p:cNvSpPr/>
            <p:nvPr/>
          </p:nvSpPr>
          <p:spPr>
            <a:xfrm>
              <a:off x="371160" y="551520"/>
              <a:ext cx="105480" cy="266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任意多边形: 形状 81"/>
            <p:cNvSpPr/>
            <p:nvPr/>
          </p:nvSpPr>
          <p:spPr>
            <a:xfrm>
              <a:off x="655560" y="290520"/>
              <a:ext cx="52200" cy="229680"/>
            </a:xfrm>
            <a:custGeom>
              <a:avLst/>
              <a:gdLst/>
              <a:ahLst/>
              <a:rect l="l" t="t" r="r" b="b"/>
              <a:pathLst>
                <a:path w="57660" h="190247">
                  <a:moveTo>
                    <a:pt x="5715" y="0"/>
                  </a:moveTo>
                  <a:cubicBezTo>
                    <a:pt x="0" y="63373"/>
                    <a:pt x="17272" y="126873"/>
                    <a:pt x="57659" y="190246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82"/>
            <p:cNvSpPr/>
            <p:nvPr/>
          </p:nvSpPr>
          <p:spPr>
            <a:xfrm>
              <a:off x="997560" y="316440"/>
              <a:ext cx="3600" cy="24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任意多边形: 形状 83"/>
            <p:cNvSpPr/>
            <p:nvPr/>
          </p:nvSpPr>
          <p:spPr>
            <a:xfrm>
              <a:off x="1361520" y="883800"/>
              <a:ext cx="230760" cy="69480"/>
            </a:xfrm>
            <a:custGeom>
              <a:avLst/>
              <a:gdLst/>
              <a:ahLst/>
              <a:rect l="l" t="t" r="r" b="b"/>
              <a:pathLst>
                <a:path w="255145" h="57659">
                  <a:moveTo>
                    <a:pt x="0" y="18796"/>
                  </a:moveTo>
                  <a:cubicBezTo>
                    <a:pt x="85090" y="0"/>
                    <a:pt x="170053" y="13081"/>
                    <a:pt x="255144" y="57658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84"/>
            <p:cNvSpPr/>
            <p:nvPr/>
          </p:nvSpPr>
          <p:spPr>
            <a:xfrm>
              <a:off x="1290960" y="1460160"/>
              <a:ext cx="97560" cy="245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接连接符 85"/>
            <p:cNvSpPr/>
            <p:nvPr/>
          </p:nvSpPr>
          <p:spPr>
            <a:xfrm flipH="1">
              <a:off x="707400" y="1684800"/>
              <a:ext cx="97560" cy="229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直接连接符 86"/>
            <p:cNvSpPr/>
            <p:nvPr/>
          </p:nvSpPr>
          <p:spPr>
            <a:xfrm>
              <a:off x="297000" y="1298520"/>
              <a:ext cx="152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1212-9FC5-4C26-B22C-0BFF9EB18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5810-EF6D-4660-A09D-A8AC2A313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604-A89A-4FE4-ABA7-1142ADF48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12F2-01ED-4825-84AD-89B19300B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图片 9" descr=""/>
          <p:cNvPicPr/>
          <p:nvPr/>
        </p:nvPicPr>
        <p:blipFill>
          <a:blip r:embed="rId2"/>
          <a:stretch/>
        </p:blipFill>
        <p:spPr>
          <a:xfrm>
            <a:off x="7613640" y="5027760"/>
            <a:ext cx="1189080" cy="1377720"/>
          </a:xfrm>
          <a:prstGeom prst="rect">
            <a:avLst/>
          </a:prstGeom>
          <a:ln w="0">
            <a:noFill/>
          </a:ln>
        </p:spPr>
      </p:pic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69F6-F34E-403A-9883-26417E003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58E-0C80-426C-B739-BCBFA68056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图片 9" descr=""/>
          <p:cNvPicPr/>
          <p:nvPr/>
        </p:nvPicPr>
        <p:blipFill>
          <a:blip r:embed="rId2"/>
          <a:stretch/>
        </p:blipFill>
        <p:spPr>
          <a:xfrm>
            <a:off x="58680" y="5235480"/>
            <a:ext cx="960480" cy="161604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65B9-46D3-4805-B125-22E5E19F1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1405-BF72-4566-BB26-94B2ADEB7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10" descr=""/>
          <p:cNvPicPr/>
          <p:nvPr/>
        </p:nvPicPr>
        <p:blipFill>
          <a:blip r:embed="rId2"/>
          <a:stretch/>
        </p:blipFill>
        <p:spPr>
          <a:xfrm>
            <a:off x="7891560" y="141120"/>
            <a:ext cx="1014480" cy="1328760"/>
          </a:xfrm>
          <a:prstGeom prst="rect">
            <a:avLst/>
          </a:prstGeom>
          <a:ln w="0">
            <a:noFill/>
          </a:ln>
        </p:spPr>
      </p:pic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E47B-72CC-4FB8-90FF-AE3B908A5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3D1-0416-451C-9319-1C10C3EDA4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421-D315-4050-96C4-A46CC634B9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组合 145" descr=""/>
          <p:cNvPicPr/>
          <p:nvPr/>
        </p:nvPicPr>
        <p:blipFill>
          <a:blip r:embed="rId2"/>
          <a:stretch/>
        </p:blipFill>
        <p:spPr>
          <a:xfrm>
            <a:off x="1158840" y="782640"/>
            <a:ext cx="614520" cy="588960"/>
          </a:xfrm>
          <a:prstGeom prst="rect">
            <a:avLst/>
          </a:prstGeom>
          <a:ln w="0">
            <a:noFill/>
          </a:ln>
        </p:spPr>
      </p:pic>
      <p:pic>
        <p:nvPicPr>
          <p:cNvPr id="911" name="组合 153" descr=""/>
          <p:cNvPicPr/>
          <p:nvPr/>
        </p:nvPicPr>
        <p:blipFill>
          <a:blip r:embed="rId3"/>
          <a:stretch/>
        </p:blipFill>
        <p:spPr>
          <a:xfrm>
            <a:off x="2023920" y="396720"/>
            <a:ext cx="473040" cy="482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9" descr=""/>
          <p:cNvPicPr/>
          <p:nvPr/>
        </p:nvPicPr>
        <p:blipFill>
          <a:blip r:embed="rId4"/>
          <a:stretch/>
        </p:blipFill>
        <p:spPr>
          <a:xfrm>
            <a:off x="243000" y="338040"/>
            <a:ext cx="923760" cy="1158840"/>
          </a:xfrm>
          <a:prstGeom prst="rect">
            <a:avLst/>
          </a:prstGeom>
          <a:ln w="0">
            <a:noFill/>
          </a:ln>
        </p:spPr>
      </p:pic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EA94-E82A-4D24-AEBB-37DBA32BFB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527B-2439-49DA-830B-F9CDFF2400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6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7B66-3F91-4933-A487-98B9ED951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B375-6BD9-47E0-92C3-2BE79FAC3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6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0" name="图片 31" descr=""/>
          <p:cNvPicPr/>
          <p:nvPr/>
        </p:nvPicPr>
        <p:blipFill>
          <a:blip r:embed="rId2"/>
          <a:stretch/>
        </p:blipFill>
        <p:spPr>
          <a:xfrm>
            <a:off x="415800" y="254160"/>
            <a:ext cx="8650440" cy="656568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B3C3-B6CB-47FA-9BFE-BF0B699A5C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F42F-B7C8-4AE5-9033-48A21D52F4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3773-C2F0-4A7A-93FB-82103593A4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FDA2-9A5D-4A46-B9B4-29584833B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9C26-363C-444B-96CA-E68E8FF1F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BA7D-864A-4A19-95E7-4AADBCF20D8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95" descr=""/>
          <p:cNvPicPr/>
          <p:nvPr/>
        </p:nvPicPr>
        <p:blipFill>
          <a:blip r:embed="rId3"/>
          <a:stretch/>
        </p:blipFill>
        <p:spPr>
          <a:xfrm>
            <a:off x="5292720" y="1400040"/>
            <a:ext cx="3282840" cy="46040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99" descr=""/>
          <p:cNvPicPr/>
          <p:nvPr/>
        </p:nvPicPr>
        <p:blipFill>
          <a:blip r:embed="rId4"/>
          <a:stretch/>
        </p:blipFill>
        <p:spPr>
          <a:xfrm>
            <a:off x="390600" y="433440"/>
            <a:ext cx="1298520" cy="1633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1" descr=""/>
          <p:cNvPicPr/>
          <p:nvPr/>
        </p:nvPicPr>
        <p:blipFill>
          <a:blip r:embed="rId5"/>
          <a:stretch/>
        </p:blipFill>
        <p:spPr>
          <a:xfrm>
            <a:off x="2604960" y="398520"/>
            <a:ext cx="4965840" cy="12985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464C-F2E8-4AAA-8E3C-FFD52776F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E4DB-3E63-485F-9A3B-E3288579D0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"/>
          <p:cNvPicPr/>
          <p:nvPr/>
        </p:nvPicPr>
        <p:blipFill>
          <a:blip r:embed="rId2"/>
          <a:stretch/>
        </p:blipFill>
        <p:spPr>
          <a:xfrm>
            <a:off x="8290080" y="5703840"/>
            <a:ext cx="617400" cy="1085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D683-B21D-4157-B2F9-DCECDB71C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DA97-27A4-4551-9F9E-64F9EFEE9E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7" descr=""/>
          <p:cNvPicPr/>
          <p:nvPr/>
        </p:nvPicPr>
        <p:blipFill>
          <a:blip r:embed="rId2"/>
          <a:stretch/>
        </p:blipFill>
        <p:spPr>
          <a:xfrm>
            <a:off x="0" y="5000760"/>
            <a:ext cx="9144000" cy="185724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89" descr=""/>
          <p:cNvPicPr/>
          <p:nvPr/>
        </p:nvPicPr>
        <p:blipFill>
          <a:blip r:embed="rId3"/>
          <a:stretch/>
        </p:blipFill>
        <p:spPr>
          <a:xfrm>
            <a:off x="627120" y="1398600"/>
            <a:ext cx="2886120" cy="482292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91" descr=""/>
          <p:cNvPicPr/>
          <p:nvPr/>
        </p:nvPicPr>
        <p:blipFill>
          <a:blip r:embed="rId4"/>
          <a:stretch/>
        </p:blipFill>
        <p:spPr>
          <a:xfrm>
            <a:off x="7232760" y="4189320"/>
            <a:ext cx="1687320" cy="2041560"/>
          </a:xfrm>
          <a:prstGeom prst="rect">
            <a:avLst/>
          </a:prstGeom>
          <a:ln w="0">
            <a:noFill/>
          </a:ln>
        </p:spPr>
      </p:pic>
      <p:sp>
        <p:nvSpPr>
          <p:cNvPr id="303" name="Freeform 106"/>
          <p:cNvSpPr/>
          <p:nvPr/>
        </p:nvSpPr>
        <p:spPr>
          <a:xfrm>
            <a:off x="7777080" y="1486080"/>
            <a:ext cx="625680" cy="42192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06"/>
          <p:cNvSpPr/>
          <p:nvPr/>
        </p:nvSpPr>
        <p:spPr>
          <a:xfrm>
            <a:off x="6904080" y="741240"/>
            <a:ext cx="625320" cy="422280"/>
          </a:xfrm>
          <a:custGeom>
            <a:avLst/>
            <a:gdLst/>
            <a:ahLst/>
            <a:rect l="l" t="t" r="r" b="b"/>
            <a:pathLst>
              <a:path w="1712146" h="760425">
                <a:moveTo>
                  <a:pt x="1013784" y="1156"/>
                </a:moveTo>
                <a:cubicBezTo>
                  <a:pt x="1116637" y="-9151"/>
                  <a:pt x="1224426" y="49184"/>
                  <a:pt x="1316351" y="189105"/>
                </a:cubicBezTo>
                <a:cubicBezTo>
                  <a:pt x="1522745" y="-26322"/>
                  <a:pt x="1721527" y="138462"/>
                  <a:pt x="1683801" y="331492"/>
                </a:cubicBezTo>
                <a:cubicBezTo>
                  <a:pt x="1810144" y="624145"/>
                  <a:pt x="1481334" y="765642"/>
                  <a:pt x="1341863" y="624337"/>
                </a:cubicBezTo>
                <a:cubicBezTo>
                  <a:pt x="1131838" y="793984"/>
                  <a:pt x="963784" y="832832"/>
                  <a:pt x="843734" y="578536"/>
                </a:cubicBezTo>
                <a:cubicBezTo>
                  <a:pt x="766826" y="818688"/>
                  <a:pt x="402161" y="815408"/>
                  <a:pt x="417123" y="553706"/>
                </a:cubicBezTo>
                <a:cubicBezTo>
                  <a:pt x="330240" y="794374"/>
                  <a:pt x="-9855" y="671480"/>
                  <a:pt x="77028" y="430811"/>
                </a:cubicBezTo>
                <a:cubicBezTo>
                  <a:pt x="-83829" y="406314"/>
                  <a:pt x="35763" y="244652"/>
                  <a:pt x="175948" y="352945"/>
                </a:cubicBezTo>
                <a:cubicBezTo>
                  <a:pt x="179529" y="49351"/>
                  <a:pt x="613847" y="-140679"/>
                  <a:pt x="740829" y="225054"/>
                </a:cubicBezTo>
                <a:cubicBezTo>
                  <a:pt x="813014" y="90410"/>
                  <a:pt x="910931" y="11462"/>
                  <a:pt x="1013784" y="115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903B-2644-4BC5-B909-778CDFE9D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DCB4-A7EC-48D0-BAA6-C151788646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76f0b"/>
          </a:solidFill>
          <a:ln w="12600">
            <a:solidFill>
              <a:srgbClr val="aa50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7" descr=""/>
          <p:cNvPicPr/>
          <p:nvPr/>
        </p:nvPicPr>
        <p:blipFill>
          <a:blip r:embed="rId2"/>
          <a:stretch/>
        </p:blipFill>
        <p:spPr>
          <a:xfrm rot="1241400">
            <a:off x="7940160" y="-56880"/>
            <a:ext cx="776520" cy="10494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101520" rIns="82440" tIns="0" bIns="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90F4-F471-4CD8-ACAB-F8D2DA2AF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4BA2-CE67-40E0-8B98-A9682460B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22.png"/><Relationship Id="rId18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QQ图片20200801083246"/>
          <p:cNvPicPr/>
          <p:nvPr/>
        </p:nvPicPr>
        <p:blipFill>
          <a:blip r:embed="rId1"/>
          <a:stretch/>
        </p:blipFill>
        <p:spPr>
          <a:xfrm>
            <a:off x="162000" y="2112840"/>
            <a:ext cx="87170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61920" y="1743120"/>
            <a:ext cx="9020160" cy="337176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2"/>
          <a:stretch/>
        </p:blipFill>
        <p:spPr>
          <a:xfrm>
            <a:off x="684360" y="3343320"/>
            <a:ext cx="7343640" cy="31896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343640" cy="3193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7343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638280" y="1447920"/>
            <a:ext cx="7867440" cy="396216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042920" y="3716280"/>
            <a:ext cx="7201080" cy="3193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7200720" cy="3193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1014480" y="4437000"/>
            <a:ext cx="7200720" cy="31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1014480" y="4797360"/>
            <a:ext cx="720072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5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1" descr=""/>
          <p:cNvPicPr/>
          <p:nvPr/>
        </p:nvPicPr>
        <p:blipFill>
          <a:blip r:embed="rId1"/>
          <a:stretch/>
        </p:blipFill>
        <p:spPr>
          <a:xfrm>
            <a:off x="752400" y="847800"/>
            <a:ext cx="7639200" cy="5162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767640" cy="31932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3"/>
          <a:stretch/>
        </p:blipFill>
        <p:spPr>
          <a:xfrm>
            <a:off x="1332000" y="2708280"/>
            <a:ext cx="6767280" cy="31896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4"/>
          <a:stretch/>
        </p:blipFill>
        <p:spPr>
          <a:xfrm>
            <a:off x="1461960" y="3068640"/>
            <a:ext cx="6767640" cy="31896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5"/>
          <a:stretch/>
        </p:blipFill>
        <p:spPr>
          <a:xfrm>
            <a:off x="1432080" y="3429000"/>
            <a:ext cx="6767280" cy="3189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6"/>
          <a:stretch/>
        </p:blipFill>
        <p:spPr>
          <a:xfrm>
            <a:off x="1476360" y="4552920"/>
            <a:ext cx="6767640" cy="31896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7"/>
          <a:stretch/>
        </p:blipFill>
        <p:spPr>
          <a:xfrm>
            <a:off x="1332000" y="4911840"/>
            <a:ext cx="6767280" cy="31896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8"/>
          <a:stretch/>
        </p:blipFill>
        <p:spPr>
          <a:xfrm>
            <a:off x="1461960" y="5272200"/>
            <a:ext cx="6767640" cy="3189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9"/>
          <a:stretch/>
        </p:blipFill>
        <p:spPr>
          <a:xfrm>
            <a:off x="1432080" y="5632560"/>
            <a:ext cx="6767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7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2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7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2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7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图片 1" descr=""/>
          <p:cNvPicPr/>
          <p:nvPr/>
        </p:nvPicPr>
        <p:blipFill>
          <a:blip r:embed="rId1"/>
          <a:stretch/>
        </p:blipFill>
        <p:spPr>
          <a:xfrm>
            <a:off x="766800" y="1566720"/>
            <a:ext cx="7610400" cy="372456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2"/>
          <a:stretch/>
        </p:blipFill>
        <p:spPr>
          <a:xfrm>
            <a:off x="1116000" y="344340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3"/>
          <a:stretch/>
        </p:blipFill>
        <p:spPr>
          <a:xfrm>
            <a:off x="1116000" y="3832200"/>
            <a:ext cx="7201080" cy="31896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7201080" cy="31932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5"/>
          <a:stretch/>
        </p:blipFill>
        <p:spPr>
          <a:xfrm>
            <a:off x="1116000" y="4581360"/>
            <a:ext cx="7201080" cy="31932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6"/>
          <a:stretch/>
        </p:blipFill>
        <p:spPr>
          <a:xfrm>
            <a:off x="1116000" y="4941720"/>
            <a:ext cx="720108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9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4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9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4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9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90360" y="981000"/>
            <a:ext cx="8963280" cy="4896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2916360" y="1413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6372360" y="141300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2455920" y="2276640"/>
            <a:ext cx="747720" cy="318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747720" cy="3189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1763640" y="265104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7"/>
          <a:stretch/>
        </p:blipFill>
        <p:spPr>
          <a:xfrm>
            <a:off x="6804000" y="26370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8"/>
          <a:stretch/>
        </p:blipFill>
        <p:spPr>
          <a:xfrm>
            <a:off x="2556000" y="3068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9"/>
          <a:stretch/>
        </p:blipFill>
        <p:spPr>
          <a:xfrm>
            <a:off x="6084720" y="3025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0"/>
          <a:stretch/>
        </p:blipFill>
        <p:spPr>
          <a:xfrm>
            <a:off x="1042920" y="3500280"/>
            <a:ext cx="792360" cy="3193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1"/>
          <a:stretch/>
        </p:blipFill>
        <p:spPr>
          <a:xfrm>
            <a:off x="4903920" y="39020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2"/>
          <a:stretch/>
        </p:blipFill>
        <p:spPr>
          <a:xfrm>
            <a:off x="2036880" y="499428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3"/>
          <a:stretch/>
        </p:blipFill>
        <p:spPr>
          <a:xfrm>
            <a:off x="4984920" y="4998960"/>
            <a:ext cx="215640" cy="1922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4"/>
          <a:stretch/>
        </p:blipFill>
        <p:spPr>
          <a:xfrm>
            <a:off x="7696080" y="49942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5"/>
          <a:stretch/>
        </p:blipFill>
        <p:spPr>
          <a:xfrm>
            <a:off x="2022480" y="553572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6"/>
          <a:stretch/>
        </p:blipFill>
        <p:spPr>
          <a:xfrm>
            <a:off x="4979880" y="553572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17"/>
          <a:stretch/>
        </p:blipFill>
        <p:spPr>
          <a:xfrm>
            <a:off x="7686720" y="5535720"/>
            <a:ext cx="216000" cy="19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1" descr=""/>
          <p:cNvPicPr/>
          <p:nvPr/>
        </p:nvPicPr>
        <p:blipFill>
          <a:blip r:embed="rId1"/>
          <a:stretch/>
        </p:blipFill>
        <p:spPr>
          <a:xfrm>
            <a:off x="195120" y="1795320"/>
            <a:ext cx="8753760" cy="32673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5292720" y="22255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5738760" y="22334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6545160" y="22194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6991200" y="22273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7451640" y="2637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7"/>
          <a:stretch/>
        </p:blipFill>
        <p:spPr>
          <a:xfrm>
            <a:off x="2268360" y="3068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8"/>
          <a:stretch/>
        </p:blipFill>
        <p:spPr>
          <a:xfrm>
            <a:off x="5364000" y="34290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9"/>
          <a:stretch/>
        </p:blipFill>
        <p:spPr>
          <a:xfrm>
            <a:off x="7164360" y="3860640"/>
            <a:ext cx="863640" cy="3193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0"/>
          <a:stretch/>
        </p:blipFill>
        <p:spPr>
          <a:xfrm>
            <a:off x="2627280" y="4221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11"/>
          <a:stretch/>
        </p:blipFill>
        <p:spPr>
          <a:xfrm>
            <a:off x="5435640" y="4653000"/>
            <a:ext cx="504720" cy="318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2"/>
          <a:stretch/>
        </p:blipFill>
        <p:spPr>
          <a:xfrm>
            <a:off x="7308720" y="4581360"/>
            <a:ext cx="86364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47520" y="2224080"/>
            <a:ext cx="9048960" cy="24098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8317080" y="2637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8317080" y="3068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8317080" y="34290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838836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8331120" y="43513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1" descr=""/>
          <p:cNvPicPr/>
          <p:nvPr/>
        </p:nvPicPr>
        <p:blipFill>
          <a:blip r:embed="rId1"/>
          <a:stretch/>
        </p:blipFill>
        <p:spPr>
          <a:xfrm>
            <a:off x="195120" y="1290600"/>
            <a:ext cx="8753760" cy="4276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8172360" y="2565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6588000" y="3284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5940360" y="4076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7451640" y="481176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262080" y="790560"/>
            <a:ext cx="8619840" cy="57531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3995640" y="16714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6012000" y="1628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8244000" y="1628640"/>
            <a:ext cx="576000" cy="3193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2050920" y="20034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7"/>
          <a:stretch/>
        </p:blipFill>
        <p:spPr>
          <a:xfrm>
            <a:off x="4211640" y="201780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8"/>
          <a:stretch/>
        </p:blipFill>
        <p:spPr>
          <a:xfrm>
            <a:off x="5796000" y="2060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9"/>
          <a:stretch/>
        </p:blipFill>
        <p:spPr>
          <a:xfrm>
            <a:off x="8317080" y="20462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10"/>
          <a:stretch/>
        </p:blipFill>
        <p:spPr>
          <a:xfrm>
            <a:off x="1042920" y="3213000"/>
            <a:ext cx="1728720" cy="2016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1"/>
          <a:stretch/>
        </p:blipFill>
        <p:spPr>
          <a:xfrm>
            <a:off x="2065320" y="2809800"/>
            <a:ext cx="993960" cy="3193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12"/>
          <a:stretch/>
        </p:blipFill>
        <p:spPr>
          <a:xfrm>
            <a:off x="3924360" y="3213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13"/>
          <a:stretch/>
        </p:blipFill>
        <p:spPr>
          <a:xfrm>
            <a:off x="5176800" y="2809800"/>
            <a:ext cx="993960" cy="3193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14"/>
          <a:stretch/>
        </p:blipFill>
        <p:spPr>
          <a:xfrm>
            <a:off x="6659640" y="3645000"/>
            <a:ext cx="2016000" cy="28796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15"/>
          <a:stretch/>
        </p:blipFill>
        <p:spPr>
          <a:xfrm>
            <a:off x="7696080" y="2838600"/>
            <a:ext cx="9939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1" descr=""/>
          <p:cNvPicPr/>
          <p:nvPr/>
        </p:nvPicPr>
        <p:blipFill>
          <a:blip r:embed="rId1"/>
          <a:stretch/>
        </p:blipFill>
        <p:spPr>
          <a:xfrm>
            <a:off x="809640" y="1228680"/>
            <a:ext cx="7524720" cy="245736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2" descr=""/>
          <p:cNvPicPr/>
          <p:nvPr/>
        </p:nvPicPr>
        <p:blipFill>
          <a:blip r:embed="rId2"/>
          <a:stretch/>
        </p:blipFill>
        <p:spPr>
          <a:xfrm>
            <a:off x="1044720" y="3751200"/>
            <a:ext cx="6457680" cy="1704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971640" y="206064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971640" y="2421000"/>
            <a:ext cx="2448000" cy="3189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971640" y="2852640"/>
            <a:ext cx="2448000" cy="3193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6"/>
          <a:stretch/>
        </p:blipFill>
        <p:spPr>
          <a:xfrm>
            <a:off x="5219640" y="2060640"/>
            <a:ext cx="3097440" cy="3189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7"/>
          <a:stretch/>
        </p:blipFill>
        <p:spPr>
          <a:xfrm>
            <a:off x="5219640" y="2421000"/>
            <a:ext cx="3097440" cy="3189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8"/>
          <a:stretch/>
        </p:blipFill>
        <p:spPr>
          <a:xfrm>
            <a:off x="5219640" y="2852640"/>
            <a:ext cx="3097440" cy="3193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9"/>
          <a:stretch/>
        </p:blipFill>
        <p:spPr>
          <a:xfrm>
            <a:off x="971640" y="4221000"/>
            <a:ext cx="3097080" cy="3193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10"/>
          <a:stretch/>
        </p:blipFill>
        <p:spPr>
          <a:xfrm>
            <a:off x="971640" y="4581360"/>
            <a:ext cx="3097080" cy="3193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11"/>
          <a:stretch/>
        </p:blipFill>
        <p:spPr>
          <a:xfrm>
            <a:off x="971640" y="5013360"/>
            <a:ext cx="309708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12"/>
          <a:stretch/>
        </p:blipFill>
        <p:spPr>
          <a:xfrm>
            <a:off x="5148360" y="4221000"/>
            <a:ext cx="3097080" cy="3193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13"/>
          <a:stretch/>
        </p:blipFill>
        <p:spPr>
          <a:xfrm>
            <a:off x="5148360" y="4581360"/>
            <a:ext cx="3097080" cy="31932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14"/>
          <a:stretch/>
        </p:blipFill>
        <p:spPr>
          <a:xfrm>
            <a:off x="5148360" y="5013360"/>
            <a:ext cx="30970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1" descr=""/>
          <p:cNvPicPr/>
          <p:nvPr/>
        </p:nvPicPr>
        <p:blipFill>
          <a:blip r:embed="rId1"/>
          <a:stretch/>
        </p:blipFill>
        <p:spPr>
          <a:xfrm>
            <a:off x="47520" y="1504800"/>
            <a:ext cx="9048960" cy="38484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1979640" y="306072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249876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4398840" y="306072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4917960" y="306864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3276720" y="3803760"/>
            <a:ext cx="934920" cy="31896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971640" y="5013360"/>
            <a:ext cx="6264360" cy="3189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12296" descr=""/>
          <p:cNvPicPr/>
          <p:nvPr/>
        </p:nvPicPr>
        <p:blipFill>
          <a:blip r:embed="rId8"/>
          <a:stretch/>
        </p:blipFill>
        <p:spPr>
          <a:xfrm>
            <a:off x="6118200" y="1484280"/>
            <a:ext cx="29624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566640" y="1952640"/>
            <a:ext cx="8010720" cy="29527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900000" y="4567320"/>
            <a:ext cx="3600720" cy="31896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13315" descr=""/>
          <p:cNvPicPr/>
          <p:nvPr/>
        </p:nvPicPr>
        <p:blipFill>
          <a:blip r:embed="rId3"/>
          <a:stretch/>
        </p:blipFill>
        <p:spPr>
          <a:xfrm>
            <a:off x="1763640" y="2852640"/>
            <a:ext cx="1886040" cy="112392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13316" descr=""/>
          <p:cNvPicPr/>
          <p:nvPr/>
        </p:nvPicPr>
        <p:blipFill>
          <a:blip r:embed="rId4"/>
          <a:stretch/>
        </p:blipFill>
        <p:spPr>
          <a:xfrm>
            <a:off x="4140360" y="2852640"/>
            <a:ext cx="1885680" cy="1123920"/>
          </a:xfrm>
          <a:prstGeom prst="rect">
            <a:avLst/>
          </a:prstGeom>
          <a:ln w="0">
            <a:noFill/>
          </a:ln>
        </p:spPr>
      </p:pic>
      <p:pic>
        <p:nvPicPr>
          <p:cNvPr id="1125" name="图片 13317" descr=""/>
          <p:cNvPicPr/>
          <p:nvPr/>
        </p:nvPicPr>
        <p:blipFill>
          <a:blip r:embed="rId5"/>
          <a:stretch/>
        </p:blipFill>
        <p:spPr>
          <a:xfrm>
            <a:off x="6443640" y="2852640"/>
            <a:ext cx="1886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1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6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0:34:2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