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D6E-09EF-4CD7-9EBD-CC65CBC4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2CC-33AC-4C7F-B454-B8C1E7A8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D0AB8-6413-481D-971B-EDF1449C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F2586-8C17-4AC9-B8B4-CC669D33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E36CC-31D3-4000-ADE9-EA642F95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B7FE6-A820-4848-9E48-46A05241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4CCA5-D428-4F82-A598-FF68A905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D51B1-9D88-4739-92EC-8766942B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E2AE7-2BEF-479C-B5FA-0066C5C4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27C20-D372-4AD0-8B4B-3A85434F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2D623-E127-4345-904A-7860AA88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0D331-AE6A-455F-AD0E-6D5CFFB1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C41-6764-41D7-ABEE-7F0917AE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C2286-DE9C-4121-A28B-C0FEA458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20CB0-548D-45B2-9B0B-FFDC3496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F9870-1D3D-44D4-B8F5-4EEF9260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1CBDA-1ADE-495F-A53E-026E2685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FBE4E-0B3D-4C7E-97C8-9787F235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0DDBC-D51B-4890-8CD8-A0914D65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DBF2B-0DA0-407A-99C7-278A0C1E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7ECD7-B813-4CF3-9879-6D428FBA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CBA2F-031C-4D14-B5C1-9A6951DD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AC578-3B48-41FC-9A67-A5F366DC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238-DAA4-4B32-8383-DF38E816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911E6-7ADF-49DB-BBE8-7678E04D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F22EF-8021-4F23-98D6-4BCB65F5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CEF7C-7967-4242-BB66-D5C13FC3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AA273-C702-4107-86B4-AD5FA513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D882F-CC35-467E-B21C-38716BF6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D0665-9124-472E-B263-02B8A052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BCA5A-AA53-4AE2-9CA5-BFB9B588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DEDD7-E090-49EC-BB0C-B1BAD723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EF19B-AB39-4453-90FF-01F8B5D0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2BC34-2E3E-4070-85E1-38F5BBA6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28C0-DDF2-42DD-A8EF-212528AB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CE4BD-AEAB-4462-AB0F-F01EFEDD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82970-5343-4AA5-9128-ECC71060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34D6D-5817-4F6F-8F19-3952077F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916D9-B4CE-4DB9-A7CA-F374F426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BA6CA-E03C-40E2-B317-2E876540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10A5F-9D84-47FB-B475-31FFDB27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C8869-3A27-4188-93C6-7EB579DC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E762F-013A-4341-8B80-9F293678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C4A98-9919-4E88-91F2-15D411B7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84B93-05B5-4B57-B396-F68E14C8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9A73-5C00-40A8-867C-A15BEF93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3C6D3-C875-4ED6-9784-A51B4D95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5D2F8-DA48-4BD7-8445-2C7CF8B5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9F8BA-BE48-4C89-A805-1226D86B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50615-F7CD-4D2D-8F62-60DFBBAA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94C41-0430-4817-9893-AB87687B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662994-6799-473D-A23C-F4CBA341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51C9E-9CD2-47E0-907A-9D3C9E18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36397-1DF4-4772-BF66-35B49E37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F64BD-84A0-47AF-9276-8C974249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F6503-5355-4F7B-86E1-D0A86ADB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7F56-E205-492A-967C-CC18F06F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529BF-9C96-4DE6-877A-5EED1F24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0042A-C68D-4BC8-BF18-54F5A3B8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C3B6D-CFFD-4B1E-B7C0-A6C92544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109FD-F117-46E5-8013-245734F7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FAB5B-B58A-488E-90BB-027D3A9D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BE444-98B1-4D00-8B92-4F8A3DC2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5E861-0F23-4595-A6BE-FB8F9D37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9BE7B-9694-48B0-9A8F-A63F65EC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78B74-8BBB-4BE9-90C8-4C6B7189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D2024-CA91-4ED4-8F38-94D7642B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5463-D433-4902-B931-8A162314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E90C3-B62E-4C73-9B6C-F8205501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06FBA-EE5D-4A34-957A-E90DEA4D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1E8A9F-F04B-4543-ADDF-F92D4C6D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AF8D6-3DAD-4139-8AF0-1B88256C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CDB2DC-71FD-4481-962F-FE1F8721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189E8-FAFF-4611-8CE9-4FB40EB4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88B61-D366-4051-94BB-C6166B90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20F764-556B-40F2-9919-700BF764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E33617-6CBD-4B5F-B269-C1169120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609E9C-B414-46A8-89BA-DBDB901B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2096-2837-4127-A76B-1BB2A312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150512-BEFC-402A-978C-E85912BF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DF892E-DF66-46FB-95E0-95F78ABC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EF7259-66B9-49D6-80FB-7404103A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BFD36E-6087-4F85-9F7E-42592E0D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6F3C30-6E3E-4430-B4D3-0DE2C796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A3A5A5-334C-4A58-B601-AF9BD157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20562C-0AEF-4011-8A1D-ECDCD416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C10E0-C9AC-4F36-A6A3-6FDB14BB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71BF0E-041C-4661-9FFA-495FDD1C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3FD4DE-37F1-4273-8B11-414574E9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D902-8E9B-4851-BBA5-1B1670CF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8DC9CA-A9D1-4FB6-B8FE-13AE2965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A3463E-2D65-4764-883F-B2695CDE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C1B51E-EBBA-4442-8A14-D875A920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2C8DD6-BC83-484F-BF0E-031B8BD9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64C6BB-9533-4841-BE1D-5D9CEB6D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53F3E7-C081-462D-AB1B-F5C69BA3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D2A2B-E4B4-4CBE-812A-E288896D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D47FD0-C75F-4C80-BC6A-B2B24C12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0B9BC6-FED5-45EF-B445-C6281C81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854AA1-F357-44E7-9647-2A948966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EDF3-303A-442E-AE92-18662678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6FE29F-F54F-4606-9ED5-2419C5EC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1CF679-15FF-40E5-A855-C7AA7B65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3BBC7E-71D2-41AF-8918-17A262CB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2ABE60-B74A-4145-8402-CDE60B1B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9E28C-F54A-4FC1-B923-3B2FA38B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00592E-9886-48C3-A788-53F9580B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7E4FA5-3598-490D-89BF-2AE45BCD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C534A6-FBEB-4F2C-9E10-9FE422AD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62A2A3-F61A-42B2-BA85-00762281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B1C810-8C74-48DB-8519-BCABF62A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1966-CC12-409B-A620-324C277A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10B3-D554-4841-B326-B0265217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E25CB4-6A52-4291-A3A8-094B74C8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6290BE-9F73-480E-918E-F256720B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E2D604-2D6D-40D5-AB1B-E66F65B5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5CD994-5B4D-45C3-853C-173036D9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068BBA-CEED-47E4-B47C-56A80EA5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0828AD-4030-4B15-B7C0-2336E1EE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0D2A93-C079-4A94-A423-761B007F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27DC48-68AC-40D6-9A79-9C56451B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F7A34F-2AEF-4817-B93E-E4E614F5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F052FB-A592-4721-84D8-15BCC858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93B5-1787-4991-A157-C8E90432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39AD99-22D7-4AAA-865A-954DD045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1B0F72-9919-4D9C-A57F-D6E17277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52EF8F-1E94-4B5F-AE0E-A5EDEE28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DFD7EE-20FC-4876-9E47-8EAB3FB5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AFBAF1-D5F1-4222-896A-D237947B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B8FA41-22AF-4C6F-95E3-BCFE70B4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A6FF3A-0CC4-4BE0-A739-D86A55B1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73B3B3-2CA3-4F0B-9180-7DBDA925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1AB5A0-6C77-4170-9145-9F5BD01A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748310-D052-4EDB-97E9-D447C2CF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348D-E23B-43D8-9241-E569A4B3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3B9A95-DB99-4C9F-9989-8F634701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45AD0B-F0EC-4272-8473-B32A049C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C8319E-5817-48B2-85C2-287F788C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60A560-FA6C-4CAD-9B15-2B935645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1AEBDA-1AD6-47AF-A998-62BC453D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070613-5C08-4509-A389-8A4AF67D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D19907-A845-414B-AD9B-9D8C764B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22C05A-1391-4BAB-8517-EBC05AA2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94B8A5-4853-4AAC-B422-7B97A036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18D2A0-4696-40D4-8F8B-1BE9350C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C4D4-850D-4736-AC35-F22CC9A3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E2BB3A-932E-4998-AF47-7F0FD55F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8B3027-C657-415E-AE9A-5A73BCE1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F2DA42-A643-4EF0-B5FD-D8580E04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B13129-5E7B-4716-9403-425F3604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5EF60F-F635-44C9-890C-F1B94F67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ABD50B-16F0-4DCA-B962-52805B7C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EB570C-2911-433C-AEAD-FE37B96D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065EEE-9927-4EE3-8866-E96F5622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AD0217-02B2-47A5-94AE-CC6D5B72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4CFAF0-9154-4C8B-8FD4-11603A39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E79F-B1E6-49FE-B755-C0CCC56E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E4429A-0449-4140-A790-C95BB789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C19D62-7E59-42F0-9A60-A1D3FD29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FA3D20-53AB-42CE-B1DC-9C344C9D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F9CCD3-4B08-47D7-A5E8-3D182EFE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12B9E4-3139-4F80-BAAC-94EBF071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E564D7-BE12-461A-8B22-E13FABEE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628D44-C72D-4B89-91A1-DB97CEF2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FF7851-18EF-49D7-ADC4-47DA6C7F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B2318A-A278-4D8B-BB70-68C9E4B9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76A86E-44C6-4274-9AF4-B5EEA43E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022FB-89E7-4472-9D02-0BBA0E5F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1B79C7-9C5F-486D-85D8-50F74ABD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6F80B0-145D-4D69-A72B-EAFDCFC7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774084-8A99-4810-89DD-B13475D2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18E52-744A-41F1-9EEB-1C3AC3FC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730A4-64B7-41E9-AD6A-0095F43F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B55DA-E2ED-4536-A02E-E8A33D75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B07F-8558-4399-8243-26B504BF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A0F-E546-4914-A4BB-A1C7A75C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A5F1E-34B4-4C36-AB0E-9E138010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8C52D-90E1-4807-8C0E-06E3B8FA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EBC47-38D5-4049-95CE-3E78C60B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2E208-AD2B-4245-9731-5E917FDC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3BBEC-32FE-44DB-94BA-781CA9AF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B7BF8-AAE9-4555-B432-CEA22838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3B4F2-A060-4D41-B49F-462205CD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64F45-44E4-454B-B9D7-17F164E6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A9DDA-10A0-445B-AD08-05B9BE30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5F179-A506-4CF9-A6EC-D2E4F08E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B56-F4D7-440C-8271-3DC37385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3A05C-0C9F-4F75-A4B7-4344FB1B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A5B21-852A-4569-A6C6-4892F04B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B777C-B7AE-466E-BF51-ED742644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E039F-FB87-440E-93C4-FEEEFC62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B6EB1-D560-4B91-8597-D5023C48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50318-A092-4E90-90CE-7C31E3AD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8F07D-2707-4C6A-947B-BB45B712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45959-EC25-49D3-860F-522FF78D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869EE-F19D-498D-BE58-0A05003F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00141-F6B9-459C-A607-0E715F9F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E12-A05E-43F4-AA48-DF7B96C5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2A40D-9F81-4C27-9F2B-FCEEEC31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12036-3A08-43CB-8358-79EE97EF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9FAA6-91EB-4716-8D77-C15CE1DA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63111-A57B-4D02-A094-34F01E1C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F9354-FF2C-4DFE-A59A-084E743C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F851C-A006-4572-8D37-331806D4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3D12E-FFF8-49CD-A178-3BC9F7C9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B0498-0469-4C4E-9CDB-BE6CBD51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B4E40-86C6-4ED6-B9B8-247409D9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5DD2C-A016-4E5A-8CE3-2C761368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77C-624A-45AC-AE6A-650BCACF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40187-EA3A-4F33-9B43-A6602F9B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25DED-BB24-49DA-9487-99B99F95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47530-38D7-45C9-9A8E-922E1BEC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1E459-2163-4508-B312-C4C8779C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92EAA-82D6-41C5-8790-6463C533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669B1-3F4F-4108-99CD-4DF1623A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CA27D-7148-4F4A-9C4C-9141541A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3370D-3301-4602-BE9B-5C399337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B5E97-F8FD-4C26-A7C7-98DF85A2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C6B77-3B99-41AE-8A68-2120E6D4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A84-B2EE-4FBF-8A86-11162E37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8176F-7D39-41C1-9725-A231F759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DB75F-70D6-482F-9029-A0E1F82F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449B4-F909-4DA2-AF7A-A637F8F5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A39EF-BB36-4E86-9283-DA8949C4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1214A-D503-4282-89BA-183D58EE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A3DDF-D012-4C9A-9EDA-B30BC74F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A1241-0F26-4BD3-8B69-3E9A3D1C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C5F38-68A3-44FE-904A-33D892C0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96412-F2A7-4353-B461-F0669F0D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49FB8-F904-486C-AED1-C2E929B8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BA64-C22E-48FB-9398-C9A44E92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44215-D412-4DB5-98A6-DE003D65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30EBE-E0DD-4499-8C33-5683DEBD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9938F-DDB6-4733-84EF-D90940A4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5E6CA-E3CF-469F-A435-ACE3A38C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74692-24C9-4556-846A-EC9314E5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DC722-5987-4AFF-A4EB-4E84ABB4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372F0-C135-475A-8405-A051FB73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249AB-40C4-4127-AF04-5582E048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5E743-A5BA-48F8-9E3D-8599036B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9EEF3-D039-4EEA-A7DB-232AFCED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9E5-6AEB-47A7-A4AC-06987BA3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3DB2E-1ED7-4583-83F0-AD81E908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26F2F-BEAA-4F2E-A163-1D48B64A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1BB9C-1906-453D-830C-3E6AD040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968F7-11C3-40FF-8C28-9C43C7A0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BF0B1-55EF-4E9F-A1FB-72F816B7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75B7B-A513-415E-9A90-8ED71393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CBA0A-5B2E-4C0B-AA49-196C70B0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1A6AD-CDE8-4703-88DE-93C0C546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4030F-87E0-440F-87DA-281F69A9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47247-E48D-4F0D-9DB7-09BFAFA3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6C86-8A8A-4858-95EC-1EDE35BD94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E029-62FE-454C-8521-B58E29437C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18B0-BFD9-4EBC-83F3-F8BD8F9BF3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2F30-78A9-42A4-860A-3C84CEF0BA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A2A5-7FE0-4278-96C2-1421E237EB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E795-497B-4540-84D2-161DCCBC18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9570-4A5C-40AC-BCE1-98FAD3AB04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915F-815F-47EB-8FC4-228C6EC569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A873-A11C-4426-906E-C558EC6E89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5A4A-2178-4163-BEC5-ABF85E2AE5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92B1-06B8-49F2-95CA-908790A990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9102-EB7B-4CE6-AD1D-6DCA574764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0D53-EEC8-46C2-9EBA-C27257C48A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BF0A-DB4F-4F5C-A107-C04BFD0EA7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2B04-2F6C-420F-9A99-22D7704B32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30F4-73AA-4A58-83CA-A759F809C5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8CE3-AC72-4829-9893-A4D6B178D5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7ABB-E2A3-46FD-9272-710447BDD8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865F-2629-4642-B2EA-12CA9E9F46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ADE1-E3AE-4993-8B99-399B36F50C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23EB-5C9C-4123-96B6-8184B37A05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6474-C4D8-4DD7-9F72-4E2ADF0E7F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D289-3188-4CE0-9545-5EC8E883E7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1183-B68D-4AC0-87F2-2F0B0B2069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0FC5-32C9-4D97-B14E-B061CE5CB7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BF57-B333-4F20-A33B-0ED7A6A0C6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56AF-A6A5-43E6-9C21-02373EB4BF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DC32-76DB-4FCD-B114-D5F30A6A5A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4839-991C-49D5-9B9F-B9CD94A27F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FB0A-AD1A-419E-BE03-A7901923D2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6A43-49E9-4A37-AA5A-BCC8590F9D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ACD5-44B2-425B-939C-DDA0EB1BF1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360B-324A-4F06-9256-6AB4C2FE86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0042-4B1E-49D0-A569-9EC65EC072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0192-1514-4902-98AE-C9B948BCFF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5807-94CB-40BB-A5FD-3DC0CC879A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EEB3-B64F-48C9-AEDA-16F05A44D4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EB89-256E-4EE5-AB11-BECDAD1C90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7D19-3A21-4BEA-BD60-A566CC2C17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DFDE-E175-4A32-8A64-C704F97F9A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743880" cy="12762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205000" y="3038400"/>
            <a:ext cx="4734000" cy="78120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28680" descr=""/>
          <p:cNvPicPr/>
          <p:nvPr/>
        </p:nvPicPr>
        <p:blipFill>
          <a:blip r:embed="rId3"/>
          <a:stretch/>
        </p:blipFill>
        <p:spPr>
          <a:xfrm>
            <a:off x="1908000" y="4221000"/>
            <a:ext cx="55818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60428" descr=""/>
          <p:cNvPicPr/>
          <p:nvPr/>
        </p:nvPicPr>
        <p:blipFill>
          <a:blip r:embed="rId1"/>
          <a:stretch/>
        </p:blipFill>
        <p:spPr>
          <a:xfrm>
            <a:off x="604800" y="1181160"/>
            <a:ext cx="7934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614520" y="785880"/>
            <a:ext cx="7914960" cy="52862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1619280" y="2838600"/>
            <a:ext cx="266544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1547640" y="3514680"/>
            <a:ext cx="266544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1547640" y="4221000"/>
            <a:ext cx="266544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1547640" y="4941720"/>
            <a:ext cx="266544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6"/>
          <a:stretch/>
        </p:blipFill>
        <p:spPr>
          <a:xfrm>
            <a:off x="4788000" y="2824200"/>
            <a:ext cx="331308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7"/>
          <a:stretch/>
        </p:blipFill>
        <p:spPr>
          <a:xfrm>
            <a:off x="5003640" y="3343320"/>
            <a:ext cx="3313440" cy="662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8"/>
          <a:stretch/>
        </p:blipFill>
        <p:spPr>
          <a:xfrm>
            <a:off x="4932360" y="423540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9"/>
          <a:stretch/>
        </p:blipFill>
        <p:spPr>
          <a:xfrm>
            <a:off x="4932360" y="4925880"/>
            <a:ext cx="3313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657360" y="1419120"/>
            <a:ext cx="7829280" cy="4019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6948360" y="1671480"/>
            <a:ext cx="100836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5003640" y="257976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5349960" y="30830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3780000" y="4508640"/>
            <a:ext cx="194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309600" y="309600"/>
            <a:ext cx="8524800" cy="62388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5867280" y="1139760"/>
            <a:ext cx="64800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7812000" y="11970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3635280" y="191628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5651640" y="191628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2843280" y="256536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4844880" y="262260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8"/>
          <a:stretch/>
        </p:blipFill>
        <p:spPr>
          <a:xfrm>
            <a:off x="2556000" y="3284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9"/>
          <a:stretch/>
        </p:blipFill>
        <p:spPr>
          <a:xfrm>
            <a:off x="6443640" y="3284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0"/>
          <a:stretch/>
        </p:blipFill>
        <p:spPr>
          <a:xfrm>
            <a:off x="7236000" y="400536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1"/>
          <a:stretch/>
        </p:blipFill>
        <p:spPr>
          <a:xfrm>
            <a:off x="2050920" y="465300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2"/>
          <a:stretch/>
        </p:blipFill>
        <p:spPr>
          <a:xfrm>
            <a:off x="4284720" y="46674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3"/>
          <a:stretch/>
        </p:blipFill>
        <p:spPr>
          <a:xfrm>
            <a:off x="7093080" y="46674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4"/>
          <a:stretch/>
        </p:blipFill>
        <p:spPr>
          <a:xfrm>
            <a:off x="2124000" y="53737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5"/>
          <a:stretch/>
        </p:blipFill>
        <p:spPr>
          <a:xfrm>
            <a:off x="5435640" y="53737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6"/>
          <a:stretch/>
        </p:blipFill>
        <p:spPr>
          <a:xfrm>
            <a:off x="7667640" y="5373720"/>
            <a:ext cx="64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6324" descr=""/>
          <p:cNvPicPr/>
          <p:nvPr/>
        </p:nvPicPr>
        <p:blipFill>
          <a:blip r:embed="rId1"/>
          <a:stretch/>
        </p:blipFill>
        <p:spPr>
          <a:xfrm>
            <a:off x="495360" y="357120"/>
            <a:ext cx="8153280" cy="61437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1519200" y="1916280"/>
            <a:ext cx="276552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5392800" y="1916280"/>
            <a:ext cx="276552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1476360" y="4695840"/>
            <a:ext cx="276552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1476360" y="5300640"/>
            <a:ext cx="276552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5364000" y="4681440"/>
            <a:ext cx="27655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5300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61437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1417680" y="1901880"/>
            <a:ext cx="286704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1433520" y="2463840"/>
            <a:ext cx="286704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5364000" y="1901880"/>
            <a:ext cx="286704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5292720" y="2492280"/>
            <a:ext cx="286704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6"/>
          <a:stretch/>
        </p:blipFill>
        <p:spPr>
          <a:xfrm>
            <a:off x="1461960" y="4710240"/>
            <a:ext cx="286704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7"/>
          <a:stretch/>
        </p:blipFill>
        <p:spPr>
          <a:xfrm>
            <a:off x="1403280" y="5286240"/>
            <a:ext cx="286704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8"/>
          <a:stretch/>
        </p:blipFill>
        <p:spPr>
          <a:xfrm>
            <a:off x="5335560" y="4695840"/>
            <a:ext cx="286704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9"/>
          <a:stretch/>
        </p:blipFill>
        <p:spPr>
          <a:xfrm>
            <a:off x="5292720" y="5257800"/>
            <a:ext cx="2867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54276" descr=""/>
          <p:cNvPicPr/>
          <p:nvPr/>
        </p:nvPicPr>
        <p:blipFill>
          <a:blip r:embed="rId1"/>
          <a:stretch/>
        </p:blipFill>
        <p:spPr>
          <a:xfrm>
            <a:off x="266760" y="1247760"/>
            <a:ext cx="8610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52231" descr=""/>
          <p:cNvPicPr/>
          <p:nvPr/>
        </p:nvPicPr>
        <p:blipFill>
          <a:blip r:embed="rId1"/>
          <a:stretch/>
        </p:blipFill>
        <p:spPr>
          <a:xfrm>
            <a:off x="566640" y="1252440"/>
            <a:ext cx="8010720" cy="43531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468360" y="1297080"/>
            <a:ext cx="3598920" cy="4474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395280" y="1930320"/>
            <a:ext cx="662472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324000" y="2565360"/>
            <a:ext cx="6624360" cy="4478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5"/>
          <a:stretch/>
        </p:blipFill>
        <p:spPr>
          <a:xfrm>
            <a:off x="324000" y="3213000"/>
            <a:ext cx="6624360" cy="4478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6"/>
          <a:stretch/>
        </p:blipFill>
        <p:spPr>
          <a:xfrm>
            <a:off x="395280" y="3803760"/>
            <a:ext cx="6624720" cy="4474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7"/>
          <a:stretch/>
        </p:blipFill>
        <p:spPr>
          <a:xfrm>
            <a:off x="395280" y="4437000"/>
            <a:ext cx="6624720" cy="4478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8"/>
          <a:stretch/>
        </p:blipFill>
        <p:spPr>
          <a:xfrm>
            <a:off x="395280" y="5084640"/>
            <a:ext cx="662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8:04:0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