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A22-41B7-4E4F-85C1-966074C2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5E3-C20C-4A3D-A657-068EB969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79EB4-2DF7-493D-915D-2547593F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F8DF7-D83F-4C00-93FB-4247A815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7E3C7-07D2-4868-9DFF-126003A4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495D7-A4DB-42D7-B612-CFD13E7B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3BA21-594E-490B-A8E5-092D8562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E58F8-B69A-44A3-BFD7-789F8ACF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5BE92-6CAC-492B-9E0A-C4319157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2791A-5467-4B0C-A372-76FEF533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83A7E-5674-42B2-909C-E17321BC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B04EB-27A7-4E48-A9D3-7699F680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0E1-A403-40CA-976D-67481572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58395-7218-4895-85DF-D26307AD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86A52-9E20-4D41-A9E4-6D678AE1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8A6B7-8B8B-42AF-B4CB-627D5E79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106EB-4BB9-4191-B2B9-2320E983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9166B-6FCD-4802-8152-CFD3E76F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ADD56-1EDC-40D6-A7AF-FEB87668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47DF0-292E-4E53-B4B2-4EDB2DC5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65463-BCA0-4931-9B2E-721E33DF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C3965-5B24-4B63-8AD9-BD72204B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61E28-8A68-4004-AD7B-F2A2F301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9ECE-19A7-4B9B-9FDE-2A96683D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E66F3-24E0-4089-BCB9-015D60D2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057B2-8367-4DF0-9252-21C0BF20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69A37-65E4-464C-B3E1-7E982FF5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EF6E6-16F7-4FF8-BF3A-A1708143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039C7-1AD2-4EE4-80CA-84C05B99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CE7DA-B656-4DF3-BF85-3D27C057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8AF7B-5E83-4663-B1C3-B411EBAC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4B083-143D-4836-9986-94E4A7C4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8A2D6-D9DE-4F02-84B9-4ABE5F8D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8CFDA-2670-4B19-AC48-7829B823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A888-C287-4905-A9F8-8707666D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CD7A2-C4A8-4867-91EA-E3FBE6D1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09BBA-F451-47ED-BAF3-BF8FD7FE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38F75-B194-4D4F-AC28-AB1EDC70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22E6C-7508-4C97-9C8F-0A5C2E82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9D478-D028-4FF1-83F3-669CB6DE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CACC9-C221-44DE-B919-9FD9E0E5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5FE4F-77F7-452D-B25E-02216DD3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44984-B556-465C-9902-A88AEBF8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A7538-EF96-4066-96F1-A4904F82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B4ECC-377D-47D7-A49C-F401BBCC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95CE-AB0A-4C29-9903-6F3C279D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C1AA2-7950-4773-B34E-73553DBA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DD2AC-DA3A-42D8-B986-8258BD58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F3030-C4B7-47E3-9325-00C11C16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0F719-C912-4A7D-B4F2-98D197CE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35754-B059-4359-A8B9-07506D40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C81AB-9781-4249-8173-D5016ECB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6639C-BE09-4286-AA7A-E62C4C03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85C0E-0C52-4EB9-8A19-942D8E27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2CF51-A4F5-473C-B949-092B051F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77AB9-E6F2-4E82-A4E0-307770D3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D336-EBFF-42F0-A612-748CC097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F66DC-6697-444E-B4ED-436B1529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268F8-C301-4CD3-B5B9-1C25633D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37300-CDD0-4612-BE1E-56CAEA39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C2FBB-DE34-4ABF-98FF-D0B36BF3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9678A-7578-481B-8B45-370D114B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DE9248-0B10-4E75-AA42-A8000E05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8BB3A-53CD-4577-A52D-A1170FE8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040AF5-570C-462D-83D8-9BA6BF0E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909FF-B4B6-4F54-85F2-4C49C0D4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64471-2FA1-4894-AD31-FC32725D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2BAD-1DB1-41CB-9739-C12028A7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B9A0F-FDBF-4695-A998-F3033AC0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75CBD-E46A-47BC-BAB6-9BDCC792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759A1-C682-4692-96C0-A0F25D28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36967-300A-44DF-BB0C-44273031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7C807-D257-45F2-A638-1D47F878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DA7D2-9F01-4626-AF7C-F200F74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B05E0-2BF3-4F9D-8FBB-EA6C8201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B971B7-57E1-48D7-8F4C-7C6AE76D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A414A-7D2A-4F91-8047-7D67D22C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9BD7B-BCE2-4DD4-BDDE-D6AFF680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C618-366E-4271-8BA8-63EA5188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35D2A-0346-42A6-A104-8C3A1061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100BC-7A6A-4846-AFC0-0940881F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5EEBC-6DE2-4582-B44A-21270FE8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70534A-0038-4D82-AF91-AABCC477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B440E-9B2F-44A5-8BB1-A6D557F4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2C907-3D11-429E-805E-A163A49D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60DB9-EBB9-45C9-A13F-DF38986E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5182B-8940-4298-8D1A-18F783C3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05143-ACE0-4A71-A4A3-5DDFE9A3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C1AC5-78A0-4093-8F1D-2B2CB531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9AFC-139C-4FCF-B269-CF697197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B67D8E-81F1-4F75-8804-C31F7ABC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38AFC-C36A-4449-AE0F-CB227476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014A46-C0FC-450F-9711-8A8E0F58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13C466-BA33-4AA5-91F3-D69CB848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38D45-93C1-4E1C-B036-69023010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92A8C-B019-4F29-BC70-4BC1E339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C9075-3C79-4422-A01C-B50F91CB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52DADC-3D0B-4168-9F73-C61408DD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D11FB-2004-488E-A917-F8502879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F91F4-70B4-4107-8043-212CAD98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B760-BF33-46F1-BBD3-10D80863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CF28AB-46A7-4BCA-91EF-35D85F61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D28E5-F48C-413A-AC29-41F44197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0A662-1B07-4813-9CC8-E44E5D4A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F333EB-8B32-46BD-B8BA-B4A161D6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3BDBD2-C0A6-488B-98F4-7CCF9ED6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492A28-E793-453D-9666-6177C077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4F76BF-F3F3-4D58-A252-2439F8C0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77B67F-6501-45C9-9BE7-C9C16BDA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69132-91E1-4788-B9B8-090B5975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94A5E6-1262-4705-A6D1-79DF9359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11A-165A-46E2-AC58-A06D1040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C469-0EB4-4FDE-A59E-6C733621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9CF9FF-8225-48D0-A30C-174F96C3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99769E-0B2C-4931-BC77-845F797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BA66B-ADC5-4ED4-B799-5A7D7E07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6ECD9-9414-4DF3-9504-8A6B97CD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E0B48B-2BE1-4C65-B643-1B676036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30F73E-2485-4620-AD98-4EF83770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CAC17-BEAD-45C4-9245-FCE0E56D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91EC66-36E8-4FE1-84BE-F4EAEC6E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F3CE26-5271-44AC-8C86-9E463BB0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84B0B-AF1F-4915-988E-15E8CA21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9272-2AE6-4DA5-B3AE-9817CF6A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28821E-664A-4762-A48D-33351213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D9C7F3-4381-4EAD-BF73-EF86887D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E7E300-01AB-4677-9914-FDD1D019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7EBA3-FAF2-4B30-9097-133DDFCD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25361F-2B5D-4A6D-97B8-E8D732FA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D4BA6-079C-4DC0-ADDB-6FBFBCB8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C03DB6-9E6E-4F31-854B-15633830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0B711-5F6C-4710-B35E-BCB8ED9E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7039E1-EE0E-43BE-834B-A9ADA9F6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21D6D-4347-4299-8554-0526706A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E35B-9763-401B-A5F6-2A73E30B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E34F93-1E52-4D5D-97EE-BA7B1559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4586EF-7AB4-4B24-BF4D-467A4887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A6FBE6-51D1-4306-A892-B4AE5458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769933-AAD3-4DBF-97E4-1C6CFF59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61CF16-620A-443C-9501-5CA946CB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00C4F3-DD1E-495E-BE2D-69CAE1D2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92DFEB-9587-4E29-B77F-9DBF8318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29132-C75E-4C8A-B81A-6242BEDB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3866D3-9191-4097-91A9-58CFF02E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E21278-78F4-45DD-85D6-575147A4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8A64-3962-4DB9-B1E9-F806CB2A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755E6F-6820-4E98-953B-C14CE97B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299E5-7EC0-4270-9ABF-D809A752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BB11DF-04AB-4C71-9ECB-C91AC9F5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3957C9-9775-4059-9355-9962F055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5F01F3-080C-4C7A-BC04-AE924E2C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565E53-6291-4C8C-8B3E-36C4A5CD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1C005C-CED9-4A04-8E6F-47F1845F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069B5-C32B-4FEF-90D7-E6101796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B2E8A7-52C2-4C40-8D3D-C383FB62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8EC50F-5461-4DC6-8558-93DA64F8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CCFE-F17B-494D-BA45-DAE31FA7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6578A8-50FF-4392-ABF1-28472720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4EB3C-BB0B-42BC-A56E-5BD3EB15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117BF0-AEDA-45D4-AA1C-E2F9B241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D0C6BF-4687-4C26-9C07-04684815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210E0F-54AE-486D-8A4E-227D9EB3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644C9-C814-462F-9083-C6D1F3B7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8D74CC-ACEF-4030-ABB3-AF4C5AE5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CD8AEB-1170-4ABE-855E-870BD961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7B5F0E-6CFF-430D-9A7C-5F23EF11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DB3083-35B9-4833-B89A-70873C60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FFA01-50EB-4FBC-9DC9-4ED5653A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6CEC0B-D92A-4B81-8DFC-4069D664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AD3FA3-8CF4-4CBB-9E6F-0AC1D7F4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6C8A0-F112-4CB9-BD19-B51E090D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B6698-E997-4C6D-92B6-A3227A5B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5F32-5595-4290-869F-AA27C50E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6C4C5-3F63-4A71-9F91-A1A40FB4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FBA3F-BDCB-420C-AB68-A927EA4D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53A-FA4C-4478-AFC0-DAEB184E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F12CD-5240-4D3B-AE3B-BBFFCA03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711EA-18F8-48BC-BF17-955D530F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B550-B48B-4AA0-A246-93970834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9122-ECAB-45B3-8917-1169EFDB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B632-1796-4E24-809E-19C4AC52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9D7E-896A-4432-86BB-364ABF5D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DE4A-E0EC-4936-8B82-9797BA27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6FC28-2514-44D4-8DDC-33437D41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F5EFE-8C58-4570-A6D4-1C70FEFC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D0D83-CDAD-41CC-8827-99033609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51E-F41D-4A0D-9B5D-3156D713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F139F-2B1E-4795-88F9-E32EC072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FB07C-82E4-4FC2-B03F-6C72FB3A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169FC-89D3-4BEA-A983-6FD78EB8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92A72-CE89-45BA-ABB1-5F4885D8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84943-0697-4E7C-9A43-87D7547F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B9B90-E8CF-4E1B-83AB-E6D91FE0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EF94C-3406-4D34-A506-9D9BCFF9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90741-D52A-4C80-9402-7DB9C1A5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0A10-0901-42E4-BD39-8FA481A3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911B3-BB89-4BAD-BDBE-E70A71D0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84B-AB0C-43C9-B72F-91EF855C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52CD1-5597-4271-8D6E-EEB623C7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9319C-81A2-469C-A0F7-CD6A1400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A71F-55C9-4144-AE7E-0FD6F8A6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B2C4B-8AA3-42F0-8571-0EAA7C96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FE90F-7E4D-4622-B243-72F68121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F71F5-8636-4508-A0BC-F98EA10C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1DA4B-83BF-40E8-B01F-F47E13E0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E6784-EA7E-41D8-8E64-87C5B59B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80C91-FDA4-4FB1-ACEC-083E103C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7DBF3-CEA4-42A0-899E-E8224C99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B33-6BCB-4DFC-938F-4F815276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462A0-9038-4DC3-B17B-16A53150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71697-33B9-45B8-B1A8-60738C72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BDEC-D088-40DF-9859-EB90CCB7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435A9-EDA2-4BFE-8297-381CBCF3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BC92F-98F4-44B8-943E-6FB497DA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A9B6F-169F-458A-B04C-1BB0980F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2856D-44D8-4D56-8A4A-03915EED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DBA72-128E-470D-91B3-7547CC16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5303E-72B6-4D30-81A8-74E5D9E2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7C13B-B01D-4011-B8EE-C9D5B12C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F26-F633-4B0F-A9D9-E501F9DA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18245-268C-434C-BBDB-EF9B7D0A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9D551-5BF4-44AF-ADB0-9B7F1CBE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43F9A-D6A1-4632-BB3C-EFB5623E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A74A1-9F80-4370-94FB-CE434E41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1DA24-E4F9-41DE-913C-E9D8E2A6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4EEC9-3E45-44EC-8161-8EB60F34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72B48-4BAF-4BB5-9FD5-9F6F8A06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4857A-DE6B-4AF8-80C7-52356EA1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62CFD-E543-4BCE-8C1B-D7D4CF98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2AD13-3F57-47E6-9AAA-306692E8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FCD-68B6-4468-A2BD-113E2070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7595E-7B1D-43C0-B6DB-0CE7A037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E85D5-1B41-4AE6-AE4D-5F04A0E7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970B2-7491-421E-BF1A-DA5332A9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92FF4-81AC-494F-B877-39917237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C028C-4EAC-4127-995F-D01E90C6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C22E3-61E3-41CE-AFB7-B200B2D1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017CB-00EF-47CC-9A8B-159F9D7F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30FA6-7722-44AA-9666-77DD7C49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D7116-DBE8-41B9-89F0-554F0693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708A4-883E-497A-9B9F-377E3007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282-EFD4-48F3-8A93-85A4E825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E0D81-1780-4B2A-83C1-3EF64452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AC6CF-9006-48ED-B09F-9B4DC753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827E8-5074-4836-86E0-2989A683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2B025-6D29-44B7-8B4E-C6AE2258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24645-7196-4368-96C4-AA96BE20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E74E3-A5EA-4B53-9DDA-0D60A672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65581-BE74-4C60-A746-AD7712F5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B4004-3DEE-41E7-99F0-849FCED1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3EF2E-BB64-41CD-B4F6-A08C94AB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EF82F-0050-4FB8-9E6E-00372F29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3D1D-CB8E-4D20-A7FE-F3AEBAEA6B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9F0B-618A-45F5-8AB0-0E6221399A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13F6-1A57-4651-A71F-AA501C6813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1848-13CA-4AB1-BF62-821558A46F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C8A8-61CE-4D8A-A986-4AE0ADBE33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68B7-E1AC-4532-B852-5408A76F1F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EE65-914C-4357-81EF-9FB80952A1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7B1E-E0D5-45A2-A24A-25E63E5051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D750-DBA7-48B8-B09B-F88EB2A4F8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98EF-833E-480A-8010-3CA84760C3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BDD8-AA1E-47F2-B770-67A6CA5400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2C2A-B293-4293-B5D7-C538BCC432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8623-2E48-4379-9484-3D48902DC7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F50D-D85D-4663-8BC0-A62083E722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450A-DFA2-4434-9EFE-8ED2269C1A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B99F-EF4F-4D00-8F3C-82C12E9F2E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885A-BFDF-4CC0-9055-0D3522E126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64A5-FB66-46C6-A8AC-050B436AE3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933E-7A1D-480C-8266-0186FD024A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30BD-1E87-4142-B89C-9CDD4A5321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B95E-1068-4C10-8499-424D3A1F64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A7EA-14CB-459A-BFB1-5E05EB5F3C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81A5-F318-4B9C-8B7A-2E4D478A67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3BF6-1B52-4946-B588-2AC4F28658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CDA0-EEB2-466D-AA1F-7398CF8D00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0C06-8336-484C-ACE6-2B24A16FA4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3663-1AF3-4E83-AEAB-79B20B3532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3AA2-7334-4275-B128-082E338E43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8FC6-EE56-40FE-863D-39A32274AE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04D0-5F39-46F6-872C-E0F32A7842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A1E0-11D0-4B05-A854-E283EF48C2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2812-C63D-463F-A642-C98340436D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B3F0-224B-4359-8706-F9C09C9C24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AA3A-A45A-41BE-9779-72CA6A5A84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DD9C-77D5-40EA-95C6-503E7192AC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EFD9-02D8-42D2-AF6A-BDF94D8644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8528-3591-46E0-A45A-6E08951368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9B48-28F0-4135-9737-CA6C26AB85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55E9-FC05-45F9-9ADF-0F3A9D2484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9253-FC1C-4D1B-89BF-B3580F593D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28920" y="1916280"/>
            <a:ext cx="2486160" cy="7808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41120" y="3479760"/>
            <a:ext cx="896796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47680" y="162000"/>
            <a:ext cx="8648640" cy="6534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8345520" y="378936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8345520" y="530064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7754760" y="3789360"/>
            <a:ext cx="432000" cy="1008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754760" y="5300640"/>
            <a:ext cx="432000" cy="1008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7221600" y="378936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7221600" y="530064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6659640" y="384660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6659640" y="5357880"/>
            <a:ext cx="431640" cy="1008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5219640" y="2421000"/>
            <a:ext cx="432000" cy="10080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6084720" y="3587760"/>
            <a:ext cx="432000" cy="11952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2"/>
          <a:stretch/>
        </p:blipFill>
        <p:spPr>
          <a:xfrm>
            <a:off x="6084720" y="5099040"/>
            <a:ext cx="432000" cy="1195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3"/>
          <a:stretch/>
        </p:blipFill>
        <p:spPr>
          <a:xfrm>
            <a:off x="5522760" y="3587760"/>
            <a:ext cx="432000" cy="11952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4"/>
          <a:stretch/>
        </p:blipFill>
        <p:spPr>
          <a:xfrm>
            <a:off x="5494320" y="509904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5"/>
          <a:stretch/>
        </p:blipFill>
        <p:spPr>
          <a:xfrm>
            <a:off x="4975200" y="3616200"/>
            <a:ext cx="432000" cy="1195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6"/>
          <a:stretch/>
        </p:blipFill>
        <p:spPr>
          <a:xfrm>
            <a:off x="4960800" y="5099040"/>
            <a:ext cx="432000" cy="1195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7"/>
          <a:stretch/>
        </p:blipFill>
        <p:spPr>
          <a:xfrm>
            <a:off x="4398840" y="3645000"/>
            <a:ext cx="432000" cy="11952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8"/>
          <a:stretch/>
        </p:blipFill>
        <p:spPr>
          <a:xfrm>
            <a:off x="4398840" y="5156280"/>
            <a:ext cx="432000" cy="11952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9"/>
          <a:stretch/>
        </p:blipFill>
        <p:spPr>
          <a:xfrm>
            <a:off x="3851280" y="361620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0"/>
          <a:stretch/>
        </p:blipFill>
        <p:spPr>
          <a:xfrm>
            <a:off x="3851280" y="512748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1"/>
          <a:stretch/>
        </p:blipFill>
        <p:spPr>
          <a:xfrm>
            <a:off x="3289320" y="361620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2"/>
          <a:stretch/>
        </p:blipFill>
        <p:spPr>
          <a:xfrm>
            <a:off x="3260880" y="512748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3"/>
          <a:stretch/>
        </p:blipFill>
        <p:spPr>
          <a:xfrm>
            <a:off x="2727360" y="361620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4"/>
          <a:stretch/>
        </p:blipFill>
        <p:spPr>
          <a:xfrm>
            <a:off x="2727360" y="512748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5"/>
          <a:stretch/>
        </p:blipFill>
        <p:spPr>
          <a:xfrm>
            <a:off x="2165400" y="3673440"/>
            <a:ext cx="431640" cy="1195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6"/>
          <a:stretch/>
        </p:blipFill>
        <p:spPr>
          <a:xfrm>
            <a:off x="2165400" y="5184720"/>
            <a:ext cx="43164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9410" descr=""/>
          <p:cNvPicPr/>
          <p:nvPr/>
        </p:nvPicPr>
        <p:blipFill>
          <a:blip r:embed="rId1"/>
          <a:stretch/>
        </p:blipFill>
        <p:spPr>
          <a:xfrm>
            <a:off x="809640" y="2523960"/>
            <a:ext cx="7524720" cy="18100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3492360" y="31417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8373" descr=""/>
          <p:cNvPicPr/>
          <p:nvPr/>
        </p:nvPicPr>
        <p:blipFill>
          <a:blip r:embed="rId1"/>
          <a:stretch/>
        </p:blipFill>
        <p:spPr>
          <a:xfrm>
            <a:off x="324000" y="781200"/>
            <a:ext cx="8496000" cy="52956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2050920" y="2233440"/>
            <a:ext cx="20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205092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5651640" y="42210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6588000" y="48830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2050920" y="5589720"/>
            <a:ext cx="107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7352" descr=""/>
          <p:cNvPicPr/>
          <p:nvPr/>
        </p:nvPicPr>
        <p:blipFill>
          <a:blip r:embed="rId1"/>
          <a:stretch/>
        </p:blipFill>
        <p:spPr>
          <a:xfrm>
            <a:off x="595440" y="1162080"/>
            <a:ext cx="7953120" cy="4533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3924360" y="1182600"/>
            <a:ext cx="143964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6372360" y="11541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5435640" y="184464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4284720" y="314172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1835280" y="378936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5219640" y="378936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1692360" y="446580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9"/>
          <a:stretch/>
        </p:blipFill>
        <p:spPr>
          <a:xfrm>
            <a:off x="5219640" y="445140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0"/>
          <a:stretch/>
        </p:blipFill>
        <p:spPr>
          <a:xfrm>
            <a:off x="2124000" y="5099040"/>
            <a:ext cx="208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56324" descr=""/>
          <p:cNvPicPr/>
          <p:nvPr/>
        </p:nvPicPr>
        <p:blipFill>
          <a:blip r:embed="rId1"/>
          <a:stretch/>
        </p:blipFill>
        <p:spPr>
          <a:xfrm>
            <a:off x="295200" y="752400"/>
            <a:ext cx="8553600" cy="53532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766764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7667640" y="2924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7667640" y="4149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7610400" y="55306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55301" descr=""/>
          <p:cNvPicPr/>
          <p:nvPr/>
        </p:nvPicPr>
        <p:blipFill>
          <a:blip r:embed="rId1"/>
          <a:stretch/>
        </p:blipFill>
        <p:spPr>
          <a:xfrm>
            <a:off x="88920" y="88920"/>
            <a:ext cx="822960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4" name="组合 55303"/>
          <p:cNvGrpSpPr/>
          <p:nvPr/>
        </p:nvGrpSpPr>
        <p:grpSpPr>
          <a:xfrm>
            <a:off x="752400" y="671400"/>
            <a:ext cx="5114880" cy="6048360"/>
            <a:chOff x="752400" y="671400"/>
            <a:chExt cx="5114880" cy="6048360"/>
          </a:xfrm>
        </p:grpSpPr>
        <p:pic>
          <p:nvPicPr>
            <p:cNvPr id="975" name="图片 55300" descr=""/>
            <p:cNvPicPr/>
            <p:nvPr/>
          </p:nvPicPr>
          <p:blipFill>
            <a:blip r:embed="rId2"/>
            <a:stretch/>
          </p:blipFill>
          <p:spPr>
            <a:xfrm>
              <a:off x="752400" y="671400"/>
              <a:ext cx="5114880" cy="60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图片 55302" descr=""/>
            <p:cNvPicPr/>
            <p:nvPr/>
          </p:nvPicPr>
          <p:blipFill>
            <a:blip r:embed="rId3"/>
            <a:stretch/>
          </p:blipFill>
          <p:spPr>
            <a:xfrm>
              <a:off x="2975040" y="1197000"/>
              <a:ext cx="1152360" cy="525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7" name="直接连接符 55304"/>
          <p:cNvSpPr/>
          <p:nvPr/>
        </p:nvSpPr>
        <p:spPr>
          <a:xfrm>
            <a:off x="2987640" y="1484280"/>
            <a:ext cx="1224000" cy="2305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直接连接符 55305"/>
          <p:cNvSpPr/>
          <p:nvPr/>
        </p:nvSpPr>
        <p:spPr>
          <a:xfrm flipV="1">
            <a:off x="2987640" y="1341000"/>
            <a:ext cx="1224000" cy="1366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直接连接符 55306"/>
          <p:cNvSpPr/>
          <p:nvPr/>
        </p:nvSpPr>
        <p:spPr>
          <a:xfrm>
            <a:off x="2987640" y="4005360"/>
            <a:ext cx="1224000" cy="2305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直接连接符 55307"/>
          <p:cNvSpPr/>
          <p:nvPr/>
        </p:nvSpPr>
        <p:spPr>
          <a:xfrm flipV="1">
            <a:off x="2987640" y="2491920"/>
            <a:ext cx="1224000" cy="2590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55308"/>
          <p:cNvSpPr/>
          <p:nvPr/>
        </p:nvSpPr>
        <p:spPr>
          <a:xfrm flipV="1">
            <a:off x="2959200" y="5013000"/>
            <a:ext cx="1224000" cy="1366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组合 54278"/>
          <p:cNvGrpSpPr/>
          <p:nvPr/>
        </p:nvGrpSpPr>
        <p:grpSpPr>
          <a:xfrm>
            <a:off x="262080" y="828720"/>
            <a:ext cx="8619840" cy="5553000"/>
            <a:chOff x="262080" y="828720"/>
            <a:chExt cx="8619840" cy="5553000"/>
          </a:xfrm>
        </p:grpSpPr>
        <p:pic>
          <p:nvPicPr>
            <p:cNvPr id="983" name="图片 54276" descr=""/>
            <p:cNvPicPr/>
            <p:nvPr/>
          </p:nvPicPr>
          <p:blipFill>
            <a:blip r:embed="rId1"/>
            <a:stretch/>
          </p:blipFill>
          <p:spPr>
            <a:xfrm>
              <a:off x="262080" y="828720"/>
              <a:ext cx="8619840" cy="555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图片 54277" descr=""/>
            <p:cNvPicPr/>
            <p:nvPr/>
          </p:nvPicPr>
          <p:blipFill>
            <a:blip r:embed="rId2"/>
            <a:stretch/>
          </p:blipFill>
          <p:spPr>
            <a:xfrm>
              <a:off x="2050920" y="3716280"/>
              <a:ext cx="6337440" cy="160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5" name="直接连接符 54279"/>
          <p:cNvSpPr/>
          <p:nvPr/>
        </p:nvSpPr>
        <p:spPr>
          <a:xfrm>
            <a:off x="2124000" y="3573360"/>
            <a:ext cx="2952720" cy="1727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54280"/>
          <p:cNvSpPr/>
          <p:nvPr/>
        </p:nvSpPr>
        <p:spPr>
          <a:xfrm>
            <a:off x="4932360" y="3573360"/>
            <a:ext cx="2952720" cy="1727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54281"/>
          <p:cNvSpPr/>
          <p:nvPr/>
        </p:nvSpPr>
        <p:spPr>
          <a:xfrm flipH="1">
            <a:off x="2050920" y="3573360"/>
            <a:ext cx="5400720" cy="1800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图片 52231" descr=""/>
          <p:cNvPicPr/>
          <p:nvPr/>
        </p:nvPicPr>
        <p:blipFill>
          <a:blip r:embed="rId1"/>
          <a:stretch/>
        </p:blipFill>
        <p:spPr>
          <a:xfrm>
            <a:off x="318960" y="200160"/>
            <a:ext cx="8506080" cy="64576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2"/>
          <a:stretch/>
        </p:blipFill>
        <p:spPr>
          <a:xfrm>
            <a:off x="2627280" y="542916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3"/>
          <a:stretch/>
        </p:blipFill>
        <p:spPr>
          <a:xfrm>
            <a:off x="2268360" y="6093000"/>
            <a:ext cx="5543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16:3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