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489-BE07-4CE0-B62F-21736369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36B-4DEC-406C-BA9B-47EC18C9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B7EA3-11DB-486D-BC1C-36D03A56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3BE40-CFEA-408A-860B-0DFDAB90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5F3BE-27A8-4BAA-A6C2-3596A24D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C05F5-B9C6-4CB1-8B44-AA02C7B9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E4CB3-9896-45A6-BD25-2ECC6C7B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47F7C-27CB-431A-9BAF-073FAD5E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7CDAA-9F37-48F1-A320-04AD5CFF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49645-84CD-4768-9528-45FCC0A4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34CFF-C525-4E22-9FB5-236B2DA5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CBD0C-DDBF-4EDE-B992-5400C444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656-2000-41A9-967F-2EECA9F4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AF181-7D95-4774-977F-D3D6AE1A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0F83A-3C7B-4BAE-9E5F-3C6E8EED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AE010-AB93-43EC-BF2A-87531E93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C4EB4-94D4-4B68-9400-D203A8CC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CA71B-F02E-446D-861C-8EC341F3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45B08-1F79-4605-AA9C-CDDF7BC5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98FF7-C969-407A-9EBD-4B2589FC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5554B-A8D4-4D82-A2B3-3E71D73F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2FA2E-2F55-43A8-9CA1-7399A5F8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44829-9F57-4688-9FC7-65FE78F1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227-AB39-4660-B706-338298B1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90B51-C6D8-4AA3-A71B-BEB742AB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EA7E7-C5A0-41F2-9D24-5F71E8FB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96827-3B38-4204-B22D-795A62DB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2E6D1-48E2-4D42-BD83-4C961970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05111-33BC-4D89-BC7D-88009E42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7637A-F5C2-4A2C-B343-BB0FC3EC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AC5EF-1F45-4F98-911C-FE8A7216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AB6C3-A335-4F1E-949F-FB1E712A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567B4-C7DD-4F57-A2E2-C7088B9A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FFA69-A3DF-4670-8704-803E300A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A684-A579-4393-9E43-6A9AFAA3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BB6F5-7A26-46C3-9AE4-F48A1C76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D6E2A-6D7B-4CB7-92C2-730DE27A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C1CFD-630E-46BA-819E-4E907F5B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A65AE-BCDB-4552-9CF7-AA7C1E55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ED7C9-F42D-47CA-A623-F2289585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DEF08-2EB5-4B23-93CC-5018D8F4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77467-E892-4C87-AAD4-54360998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5819D-84B0-4A75-B97C-FD52FA4A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6010E-A16C-46E6-B7F5-77E152A6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9E453-89C7-4D92-97A1-A2A553EF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9866-A5CF-4437-8F33-384CABFB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1B930-0585-4CC8-A4E9-C7DC65E7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BB65F-1288-47AF-B2DC-2D8D01E1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4EF6C-FB8F-4460-BD93-9B244441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2B0FF-E52C-4694-A850-0354AA30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E5B60-998E-4A96-8D11-A61D163A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ABE7A-7796-436E-B7C7-70B781E2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A998B-D0E7-464A-A5AC-1C94AE38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03725-B617-48DD-9F07-E89531D4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4E72D-17C8-4772-8092-C875A704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2B88F-4749-4CDB-8BF8-DEA64191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E170-92C0-45AA-8C28-3E88130F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F891F-BEEB-4FB9-AF0C-F8993B9D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8BDBB-7CB7-407E-B4DA-AC9F31D1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B9FB9-38A0-4E40-836B-BD641338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20CA1-2855-49A2-B3C8-7988E570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10FF8-F3AB-4721-B97E-D218AEBA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ADF05-E79C-4749-BC43-EBC7A23F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42397-46F8-4A72-8C3B-9B7281C4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DDFEF-07B1-4476-A591-F25E40C5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718B4-2264-4778-BDA2-790E0F29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CF1A7D-AC20-473F-B906-97BFC353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3E40-FACF-4115-8F4C-A8E9FF11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B15C7-EB4D-4B56-B4E2-E5B5BE25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20433-4F77-4759-A464-7C21BC00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6AF578-72CD-4434-9A89-7C31664F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0B3B4-D26B-47BC-A8B5-C2E3A081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EA06F7-902A-4140-80BA-2129DA91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A1658-5ECA-4141-8EAC-FD28CDDB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8F7528-1F64-44EE-B464-0B3CE15F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1469F-00E7-4737-A1CC-5BC9CA80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38872-46DA-4366-97D8-480A783B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66B2E-F6C2-47E4-B62B-4A219718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B403-65EF-4446-BE8F-7B6E502A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8339C-75A9-48EC-86C0-35CC8D8B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679A45-C39E-489A-9244-2D0FE846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E6A5F7-F4B6-4390-A861-7E9E75B3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702607-70D3-4956-91A2-B4297C62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CA2F0F-7F39-4023-A902-F3F0CD8F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F9D599-F410-4368-B695-0F33E54E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FDBFE6-35F7-485F-A6DF-0EC72AD0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45623-B6DD-40E9-91F7-C7C43DE7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557D89-5E38-4AB5-B9F1-0E470BAC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B023D-A312-40EC-95F9-1D5A8564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5FB9-6980-48CE-8079-0907FD96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26BED6-1D82-44F1-9C5D-473BC000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9C3654-F243-43CD-B4FC-7D25B6E8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F6C1A-6C5E-4A54-9E22-5CF5E26F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AB0DED-E36E-457C-A873-1488C809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08B5B-1688-436A-850E-760141F1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EA495A-BA61-458C-97D3-1E93ED56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DCD82-8D20-4543-8E92-E808418E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3F17A2-3538-4531-9284-F6FB2741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6605EA-2C9A-4BE6-8E68-A3725FF8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2EC81-6615-4AF3-A2E0-A83CCC89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9AAD-6F28-4F93-A28B-34A6EDED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853CE5-0CE6-4F6D-AE61-1EF0E91C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9FCF3-7B3A-4CEE-A86F-2A523E3D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62F314-9EF0-42E5-A3D2-0C4EA8B2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205D49-34F1-4D8F-9C3C-A638BFD6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C4F9F-F045-4C15-B585-D26852E6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CBF14B-8D21-479C-9F24-765DF399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B29136-9369-461B-87AC-E7B6E0A9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7276D-A748-4AF5-9559-308A91DB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4C9FAE-BB94-4C0A-B84E-04E7072A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A463E5-734D-41B9-AD9B-F8FE77B0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428-75A5-489D-A176-90C79EE6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F10B-E97C-4C7D-9631-BBEAED48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55DDA-218E-46EB-AE99-C75C2907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20D784-6412-412E-9BC0-DF62E9B3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AAB25-F862-4614-90CA-B7E57FFF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BE060-24AE-4EF1-B390-39D6031C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F2E456-A90F-452F-87B1-4E950DC5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E3B05D-F30A-4A4A-8C06-4DD59B70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E2CBB-2BF8-4C68-85F5-6F07AF08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4C34EA-E78E-4157-B817-C1EB8108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9E5D1B-F95B-4624-9928-2ECAB514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FE7FB8-5FBF-41E8-86A3-224EF501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30D2-047C-4842-849F-CC8947D6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E50C12-FCCE-4356-B9AE-0C179797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F2D8D2-F128-4A39-9698-A2BF0118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361C8-9B8A-4C07-A77C-D497235E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5E6956-0972-4035-BAD8-562C90E6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F3931C-AA3F-42CC-8BA2-5593B1B0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189461-B9D3-4EF8-8788-F0465B39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5B2A62-556C-4F87-B837-2A1FDF04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4A53BD-96E1-4FBF-BD91-4C0630F6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BF1942-CDF6-48BC-BD0B-A13EC9F1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2F54F8-918E-466E-91C7-0150A4D1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E8A1-A61C-43E4-BE79-8417C69B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155985-4CE0-488E-9FA0-A8AD40E0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FB5335-56F6-464C-B898-03BD5E68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CA7BA6-5594-4D9A-884A-83C5144C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AB3AB4-E127-4A1D-B70D-D2070477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F11F68-5AF3-4FD5-AB03-BD2D8CD5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22016-ABA6-41BF-969C-371FC9BA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C03D2B-7391-47CB-85F0-BC6BD839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795FD5-2025-4521-87AB-FCC177E8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D0B889-6C1C-4E2C-8E27-51092A45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D7E6D-8247-4460-AAB0-361D88CC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A597-8482-4212-B1DC-F5784E6F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DAC411-052B-40E0-A5EC-A4D7F001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6CC432-559D-4E09-B41E-40F97C6D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B46367-00AA-4775-9DD0-D4D9F544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FC5FED-B78F-4452-A48B-03D01E43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5A38E3-EC82-4EA0-855B-2E2E1A45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192694-90CD-4BF2-8FEC-DBD478A1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083F13-6C59-41E7-8416-A6D3F564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9B0869-D27C-427E-89BD-F82FA5C7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061615-7EC2-4623-8CEA-6CC18FA7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12A024-2796-47CC-A052-40512763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069B-609E-4942-8631-02ACD646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C4C115-A118-4705-B2E1-5E8A44EC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9670D1-488D-4727-AA52-A8D39ECE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CFDD1D-F4AC-4D6C-AE24-4CD03335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3F93A4-0A0D-4BF4-91A1-169F1BF9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E1195A-A0D4-482F-8FDD-308CC5D6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979CCF-B98A-45D3-AC02-A12E876F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4A0E46-B3C1-413E-BA53-5A61211C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7BE753-DE89-4265-88B1-A2B1C865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98AC34-2C7D-41D0-9F3E-7D0294D7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361520-D406-4362-BCE5-FAD0115F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D1D3-700A-490A-9318-3EF3C4C5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485492-77C6-4730-B6A0-CC8DD367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A62D1F-23F6-4926-A582-BE3867CB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8BE756-7B67-4BBF-9A04-208FEFC7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03DB51-F1B8-42C6-853F-B476F0F7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93DA26-C07D-4561-B43E-2E9F0B9A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09C413-430F-4DDA-9304-152EF2C0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C02039-9524-452D-870D-0B8DFB2E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E8D9CD-0270-4B9B-A390-1AAD5935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D6B982-4A3E-4DD8-8DCC-224277F6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778F07-D901-418E-9578-34666EEE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5A455-FC14-414A-9CEB-19CC661D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362D73-0935-4F1D-BD35-FB62B7B8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7F3A52-EA70-4F91-99CD-106AD775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4ECF50-DC2D-4B7D-8990-2EE68457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793321-83F6-4F7E-B2C2-4689DEAF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A0CFC7-B422-40D6-9810-CD52DD5B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2C120A-92FC-4727-8E2F-D297652E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2A7504-EF5A-4439-8E48-012B1ABC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2492DA-8864-4BB7-97E5-907D0F1F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C783FE-B83B-4303-BFCD-617FB6AE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FB1813-FDF2-44F6-BCA3-F0433C43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3C7A6-1185-40F6-B299-1C01FB95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9DEAD3-15B7-493B-8CC8-7422BA22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A5B15C-885D-434B-A228-AF6B0E0F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302969-5361-47B5-983F-FD31357F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AE0DE4-FCE3-40A5-AD39-62C39402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CD2140-487E-4C11-A7C3-CD535B21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B3D7BA-205F-4BA2-B78A-23A1D97D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ED4D59-EA41-40BE-87A0-01550E8C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23EC1-55D1-4149-A71E-F1555EA6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19612-04EE-4D0F-A6E1-8D81CEC6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DE4-7C02-49D7-82B1-B27DF7A2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B7241-C4B6-460B-B865-8EB2E603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1EA1-F24B-4D18-9135-DD4E1783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2EBC-DE8D-4A07-9DF7-0E52798B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01CC-89EB-46B5-B8CD-4A36D4F7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BCD99-77AE-4BDC-A522-FAF242C0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E7514-E731-4FBC-82F8-4565A0BF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4ED98-E746-4C4F-9106-6F11DC87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0D473-9622-4FD5-9A8A-1806BB8C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25E5D-EB74-4E37-AB38-DD95F098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F2087-9D14-4DD3-9C57-31709531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A07-74DD-4F00-984B-40AC00DE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7E686-56F8-4894-88BE-D34726EC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85501-E88A-4F36-B387-789E771A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EF74C-8953-46B0-8940-55B6954B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0D006-2F44-4F17-9C23-210C6E2B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3961-9311-481E-BC4C-2A4A2334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11BA9-C79E-4DC2-AB96-1B91265F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E5FE8-01B9-40EF-9EA4-0E20B8BE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EF907-31E5-4A48-A20E-DFF286C1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758DD-EF36-4D5F-9134-B7F179DF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4A38B-4C59-48FA-A537-95FBD45A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8E2-C507-4242-9B5E-B25ECD29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37446-75AC-49CA-831F-227538CE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55190-F3D5-4416-BA91-6277D357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19502-E525-4700-9E42-993ED272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EB37D-A8EE-4662-BC52-E798C59C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F4E93-6124-426C-A433-8E176639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095A5-4DC1-4E32-9C1D-59B286A8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8FBDB-AB6F-4371-9871-2DF9FF51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D5A0A-4D17-428D-B01E-10F09EA2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F2FE0-284A-41AA-A497-3C96375B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FFA41-0AEE-4E7A-91F6-1FE952D4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8B5-79B9-4814-B99A-ED637A4A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5BF57-4CA6-4190-A9F7-CE4A4039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9FB04-4F44-4404-9E90-8353906B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ECCEB-06D1-4B0A-90A4-72330394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35341-3CAB-41F3-AB63-C68310E1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464DF-1200-4763-8EB6-77C829FF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E950B-8BBD-4F2E-8451-C752290D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F91FA-2D91-450A-BE9A-FB085360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5BCF1-5FD4-4FAE-9A83-980BB099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8E261-F8E5-48C9-AD18-116A7445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20341-224D-4F9F-AD43-CF4FCB4B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6E3-6C41-40C8-8E30-698401C8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89C95-7077-4230-A0FC-9467272F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A8B41-1D12-4664-B3DD-2A568B27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B73D0-9C5C-4350-8A71-10A5D902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E6154-7F2E-48D9-81E5-2DC405E2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B23BD-9DFC-4FDB-907A-A7C21E4C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1AA7A-F41D-4D91-B07D-8D17D4BF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43BF5-CB87-43EF-BB8C-E5477C4C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BD93F-33AB-4E87-AC42-5CB3A5B1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7918E-8EBF-44BD-B2D6-8935D3BB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F19E0-036E-43D3-8229-F5D7325B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21E-3C94-4EBF-B38E-D2AB1DEE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BC953-6182-4A85-8C6C-262B3FB4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411CB-0A4D-4E07-874C-83CEC61A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136B0-A80E-480E-AA7D-FAE0DC79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6C4E4-5F8F-4206-934F-3D53E657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C4997-9B07-4A03-9986-E45105D5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03CD5-18A3-4D44-B780-AED9E573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4E11D-80B8-4C57-8522-83E630CC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CB6E7-9193-4767-9409-FE87497D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F8379-E96F-4F85-A2BB-3093AF1C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CF359-D0FC-493D-8B00-3208E118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A65-9645-427B-A863-38E602A7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27D72-9376-4566-BDA6-07256E59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32B25-5136-4139-AA0D-171E32DF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8BF4A-86B2-498D-9595-6459315F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AEA8A-46F0-403A-956D-E9D14CDD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C5DF9-0FAC-480A-AE38-B3C5250D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B8C91-AA6D-4028-97F6-9722D973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CB633-005D-4A02-A2EB-02B55C13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92754-CFCB-4E30-A80B-B6499A91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90F8E-56A8-4110-9125-11B3DC2F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DC57E-EA60-473C-A1BB-EA4D066D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8397-B9DC-4A5C-9A74-CBD2D5DF7D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9999-3D5B-487F-BB84-E2E9D57810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F5E6-3F5B-4D4C-AF4F-FC6D4C6F55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3A92-6652-495B-8B72-724911B8F7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9794-63C4-486B-81EF-194A6D8DF7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6B54-D608-4BE8-A46E-2E512FD620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1921-F6AE-4B01-BFEE-D37C83B535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76F9-8948-49AA-98E3-75C6458AA5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89EE-8A2B-4F85-B68A-BCE0B19090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AAF8-4799-48AE-9FF9-39DF298EF3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2CB0-55A9-46A7-97F5-729CA34759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CC90-0BFF-4FF7-803E-CFD4247506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ED82-ED5C-4CD4-A84C-B746DF3C3E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289A-E1DE-4363-A8A8-8DCED2FA04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E1F3-D901-4084-BC01-BF4AA36DAC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EDCA-B012-4342-A001-5460E017D5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4851-DB06-4D0B-A784-E2DE9F10CA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F0FC-7926-4DA2-9A27-FC2723044D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1E9C-195D-41A0-8971-0042A4EF0F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D8E0-3D19-4787-8811-6FD7429DC0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D5ED-6E47-497F-92EA-33DDBE433C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D6F7-F502-4F6E-AD4D-ACABB8C2B5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56DB-5940-4D94-A79D-79DDE50FDF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F12F-2BEE-4A18-9AF2-2642A9EDF4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7B69-2809-48B1-8E3D-D686116F37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2399-E412-4A87-80F1-EDC5A087E7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4F81-4C3E-4A11-B7B0-FDBB4B599B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B0D2-C66C-4B97-9AB1-00FFF820E7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0AEF-4262-4615-A900-48E6CEEB6F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7269-4115-4D34-B979-0054081512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CE2C-A320-46CA-8145-36EF99F49B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5869-BCC4-4BA5-BC8D-10DB5E2EED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E53C-77EE-4BD9-A4E5-274EA0B29F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2FDA-6700-4D1D-B7D3-C08C3843BF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37B3-C834-4F1C-931F-F531E57E02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4E93-30C3-47C6-AE7B-A9CC148385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6D89-DC16-4F79-A803-A2A597BF60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D657-D9E6-4C50-BEEF-8C3B659386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460D-59EF-4DED-9356-D372A78409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3852-C31A-46F2-BCAD-C14C299DF1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73FD-1DF1-451B-9A83-4004CDE824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B849-5997-4B03-A5C7-F7E10E43E8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3360" y="3054240"/>
            <a:ext cx="87696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66840" y="961920"/>
            <a:ext cx="8410320" cy="49341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476360" y="2997360"/>
            <a:ext cx="2951280" cy="31683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3492360" y="242100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292720" y="3025800"/>
            <a:ext cx="3195720" cy="31687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553160" y="2449440"/>
            <a:ext cx="1151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09480" y="223920"/>
            <a:ext cx="7925040" cy="64101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3384720" cy="45370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3044880" y="879480"/>
            <a:ext cx="138276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4500720" y="1370160"/>
            <a:ext cx="4174920" cy="52275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6861240" y="836640"/>
            <a:ext cx="13827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500040" y="33480"/>
            <a:ext cx="8143920" cy="67910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4105080" cy="55450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3419640" y="71280"/>
            <a:ext cx="122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4140360" y="663480"/>
            <a:ext cx="4535280" cy="61660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5"/>
          <a:stretch/>
        </p:blipFill>
        <p:spPr>
          <a:xfrm>
            <a:off x="6948360" y="101520"/>
            <a:ext cx="13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43000" y="971640"/>
            <a:ext cx="8658000" cy="49147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3851280" y="326880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5508720" y="328464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7236000" y="328464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3924360" y="410544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6"/>
          <a:stretch/>
        </p:blipFill>
        <p:spPr>
          <a:xfrm>
            <a:off x="5508720" y="4149720"/>
            <a:ext cx="122544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7"/>
          <a:stretch/>
        </p:blipFill>
        <p:spPr>
          <a:xfrm>
            <a:off x="7236000" y="414972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8"/>
          <a:stretch/>
        </p:blipFill>
        <p:spPr>
          <a:xfrm>
            <a:off x="3851280" y="4941720"/>
            <a:ext cx="122544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9"/>
          <a:stretch/>
        </p:blipFill>
        <p:spPr>
          <a:xfrm>
            <a:off x="5435640" y="498636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10"/>
          <a:stretch/>
        </p:blipFill>
        <p:spPr>
          <a:xfrm>
            <a:off x="7162920" y="4986360"/>
            <a:ext cx="136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190440" y="565200"/>
            <a:ext cx="8763120" cy="62197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1403280" y="5013360"/>
            <a:ext cx="432108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332000" y="5691240"/>
            <a:ext cx="74880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428760" y="1504800"/>
            <a:ext cx="8286480" cy="3848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1116000" y="321300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71640" y="3817800"/>
            <a:ext cx="763272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485640" y="981000"/>
            <a:ext cx="8172720" cy="48960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042920" y="1787400"/>
            <a:ext cx="748980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900000" y="2492280"/>
            <a:ext cx="748980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971640" y="3141720"/>
            <a:ext cx="748980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1116000" y="3860640"/>
            <a:ext cx="7489800" cy="11527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755640" y="5172120"/>
            <a:ext cx="7489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209520" y="1243080"/>
            <a:ext cx="8724960" cy="4371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590400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900000" y="4854600"/>
            <a:ext cx="5904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0:3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