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23E-748E-4C62-A848-BB874A2B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AC5-A3ED-4F13-9637-E02A6D8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E4753-3980-46ED-A107-4C8603F9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9B083-F16B-4636-8E39-9F884E4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320A-38DA-4AA7-9562-FC42099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B880D-8D18-4B41-8743-6CE6115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60240-D487-4949-B384-20E9799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D645-B6E5-4241-A513-80649016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9F98D-D2CB-4B81-A925-407C7A2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EFA1A-6A18-46EE-8158-F59561A7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85BA-A035-4296-B642-631911F5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2AD89-209D-40C2-8B3F-81E32233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906-BC65-4D23-A80E-B10E09D8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08240-2BD8-4589-9B06-DA1589F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36C0F-3B79-4A78-8705-BA79861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53CAB-6188-4264-BDCC-19DC6D67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C210A-73F7-4E0A-87D7-E313FF30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FF65A-1EE0-4202-B055-E97C280D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B24E6-B831-4516-8FF1-2617CF1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7CABD-2D4A-43BA-80D0-144E5BF4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149C-3E12-45F6-8512-D0B5A77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00E3-B141-4AE1-98B8-0276D91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79A0E-5579-4B11-8396-52FA022A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BE1-865E-433B-840C-E0E74906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DCAC5-8A2A-42AF-9060-94897101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2EC4-9BED-4B72-9A2D-BDA06E4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91675-145F-4C45-B186-28E5ABB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736C-2C51-4087-B6C6-B44D3E1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E2A9D-6662-48C2-B3CD-D2CF756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DB4F-EDA7-4FE8-B59A-0458DF0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28717-3408-4506-8560-8245B408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D3EB4-C204-4A39-8FCA-16BE8D8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88A3C-E8BD-4BC6-AFF9-ED56FA6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3C641-E244-4B0D-8E06-F2F1CEF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CF18-CE3B-4E21-AE66-FB06DB3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352FD-608D-4465-A83B-96C677B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D0769-22B6-48BD-9CA1-9079D9BF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747B-5462-42EB-A640-7611E461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2C735-7313-4A63-8CC4-67B40EE1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8304D-F6A1-47D1-8804-E7D0C73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69488-A3AD-4D1F-8C07-B61FC893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FAB16-872D-44E9-8D12-EFABADE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1B777-E84E-4469-9E9E-63E42F56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40BC0-C10F-40BB-8357-B7803CA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B064B-E521-41E8-94A4-E78228B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3C85-737C-43F4-A19D-C42318E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8C04B-CCCF-4AFC-981B-B6AD727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30E41-D53B-4DA9-9CD7-934695F3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C843D-C86D-482F-BA22-F9DCCB96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CC9B4-9C59-4FA3-AA0B-94FDFE51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14AC-E921-49F5-B3E6-FF7602DA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10F50-0270-4364-8D72-F4D58B6A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7B5FB-F846-4F55-8A17-EA759311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88931-D363-4040-9237-9B295458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9756E-0BF6-4373-B23C-E27D282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6834A-621E-4F4A-AD9A-BB68A9D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443-17D1-4181-8575-ECE9AF2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65938-CEB7-410A-95AD-9FDD00F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B87E2-9DD4-4A28-87CD-B8B25B9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8C37E-3366-461D-9961-6D32B7A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F8FDE-224F-437C-B746-F8D30BE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AD0A5-BB31-4100-83CC-E9034AA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CCC9B-F72B-422F-B139-A8D3CAB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A7C68-DECC-4F3D-8883-E8739545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1F1A5-60EF-4F9B-9FD8-4D898B3F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0074D-5270-4B65-8D51-4DE12BC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B4B22-64E3-4EE1-B894-436836F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541-7125-4374-A9DB-5BE9885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B3070-9996-43CD-9025-31B1649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094FE-4254-4979-825A-8E2BBEEF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75DCA-A0DE-4101-A77E-D2F128C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94148-35C7-4098-970D-2172E62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E436B-AB45-4C43-99DC-037CF205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A740B-6700-402A-BD70-0BA13C9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6BE69-8973-403F-B133-4D167D7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5290D-E1BA-4B96-9333-1F4F5CB9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5216B-A88A-46F9-BB65-E52788F6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F26B2-2117-4426-8ECB-F978FFF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2D1-C289-4801-919D-FB3C2B6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0867D-4257-4E2C-BBFB-663FDB35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5D893-910C-46D8-8C9D-2351FFE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9AA87-5B06-42E8-B429-7E13FE6F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F0201-E89C-40E4-B634-7DE40CA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321B5-89E9-408C-A498-5800405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EA1A8-850D-4050-9BDE-F59706D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2B413-DA29-4B93-8D30-4F027C7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6BC80-480A-4DED-B281-08118ED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08777-71B8-427E-AA72-1AE33A7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50168-4CBC-42C0-BE4B-48A38D0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4FA-33B9-4C68-B4D1-69984D6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1E9AC-1FFB-4A0A-889A-18EB9A4C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CDEFD-3021-4128-A291-DADA0290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4F5F3-257A-4EBE-8272-11758A2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D93C7-F4E2-4E22-B44A-B452C68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95A48-1E58-4362-AD4E-292BB53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3425E-BB2F-453E-B889-159D9DCE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5D10C-C66A-4A84-A895-7CF3FCFE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F74C3-51C2-4D14-AEAB-815BCC9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33BF5-8B48-4041-8206-22738BA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52996-0A5E-48F1-840D-7ECBA9F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A21-AA1D-4CDC-895E-38DAEE0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B49AD-4CD2-4ED3-A9F9-4988EC1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282FF-D90E-455D-95E1-3A1394D3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90DBC-5FD9-4942-9ED4-804F7B5C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5C0FD-D451-460D-9103-76BA050E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8344F-0875-4CFE-A4F5-5F4F6F4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C46EC-8684-4008-9A3A-E837B89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20B1E-2C36-431D-BCE7-C6131E6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21B96-BDCB-4A66-ABBA-0E8D13B4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A4E18-A3B1-4057-BA8E-AB4F526E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ED0B0-545D-4B57-AA2F-3DE77FE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440-11C5-4F05-BAE6-CC8B294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CE8-8D22-429F-82F6-19F15B3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D03DF-CB64-4617-865A-1B935E5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3C2B4-7428-45E0-BF24-E9CD5F2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0706E-DFD0-456A-AB0F-082A7E7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41C7F-CED1-461E-80FA-281F83F6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38E91-591D-4AAA-BDE1-03FF0CBF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DBD3E-6C8B-4FB7-A6DD-0E0301CA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12FFF-BF77-4DDE-B186-75C79AA7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CADCB-2392-4B75-994E-5CDA26B2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FC98C-3E96-454E-A94E-2355CDD5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43788-F9C2-4513-A414-EB7EAD3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B73-B039-449C-A9F0-C1F5406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3077D-4C8A-4A5A-AAC5-4A472DD0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47821-4C41-4A0C-AEC3-9ABD178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AC431-09DC-41D8-97ED-05651F8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711B4-201F-4A44-892C-6DFC5EE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0FE3C-0FC5-4E50-AF8F-A3D71A3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DFC8A-3B5A-4584-AE02-37745D5B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4F10B-B7DB-4353-86B0-CEEF778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DF975-C76A-4A28-8D08-6B509359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19D8D-E159-4F30-9588-D8881CBD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BDA71-6B8D-49F0-AFC5-C67B2D0C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793-7443-4625-AC99-E3AB4B4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FB3A0-6783-41A5-9F0F-B8E06A5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78483-38B1-40F7-AE23-B2A47CE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8938D-EB94-4AA2-8FE9-14D616C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DF54F-3535-40A9-A069-375A48B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A8227-D888-4D91-A394-EA1DD3F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19DF3-20C0-4842-8887-BDF42B3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6343C-A301-4575-BC76-8D86144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14C00-3D4C-4E7B-905F-D3373840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BC18E-BD94-4037-A2B7-AD255891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F4F12-027C-4046-88CE-1D35497F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D743-20BF-47B9-BB4A-F4F0F3FE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0E708-A36C-493F-BE90-DEB067DF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4F9E4-8175-457A-9103-CBD428D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C5047-34F8-4E06-9F4F-83C0491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D9490-85D8-4B5D-B712-C9008E7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150C4-E258-4FE2-92C8-92A85841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41BE6-AB0B-4735-8DBB-0E62A84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2671C-8CC3-4EA9-8294-02B6E65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84E89-189A-49AD-9C48-6EA64C3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7386F-7E62-4987-9919-BF4CD5DA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B82E9-5BC2-47D2-A99C-3A82826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09CD-F770-41B6-85CB-8D11EF05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C0217-B12B-4CF4-B7B6-4CA4D6F2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2020E-492C-4193-A550-9AC39279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83277-A655-47B9-9F5E-B93949C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8E37B-8D92-4FE3-82FE-69D19DEB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BAA9E-DC0F-41A9-87B0-D066B809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CBBDC-6163-4538-A7F3-4DCCFEF5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2097C-654D-4093-A43B-52907534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4A0AF-B508-4B07-B8FF-45EFAFD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EA8D4-B170-48F1-A598-6D2913D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AF738-1D5F-4079-A978-A8DD5BF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D87A-9589-4F51-A8B7-52145C9D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75B8F-89CA-4E02-9446-3440CA38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E216E-871F-4E8A-91E3-851AC22E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580AE-648A-42B9-BDE7-DE63277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6A7D-8F32-4DAC-870D-71566E8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FEA4-DAF2-4BA7-BCD4-D87A693F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5214-5198-4FBB-8A0B-C340920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DF98-725F-4B0D-BCD5-F80CCBBB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ED4-B713-4294-B6E4-CD13E3B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E13A-00D5-473B-A010-BE760C2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60F5-BD16-47A0-BE30-55B5D9A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237F-0C9F-4455-ADF9-3948C2B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CCDF-FCC7-4946-BF76-A174855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FB5A-5997-4101-A1F9-ED960F8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43C4-70A4-44A3-AB2F-22BB11BF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3032-1DC2-467A-B6A8-09315C5F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3504-ADC8-40AF-9E36-254F1ECD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53AB-3986-4127-BC95-C1AA54C5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AB0C-3EDD-4796-9D4D-21A0A65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EFB-16AC-4C3B-A241-DC23F39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67B0-8AE2-4807-88C5-5CC7BAA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88A0-9C37-48B6-9E8E-EBAD21B3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CEA3-9C90-4401-B5B0-B5D873D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F699-3E98-46A2-82D4-8E7062DA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AAF2-5A1A-4DE7-8E98-3BCBD21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F33E-0AEF-4202-BB42-109D3D9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ADB9-3D8D-4DFF-9A55-B4C28D9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D8EF-AFEF-493B-95B7-3F9512F8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A25C-26A4-4B81-90B1-1F3D5416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441B-C6D1-4B49-A23F-D5F2FFC3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5FC-7787-48F6-800D-4229BB2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6AEE-8BB1-43B9-BF58-C25A82B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536F-B27B-4992-A0E5-E2114B09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35C1-E206-4128-8772-E77E7427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7E64-CA57-4DA1-8974-C58BD11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2B1A-4036-45EC-A646-B1578E8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9D1C-2F55-44A3-83C6-5E7E95E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6117-8199-42ED-A8A6-0B333BA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F58D-1E2E-4AD8-872B-9158184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FDDB8-A12F-416F-9F46-528996D9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51CB-322D-477C-A7D1-09A74C5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1A7-8E19-423D-8824-2EE5B25C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5EA1-EDE5-46B3-B284-260FBCCA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3C44-83D5-49D5-8416-310ABF4D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9053-DED5-4C2E-B06E-3BDE364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E52C-6F89-4156-A9AC-88FCC23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80C9-B8E8-4020-A0AC-006263C4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4497-4591-487F-8DF8-1253BE4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76CB-C536-4757-BE5B-E6B1A25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3342-1749-448E-B363-CBFC89E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3E16-6510-4A8B-A7B4-735BCBA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D192-C56F-4B7A-875D-99A5A70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2AD-027B-4D8E-8091-9A10A9D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1588-0ED8-40DC-8E1D-E87417B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A441-9FC8-4997-9DED-3EF736A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4A8F-1166-44D2-A400-F09773E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1406-5D2C-4695-97E4-86D85BE0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469C-72C4-4798-A0BC-835F6D7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E5AC-9642-4112-AB01-41426E9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C201-D6FC-4966-8E5C-9A0F00B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0E7BE-506F-476F-9934-6793A7B3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18DA0-E1D5-4E44-875B-95E3C7E8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151D-8594-48A5-994A-2BF87D3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50F-1BAA-402C-B4A9-FD608CD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4872-704C-4122-B287-F087DB9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CFAD-E84E-4986-877A-8CC2BA8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F0F5-75C6-4353-9B76-1265904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D2CF-0E33-4014-8C86-37CAE942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4D818-3186-4B6C-9383-9F8C4D68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A0E3-989F-4A6B-9A59-0F5C4339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D85B-1AC6-4AAA-9E8C-4AEA855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DFC66-7BF1-4AF8-84E7-4E053C76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25B6-874E-412B-9483-215C821C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7222-3197-490F-8BFD-82853D6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B0D-7495-44BC-A775-9929EA8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2378-A67F-4CCC-8D2F-44C8966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FF10-E6E2-441F-B801-63D4EE0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1271E-F2A9-402F-A7C5-FAA1F64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F21D9-F5D3-4242-B93C-2C66C0D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E2942-68CB-4A8A-8213-15BA2937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F519-B968-4800-9BDD-14E99C50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E1175-731B-4681-997A-CFE192B3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4EAE-20F8-4B8D-8F3E-9CD990C4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2AA7F-C244-45D1-B49D-BAD0A33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93789-0131-4F68-B341-BDED7366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AFAD-8164-4F88-8480-9B6F780622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211-DDE8-4634-81D0-6C1ED25F1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714-FEBA-4A5A-8DA5-29FDA5BDF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DF0-E565-436E-99DC-9EDF8AF92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891-66E2-440D-BA08-0F0C3988C9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F67-B5B3-4242-866D-2787D0CEE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CC8E-7A72-4FFE-B121-97112E01B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E65-6AF3-43DF-A127-52DF8B13A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E1D1-F37C-4C00-BC51-97A06D57E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BE60-6BD7-43E9-93DF-49A87B6FC7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8E2-71FA-40E4-9B8A-0C779F90E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F73-28C9-4C84-B8E7-E5AF42DBF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B84-537D-4A6B-B32F-730ADC993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A9C5-D07F-4690-9E7F-2641E45786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E5B7-4B3D-4FF3-A867-2D87EE55A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259F-471F-4D36-9198-138AAFA91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B93-F3CA-4CFE-A02D-9D05DB5A0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76F2-091F-4B9E-B280-17EB028C5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614-766C-4154-8C73-39ECF4E23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367-FB6C-4C51-B4F2-7C0A67DFD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C21-5777-4F8A-8B93-2AA423AB17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9A04-9A44-47E5-97F3-AC751487F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8A2-C3F5-4542-BB79-68AFDB075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681C-B704-4898-A238-218CE3DAD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4BD-6972-4092-A1C5-614C21DC6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E5E-A52A-4EBF-829D-B35E275B9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5281-8B33-4DFE-B3BB-03BE3F674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47E4-A0BC-467C-9397-AFF88D2307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55D-004B-4E30-99A2-11953DB45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4B29-4508-4B70-9865-1C62BDDDA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91B3-1BFF-4247-951B-2646121FB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7D9-B4CD-4440-B3B6-FABD9DDFA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457A-03FA-4E0A-80BB-12E8E59A2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08C-969D-4D68-A6C7-0EAAF5D703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26D-6446-464F-B551-3212258DB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F02-B09E-4577-884D-D7848046A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F5E-A82D-41D6-BA49-C8CD61C1E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E699-E3C1-4523-AA0A-C093873CA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90C-AD39-4BAC-A4CA-C69AA16C7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CE7-50F0-4DE2-808F-F1E00C86A5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8040" y="2133720"/>
            <a:ext cx="504792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47880" y="3641760"/>
            <a:ext cx="3648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952560" y="1268280"/>
            <a:ext cx="7238880" cy="2124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142920" y="3749760"/>
            <a:ext cx="885816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500720" y="14986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96360" y="14842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500720" y="233352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380360" y="227664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908000" y="400536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076720" y="4005360"/>
            <a:ext cx="863640" cy="777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244000" y="40053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2109960" y="48261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076720" y="4811760"/>
            <a:ext cx="935280" cy="777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798040" y="4811760"/>
            <a:ext cx="3315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2360" y="1209600"/>
            <a:ext cx="8639280" cy="4438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195640" y="45514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987640" y="51721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516720" y="5157720"/>
            <a:ext cx="863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1328760"/>
            <a:ext cx="7943760" cy="4200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80400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70036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28472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81080" y="966960"/>
            <a:ext cx="8781840" cy="4924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71640" y="4767120"/>
            <a:ext cx="7848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042920" y="535932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04920" y="1252440"/>
            <a:ext cx="8534160" cy="4353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32418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826920" y="44514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507060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85840" y="1095480"/>
            <a:ext cx="8572320" cy="466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373068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42498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69840" y="478152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85840" y="1104840"/>
            <a:ext cx="8572320" cy="4648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774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71640" y="4782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6913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00160" y="1262160"/>
            <a:ext cx="8743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914400" y="58680"/>
            <a:ext cx="7257960" cy="6794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824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71640" y="3832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00000" y="4365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26920" y="47671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755640" y="530064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971640" y="58165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9"/>
          <a:stretch/>
        </p:blipFill>
        <p:spPr>
          <a:xfrm>
            <a:off x="900000" y="635004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