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C28-1C33-4A98-9FB1-98E29A4A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F77-5651-4268-A0AA-DE619668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05DFF-468D-4C46-B292-34A50AB5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3904A-3CC0-4242-BBAE-41054448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75966-B499-4EF2-9C07-4282A35D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2A88A-9AD0-4C6C-AB3A-13E5CB24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E3713-4A04-4E53-8F78-ED73778D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5D689-51A7-48E5-AC61-4D18878C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E0862-8E5C-46BB-9BAF-6DBBE9A9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6AA39-AC06-4107-8323-30AAEEA3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F00E5-540C-4E63-A00A-F7F65BF8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7D182-47A8-4C42-862D-8ACB4A57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28A0-A231-4EE4-9CB5-6D3A36D5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87539-0DF4-4629-A7A5-13F9889D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89B5C-FC41-479D-A02B-1694E444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ADF12-F383-4682-89FB-0A91B237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EE13E-94A2-4DD3-BBD6-31BAC035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0A867-20EE-4BA2-B6B6-16D9DE35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040EC-15AA-4B32-8522-7B40AFB5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29C0B-B4E2-45EC-88BE-70DFD66D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CC17C-98F9-4A42-A008-077B449D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E7E9D-A037-4F43-ACC0-69B884F3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749AE-409E-4DB3-A0C7-098E917F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AF16-3A08-4507-8ABA-99E336A2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42979-520C-47D5-8DCE-602189F5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B388D-89D3-4B71-98F3-68185426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EE4A7-7457-4BC8-975D-11F716D7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AD512-CDA4-4595-B43A-073B412C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0F6A5-5E77-48C8-A46B-A693D9DF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FBE05-B1ED-4910-991C-81A524DB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CC297-519A-456E-B06C-D1D7D6FB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4E957-497E-4FE4-AE3F-735D1F6F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858F8-B253-4A45-8FBE-074A4F2B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F3541-8E31-4E84-A5E3-B1DDB57E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E5CC-9580-4923-AFBA-A9AD4186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65B27-9C1B-4BEE-B800-1C311819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6F9BF-0436-4503-8D28-3B5F9EB8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5C43F-5222-4F55-B5A0-2364ACCD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D6D41-FBD8-46BD-A74A-EB219D79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246F1-0F0C-4BC4-8394-C5FB6549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F7AD0-25AF-44FD-98B1-9898318E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41E94-7051-450C-9191-ED426FAE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76F9D-129A-4376-870F-F789427D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CB4CF-9132-4159-94A6-F8162F9B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3F246-E87E-404D-933C-361A5894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0D1E-1139-4312-A6A1-3714386A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AD71A-AEFF-4077-B935-D96A8A89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90C1B-E641-4F3B-BE13-FB8FD197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69EED-7BC6-432D-B218-A48808EF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DC7DD-2AD3-4F3C-93F5-AB6D1583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C3DAF-0FF6-43AD-9415-D3CA2B12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4B096C-E229-406F-8C1E-CEF1EAE6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7B3C1-91DE-46A8-8C1C-DC23EB39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CADC7D-47E1-4D51-B27B-AFE6CA0E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74C03E-674D-449E-8E0B-63AB2CE2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0766E-92D7-4278-B17D-960D91EC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A82B-0BD5-463E-BA43-065C4CAD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65E1F9-793B-4A87-BD25-E6E5B27E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B92BF-B809-42F2-9C90-8F3CB0EC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AC2AA6-BECF-464C-95F5-0DD2E965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BBB7CD-1E60-41FC-88DB-0C3424B1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6C0024-8392-442F-AAF0-969FC2BE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6B0D4A-744A-49E2-8B45-696D4E8F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DFE2CF-DC01-490F-9B5C-755A1607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1C6DC4-F085-483C-91EA-84B04D55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0B1238-31A2-4BFD-BB12-C812730F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CADF05-A844-4FC6-8B96-1CF0F4AD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2F97-E96D-4B82-927D-2782F1B4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2026C9-D922-4EF8-8D92-39C55E1F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4BCA44-1FFB-41A9-8930-0F616234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D5D952-D464-407C-829D-B9218802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4FC984-A175-4D51-8448-10530D18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B0396C-6048-45EB-A2AC-EDB665C8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18859C-A29D-4C00-9695-3505BCC6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DF3439-EDDE-4A59-AE91-BE439959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027453-D921-4FF5-8C23-A20D1D74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2372BA-5CFD-49D4-9249-9D6077B4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7DF293-4BC7-43CF-942E-FB87BC26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E475-6E45-4241-9C7A-C6B18C88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4ABC3D-7942-4648-9DE5-4539C616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5DD34C-D255-4634-A014-C6DC6A32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98E459-DDFF-49B5-B478-714B2B8D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35E486-90FA-428F-B7A1-98F054C0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F5D4E9-2C32-427F-9476-1D6E73D2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6C2CF4-18F7-488A-9AEA-8A3012BF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3F3B3B-24D4-4C9C-AD43-00452719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0EF7C0-5BC4-40FE-868B-DA83DA45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4A8D08-BF1A-4F11-8060-63356C82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68F058-8FA8-4AAF-B65B-D6ED4477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569F-E2E7-4C06-930A-5E523257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3F5D1D-BBD3-4189-A88C-50D407ED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6F94F8-9675-40B0-A624-E85DA754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365DD6-1AD6-4483-80BC-EEDDFCC7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778A08-3B6B-4147-AAE8-2308A3F0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C33BFD-7793-4973-AF9E-3CBEC753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DD1D7B-AC23-446F-91B7-65794FD9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EB294D-3E46-4A46-8CD7-0AAF189A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6EB967-6742-4164-8616-41B6A8C8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E0922B-692B-4D9C-BF46-F599D076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2E2EEF-3E57-4D4A-99A9-F7BB0D8A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DE0D-5CBD-42D6-A557-E4CEEAF1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FBE4A1-7C0B-4E1E-867D-C6009C46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4CD164-B92F-4682-9375-2DD2CE6D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3833AF-8C4A-417B-8BAA-394DD520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4ADD76-2E64-4524-9ACA-C60B4E38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4BB534-9184-4F95-9D30-2ED9C242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1F0485-4270-4B76-82BA-FAA3E9BB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C72AB0-DA1A-4BDA-84CD-8598BDF1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5E9E3C-B6BB-4E31-B509-B0D40FC3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9F92C0-3A8B-4E71-A1F8-2405D226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7C7E36-E23B-4EEA-976C-7AF6A128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42D-75AD-42A1-B135-C5AC76B1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5EBA-52B2-4B0A-AF00-E8B47C37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D3D454-5F12-42E7-AB53-366861DE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C35722-8F2B-4BF5-8DA4-937F15A2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F5F979-830C-4A08-AF90-0E6DCA8E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453F39-DC8C-4547-96CB-392193BF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8CC0BA-A4B4-49F8-95BF-50497424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A95B99-3705-4754-918C-0F0D12D6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E42A73-D926-4719-B5DA-B7374183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162F2F-C9AF-48D8-B902-6BEA8B86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E64058-1D02-4892-9D78-50DBD4EE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6DA22D-622D-4108-80F1-2C844733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08ED-9DE2-4A29-A06E-D64FCBF9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358CFA-2ABE-4913-9C8A-52D5DC5A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662473-1B5E-42B5-BE49-91D32C4C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DDCF62-7308-422E-BAC6-C7604123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1D5B79-CA22-406F-9DCB-2BE1DD9B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BC4C40-AE94-4639-80EC-0E3B41ED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2069D3-C0A3-42FD-BEA9-30BDCEB8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37F26F-2594-48E2-80CB-B9588F1F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52C950-5828-4F8C-B7DC-A04364FC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7942E7-8A17-45FE-BF15-A50053DA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38780B-9DE1-41A3-AED0-AA855B43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F943-D2F5-4358-A8EC-C2FE60B0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09C2A2-A75E-4006-B5BA-E1853B65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A05887-14DB-4B87-A520-C76BA69C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15601C-1DE0-4AC3-B031-C1D6ACD7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F92448-60C5-492C-933D-6DDEE75E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963929-781A-499D-B281-1F724F4A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990438-236B-4D8D-B12E-7C2DE3CF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EEEF97-F709-4D54-90BE-43887104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3E3C38-C682-404C-B8C3-37258100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875D97-6680-435F-B99E-921F4C61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489F87-26C9-4990-B351-D588666F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D65D-C4D6-4D40-97CA-C397D3D3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53EFF6-7A8A-4B4B-A4A0-D430337D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2734A5-10A4-47D2-A53E-3E117F0F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43D0D7-3F45-40E8-88B9-C3BCEEB9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6CCECA-C892-449F-81C0-790038B2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B81126-1D5E-4CBD-9223-71731910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82E1B8-4C91-4274-B782-6B84EF89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974926-EF67-4F01-A89F-6D989AB6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15FA33-27E2-4B76-8CD1-2401442E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1BB6E8-8B14-4B09-8BB6-81942736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F0FB13-27E0-4F3A-BBA3-39B134D9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DB11-5BC2-4A0E-8BC5-9EB11E84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7DFD79-E218-464A-A7D7-51D694C3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4301C7-8100-47ED-AD09-B95670C5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D547B6-FE2C-42A7-BD35-DDB88B3D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359F40-FF17-46E6-BB9E-0A57D11A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6854A2-EE39-44FC-AD06-5C99C9C2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689B51-2797-4800-B199-DA807696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709515-C2B3-4D04-BC37-B293FCD1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413F01-9FE0-4AC1-B8B6-C20EDEE4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8C5DB0-A606-4EDA-B64F-2753C790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7DA57A-1A0C-40A5-B1AB-66F717C6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EA691-7CDD-4F17-8F41-68AFE927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E2128B-A62B-4980-86A9-D1AF8C3E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725C3C-47A9-4C88-8A6F-45D24A77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26F658-AFD7-4025-983F-200CCDB9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741461-A5EA-4742-9663-32B7270B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D318DD-DBA6-4FD5-BDDB-BB5C19F5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A980F0-DC50-4FEF-B6C8-E2EF5FD1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873F79-3E38-4165-AE05-32607F72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343ABF-EBE7-4E17-9688-86602A82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300EF8-6B6A-4879-8C1F-9B4B93D6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CF5AA4-0296-46AE-B64E-8D24A795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7E621-5DEE-44CE-82E9-60773ABC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A5EC3A-54B6-4F21-9344-7B4F8166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2C44BE-0207-450A-82ED-9ADB0F09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557FC2-E7E1-4C2C-A9AF-B8E1DC69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E8D6DF-506D-4D01-9116-C88CB76C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BDCD2B-9402-4BD9-AAA9-AA14C6B1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6C9DE3-5F9D-4AC2-AD2B-C12F4805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CD5A8D-8F16-4DB6-9E7E-A6CCE088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FF578F-66B4-464A-ADC4-7F431778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2238B3-311B-46DC-8300-A390B778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C8DB75-E021-4BD7-AFAE-D3C7E7FB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436A0-6011-4876-81AF-85BF8592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BB2257-0FF8-49FD-B543-48066A98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09BB3E-F64B-496C-B5C4-7965AA4D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976C80-403D-4E33-9D25-9EDD2607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1AADA3-A91D-4613-910A-0C1F50FB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B29FA5-2D34-4113-A54A-BA610FFF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FEBD07-54D9-4856-BF7F-1559F15C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1A2FE5-DEF4-48A8-A07B-14EA3E2C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B7ABC-555E-43E2-A459-844D51C8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C975E-87CD-4638-9BE1-E40396AD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88D8-D164-4E24-91FC-61870938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5F923-39E7-499C-90C2-B23512BB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76FF3-C14A-4596-B35D-E17C8E39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5D132-CDA7-493F-AA39-EDCE7F46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55CC9-9529-4B3F-8188-819D619D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CD280-2979-465B-8E2F-D12890DF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131A9-4ED3-471A-BAFE-86A00A3A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06481-CD15-42DA-9A4B-7A98757D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CE86C-CC72-4739-B066-4F659199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5CAD7-50D3-4B8F-BE4C-E4968294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A3A47-198C-4CBF-B924-205C5FD5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767-B2DE-42C6-9A0B-6FC0DFE0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5503C-4774-4432-8CD1-0126210B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6108F-140F-4C34-BDB5-19F15971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DEE3F-E066-4373-AFA6-1C179BE0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DE594-7133-4E25-BFA2-443471C0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8C7C3-CBE3-40CA-BDD1-5BD1ABCE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84ECB-02DC-4A20-ADC8-E55F7553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6CD81-2E4F-43C0-A4AD-D3211BE2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BE39C-60D6-4741-B1D1-79D701AF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27678-A58F-4CDE-BF7C-0976F3E6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88CA2-C6E2-4480-BC30-A9CE5158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10B0-3319-4C2B-ACC5-27FD960E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BB115-F0A5-4D5A-BFB9-9D5320E9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660F6-9A56-451E-86BC-37718B94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9CC53-D807-4C95-B625-7D5E2E30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A7965-9BBE-4073-9AFC-3C349696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163DF-F8CF-4833-9E74-6B92F106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C276A-18CE-4B77-95B0-18F8C91A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10BCE-BE1F-43BA-AF10-374A7ADF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38CAD-08E3-4970-B90E-1FF4631B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77ED7-7B52-435A-8EB7-8ABB629D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37F0E-94BE-4EA1-806A-E0854662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1AEC-5750-49F6-AC7F-579C2FFB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6BEA3-C919-49E1-AB88-583D322C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D7AD6-27FF-4EE8-85E3-5A13EC04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B9B3B-E659-4577-A903-63820589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06CE9-260C-43F8-91D9-6AD50A5C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8C5F8-ED72-4CA5-83C1-D17FE2CA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45BF9-8860-4046-A4B0-F520ACE5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99668-D2B1-48F0-AE9E-0E2ACAE5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1FCC2-A269-4757-96C9-5B1683B7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762F4-52BC-4B13-822E-64C9974F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CC31E-DF55-4142-B94C-26BBF774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A854-6928-4144-9ECB-BA2EDE29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D77E4-CEBF-4AB9-B2F0-0D7DEA2B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49E59-55A5-4E87-8D93-BFF9F70E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3026B-EBEC-4A74-83C5-336F41E5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431B2-C451-4240-A5D5-D1416978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94AB3-44DD-4F03-93BE-21994B76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FCCB9-472A-4779-8907-0464BECF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F264C-8C81-47D9-8021-46292FE1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5FEFC-EB8D-49CC-9397-F4E6D155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C63DA-15AE-40F4-85B8-B5B908A8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54071-453E-4F3E-AF1F-09D8DF96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F42F-7359-4FCD-B387-93F96749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FEFB0-8090-4DB8-A6AD-2B4480C8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FD77E-21D7-4447-B37D-6B3DAA87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F2BA5-B618-4AE0-953D-DD118192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FEFF3-7B28-437C-8D10-DACFD204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55E53-93A6-4563-8B1F-B165168F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6777A-EECF-4A70-A1F1-65911A0E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AC4EE-2632-471A-86AC-EB7D502A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54582-50D8-4AB5-801F-F0A92C10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FAF54-0D56-42D3-A5A1-52C0BD02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2B5D5-3261-40D8-A51C-518ED10C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BE90-8FA8-4B89-8A4A-B461669B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D589C-4D2D-4977-8019-F6570B94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CB94A-FE57-4CB3-92A9-43EFCE8E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A217B-369D-4E9B-A538-0ECEADB1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D1165-D2D3-48E7-AE16-E3D2EF84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EC1A8-4E28-436D-AA51-3690C1CD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67574-9101-4DA6-BA66-677DA9AD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EEBBE-B9E5-4D38-8BE8-54B4AA0C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36731-94D7-4899-9C22-6C3F87B8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0F283-18F3-476A-920A-9E7D94B6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D3531-F441-468F-B471-B19925A4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4024-2672-4B18-BD63-EEBBEC4BA0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223B-8C5F-4273-BDD1-1B3C294718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9A7F-CEC6-4460-B700-0B55F8C77F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D6C7-9516-418B-8000-09E93EB0F3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F92D-6B8F-4C08-978C-0E3039AA7F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2284-7971-4990-9AA9-C5410E7E9C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9940-9967-4DB0-B2A7-67FF3CB502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F98D-D7C0-422B-9ABC-87EED058F0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56D6-FE12-496B-A838-204620608A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C198-B8DD-48D3-9003-5C4FB1728A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73AD-A893-45D8-9FD8-9795B2E30B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ED07-BBFB-4388-A3BC-E049B0341F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76F6-BF5D-4431-B99A-3873070294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5C5A-0A9E-4D79-96B2-873142FE09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83CE-2AA9-4C47-B425-A8FFBD7B9E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203F-9B99-4D35-9C68-C2D598643D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4714-F8E3-4F0A-BF6D-119F97BE77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82F7-E293-4DA8-A370-6D17DDE862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B948-7433-45F1-91DC-F16C844352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865F-3154-46DF-AC8A-518A4DA62A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0FE7-CBCB-40A0-9DE3-2227A92322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073E-7D47-4913-A24C-DFDA2CAEAF0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55DE-5C1F-4BF5-A092-E6E6BB5C67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8BE3-3601-409D-9FF3-B06E59AEDF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8BBB-859F-483F-B27B-ED58F0127C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91B1-68B7-4E1A-A00C-4D0228AB48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1855-BBDA-4176-88E1-7A116C02E3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CC6D-1837-4B55-B52D-C5E4C1BC94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DDD8-2DE5-4539-B665-0CDD3C1983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77DE-85E3-4D62-9F82-8F6192AD79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9EF1-20E6-43DF-B850-B8D0AC6E8F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0A00-6EAF-4AF4-B236-0B43077472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C965-0CB4-495A-860B-FAA8BEE2C1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7F72-8618-431A-B214-02EF5CA3E27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A3C8-FF12-47BB-AE51-93A9C515AB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88F5-2F95-44FC-9C17-8CEFFBFC22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127E-9E2A-41AE-8BB8-EA1871591F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01A2-38B7-4C61-AC30-87D33C254A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C28B-5E28-48F3-9834-44093E27DF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A4DA-30B6-41B5-8B00-E33EC3D3A5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0D72-A349-4C60-9E49-3DEEB15FAC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FC73-168B-40FE-9A1E-320ECDEF10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384120" y="3073320"/>
            <a:ext cx="863604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1" descr=""/>
          <p:cNvPicPr/>
          <p:nvPr/>
        </p:nvPicPr>
        <p:blipFill>
          <a:blip r:embed="rId1"/>
          <a:stretch/>
        </p:blipFill>
        <p:spPr>
          <a:xfrm>
            <a:off x="158760" y="1639800"/>
            <a:ext cx="8825040" cy="1725840"/>
          </a:xfrm>
          <a:prstGeom prst="rect">
            <a:avLst/>
          </a:prstGeom>
          <a:ln w="0">
            <a:noFill/>
          </a:ln>
        </p:spPr>
      </p:pic>
      <p:pic>
        <p:nvPicPr>
          <p:cNvPr id="1059" name="图片 2" descr=""/>
          <p:cNvPicPr/>
          <p:nvPr/>
        </p:nvPicPr>
        <p:blipFill>
          <a:blip r:embed="rId2"/>
          <a:stretch/>
        </p:blipFill>
        <p:spPr>
          <a:xfrm>
            <a:off x="1706400" y="3832200"/>
            <a:ext cx="6258240" cy="23144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2916360" y="203184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4"/>
          <a:stretch/>
        </p:blipFill>
        <p:spPr>
          <a:xfrm>
            <a:off x="3132000" y="256536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5"/>
          <a:stretch/>
        </p:blipFill>
        <p:spPr>
          <a:xfrm>
            <a:off x="5508720" y="20606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6"/>
          <a:stretch/>
        </p:blipFill>
        <p:spPr>
          <a:xfrm>
            <a:off x="5508720" y="256536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7"/>
          <a:stretch/>
        </p:blipFill>
        <p:spPr>
          <a:xfrm>
            <a:off x="8028000" y="210492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8"/>
          <a:stretch/>
        </p:blipFill>
        <p:spPr>
          <a:xfrm>
            <a:off x="8244000" y="2565360"/>
            <a:ext cx="677880" cy="44784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9"/>
          <a:stretch/>
        </p:blipFill>
        <p:spPr>
          <a:xfrm>
            <a:off x="3492360" y="4365720"/>
            <a:ext cx="677880" cy="4474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10"/>
          <a:stretch/>
        </p:blipFill>
        <p:spPr>
          <a:xfrm>
            <a:off x="3305160" y="5084640"/>
            <a:ext cx="677880" cy="44784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11"/>
          <a:stretch/>
        </p:blipFill>
        <p:spPr>
          <a:xfrm>
            <a:off x="5940360" y="4437000"/>
            <a:ext cx="677880" cy="4478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12"/>
          <a:stretch/>
        </p:blipFill>
        <p:spPr>
          <a:xfrm>
            <a:off x="6199200" y="5084640"/>
            <a:ext cx="6778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0160" y="596880"/>
            <a:ext cx="8743680" cy="619128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042920" y="3357720"/>
            <a:ext cx="338472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116000" y="3933720"/>
            <a:ext cx="33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291280" y="3298680"/>
            <a:ext cx="33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5364000" y="3875040"/>
            <a:ext cx="33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826920" y="5618160"/>
            <a:ext cx="33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900000" y="6194520"/>
            <a:ext cx="338472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5075280" y="5618160"/>
            <a:ext cx="33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9"/>
          <a:stretch/>
        </p:blipFill>
        <p:spPr>
          <a:xfrm>
            <a:off x="5148360" y="6194520"/>
            <a:ext cx="338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214200" y="679320"/>
            <a:ext cx="8715600" cy="611532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1476360" y="3386160"/>
            <a:ext cx="684072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1403280" y="3933720"/>
            <a:ext cx="684072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1332000" y="4508640"/>
            <a:ext cx="684036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5"/>
          <a:stretch/>
        </p:blipFill>
        <p:spPr>
          <a:xfrm>
            <a:off x="1332000" y="5084640"/>
            <a:ext cx="684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6"/>
          <a:stretch/>
        </p:blipFill>
        <p:spPr>
          <a:xfrm>
            <a:off x="1332000" y="5661000"/>
            <a:ext cx="684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7"/>
          <a:stretch/>
        </p:blipFill>
        <p:spPr>
          <a:xfrm>
            <a:off x="1332000" y="6237360"/>
            <a:ext cx="6840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576360" y="1238400"/>
            <a:ext cx="7991280" cy="43812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1042920" y="2017800"/>
            <a:ext cx="705816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1042920" y="2637000"/>
            <a:ext cx="705816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4"/>
          <a:stretch/>
        </p:blipFill>
        <p:spPr>
          <a:xfrm>
            <a:off x="1042920" y="3213000"/>
            <a:ext cx="705816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5"/>
          <a:stretch/>
        </p:blipFill>
        <p:spPr>
          <a:xfrm>
            <a:off x="971640" y="3716280"/>
            <a:ext cx="705780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6"/>
          <a:stretch/>
        </p:blipFill>
        <p:spPr>
          <a:xfrm>
            <a:off x="755640" y="4307040"/>
            <a:ext cx="705816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7"/>
          <a:stretch/>
        </p:blipFill>
        <p:spPr>
          <a:xfrm>
            <a:off x="755640" y="4927680"/>
            <a:ext cx="70581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181080" y="1476360"/>
            <a:ext cx="8781840" cy="3905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900000" y="2305080"/>
            <a:ext cx="424836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900000" y="2881440"/>
            <a:ext cx="424836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971640" y="3500280"/>
            <a:ext cx="424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826920" y="4076640"/>
            <a:ext cx="424836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6"/>
          <a:stretch/>
        </p:blipFill>
        <p:spPr>
          <a:xfrm>
            <a:off x="684360" y="4638600"/>
            <a:ext cx="640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200160" y="1123920"/>
            <a:ext cx="8743680" cy="46101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971640" y="2622600"/>
            <a:ext cx="676908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900000" y="3213000"/>
            <a:ext cx="67690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971640" y="3789360"/>
            <a:ext cx="676908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971640" y="4365720"/>
            <a:ext cx="6769080" cy="447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755640" y="4941720"/>
            <a:ext cx="676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200160" y="860400"/>
            <a:ext cx="8743680" cy="56484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8064360" cy="1079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1619280" y="3630600"/>
            <a:ext cx="33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1619280" y="4149720"/>
            <a:ext cx="33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1619280" y="4724280"/>
            <a:ext cx="33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1547640" y="5373720"/>
            <a:ext cx="396108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7"/>
          <a:stretch/>
        </p:blipFill>
        <p:spPr>
          <a:xfrm>
            <a:off x="826920" y="5950080"/>
            <a:ext cx="80661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52560" y="765000"/>
            <a:ext cx="9038880" cy="5981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755640" y="2765520"/>
            <a:ext cx="518472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826920" y="3357720"/>
            <a:ext cx="518508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900000" y="393372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5"/>
          <a:stretch/>
        </p:blipFill>
        <p:spPr>
          <a:xfrm>
            <a:off x="971640" y="458136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6"/>
          <a:stretch/>
        </p:blipFill>
        <p:spPr>
          <a:xfrm>
            <a:off x="1476360" y="509904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7"/>
          <a:stretch/>
        </p:blipFill>
        <p:spPr>
          <a:xfrm>
            <a:off x="611280" y="5691240"/>
            <a:ext cx="8136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图片 1" descr=""/>
          <p:cNvPicPr/>
          <p:nvPr/>
        </p:nvPicPr>
        <p:blipFill>
          <a:blip r:embed="rId1"/>
          <a:stretch/>
        </p:blipFill>
        <p:spPr>
          <a:xfrm>
            <a:off x="190440" y="1314360"/>
            <a:ext cx="8763120" cy="4229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2340000" y="424980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5003640" y="4249800"/>
            <a:ext cx="79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6:4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