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8EE-074E-432F-9DCC-EB32AA72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5C7-7099-4822-8D74-30E8EB91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8E8CF-DABF-454A-BE89-C6FE13E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B7693-0073-4619-9C48-BB377EE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DF8AF-1681-4869-9513-4617D62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9EFCE-C9D3-4B78-8B6A-800C0CE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1642B-5005-47B7-90B2-C4A2A49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C006A-C505-42B7-AB77-A7C153A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73515-3C1D-46D7-B13D-58480E1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A43C7-6451-402E-85AC-49D51DE5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08B6A-8696-4C7F-AEB4-9B669B5B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74888-330B-4A0C-A6EB-19CC802B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6BF-034D-44CB-AE19-3133A005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8D496-BA64-4C48-B2FE-48D55B85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8665A-E682-4305-9CCF-61116050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78168-C16F-4030-A154-F2304CC7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66AFD-7B5D-4DDD-AC30-2357DFF2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77387-B7FB-4308-9B71-E8C2867B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8ED29-801A-42DF-9AAF-4FE2174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930E9-8E8A-43C0-B7B9-70AA2DC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3F1C-37CA-409C-82E8-0D0A5D2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558BA-7F97-4E94-98D2-5C935D74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68A5F-4806-4C80-A778-6D61A183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FA6-9492-47D0-812A-AE694218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6FC42-F775-46C6-B5F3-D8581064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DA1F1-ADBB-415E-9EC7-8D7CE140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74AA4-0765-47A8-9374-82CC66C2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790C9-70C5-4F80-9367-4B5B76E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A600-16FE-4A2E-A207-2C51A01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1D46A-13C9-47B1-9A08-6F477AC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CF47-EC35-40A9-9399-B5015A4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55D45-36CF-4ABE-BF51-C6D09F6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34B61-5A6C-472A-BD27-28DE682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192D-5345-48BA-9D09-AAE6E11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934E-281E-4870-9DDF-CF60D4FD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04717-D96B-4028-913D-D414491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D3B3-CF96-4E57-9EB1-2AEB5F84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81A4A-5293-4C0E-BC97-2005C1F9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E8915-BAB7-462A-B7BB-58759605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05875-D698-43C5-A729-26E5B75F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59419-6651-46BB-A9CA-97BCB7A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ED522-E6A3-49FE-ADA1-54248C69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2C469-632B-40BC-800A-BE41D8D5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C4579-05FE-4CE4-AA71-F26AE9FE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669B2-9BED-473A-859F-BA30633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6002-1564-4C14-81BE-04B05F01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1FA8A-8312-4428-AA0B-FC7D6409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A3CA4-AFA8-45F3-9722-F133565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B7C78-E8CB-4DF9-8764-7B50442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83566-239E-43B7-9D9C-8720F414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2097D-44C1-413C-AFE9-1B396E55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E3E5E-3A85-4BB9-ADE4-32B79264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E6062-5BD6-4D37-B09F-F31B192D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B0D66-7F8A-4F68-8F1E-23C1B691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6D9D6-5D4E-4591-8480-8B5C48A8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9A702-60FB-4D48-89A5-1DE0AFF7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F01A-8A29-4996-A470-2731C185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AE541-8439-4913-AC1E-0E45617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0D27A-AAD8-42C9-8265-14C36264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6916D-BF3D-46B8-BC07-40125373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AC08E-601D-4582-A01D-7401B10A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34E8A-2053-4055-A74C-09ED65A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66B1B-ED75-4659-8E52-B4B75A91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8EFBC-E526-4C5A-8BA3-40AD4204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509C5-4D2D-49A6-A33E-6BF398BF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5A56A-7509-45A5-9FE6-9477528B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398F4-5D37-4C6E-A3CC-4AF8058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9F42-C5CA-49D4-B8F8-5CE78FFD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B7EBA-E625-4AFB-B125-466333E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E4960-DB5A-4BF6-83CA-13D9D6B3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44B38-3BF6-4FCF-9D64-F101AF85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CB93F-63DA-4F53-87D5-D4289A4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2BC96-B141-4241-ACA0-BBB18C0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E5C37-5DED-4325-B010-75CC1E2E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96FD9-1CBB-4195-8D03-F5CCDE4A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A01FB-658F-42BB-87B9-854B5796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35BB0-CBF6-4454-8914-DD37024A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E6C3B-A6B0-4196-B8BE-93861713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44A-4990-4D9D-AE63-F0E7F077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1FD51-171F-4891-8E04-213F9E2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8ACD0-2D53-4141-B01B-1DFB73E2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95906-68C6-4E42-AC17-21638E6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63095-F6DF-47C3-A64B-C682136F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6E953-90E4-490B-8349-76061A1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A3E9E-A04C-4DAE-B743-A195039A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AC5D6-3464-4D3D-A12C-3F3B0B1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66D80-0BF7-4919-AA22-5D7EA57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75B54-E503-4515-A135-70C8BC9B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E718A-D41A-472A-9A74-ECAC90BE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E151-189D-4279-ADFC-53881CA7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2AA19-FF45-4FCE-801B-5A43CFBE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D30E5-7E29-45E8-882C-D7ACB8AB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2502F-D654-4CC7-ABDA-E41B845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41B34-0765-4EA7-BE8D-BD608B2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3B580-FE21-43C1-974A-987D0F56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E45AB-864E-414C-93FC-44136A4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CCB93-A7AD-4E99-B0BF-7953C154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59A55-EAF9-4965-9555-30C22AF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0ADCF-A316-44F5-A854-4D24A87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4085E-53E2-4378-9273-E64F6C2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0038-1066-475D-957A-05B2690D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7C170-BA5F-4B68-8545-14D3B8C9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F7AC4-7936-47E8-BC6B-4838117A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9B9807-E098-4088-AFF2-4ECA8859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7B6F8-D5DF-43FE-82E6-FF1CD1E4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17F1CB-9CED-4D2D-A010-8C1D5E1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6056B-C32C-4E82-BD27-B675C502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183B3-5328-4BBB-ADCF-62096A3A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52A61-3048-453C-A8BA-C71BB1F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1343C-6F5B-4949-BBAB-CB416AE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B3531-51E6-4805-A2E3-DDDBAEF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1FE-D557-4A07-B653-231462E2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E1A-2A91-4F81-AC92-28B9F7F9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86C40-E4D5-4843-A906-AD4842F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7402C-E11E-4A79-BC14-56DC1D3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9260B-25EB-4347-9158-7FFB2B1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8F97D-CFEE-4435-A371-8606CBFA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C06FF-1EC1-494F-A1E4-5603DE04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F1B01-60EF-46F2-ADC6-C72F918E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F4A90-1F56-492D-A165-A3EB85C8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2FD5C-E0C9-4B74-8575-2912819E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845BF-5406-4DEE-87C9-69AFA10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52354-17C4-43D6-9D31-0EBBE0E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6BF-E2F3-4FC6-8C42-023016A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40CEA-EF86-41D1-8C0D-7D19A7D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93320-51AE-4CCC-A192-7AE4F2C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D80BB-3E1C-4BDE-909C-B0C9F24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312AF5-DC17-4310-A700-F615661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7790D-8670-4890-91E0-DE3E4C76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41226-D725-4C02-9453-D4C71A88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46A65-14A3-4577-A372-44365D08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FEF99-4810-41BC-B310-F7230B0F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77880-66F5-429F-B2F8-6D049F0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512E5-2E51-4D09-B0E8-ADE157FC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2F6D-D128-4AAF-9AC2-B9359AC3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9E542E-B63A-414F-8C08-3F29E66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20B35-C988-4154-8E7D-EFE9B32E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B3184-40D9-45B7-8E19-43262D9E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49791-5D10-44C0-867A-B0CA440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BD1B9-714E-4216-AE04-A5282BF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E2BBA3-2326-409B-9090-6ED8446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498AD-6F36-4851-A274-3CAE9D93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FDC37-1666-46B0-9B4C-97EBF8E5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5C491-B71C-4F14-954E-6F9CA34C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7C3C3-FF72-4618-9094-95974CD2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1EBC-BCE0-4F0A-B73C-691043EE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0B7DA-052B-4A05-BA8C-A4B5E057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A4241-BB1A-427F-86B0-57EC2B30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5368C-167D-40F0-B80E-68BCA20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9FE9E8-E5FD-47D2-A868-0F49E635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E33208-E742-4D19-87CB-435EA2C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CACF2-D787-4AB5-8B08-2537C35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E5BFA-AF31-43D9-B177-DEAC587B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5E594-F998-4750-8D0C-833DAB3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18C7E-3652-4E77-94F0-D8634AF1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302FD-F634-4546-9CBB-4379EBAD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2D9A-BFEC-40AD-8415-3C6F6AA6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6A6DF-9C49-4D8A-8D35-8D36E5DD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63D1D3-4293-47D5-AC4E-35ABA520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377DF-30DC-4383-89E5-32A4557B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F4A35-4276-4D44-8543-B9ED53C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28915-881A-44D5-8515-9DB05B4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F68C7C-A2C5-4B0B-BA28-A4572448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88D00-E495-4B3E-BDAE-930F46AA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D341B-48F5-4EF0-B8DA-A3646EA2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BC97C8-2D43-4E62-BF80-6EB0562D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B086A-BB3A-418D-9D05-D298DED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6C5C-E79C-464B-8F17-90418282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F2DE4-B1FA-431F-9D4B-41287B0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77B8D-6BEB-46B8-9A73-D66FE28D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11895-3ACF-4972-B842-F49C7FF4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188B-D2AD-428D-BDA2-D1C2FDCB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D9DE-B0AD-4449-9517-7A26617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A765-9455-4189-9EF1-7EC27F89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2A62-BA72-4E3C-9651-50F3064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530-A15F-4040-9E06-76B2BE7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B86C-F441-43BD-9FC2-12551D3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E44D-E97F-43C6-82AE-BB3741FE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0C43-6CA2-4217-97B6-971D8EB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47EB-8348-4935-BF79-970478BC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8412-737F-4163-9D60-FBA31984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2DB8-39BE-4176-94DB-5FC1B270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F671-79D8-44EB-8535-F2D5DBAE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C4EC-0B46-4B51-903C-B25AFDB8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5488-B330-4D0F-929A-99DB832F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7E1E-198C-444B-B375-D8E180FF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98A-1C7D-4BED-AFB6-244A1ED1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E102-5E53-4909-9881-68CFBF5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48AC-EDE5-40C1-82E7-5EBB862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EC28-ED75-4F41-BE48-D8AD590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F431-661E-4CAD-A4E6-D7BA0B5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98CCB-7B2D-492F-ABE3-8252A63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8766-2B5A-4A04-AB89-DFA001F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8A0A-614B-4B4B-9228-375A72CB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7069-D1B0-4D3D-96F0-7834D3A4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C566-5860-4E21-93F3-8C125C1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13FEE-2E2A-4FD6-BFF6-ADB40918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4B5-94DE-415F-9DFC-FDED19B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6B9E9-EB13-420F-ABAB-3A4B9659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6BB6-4710-4211-90BB-3B39035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155DC-30D5-437D-89FD-FE5DBE7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8369-BD21-470E-9F1B-F5EDB79A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12F7-E229-4648-A906-A1596DFC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5761E-6786-4AA7-9963-46FCBEE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4899-5618-45AE-B6DD-F383DAA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84BD-43FB-4555-857A-EE359C0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6E26-C1F0-4ACD-BA49-B9951A32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82C2-18F3-4685-AB40-495777DB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270-7F66-45CE-B26D-4B9CFD39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1AE0-5AF6-48AA-BB99-DEC1FAC9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2E0E-73E7-44C2-B669-41FB34AA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DC537-51BA-4F88-A136-E6E8E946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9505B-AC13-4C53-9328-7BC55F5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8C585-3B57-436C-80ED-CC620A51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69C7-101B-4499-9BC6-13CAED32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64D65-66E4-4396-9C5E-82AC1331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80899-C625-4FA1-B647-C7D5AFE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244C-965D-4B91-96B4-84185B4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7D8B-97EB-4C48-BC4B-8EB762D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325-11CB-4BF8-8C27-81F3FB2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1BCA-EBC3-4EA5-8F0C-F164316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F5C8-7AC7-4660-8CED-99F9C039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5B1D0-165B-4732-A1AD-46EA322C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0E117-B7FE-48CE-8140-4F88F6C3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0D50-263F-41D8-9811-30495E68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594AE-E4E8-483A-AE75-DE36E70D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45FB-3713-4507-A1DC-D793AF4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A94C-409E-493F-82C6-DB9A8AF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BE29-06BC-4D31-AA39-36653B68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40B45-53A5-450B-944D-5951DE9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AE0-BDB3-4178-9AF1-9E75D42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746FA-F5B0-4B57-9313-326B2FB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1993-09A1-4BCC-BF4C-CE8113E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D2107-6674-4B56-AB4C-D6E04162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8D76-E32D-4AB6-B811-47AA76A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78A9-A784-4931-AE15-6236ADBF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F00E-15BA-4BDB-A239-60CD71CB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74DA9-C850-46B0-87B6-5B0A2416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82E7B-8708-42A8-83C3-5941826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F7F5A-721C-4745-A94C-9EA7F34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20DF4-4A07-44E0-8FB5-B7949EC2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661-D5AB-4D1E-832C-7C6867E5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9C5DD-ACB9-485B-9946-478693DC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4EC00-2229-4964-A4ED-181081E0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0584F-0D3E-495E-AF9D-B55696C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87B75-F3FC-4F5B-B3E6-F869592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DBF2F-46A1-4041-BFAB-4D2D022F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3655B-75E3-4C96-BD58-40EC2F98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B386-53A5-4D14-8CDB-2035640B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CE7E6-73D2-4544-B17E-756D1B61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CB236-CA72-4BFD-AB7F-F7072833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F682C-673C-49C7-A14C-92FDD286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664-9FD3-44F6-942A-7820D2556A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9F19-7B1B-401E-9079-4CBBFFECF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8DB1-FC70-4079-9182-D903BC5BA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239-0BF2-4A90-9EF5-6F205131F1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B98B-851A-480C-9BAB-EC431BFF5A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AAF-6568-4B6C-8782-9CA2C8DDA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F220-6A96-46D5-9912-FCFCF0587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5D7-73AD-4565-8B59-BEA5CB8A2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75E7-2C26-4B33-9AFF-8E55BD3FD2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0E3F-8C51-4F17-9158-8C1087CA0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999-A31D-4149-BEF8-44A0B1751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661-3C3B-4678-A4D6-B67E0699E0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CDA-11D6-4312-8B1E-71F4AF280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CA98-70AA-44C5-BCBB-2D14DA762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8FC1-22B6-4EF4-80CB-90F440BD5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BD78-489F-4878-83F3-091FC5BB8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2F24-B382-4718-9A32-CDECBC1A2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711D-E8A3-4031-BBA3-3458E7AE8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F97F-E9B9-440C-A66F-D73C3123A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E44F-9D9E-485A-AC3C-B8E1B2414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5530-AB7A-4863-9032-EC1A27123D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F8F6-83E0-4FB0-A397-A41537D6D6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9957-B69D-47E3-8961-3C74075DD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F26D-6497-4BD8-AEF2-41BD93E636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BA76-A5EE-4B92-A94E-290647F50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E71-63BA-494B-BDAD-CE0ABA123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6C5-CD62-4CB2-A6D8-FEB66F289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28A4-78CF-4693-BA8E-7A4DCFFB6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2D65-DE8C-4C92-AC21-0E835069B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7702-3395-4012-902E-898D11BEAC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8C33-2E39-4CBF-9980-860F0A09BC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3E16-FF96-4AEA-BFD0-90BFF1CED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E715-2E32-4AB8-BE32-14CBEAC26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157E-03D3-4181-A986-5C2EE9B8F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79B1-5AAB-40D5-A6A2-4D69B21B76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21A3-6FCD-466A-963D-0B17AC04C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CEE3-6989-46D6-B6DB-EAC836D09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2DE2-B49E-4C63-A799-27684F6D5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74B-6636-421B-92F0-1303CA5F9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5DE-3E85-4AA9-9E64-B98EC7344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14880" y="3052800"/>
            <a:ext cx="2514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105760" cy="189576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69634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6619680" cy="1952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413240" y="148428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427640" y="2349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7294680" y="14986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7308720" y="23637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1749600" y="393228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1763640" y="4797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4557600" y="39322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4572000" y="4797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7726320" y="40035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8245440" y="486900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3360" y="719280"/>
            <a:ext cx="8477280" cy="5419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635280" y="3241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659640" y="3860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77080" y="50277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299880" y="682560"/>
            <a:ext cx="8544240" cy="59151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411280" y="12826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380360" y="191628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7236000" y="2708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885080" y="4365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7812000" y="4941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812000" y="616572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18960" y="1081080"/>
            <a:ext cx="8506080" cy="5372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794232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050920" y="5950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596360" y="595008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676440" y="1824120"/>
            <a:ext cx="7791120" cy="3209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820880" y="4437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4572000" y="4437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62080" y="87480"/>
            <a:ext cx="8126280" cy="6599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372360" y="61801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318960" y="1152360"/>
            <a:ext cx="8506080" cy="455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4680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61800" y="1062000"/>
            <a:ext cx="8420400" cy="473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4859280" y="373068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403416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4643280" y="4941720"/>
            <a:ext cx="40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700200" y="1476360"/>
            <a:ext cx="7743600" cy="3905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4572000" y="328464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500720" y="3917880"/>
            <a:ext cx="42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6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