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DF3-F712-4B23-BAEE-AFB1D421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679-9A38-4403-9F9C-D0EFD22A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359DD-29B6-4D1F-8578-D0E0B98D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6B0CF-D7ED-4B6E-8E4F-2392B9C9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0B35B-C71A-4BB0-A2EE-A3C4BB41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14441-FFD3-4D55-94E5-DE8D7ABD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BFA9C-E09E-428A-963B-74C3BCBA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0FB1E-D022-44AB-8424-3112C927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0FC01-0658-4551-9E2D-1003B897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42B92-0FAA-4A0E-8AEA-3EFF555D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024B4-5DAC-43DC-B9A9-9C66074A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99BAB-BE49-4068-9DC5-609A8778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595-51D3-43D9-B3F6-5D98CA0A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904E3-5B3F-4C49-9C86-DBDB30F5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F603D-4FFC-490B-89A7-4A54BAC4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A6E4E-C5A6-4A58-A4C3-136117D4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25D4B-F406-4B26-BA2C-36EEC924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49709-C2FE-4581-925D-8DE1ADAC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29434-6EA0-4386-877D-4E25E1C9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F5FEB-DE61-43C7-A600-C0A19836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252B7-557F-412F-89F0-0835EA06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4E1C5-344B-4D5D-B926-06CCD626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F2A40-605D-4ADD-9153-2AC5987A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E37-E0A2-4F37-BC5C-8D5EADFB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E6C51-2D81-4846-B8F8-8C5233F0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9C902-5C70-45E7-8550-2E586906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A0B9E-2F33-40BC-BAB6-502E2E8E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C5C05-3608-4B53-B8E2-79303CB4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90C32-5819-488B-B8B4-AB5F60A4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C63FD-CB7D-453F-A77D-9FFB369B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45D8E-6422-4224-8B94-94E5AEBD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B9A10-18B5-45C6-9FB5-DEA20B00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E2131-144E-43A6-950B-30927EDC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49ACD-E257-4B36-8EDB-5142328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663D-BCF5-4342-AD72-17594FCE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6CC46-1406-430A-8A83-D556D0CC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D0CAF-D2FD-41A7-8085-0ED161AE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0CA86-4A64-4B91-9729-0DB5078B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9CAEC-44FD-459A-8708-06337D41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824A9-0772-46FB-9BDA-2FD2BB75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B43D9-5529-4F03-8290-95956594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44775-8336-47A7-A49A-9474D192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B455C-A146-4074-A963-976C2891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EB813-E42E-4F16-8606-80DBB8E8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8E76A-40BD-424F-9165-92671AA7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9344-1F8B-474D-8096-87546550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7EDBF-D582-41AB-BDE8-5F93CB5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EB376-6B83-4FE4-B5D2-6A02832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48D52-9FE6-4045-AFD2-7090CA51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482B3-A224-4D9D-8EA8-BFD085DA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78EC0-CB53-4E22-A95B-0267D77D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ECD61-4FAD-43F6-BA64-D3DD3599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23001-7060-477A-A10A-7AFC2883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8C9A3-B6BA-4766-897A-05ECCD2F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C4351-F120-4F6B-BB1D-C541DDC9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ECD48-7C69-43E3-87CD-B22114C3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02A8-A85A-4196-9D14-75EA9347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6DA4A-B4A2-4CC0-9580-E5E0E39E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3F762-6062-42CE-BCEC-1232C6E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E9A58-2948-4C7C-B54B-C30AF7C2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DA83C-E65F-4249-B196-6C752A35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DDFDF-8207-4E3B-9D82-79260653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62C52-4074-4D99-85ED-BED49A86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031A8-5920-4445-83E2-098ABFEF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DFEA2-EB8B-479E-B694-CA230A32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48D0D-FDD2-4682-BF33-F2B47992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C6357-A7E8-461F-921A-2E7C93AB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F2FC-CF56-48C5-A388-5AA783B6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A0421-A9EE-4A42-8C88-12D4691A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25BD9-BD1D-488E-A0EA-850E67A9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704B0-9EFC-42E2-AABA-EF15C761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2FAF6-A360-4784-9BFB-D4737BD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3F02D-103B-465C-9A67-7E0F70B8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26883-EB41-4B49-8B0F-66AB6E22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502B3-81D9-4694-9D79-AE794C39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77DB0-5136-4CD4-B361-512C3E36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CF80D-7383-4D1B-AD17-6713E841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BFBA4-9DEA-4917-9272-CE3CDB0D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B5CC-94DF-4773-88AB-0B43254F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02FBE-8B40-464E-9839-7D660718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C640C-2B44-48AE-B449-5A5E51FC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018EB-5452-4B4C-808F-E93CB2CD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229E5-D09C-4FF0-B2CB-8ECAA80C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31531-2447-4C70-8BEC-2AE24839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A57DE-1495-49A6-B1DD-B9D9C18F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B33C12-310B-497B-AF62-1A7FF072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1EE67-F2BB-474E-99FE-0204CF90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AA604-9F0D-4AB2-B43B-29339DEC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BD691-47DE-4425-8D35-43709D34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0BF8-97D1-46DA-89FF-E60575BA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CDA36-75D0-4843-8B2A-E2FED21A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8914D-F072-40B7-9E2B-A6ECD24C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B0EE0-0DCB-40CE-883B-B684301E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499D1-387A-4408-B04E-93C71A7E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EB578-DFE8-4F38-923C-E5CCBC4F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D0837-5382-4049-A437-13584F6A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D78CC-DD4E-40C3-9087-E8D2C3D0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B4B37D-09BD-4E87-82B7-A67DF76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E6FAD-8F92-4947-B43A-47170FE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578DD-900A-4AF4-A542-E56997A2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43BF-3FD8-4D51-838B-5B1C7B99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E0232-10CE-4778-B5DD-F68F74A7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5D273-AA9E-416A-B863-B28DBA50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57BFC-E7CF-47B8-A388-CCDC39CE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B7F66-1ED1-400A-AEF9-44B7C7FF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83D7C-468A-4516-B2CB-0187587F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33E5F-7A45-48D0-A0EF-76C86EEC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36FF2-9E6B-463D-81EE-4BB1B069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95355-0372-4FA6-B90B-03D083BA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BB4EA-0955-48E7-A5D8-E5EBF138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C38BFC-B0A4-40B7-9914-E96E0243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CE8-5FF9-4B5E-BDE2-0CC4701F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9434-737D-4562-A850-6981A2DC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FD256E-F88F-46C4-96D9-E1C00229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14B50-5411-4955-AE84-DECAC283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69950C-D6D8-44DD-90ED-76B6AB85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7FB1E-1B36-483C-9489-3684EDC4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51AD0-89DB-4DDA-8BCE-49F1E274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4AEC3-9B41-4C1B-A3C1-B4B9AE98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0590E-3415-485F-A70E-4D6DEC86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CE6D5B-D28F-47F0-ADDC-F01EBB29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557C0D-5FA9-4D4A-BE1D-A67E1AAC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6E8964-AB15-4967-BCCC-DBB496D0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5360-36B6-4C78-B99D-8BCCB757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AD841-E327-49D6-9F0B-E5AE26BA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4080D-100E-4112-86CC-31009B7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5D308-ADEF-4CD3-8775-DD0AD073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34817-9A65-4296-BE09-B5F1A572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B2187-F315-45A4-9148-C539E6CB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8A8964-A9F0-49DF-BE33-958CC695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F034A-A4A0-4DBC-83FD-B43DF87F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84167F-3660-474B-9ADE-6102ABD8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28C3E-2FB8-4FCD-895C-9DC02B31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9D823-289C-45A9-8F6C-2E998CDA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EA6D-4738-4E11-A83B-B3C4EF15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51F0D8-7EF8-47E1-84D6-94F77AB6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940BF-626C-4A0C-9C39-D831A58A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04DB19-7F6E-4A6E-9E79-271C5AA2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C172C-A75D-4D37-8FF7-05C2D3D8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BC75D4-2251-4416-826D-639BD2AD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0A74AB-BB47-4680-91D0-30CB0D98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35B0E-1C6E-4174-BD37-BA79F1D7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67FF9F-346E-4BD8-A39E-139E8F23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B2930A-BFC9-475B-9C50-9C9C8EC7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A3F8E-B7C2-4C22-AB0A-E500D9CE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FE13-4C0D-4F35-85D8-98F19B0D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DCFCCE-6D28-42D0-8575-658881B3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95DC29-3CDE-41B8-8702-B7F8A2CC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ACAA0B-3EF4-4E76-9511-AA0A656C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AA3F2-DD46-4A1D-9403-209E1A42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F55810-169F-438C-9FA2-5B9C926B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F5D977-B178-4C32-A6E5-DD48CC82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280C1-38D4-49FA-B7C7-A15F725F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828A9A-67D8-4A10-A09B-809FB99A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BC09BF-1637-47E6-9EBC-2437DE3E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E573F-20B4-427B-B789-9CE49C54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717C-DA88-4D53-B41C-1A3FD125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64F25F-BBDA-4D75-9703-7AB35D38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D352F9-6FCC-4A24-9C1D-6429863E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83B2A3-18DE-41C5-AB67-71A561E6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6BB267-B67B-4602-8929-FF92AD81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1FBB07-B7FB-4647-948F-DFC1E43F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711F3-009D-4C92-892B-D703D1F0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124730-E3F8-4C79-906E-4EB6D28F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F588BC-9902-4B95-84BE-83BD3A2A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D4DD6F-7ED6-46AD-99B7-8591CFF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347F0-BD47-4959-94BB-BD4D3139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3C00-8318-479B-8639-ABD97A2F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437A4-B251-4EE3-9B01-322D019D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052BA-42C8-4D43-A053-593C95D0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34AF5-4CAA-42E9-B930-C981F1C9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7B77-949A-412A-8F99-A0FDCBF6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1B0E-390D-45A0-B054-0A7D2694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3E5B1-6BE6-423C-B5AE-6B284A17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FE1B-E851-43D0-AEE0-DAB38818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CB6-2E77-4980-A724-5D51CA25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A983-A600-4AD5-8012-04F7F4C5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0F24-48E1-4906-9F3F-18589D7B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30A2C-F6B7-473A-95D3-108D0D49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7FEA-FFD3-424B-B216-DF1C483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0F52-3660-4C0C-8A64-EE6C56AA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9F9F-F838-48B0-A699-2E6779CA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27A1-88B2-47AE-A401-76E11A4A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C4D19-865A-4A7A-BFE2-7087E927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D6C23-D2B6-4EFD-9F79-EE3AE616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C686-4C71-4A6B-B336-B3FD0343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74F-F55E-4391-881A-A8581A25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F56F5-E7F9-4BB2-98E6-11DB40D9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AB9CF-51F0-4E18-BD1A-6786085B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5E33-D73C-4A64-8F1E-8BDF1426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DE64-91FB-47CA-AB0A-C97B419D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1B08B-C0CC-4F11-AA77-48BDA947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3B78B-AEA6-4A37-A1DB-0B2C154C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71282-0B47-45E3-A2CD-5549839D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E458C-C5BE-4D18-A122-4C05A8F6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0AF3C-6CA0-4EED-81F5-E7740D34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0B44C-BEBB-4EBE-AE39-6BA6BE6B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EC2-1045-4FE1-9F27-AD27D8B2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90F6A-DE59-4E52-BE0B-D84EB000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5A6AE-F102-4601-9BFD-592AE838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A3CAF-73F1-4EAC-BEE7-1E696E3D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36D31-54D9-4560-B404-21F5760B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95C1D-F90B-4982-8BCA-A590A2AF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A1052-FB89-40F1-A6E6-C298D5B8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3F8C-1114-40D0-A940-AB567BE9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63D0-926E-478A-A768-AFD389F8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26188-CA1D-42A0-B003-4E3D7397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143A-EE7D-4C2A-866E-CA437526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113-7717-4C45-AB92-089FE3A0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0B2CC-61A8-4E8C-B313-37CEDF34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65CD4-6920-4C5B-9EDE-D6924CA5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AF21D-2AC4-4CDC-B88E-2BEB28C0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6A481-BE8A-4FAE-A6EB-15DD5F25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04076-74B0-4760-85F8-91BBF86B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EB7B6-7EA5-4C36-B60D-9279A4AC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18A41-1B96-4D27-AB99-EB02837E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86BF3-6B97-42CD-A140-34945678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25E2-8316-4AF4-8061-4B9155F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6D651-D27C-44CB-AB45-700A2561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DC8-A4EC-4835-A414-52D38A8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55654-6AC0-4F0A-A658-CA671914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00E36-D251-4B56-B7BE-BCB6BB4A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D6696-5D53-4EAB-90F0-01D94590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0E21A-C07E-44F3-8B3C-6954EF76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A32EB-87C2-4067-84AA-9B5DD07D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252EB-F4D4-4AA6-B929-DA23CCB1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34204-6FA1-4424-A4E2-8D1B3A1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A2FDB-86DD-456E-A7DA-F379382E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AEA21-B02D-48C2-B061-E4A615E9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126D7-B647-49B1-A2F6-67C073A6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257-5622-44A7-B2F2-341E646E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77CFB-B469-43A7-8BC7-F5566F02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8E925-7893-4EB2-ABF3-01D5DD57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A34ED-16DD-4065-81D4-EE185D1D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9EB37-AB79-4B14-A6F6-2016D9A8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6DE44-3860-4BAB-9D6A-1ED0349E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84489-C24F-4E0B-9B33-173CEB63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50138-D532-4C95-A22E-E1E6E8F6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B2EBE-0AF5-415D-95CD-93741D0A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03A41-6551-4ED5-84B2-78F462BC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F11B4-17E9-4A69-81DB-36347CF7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631-7900-46C6-B624-516D27ED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7122F-42EB-41E0-BED1-F8B0F290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AF350-E499-42AB-AEEA-8721379E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17778-1CAF-4590-9AA8-B3509A0F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9E70B-1CD1-4790-B053-1B9AD51F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2EB62-131E-4C4B-A57C-B9917AE1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3F3A2-E3D4-47A9-B396-082A4D43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C69A1-05CE-493C-985C-D474E196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92631-A75A-4018-BC7F-1931BF24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13174-3BA2-47D0-8934-3A3D6C4E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7EE16-D2F1-4DF4-B861-A541E0DF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6102-01F3-44BE-973F-B42AD207C0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A69B-0421-4C53-9115-8DFABDDF2E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4366-46FA-4AF1-B904-8CEEC8CBE5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9BD5-89B5-42CA-8901-5D59105407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B0C1-3052-48DC-B41E-1A56AE50BA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6CE7-D668-472E-B79F-45AF9E9953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2368-AEFD-45EB-8721-2AAD20DB8B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54E-0F66-465C-9E59-8F7485B62C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6434-F014-405F-A130-99D3F8861E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FEE0-10B2-4DFF-A65F-D722A89D4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1638-E613-464E-BFF1-87661F7FB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162-D737-40A8-B5EE-16E12B3345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954C-E6A5-4E9C-8520-26A75DDACC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2D2A-0EF7-425A-802D-1447E3CA20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56A0-CEAA-42D7-9358-AD0F3486DD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4FB0-9206-4E8C-B3BF-908515EF9D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FB41-07DC-456A-AB39-54FB2C0B9A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DF56-ACF4-497E-97EB-39D6CE6288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A30B-D4ED-4F1A-AF3A-CE499F9A61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BE0C-BE9D-417D-ACB7-80837D7B49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6198-8ADD-40D9-9126-D8E239C0E8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B7B1-6953-412C-8297-C67E7FA7F3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2A9A-3301-43EA-AB80-589FD454A9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E8C8-2CD9-437D-96B1-40E5E74AB7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8A78-A266-4E1D-9C0D-8DF89E2ABE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228B-1131-470F-B340-2F94BF7B74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C379-877D-4241-9B41-6646CC062C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95ED-761B-4C0F-BBFB-263800F7EB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60DB-AA66-4981-A6AB-8E32FCBC93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C20B-CC9F-4FB8-8611-E6B634874A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3EE6-EB1E-4BE6-809F-F0965E3E1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6439-4AE5-4E0D-A90F-4079400B98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30A1-5B61-4A8A-915D-524A7EC2C0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DE77-AB3E-4A5D-AA1C-53E15DD3EE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6469-189E-4CD8-8E3A-F4810DF5A7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5783-9F9F-424F-8505-EC575B6E17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4B78-B1AA-4916-A97D-063C9EC465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C2CE-C6F0-4CB8-AD6E-985488C913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F938-FE60-475D-80DF-F5707E35C1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9FA9-C94D-4E0C-AE6B-DB2B6F471E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57360" y="2538360"/>
            <a:ext cx="60292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585720" y="1762200"/>
            <a:ext cx="7972560" cy="3333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684360" y="1801800"/>
            <a:ext cx="68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68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612720" y="3127320"/>
            <a:ext cx="684072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539640" y="3817800"/>
            <a:ext cx="8209080" cy="479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395280" y="4465800"/>
            <a:ext cx="820908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299880" y="990720"/>
            <a:ext cx="8544240" cy="4876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900000" y="3165480"/>
            <a:ext cx="3167280" cy="479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698400" y="3860640"/>
            <a:ext cx="316728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684360" y="4508640"/>
            <a:ext cx="3166920" cy="479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4844880" y="3165480"/>
            <a:ext cx="3167280" cy="479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4643280" y="3860640"/>
            <a:ext cx="3167280" cy="479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4629240" y="4508640"/>
            <a:ext cx="3166920" cy="479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684360" y="5157720"/>
            <a:ext cx="7272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68609" descr=""/>
          <p:cNvPicPr/>
          <p:nvPr/>
        </p:nvPicPr>
        <p:blipFill>
          <a:blip r:embed="rId1"/>
          <a:stretch/>
        </p:blipFill>
        <p:spPr>
          <a:xfrm>
            <a:off x="895320" y="981000"/>
            <a:ext cx="7353360" cy="217188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68610" descr=""/>
          <p:cNvPicPr/>
          <p:nvPr/>
        </p:nvPicPr>
        <p:blipFill>
          <a:blip r:embed="rId2"/>
          <a:stretch/>
        </p:blipFill>
        <p:spPr>
          <a:xfrm>
            <a:off x="795240" y="3695760"/>
            <a:ext cx="7553520" cy="21812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4643280" y="15429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7667640" y="15573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5003640" y="220500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7667640" y="220500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7"/>
          <a:stretch/>
        </p:blipFill>
        <p:spPr>
          <a:xfrm>
            <a:off x="2527200" y="422100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8"/>
          <a:stretch/>
        </p:blipFill>
        <p:spPr>
          <a:xfrm>
            <a:off x="5003640" y="4264200"/>
            <a:ext cx="720720" cy="4791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9"/>
          <a:stretch/>
        </p:blipFill>
        <p:spPr>
          <a:xfrm>
            <a:off x="7667640" y="422100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0"/>
          <a:stretch/>
        </p:blipFill>
        <p:spPr>
          <a:xfrm>
            <a:off x="2484360" y="481176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1"/>
          <a:stretch/>
        </p:blipFill>
        <p:spPr>
          <a:xfrm>
            <a:off x="5003640" y="4869000"/>
            <a:ext cx="720720" cy="479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2"/>
          <a:stretch/>
        </p:blipFill>
        <p:spPr>
          <a:xfrm>
            <a:off x="8028000" y="4869000"/>
            <a:ext cx="7207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47680" y="1104840"/>
            <a:ext cx="8648640" cy="4648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627280" y="40766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580000" y="40766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843280" y="50846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227640" y="5084640"/>
            <a:ext cx="57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590400" y="1981080"/>
            <a:ext cx="7963200" cy="2895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6659640" y="20606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4572000" y="263700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1042920" y="3141720"/>
            <a:ext cx="7489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76801" descr=""/>
          <p:cNvPicPr/>
          <p:nvPr/>
        </p:nvPicPr>
        <p:blipFill>
          <a:blip r:embed="rId1"/>
          <a:stretch/>
        </p:blipFill>
        <p:spPr>
          <a:xfrm>
            <a:off x="299880" y="776160"/>
            <a:ext cx="8544240" cy="53056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3708360" y="3241800"/>
            <a:ext cx="4680000" cy="4791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3635280" y="5545080"/>
            <a:ext cx="4680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99880" y="1542960"/>
            <a:ext cx="85442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1967040" y="1171440"/>
            <a:ext cx="5209920" cy="45151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835280" y="1154160"/>
            <a:ext cx="540072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619280" y="1714680"/>
            <a:ext cx="5400720" cy="4791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835280" y="2320920"/>
            <a:ext cx="5400720" cy="479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1619280" y="2881440"/>
            <a:ext cx="5400720" cy="4791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1835280" y="3444840"/>
            <a:ext cx="5400720" cy="479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1619280" y="4005360"/>
            <a:ext cx="5400720" cy="479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1403280" y="4653000"/>
            <a:ext cx="5400720" cy="479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1476360" y="5172120"/>
            <a:ext cx="5400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6324" descr=""/>
          <p:cNvPicPr/>
          <p:nvPr/>
        </p:nvPicPr>
        <p:blipFill>
          <a:blip r:embed="rId1"/>
          <a:stretch/>
        </p:blipFill>
        <p:spPr>
          <a:xfrm>
            <a:off x="309600" y="1333440"/>
            <a:ext cx="852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538200" y="1190520"/>
            <a:ext cx="8067600" cy="4476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611280" y="1154160"/>
            <a:ext cx="4824360" cy="479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4824360" cy="479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684360" y="2465280"/>
            <a:ext cx="6840360" cy="479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684360" y="3156120"/>
            <a:ext cx="6840360" cy="4791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539640" y="3817800"/>
            <a:ext cx="684072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539640" y="4508640"/>
            <a:ext cx="8280360" cy="479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8"/>
          <a:stretch/>
        </p:blipFill>
        <p:spPr>
          <a:xfrm>
            <a:off x="395280" y="5172120"/>
            <a:ext cx="8280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314280" y="1662120"/>
            <a:ext cx="8515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4:0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