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589-AB42-400B-B1C1-4ADEDC5A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58C-C5D6-491B-81AA-FB794327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CEF67-9BC8-47E3-96BF-06AB1D58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DE7C8-54A9-4434-ADA8-65E621C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AEE81-226E-4FAD-9CF1-F51FA11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68525-C3FF-44A0-BD76-BC4A9CCE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FCA42-D493-4860-B51E-63045F44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BC482-7440-4925-BB3F-74617718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D25FE-19B7-4AF8-B60E-E2BCA87B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60E41-0C40-45E5-A7B6-E496719D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A3A2C-A8A8-4E22-8307-7F65930C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B5BD1-24CF-4FF7-8459-1912B7D6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D27-2DD5-4319-AAF4-C7219E98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F4D87-BA24-4020-9F0D-7D6A7671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FF060-FC11-49C1-82C6-5C0FE85A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6C7E6-791F-4031-955F-78628302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CE9BE-30A8-48BE-B405-D00D8A32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383DA-2E5F-48E3-841E-E3269BD9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1469A-1129-4B55-B525-0FA54304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63ECA-58F2-41D2-AF5F-31CE5FD7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2D6EC-2A49-46D4-A25F-1180B6A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F7DC3-CE50-458B-9E98-DBAA03CD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DD185-E921-4AD2-AC2B-61FA404A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355-D569-4BE7-8328-7622389B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2F63B-1C18-415C-B692-99600FF2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CBD05-8E5B-4C51-BCAD-D9C3B105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6C2D6-ABDA-450D-800F-B2792157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08115-0018-4FD4-81FC-4162F40F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17D54-26D4-4795-AE2E-F80CBDA4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CB96A-80DB-4550-B165-610ED101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D67E0-025A-4586-B41B-AD1AE150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D5AFF-7D97-450D-828A-27F4176C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FE71-E357-4CCF-84FE-4B4356F6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22171-9C78-4C61-88E7-1CEF3E84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1286-A455-4519-ABF5-C02B77C5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9131A-9302-4BD4-87E1-B85AEB86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E3659-18FC-4FB5-82C9-364A3267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7FBD7-8BC4-4C39-8DC0-E965454B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ED490-19DD-4882-893E-422B8925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D43D3-6F3C-4BE4-BE8A-C851E3BF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DE62C-08EE-4E6B-BEEB-6984F23C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D490A-5AA5-4116-A38C-0D7232AC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BF88F-C453-4AB2-A4A2-0BE510DC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F0728-A9FC-4B71-954B-ECA13DC4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B80AC-25C9-4248-B9A9-DE0E83BE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BCA1-1FF5-48F5-8050-E8858F38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1893D-9181-4F46-8DFB-CE23291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45A31-56B1-42E1-AE5C-5D5772D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455A4-426D-441C-9FB1-04212B88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D3AED-6F5E-4446-A454-9E4BE752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5F49B-DE14-4752-83FF-B45CC40C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80BA5-DC08-46F6-A135-E2D6B220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4E0E9-0547-4C9B-ACE5-A02794A8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B7403-C5D5-4AA8-AAA9-8C45F365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D3476-697A-42F6-8928-133746F8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908DB-387C-4477-B536-EF650A38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2E49-C6CC-41DA-8CE4-1753741A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6D014-B301-4EA7-8618-259E4CBF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7C500-9E82-4E2A-8873-D3356883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E64DC-24B6-4B77-9E5B-9A243921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BAD50-7847-421F-BAC0-D6EF39E3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A32B8-46E0-45E7-A239-5395803C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06D89-955B-4807-8865-A2917DA8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633EA-A0C7-423B-8E74-26D5F2E3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DE041-CA7F-4033-B5F9-0F5F1604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0EEBE4-921C-47C2-BD3F-7A7D12BE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FD3C0-3235-45C9-9747-CDA4DAAA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8603-4036-4A4D-B787-C6494E2C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2C10A-FC3A-408F-B4D6-BEEA4995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C8AA3-66AB-4833-9256-5D13C655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A60A8-CFA7-4A83-B999-0C358D02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5290D-BFF6-4D9B-82AD-BF135E6F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08A0A-A026-4669-95B7-50CD5D3C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23021-6A4C-42B7-AD65-93AC012A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BA112-1A19-468D-A9C3-84E64122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C2A28-FF48-4AF3-9911-633E0550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A89B0-48AB-4837-90E5-1F641D8C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1F4AB-7327-44D3-839B-4E915564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2F23-76BA-42A2-B74F-F3C0B7F8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AF25A-703D-4FDE-B56A-EB0F5B63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54EF3-E1A7-411F-B939-ABB17609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C70F9-8146-4BA8-831A-D624338F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E5BF4-049A-4924-9FE9-134FD04A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69AE4C-B857-4A07-BE07-008E3DF3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9179A-8FA9-4E4B-BCBC-8278B80D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EFC4F7-C387-430C-87D9-F252177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89F19-6F4A-43CD-92B4-4C4940FF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1FFB2-0036-47DE-A73B-D2AB4B50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E937D-7911-4AD3-8850-9F780E8F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6FD5-197B-41BE-A185-4165649A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BBAE7-EFCB-4677-A88C-20FE5EE1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7CC4B-B431-49B0-977B-B93668CF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ECA13-1068-432C-B1A4-205856B5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17D70B-5CF0-4A64-8297-A7273B9A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A2166-8985-4E2D-BE0E-07DB577C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69F89-7230-490D-A96A-4B708432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74C5A-E609-4793-B2DF-C6FACA8C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1657F-FF7E-4287-9522-350BB37E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E63EE-862F-401B-B1FB-16279D03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38E6F-1019-49BD-B26C-283DE10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2A88-EF31-46A8-9D0E-3748D14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0473A-625E-43BD-8BAA-A85269D3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0EE4C0-6C91-4D51-89F5-724DF659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8BE681-780E-451D-B75E-EDAB2755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D3AD9-0938-46A0-89C1-11A99FAD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6E5CE-9FA8-49BD-92BF-673A6BC7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28EAF-C890-46E7-85ED-878C2D14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FC7F6-6BC4-424B-AA68-DB4BFD29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4DE0A-DD07-4EE9-B822-7333CBA8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9C60F1-21C8-4B7B-9197-1858F65B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B72322-F404-4CAB-B827-D47C501D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906-4FEC-47AF-8BD2-2B1F8548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E612-22A2-439A-8D1A-E3CE9307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6CBA7-A85D-4E0D-ADCD-8E01F588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05FCBA-102C-4264-B932-1044F7CF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AA47F-78DD-4399-84BB-E57F5562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83705A-29B8-48B8-9C84-4C122E60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5659DA-6366-4D3E-89ED-2B37ACB3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86E559-B172-4F99-BE45-568A0621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AA2474-4E26-444B-8760-167CAAD3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396F7-B58B-4FD6-9784-26C7A75E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BFE56-154C-40B8-B654-FDD1E160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65DF8-CAA9-41AC-A05E-298F5677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7139-585B-45D2-9FC5-51499382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E6DA8-4DD6-42B3-BBAB-FCA38655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C32A9-3859-485E-BF0A-F1B6A1C5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32494-593F-4111-9094-53F7C522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5903B-7B2C-454E-8430-9F1A3043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2D288-2D4A-4CB4-814A-43B12AD9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12C764-B495-46C2-977F-513879FE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6DB2C-6D39-461F-8BB6-6961873F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057C10-155E-4285-B252-45738B69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ACF03E-BE10-40CB-A9F3-3BB9C8C7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7817F7-A0CA-446C-91A9-8B98C470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C177-5F13-4633-950A-90355391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A20560-D250-4267-AEC5-E7336E9D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CAA661-2014-4B50-8316-A1C7D1ED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FDBA2-B8BD-49D0-928C-7EE37174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575D22-1CD9-4A37-B4F7-FCF09BCF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954599-DE41-41AE-A09D-B3D108F8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BE14B-D6D6-440D-AEFA-0C42B3FA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5F1F2-3ACE-47EC-BAFD-8A74EF44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E6C08-9577-45F5-8814-D355E7B5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F1732B-4E79-4BF7-B1D0-B238F59A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AD4CC4-A5E9-443E-B82B-BD149CCF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B9CF-1828-4C1F-9230-FF8AA014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400A0-D8B5-4BA1-9356-4BC4F0B0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0946C-EED9-469B-BEEC-20885B27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FE85F2-6D37-45E0-8A95-EE6FE45A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AF2AF-280D-4406-B849-E95BD2D0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AE4663-485C-462D-AF63-FD112E2A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D30145-44D3-43CC-861C-772CAC0A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F82DA0-AB7D-4F64-AF17-4BB7F96B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FDD4C2-3360-4791-9CC2-F3BBE8EF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69066F-38B1-4CDC-8293-05025256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61833-41DF-4CF9-9027-A82360D5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61BF-04D2-43B1-B725-60234813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195B2-C73D-446B-8F51-6B2D079D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F7178-A924-4BFF-9652-11070AA0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839B2E-5863-4DAF-9955-36595B0C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1544FC-96A0-43DB-AFBD-3EFBE1B8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33EE8-6441-44CF-9B78-591C5F4B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ABAAD-D11A-4136-B9A9-2A7D2E00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EB37BD-39BB-453B-9372-AFF7EEF7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676C25-CF69-4EAE-8972-B44FB777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CFB3FE-B9E3-43D6-9830-6A99F456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BEC2D-DB0E-4E89-AC28-E256B40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2DF4-C6D8-4299-B7FF-77DBAE41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15ABEE-4B81-4980-9E7B-656A7ED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F8CEA-6803-4D5A-A81F-8E4B5C4A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5D024B-777D-4E32-9BCF-01319077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D11527-6D2E-4745-B26F-DEF608D3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162D31-7DEF-485A-8D13-9CB9ACC5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DB9634-4B82-4AD2-9F8D-532250CE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13B41A-A227-4037-BD0E-8DCF2AAA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4C5217-08C6-4C09-94BB-E3C122ED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BFEC9A-D3C4-4FA7-8ACD-29EF937F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8E052A-477C-40AC-B9E7-FD6AF77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296F-7E0B-4CB0-BD02-9BCF9FD8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EACAA0-A5C4-4687-9C03-02A13404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158EB-7608-4634-A4F6-741A3440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2819C8-CB2E-4B56-8F01-DDBB8698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492AA6-A6C8-4DBA-94AD-F2CEE531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B504A6-12E6-4D2A-B552-74BD6D3D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6D5BF1-9993-4D57-A560-9605FC69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E43907-46F4-4361-A071-A144C30C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8C3FBB-F51E-44ED-943C-25BA545C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5A392E-7D1C-4A16-BD65-9CAACCD3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9EA5C7-4633-467E-89AE-442A0C01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4290-F50D-4323-AC09-0AC050BA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826571-DADD-4E7C-9BD5-FA906519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4CCDDE-E4CA-44CD-9285-4840A52E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1342C1-E9C6-4462-8BFF-9586563C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85553C-6563-4ECF-BD9E-123282C7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BE38C6-5391-4695-9940-2EA898DF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3E1E51-044D-4290-8D2D-C344C510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4C22F5-3788-417F-9F53-04521A7B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F1B9-4005-4364-AA03-32B81023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B230-5E92-49FD-84B1-AB7B7DDA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E39-1003-4246-9F11-0F8EA85E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7D66-3EA1-4424-91EA-BEE89A8E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2703-0B14-4500-93E7-77AED78F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56E2-340E-4035-BCBD-E096BE95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7C10-1A6C-413C-AE4E-91918887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2BB3-28E8-4529-93E7-AB313F54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C2D6-9F06-49DD-8CF5-D0DF0519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0B2A-E06D-4F6F-8EFF-9B76D257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B4CC-564F-4D6B-ABF3-0AD96D40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16424-F263-4223-A228-0BD15E95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D962-AC03-45FA-AF98-7C6F890D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EF5-8581-41B7-9D5C-84DB5C15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6460E-7575-4747-AF6B-DF5282E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9EBF-DCE7-412B-B3D4-0EF5EFA5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ADB51-6DED-433F-926D-DB885891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A2BF4-B5D9-417B-AB62-5A6C7F1E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40735-40D9-4C0D-8755-B7C673D1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D53D-F82F-4842-A831-B0C8AFD3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4172-A0FB-4245-B2E2-FAC63116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F434B-93FF-40D9-9057-89406DFE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E6B4A-9F62-49D2-BCD4-DECEE4C8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8F66D-4150-414C-8703-676B24BE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899-6239-404D-8091-4386AC9A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EA3CA-CA21-4668-8DD5-49F45A0D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D3C77-7095-4C28-B0E2-4A7FE9E2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BC94C-275F-4230-84CA-44ADFE33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29855-D2AC-4D8B-8250-2EE97C75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AA2A3-9AE0-4C55-A82B-CA7567B0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C11CE-196F-4119-B0F6-CF38312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2D825-9B99-43ED-9328-1A851188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6649A-08FB-4B01-A53B-E775D76E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01285-9DC5-4393-A22D-9D68BF21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0EC05-63E7-41B5-AC8C-8679E970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C8F-57F5-4BA6-9D44-438ADEEF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60914-25BA-47DB-88E9-1BD3863E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A7F62-1A5A-4C72-9E2A-8FC4773C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69176-D2AF-481B-B929-20B13E60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93CED-991B-4AFA-AB5B-1592BB4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E8329-457A-404E-B854-1D16BA62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9FF51-5419-4356-99B3-85765447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35EE8-9FD4-4C85-9140-0CECB7C7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CC624-2EC5-46B1-AFB6-8BD64AE6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0DC53-CD02-4823-BFD9-4C9DCAB0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AFDE4-12BB-4780-90DC-574B60C7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F09-DB15-49FE-87F2-9E8A6016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E655E-D8FA-4B8A-B7B8-2F9E9E61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6FF54-1CC4-4362-984A-90AD1F0F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9C73F-E276-4C0C-8F82-7F35F1ED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6CC0D-69C1-4F6B-9EE0-7EE3D144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2DE78-C74C-40DB-AA43-67F9258F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F427-5F05-47E4-845F-23B0154B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1FE7A-EE77-4666-868F-BBF7C3F3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3B35B-0F32-472B-88DB-6FF746E3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2DEAD-1103-4472-AE14-58597381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E14A1-C698-4E3F-8000-4F5F576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649-D561-4A30-9121-AAAF3EBD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474CF-29C3-44DE-AADC-3DA532B1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D594D-0352-444C-8B4C-60EA854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71A11-1B4F-4296-9AE1-D30CFE00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DAE5E-FA04-4E37-9D9A-EBEAC71A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A360F-0BEB-4E72-A123-06035EB8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CA1EB-F8CC-4E1F-A967-006D506C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E4F55-C665-43B7-B125-78FC6437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BE306-22B3-43FF-A4CD-F64C8B04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9E1F7-A1B2-4D3D-B14C-D4BE1EEA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43407-1B90-4E8A-BCB1-B902AE37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1FC-1B00-472E-8681-E43696C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52624-E3AA-46A3-9CB9-ACF17FE0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AC998-6E93-4691-9091-40A5992B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DC3B8-64AB-49DF-873B-730FAD8C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FF52E-1E60-4458-B07E-79D38D5B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A8D89-F33A-4B63-9BD3-488404A9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C74ED-CFC0-4923-ACF7-E80F1ED6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9AAAD-78EF-4FC6-9922-2B55C7A5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57FE7-BBFA-4AC1-A3FB-56A54CFA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6E0F1-333B-4D77-9A73-E1ED9E2E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AEE99-7C98-410C-9753-62D2148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EA52-C0D5-4BA8-9BC7-B81010DB62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1301-5B41-4BF0-9B6D-4DD94E6040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50CD-7A77-4CFC-A2C9-D53BFDB216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C102-F9A9-4E1A-9FB3-B824FA9976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963C-F3F2-4C4C-928C-25B4577DE8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A3CE-C4B1-4377-ACD3-74A7830247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2E22-376B-4804-9AC0-7671264281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35CB-F134-44E2-89F0-324E845F0D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659D-219B-4832-91EB-85B6A1F0D9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51EA-1DE1-4497-A165-7D8D1D4BFB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90A2-4CAC-407F-9B99-07326773DE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7874-F9AB-45F0-A48C-E868A690BB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0A60-D50D-4B56-9011-1E1372492B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F64C-66F9-4481-85C2-80D8171A04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561D-696A-4D4F-835B-D58FF8DE15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28C3-9011-48F6-B072-5B36644604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B881-2F83-4500-B462-CCBF2B49C9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4BF3-AB92-4EB8-95F2-F0CEA2504F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F09F-9320-4D29-BA66-5EC759F457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6B95-D505-4AA6-BD79-76C3C61C7D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35E6-AB86-489F-8B77-540459ABDC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5132-9F3F-4ACF-A495-A898106494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613F-A5AD-40BE-92DC-416751585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C099-06D1-4AF9-B579-FEADD9D03A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B239-DBAF-476D-9910-308AF8D728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5235-E191-4382-8FC9-248E4AD4E7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6B2E-8C98-4834-96C6-B007278E7C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A8BC-4FAD-4A32-B82A-068DFCC271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389D-8BAE-4E5A-A750-5B3F393212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2B81-92C7-4328-96EC-B5ABD85BC4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3B52-7B36-4B29-8BF0-488FA8EC86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F0BF-B6C4-49D5-B441-F14ABF1A27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A392-D4CD-452A-A262-8EF468F2AC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085E-8920-4CDB-BEB1-D8552BFD22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E35A-8067-4FD7-A218-0536DE0EC6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FE2D-AD67-49CC-8964-0ABDBC1212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B148-BF76-4EAE-B826-D86F824476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B09A-E803-47A8-AC70-72819B4150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3B2B-73F9-48F3-9CC3-DE0CCA2D1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0EEF-F20C-4924-9A05-37FD168E7C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5F5A-D93B-4BCA-A9D9-28FCF1ABB1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66CF-DCA2-43A2-825C-5BC36B2FD5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17440" y="2965320"/>
            <a:ext cx="870912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533520" y="1081080"/>
            <a:ext cx="80769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509840" y="2367000"/>
            <a:ext cx="6124320" cy="21240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1547640" y="3732120"/>
            <a:ext cx="446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66760" y="1023840"/>
            <a:ext cx="861048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552600" y="933480"/>
            <a:ext cx="8038800" cy="49910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4932360" y="1009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1835280" y="19018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274320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4932360" y="43657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504720" y="2185920"/>
            <a:ext cx="8134560" cy="24861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2050920" y="3860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304920" y="1305000"/>
            <a:ext cx="853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719280" y="990720"/>
            <a:ext cx="7705440" cy="48765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6012000" y="1268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5881680" y="43210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8686800" cy="6534000"/>
          </a:xfrm>
          <a:prstGeom prst="rect">
            <a:avLst/>
          </a:prstGeom>
          <a:ln w="0">
            <a:noFill/>
          </a:ln>
        </p:spPr>
      </p:pic>
      <p:pic>
        <p:nvPicPr>
          <p:cNvPr id="1021" name="图片 11270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5058000" cy="229572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11271" descr=""/>
          <p:cNvPicPr/>
          <p:nvPr/>
        </p:nvPicPr>
        <p:blipFill>
          <a:blip r:embed="rId3"/>
          <a:stretch/>
        </p:blipFill>
        <p:spPr>
          <a:xfrm>
            <a:off x="3693960" y="4390920"/>
            <a:ext cx="50580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76440" y="2000160"/>
            <a:ext cx="7791120" cy="285768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12290" descr=""/>
          <p:cNvPicPr/>
          <p:nvPr/>
        </p:nvPicPr>
        <p:blipFill>
          <a:blip r:embed="rId2"/>
          <a:stretch/>
        </p:blipFill>
        <p:spPr>
          <a:xfrm>
            <a:off x="3330720" y="2608200"/>
            <a:ext cx="50576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247680" y="824040"/>
            <a:ext cx="8648640" cy="5209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755640" y="4869000"/>
            <a:ext cx="460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9:3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