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B43B-0348-4BE9-AA45-3DFD29E4A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3367-3EE4-4D3F-90D5-AA6089321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5B7EED-38EC-4B72-9FC6-0814BA79F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6060FD-99C6-4A72-BF6C-861A03600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6D5C4E-50A2-4258-A7AB-30CF5DD39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DBD54A-747B-44CF-AC9C-1501F765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DE81D7-25C0-4C42-8726-58BD3CA0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A67725-ED5D-4B1B-83E3-712D2186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CFFF50-8F9F-405D-9C2C-3AFD7469A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F14E93-A3B3-4318-8DC7-C908E8AE0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6285A8-9D59-42EF-AA6E-1789038DE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13E9A4-BBF2-41ED-BB5F-D753ADBD2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26FE-AB20-4920-A41D-7DA7FC1EC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E0A49F-B7F9-4F01-BFD3-017A6C586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05822A-5232-472A-91B6-7C4CB04FE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E46EE5-36C3-4375-8043-8B9E0CCBC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6EC03E-9D05-41E8-9747-5D8D22223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590BF8-03F3-4D30-B4CD-512699B36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DC7E1D-CA02-485E-BB95-B202ACB5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6BFB5D-1B48-4568-AB10-6DA63928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305155-1E24-4DDE-AB11-45A6BC60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2FAB1E-2E7F-4458-867D-C09A7F6F5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70A58A-DCC2-4453-A623-CD87AD232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39F0-B6AD-4909-9115-6BF177126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08744F-4F3C-4C5D-BF89-1AF2F268D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F4500F-0DEC-449B-B9B2-F941BB43E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69C7BA-4708-414F-882E-7D823633C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69AEF5-DA56-4CC7-8D97-1678F097C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2DED67-A9DE-46C5-B6EC-B36F1BD05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1D34B4-41D0-452B-A004-168744BE2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EA9C0D-F6C0-45EB-A353-5202C5488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B795E3-B1EA-4617-8C40-104529BD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B7A9C8-922E-4A48-976C-6C6CCE08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EBFA15-55B4-4874-B985-5EF47312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5A999-B67A-4003-8F2C-2E278A3B3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495321-7AD3-4B34-A4B3-9520C8ED5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01BEBB-1E93-4B83-850F-0BB29AA81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57040D-50CB-452A-88CF-2407E0E90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9DD7A3-B671-4D2C-8AC3-8EF9985E5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C24FE7-6EE1-4C2F-9BAA-58E956854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58C6EB-6072-4693-B2F0-4F3A2DB33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D9815E-CE0B-4398-8052-D1F24AB21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0D2705-6077-49BB-B5FB-9FE79778F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2B65FF-A7E6-4CC1-80F5-ED7ECD082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186AC3-DC5E-4A36-B4D5-237FC9C8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2F658-5459-4EB9-BAAA-54FDF3C18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DA7D95-2585-4436-8D33-5B003D66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C2F4FE-6345-4114-9FED-479DB927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EA734C-587A-42B6-A613-195D8183E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CD5A24-F1AD-4917-9A9B-5976B0F2C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5231F0-69C5-4532-B6B3-0860A21AA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C192F4-1AF8-48AC-831D-85755683F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D7AFD7-DCAF-4AB9-9C09-B3B398C29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B2B92A-EF35-4B4D-9315-223466BEF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4FE47C-98DE-4314-979E-35A2DB336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9461BD-8C4E-4EFC-8070-CB8B4A111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469E0-F0B6-469D-BBF0-3CB5683B2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05931A-DB7D-456A-949E-4E3BF925D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482834-9837-45C2-A23C-846B7E7C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E34E86-99CA-4BD7-BB9B-6E47BD2F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174248-0357-4A71-830C-0E453FDF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547752-3642-41DD-8904-9207DB604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2A8151-8D8A-4AA4-8374-4C8E9825F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C2BE93-9803-4437-B346-BA141122E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DAE1BB-3948-4533-8442-F8997FE35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C2D04E-6619-47D9-9089-FAA01FEC9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B7104D-2F53-4575-85CC-A907861D8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0CA91-212E-4201-AA75-1346DE882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A6493B-C0D7-41F2-B257-9AB57CCD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81373A-07E0-4F34-AA51-164087CDA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0D4232-CCB5-43D6-93BF-5931B6581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C51DE7-DBD1-44DC-A98D-4AE0F7CF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3130E7-E863-43ED-BD99-671571FE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6573CB-1FE9-4474-92CC-B928454E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BFBEF2-18D0-488E-8AFC-1AD81172C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C6A144-37A9-4ED1-9D31-967E01E42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10236D-014E-4FAE-B4A6-A47BA11A9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AEB931-B707-4105-8393-69A2485A8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E1E41-E7F5-4E52-9990-1504E30F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29626C-FF9A-4BAC-B69A-086FB92C7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7F2F12-7B41-464E-9776-AB21A2CBF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8AAE8D-B2F7-4E93-B5F5-6C1C473ED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41C2B3-6107-4C2A-98DC-DF49196B9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C3C2D4-41E8-45F5-94F5-3D79AEC55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8CEAC8-32D8-4B4E-90A4-1607C0E3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F744BB-5792-4D14-A402-D039ED0E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FAA27D-83EE-423B-99C2-B4BC5064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D7D095-91E7-44A7-87A9-CFACEEC9A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C28507-4AA6-4B11-ACA3-34F3C10B2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69687-3A4A-4144-B6CC-F26D9B334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3521FC-11FB-403E-9461-2956091B2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B5A317-E054-42B0-B489-4892A28A2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3323C3-8A80-4A03-A86E-C9673F03B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CAA7DD-8C78-4EBE-BB5C-CC6321C6D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FB77D7-08D4-48A1-A974-C397742AB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3FE6D8-EBC3-4EE0-81EE-26000F03B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69FE58-1368-4254-BCF3-E5C6979C5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043C6E-7CAC-4FCA-B009-8B9A83EF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44D153-C94D-4EE0-A9CD-A61FDBCE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665EF3-A93F-4B1F-B9F4-615E2146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D71B3-A1D5-4B4F-913F-E2F30180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C69FC4-CA61-4EEA-B1C3-AFB7953B2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BF40C1-A57D-4C35-9310-E00585848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5F8EE8-1983-4174-9423-91A0E700B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EF6FB5-04F3-4782-B3B9-ED8B17CCF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E5F9E2-8CF6-4FEB-A3B8-57966E9E6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FC8220-2A79-4019-817A-514B2B675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99DC81-FE3E-4992-838E-1C4869442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2E5444-6156-43BF-A79B-E51839994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7E2D67-5119-451A-8868-641FF9045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F273AA-D97F-4314-9131-1EEE6191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5DD7-80BA-4002-9281-017A7BE0C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4B4E8-6A6D-4F94-93B6-FD4A9246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34E877-6F9D-4672-A63F-F6BDD847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B406F0-A07C-43E9-A6D7-0F3218C2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E312D3-7520-44F1-B63E-5AF6B394B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E8B371-EA17-42BB-8FFD-2243D343A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56A4EB-CED3-4805-89B4-35C50C8A4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8DDE12-DC3F-499A-9DB8-0C6664D13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D8B098-0837-4D55-A975-D1186649D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78D875-B5B2-4B03-90CC-206F0DF87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55270C-BEEF-4F3B-BE2A-09635BB3A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B40C6E-5A56-4AF8-9546-DAA58C2CA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C08AD-D4C3-46A5-8820-3BDFB774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31BEAE-6360-4F1C-B1B7-CA71281ED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4E7770-FE19-4101-83C3-FACC35C7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9013A3-98AE-47CF-B49B-DBE319E2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954095-6953-4689-99EC-3C929EA1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05B76A-2D39-4202-BB5B-46ABCAA33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5E4949-71CF-435E-A620-AF4E339BA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48D356-1A7A-4136-9A08-00D88A321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5FE733-D928-44E5-B030-126BAC61D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CC161E-9BAB-4C51-9C5A-168554396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AEEF9C-AF5A-4749-9979-E405DEE21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1D469-B458-4601-BB20-2E3570A0C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86D247-5E8B-4B3A-8D75-5654087B7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AF46BC-647D-43BB-9E14-B51570FA3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3E6404-2B02-45CB-970C-F237F5802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FBE799-D448-41E5-BA43-BD3355D2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22C060-5CC0-44D6-B561-D8B6C215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B50D5B-FDFF-4CC4-A787-C393F3BB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7EB63C-1896-40DC-BE4C-EDBAB70D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287F6B-64A1-49C2-9AE6-A70EC738F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904239-0711-4AD6-AA93-C1A96207C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A84747-BF42-4C9F-A0F2-B39455994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93615-2EF3-43C3-9334-88AF37400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AEA22A-EF0D-46BF-B102-9CC2CA76A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33DDD5-40BE-4475-9B2D-D394C8EAE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4206FA-4BFF-46BA-B3FC-3A3182064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A16391-C6A4-4AA6-ABE0-398AFEFDB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42EBB7-52DC-4BD0-8EA1-0F014E72D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98D1F7-DC28-407C-BE73-1F3D4344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79ED96-D695-4C59-AB8E-3E1EDC9B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5FBF43-E1F0-42BD-A966-B06C3AD9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E55EB3-FB39-488C-B3D4-40F9497E0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776E75-FFC8-44B1-A726-20B8CBB3A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21E94-696A-4047-BDE1-94DB52491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4D6C0D-F930-414E-A3DC-0F9CDF272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C02AB0-3AF8-40D8-A9A3-C74C17944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3E7ADA-2B55-4E80-A82C-EC4876B4F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9EA9C9-C41A-4BDB-9146-94D9BF644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622F6B-6DDF-46CB-9DCA-7F3B8CF4D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5B3D17-3138-401F-8A22-ED4CC846E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AEB87B-FE1D-4EB8-B170-939877528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DBC8EE-2557-4025-A542-02DAD57A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8E5BFE-37C7-4874-85DA-8B83CA81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647E76-6275-4CF3-87BE-67257905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FCAD0-2D22-4E64-AF20-C0A7C3EB4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955753-1F17-4B3B-8AE7-CAF55329D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76A115-14EE-41A8-A9EE-B1A491320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3CFB1C-54A6-4A5A-AD62-1AB7DCADD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26099E2-93BA-4428-ADA2-32C22B1AB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7C5C673-5F20-4219-90D5-88DE22734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310C9A7-FAAA-4088-BED9-86832349C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7B1573B-30CA-46C3-A385-CAFB66A4E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98CFDB0-E4E2-464F-87DE-CADE5DABD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A71804-3DC1-44BD-B388-9FC816ABB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89AF9F-086F-4F52-AE9A-36FF12BC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5F1E9-E7D9-414A-B25E-EA2D23502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286F5B-60A2-40D0-A7EB-D38DB0E7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CEA1935-0044-4DA0-9B27-85DA5617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A0A8D8-151B-4EAF-9DA0-9CEE299D2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E51DF59-4A9F-4B6B-BFD3-7337E6A3D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208491E-7C3D-470F-8EE9-2276BC1F0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A3E59D2-0A8B-4879-8967-1CA614526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7B398C8-4394-4500-8C1D-B044E0AF9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1EAAF94-2840-4178-8111-077DEA985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AC89765-C5A5-4CF3-B1FF-DB0132C7C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403BDD5-69E2-4AAA-9D2A-49C16A7E8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17ECC-F799-420E-8DF5-E987EEF7A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165B1C5-60C7-49CE-84AE-877F6D6CB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4D6544B-6EE3-43C7-9497-2811FA3A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128ECA-DD9F-408D-A688-8C1AC2DB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E1B30A-79F0-4A3A-9A20-AB6BD5FF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23BD4D4-5286-4E71-A319-F21ADEC85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961C89E-61A6-4735-BC8B-5E92787D3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68128BB-C7AA-4B39-96CB-376286D74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F307F-58FB-4937-936F-D626E726A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462F8-7B07-42C6-A9F5-968FA43E2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370A-2CFD-401F-B98E-C499E1DAC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81971-AD44-48A1-9BE5-E8CE0626A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992F8-270A-4586-AA46-0AC44FCF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A60FF-A386-431C-8CF9-FAE3F242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C2787-FC13-47FC-B893-66638137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BF330-B334-4F63-830E-76ECA4C87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646ED-C599-499F-9894-4663F9776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0D387-A947-4AAB-878C-C15312981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835D3-37A7-4A0A-AB78-6B539D3BB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DE81D-9649-4BE8-B430-58528B6DC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4DE1E-0140-4B73-9CF2-29074FF76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618C-FB0B-46E9-A799-493E836BD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6231B-6A9D-444A-93D1-D54E07ADE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C1428-EC2C-4AD0-AB2A-AE0BCC515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C9606-0488-4D5E-BBA1-FD6E6D7C3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36C19-73C6-4049-932E-B14070B7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B4B7B-954D-4E58-A826-B5F043A6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123D0-6DFA-4F67-98DC-D520AB87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5BAD3-4DE1-4277-A94A-7F4FB1A8F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D47DD-87BD-45E1-A92B-578AFA81A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D5D32-1F3B-4021-92C9-AC80CB18F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3A4D6-05AA-4BA5-8BBF-840962D06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BFBE-A24E-4CD9-95EB-B3B663773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201C0-F6E9-4A66-BAD8-F80486385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8C0EC-D716-415A-B539-3C4B60168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D123A-A6A5-4CF3-9630-088F2A90C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9FBA4-E763-4E57-8497-DC38D69FF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C4B07-5786-46C7-AFBD-144F225D6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E6355-29BD-4D6E-894C-900228DC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57141-03EB-4A81-A031-A0E12DFB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CA19F-3C64-4ADC-8445-1EFD6128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7302D-DFA8-48EC-82D7-C3FEEFE06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28AB5-7CB2-4F52-871D-7C22C3E64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694F-49B7-4C91-B73A-0305D7AF0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47B25-8971-4CA3-9DD0-D1CC781AE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39396-9C5B-4579-952A-2AADBF5F9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A3790-4722-4EDF-BE08-431A063BF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08DC0-757E-498D-A8B4-4F01B49FE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651206-1B8F-4BED-AD6C-5F99D722C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B7DC11-BFFA-49FC-BEC0-B48FF9DE7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D8D38-BF18-45F8-BF44-46B606341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595E5-D37C-4517-B5A5-D031A85E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3A7B3-5380-40E9-952A-2E14B755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A0DE4-44A2-448D-AE50-8DECA86C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549A-4331-46C4-955F-FEB10EF6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90ABB-D1D3-4A89-9894-525019AF2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9E7C5-D31F-42C2-91A9-3D002BD59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F2D853-961E-4BC9-B9A2-AA1D720B1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F7EA8-E9D6-49EA-AC91-198709AFF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951B0C-7756-4F40-B50C-DE2236CE1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B6BC7-E40B-44EA-8DE1-F98525964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E7FF6-E7A3-456F-993B-092C45114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E4ECA6-9308-4E4D-A8CB-1675B89D9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5E98D-D87C-4E20-A1A2-571780121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1F95A9-3918-4C75-B8BB-8B224F71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0F2E-3BB1-4A5F-82CC-791801A2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F45F6-AE22-469D-9A07-38463142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F8067-55B2-4DCB-A4E0-E98F0C49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58EF60-DE12-472B-9F72-439750BCC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3F6846-BDE3-4045-9241-A08FC8215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62FC35-C666-4640-A278-18CE56AFC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B02C6-AD50-4BC8-B91C-6F82FEADC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1321A5-46B3-4CC2-9281-97204F961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1DFED-3676-480E-B86B-3940E12D6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B91A15-48BA-4096-AA14-A30FDC10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31D4E3-2CD7-49A5-A0FA-BC614344F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AAAC-D3BA-484D-8A18-E21DED95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1D1AB0-AFB3-4128-B42B-0C35AC365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AE078D-A577-4195-BD29-4D98B36F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B34050-0D5D-4A10-8D1F-B4B9EAD6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36E9BA-A7BA-456B-84E4-772C4F0F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244B54-12B7-4281-A2BD-B577E5FAD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3687A1-3737-4DF4-9A04-CF5C62FDF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0E8C62-42C7-45E1-AB70-A90627195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9486D8-33B5-4EFC-A8E7-C43E9488C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094FDE-F9E4-431A-A881-CA9CAC778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F3D8C5-1BD9-4CCF-90C1-DEC480EBE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A34A1-68C8-4734-B7D1-CF5954F703E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B944F-0A21-4354-B0DE-ACD593363B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9EDFB-FACC-43D0-9FD2-D4790F3038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7FF7-0B2D-4887-B032-389F135558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7FBD9-7518-4B3F-8169-8A5B9374E7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E907E-F209-4C1C-80F1-576BF6E4BF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4BE61-6D5B-4B35-82C6-BDA8FAFF46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22494-9BFF-49FF-B05E-7776FBAB9F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3A46D-1E7B-4549-B68B-9438D36529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9F18A-7C1A-41A1-B23A-982C59A4BA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B134D-346C-4948-8CCA-2EAEAFE970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48C2A-1E60-49D0-9F77-89504BB747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4766B-AB8A-44D5-A573-72AEE9D6C7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475B3-CC86-496B-9858-0840F2C7FB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0F58E-3B96-4503-88EE-7F0C1DB387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51D6E-F3D4-4AA3-809D-E822F8739B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3F8AA-423D-48FB-A833-C5B9BAE9F8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3CD1B-C6A5-4A98-8414-B3FB7AE1E3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94B3C-026D-458F-9F83-209682E43A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D286E-1C59-4D7F-BE91-5DD2F620BA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6200-D7AF-42A4-803C-E064CD7613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4CCD4-4AB0-4C2A-B9BC-D7337CD51A1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C2D72-7C10-4871-B7E1-1C5475DA8C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5819C-CA0C-4B8F-B616-6E4FA4A492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511EE-3466-4E03-9FC1-0AA6479DC8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F4701-CC62-4C92-9700-2D5AB01ABE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55A00-C779-4CE2-A0FB-2A5BC59092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ADCBD-B103-455A-822D-7F467F6611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15C2F-52F2-4BE6-9CB5-5921215F85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ABBF2-F365-431B-9DD9-E98FEA2EC1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8D824-65CF-4FDF-B4DA-1817AB82F7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3C720-AEC3-40A2-A852-F35DD21955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6A12C-4F7F-49D1-91F3-BAC31A7034E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52EF7-48DB-4522-BE25-4008BA99534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AA8D7-6E77-4C76-8D89-30805BD5A6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0C572-DED3-4EA3-912E-432C43F669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F8221-94B7-4F0F-9A15-CF03539461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A4C8A-393B-48D9-81FA-ABDA0EB330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801C2-65DC-4167-8B6E-4E1E505502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461E8-6B62-4C0A-AB82-A2C59D3C11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1D625-94C3-4BA6-B621-D0A1935717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32303-B1F9-4466-9C8D-166CB52508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417600" y="3006720"/>
            <a:ext cx="8308800" cy="6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571680" y="765000"/>
            <a:ext cx="8001000" cy="582012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1042920" y="2637000"/>
            <a:ext cx="3097440" cy="44748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5508720" y="2637000"/>
            <a:ext cx="3097080" cy="44748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1116000" y="5129280"/>
            <a:ext cx="3097080" cy="44748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5"/>
          <a:stretch/>
        </p:blipFill>
        <p:spPr>
          <a:xfrm>
            <a:off x="1116000" y="6021360"/>
            <a:ext cx="3097080" cy="44784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6"/>
          <a:stretch/>
        </p:blipFill>
        <p:spPr>
          <a:xfrm>
            <a:off x="5580000" y="5086440"/>
            <a:ext cx="3097440" cy="44748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7"/>
          <a:stretch/>
        </p:blipFill>
        <p:spPr>
          <a:xfrm>
            <a:off x="5580000" y="5978520"/>
            <a:ext cx="30974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3" name="图片 1" descr=""/>
          <p:cNvPicPr/>
          <p:nvPr/>
        </p:nvPicPr>
        <p:blipFill>
          <a:blip r:embed="rId1"/>
          <a:stretch/>
        </p:blipFill>
        <p:spPr>
          <a:xfrm>
            <a:off x="204840" y="814320"/>
            <a:ext cx="8734320" cy="522936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2"/>
          <a:stretch/>
        </p:blipFill>
        <p:spPr>
          <a:xfrm>
            <a:off x="1835280" y="3687840"/>
            <a:ext cx="2376360" cy="44748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3"/>
          <a:stretch/>
        </p:blipFill>
        <p:spPr>
          <a:xfrm>
            <a:off x="4730760" y="371628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4"/>
          <a:stretch/>
        </p:blipFill>
        <p:spPr>
          <a:xfrm>
            <a:off x="5651640" y="3687840"/>
            <a:ext cx="2376360" cy="44748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5"/>
          <a:stretch/>
        </p:blipFill>
        <p:spPr>
          <a:xfrm>
            <a:off x="1619280" y="4638600"/>
            <a:ext cx="2376360" cy="44784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6"/>
          <a:stretch/>
        </p:blipFill>
        <p:spPr>
          <a:xfrm>
            <a:off x="2987640" y="5430960"/>
            <a:ext cx="2376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9" name="图片 1" descr=""/>
          <p:cNvPicPr/>
          <p:nvPr/>
        </p:nvPicPr>
        <p:blipFill>
          <a:blip r:embed="rId1"/>
          <a:stretch/>
        </p:blipFill>
        <p:spPr>
          <a:xfrm>
            <a:off x="514440" y="1228680"/>
            <a:ext cx="8115120" cy="440064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2"/>
          <a:stretch/>
        </p:blipFill>
        <p:spPr>
          <a:xfrm>
            <a:off x="1403280" y="3127320"/>
            <a:ext cx="3384720" cy="44784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3"/>
          <a:stretch/>
        </p:blipFill>
        <p:spPr>
          <a:xfrm>
            <a:off x="5176800" y="317016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4"/>
          <a:stretch/>
        </p:blipFill>
        <p:spPr>
          <a:xfrm>
            <a:off x="6516720" y="314172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5"/>
          <a:stretch/>
        </p:blipFill>
        <p:spPr>
          <a:xfrm>
            <a:off x="1547640" y="4076640"/>
            <a:ext cx="3095640" cy="44784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6"/>
          <a:stretch/>
        </p:blipFill>
        <p:spPr>
          <a:xfrm>
            <a:off x="2556000" y="4883040"/>
            <a:ext cx="3095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图片 1" descr=""/>
          <p:cNvPicPr/>
          <p:nvPr/>
        </p:nvPicPr>
        <p:blipFill>
          <a:blip r:embed="rId1"/>
          <a:stretch/>
        </p:blipFill>
        <p:spPr>
          <a:xfrm>
            <a:off x="195120" y="824040"/>
            <a:ext cx="8753760" cy="520992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2"/>
          <a:stretch/>
        </p:blipFill>
        <p:spPr>
          <a:xfrm>
            <a:off x="971640" y="2722680"/>
            <a:ext cx="5688000" cy="44748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3"/>
          <a:stretch/>
        </p:blipFill>
        <p:spPr>
          <a:xfrm>
            <a:off x="971640" y="3573360"/>
            <a:ext cx="5688000" cy="4478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4"/>
          <a:stretch/>
        </p:blipFill>
        <p:spPr>
          <a:xfrm>
            <a:off x="1116000" y="4437000"/>
            <a:ext cx="5688000" cy="4478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5"/>
          <a:stretch/>
        </p:blipFill>
        <p:spPr>
          <a:xfrm>
            <a:off x="900000" y="5229360"/>
            <a:ext cx="5688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图片 1" descr=""/>
          <p:cNvPicPr/>
          <p:nvPr/>
        </p:nvPicPr>
        <p:blipFill>
          <a:blip r:embed="rId1"/>
          <a:stretch/>
        </p:blipFill>
        <p:spPr>
          <a:xfrm>
            <a:off x="223920" y="1133640"/>
            <a:ext cx="8696160" cy="45907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2"/>
          <a:stretch/>
        </p:blipFill>
        <p:spPr>
          <a:xfrm>
            <a:off x="971640" y="2852640"/>
            <a:ext cx="5256000" cy="44784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3"/>
          <a:stretch/>
        </p:blipFill>
        <p:spPr>
          <a:xfrm>
            <a:off x="900000" y="3645000"/>
            <a:ext cx="5256360" cy="4474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4"/>
          <a:stretch/>
        </p:blipFill>
        <p:spPr>
          <a:xfrm>
            <a:off x="900000" y="4292640"/>
            <a:ext cx="5256360" cy="4474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5"/>
          <a:stretch/>
        </p:blipFill>
        <p:spPr>
          <a:xfrm>
            <a:off x="826920" y="5041800"/>
            <a:ext cx="5256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图片 1" descr=""/>
          <p:cNvPicPr/>
          <p:nvPr/>
        </p:nvPicPr>
        <p:blipFill>
          <a:blip r:embed="rId1"/>
          <a:stretch/>
        </p:blipFill>
        <p:spPr>
          <a:xfrm>
            <a:off x="195120" y="898560"/>
            <a:ext cx="8753760" cy="542916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2"/>
          <a:stretch/>
        </p:blipFill>
        <p:spPr>
          <a:xfrm>
            <a:off x="1042920" y="3429000"/>
            <a:ext cx="5400720" cy="4478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3"/>
          <a:stretch/>
        </p:blipFill>
        <p:spPr>
          <a:xfrm>
            <a:off x="1042920" y="4149720"/>
            <a:ext cx="5400720" cy="4478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4"/>
          <a:stretch/>
        </p:blipFill>
        <p:spPr>
          <a:xfrm>
            <a:off x="1042920" y="4869000"/>
            <a:ext cx="5400720" cy="4474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5"/>
          <a:stretch/>
        </p:blipFill>
        <p:spPr>
          <a:xfrm>
            <a:off x="684360" y="5603760"/>
            <a:ext cx="5400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图片 1" descr=""/>
          <p:cNvPicPr/>
          <p:nvPr/>
        </p:nvPicPr>
        <p:blipFill>
          <a:blip r:embed="rId1"/>
          <a:stretch/>
        </p:blipFill>
        <p:spPr>
          <a:xfrm>
            <a:off x="243000" y="1090440"/>
            <a:ext cx="8658000" cy="467712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2"/>
          <a:stretch/>
        </p:blipFill>
        <p:spPr>
          <a:xfrm>
            <a:off x="1042920" y="2795760"/>
            <a:ext cx="4465800" cy="4474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3"/>
          <a:stretch/>
        </p:blipFill>
        <p:spPr>
          <a:xfrm>
            <a:off x="971640" y="3573360"/>
            <a:ext cx="4465440" cy="4478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4"/>
          <a:stretch/>
        </p:blipFill>
        <p:spPr>
          <a:xfrm>
            <a:off x="971640" y="4292640"/>
            <a:ext cx="4465440" cy="4474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5"/>
          <a:stretch/>
        </p:blipFill>
        <p:spPr>
          <a:xfrm>
            <a:off x="826920" y="5013360"/>
            <a:ext cx="44658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图片 2" descr=""/>
          <p:cNvPicPr/>
          <p:nvPr/>
        </p:nvPicPr>
        <p:blipFill>
          <a:blip r:embed="rId1"/>
          <a:stretch/>
        </p:blipFill>
        <p:spPr>
          <a:xfrm>
            <a:off x="162000" y="663480"/>
            <a:ext cx="8820000" cy="609624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2"/>
          <a:stretch/>
        </p:blipFill>
        <p:spPr>
          <a:xfrm>
            <a:off x="755640" y="3141720"/>
            <a:ext cx="4968720" cy="4474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3"/>
          <a:stretch/>
        </p:blipFill>
        <p:spPr>
          <a:xfrm>
            <a:off x="755640" y="3860640"/>
            <a:ext cx="4968720" cy="44784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4"/>
          <a:stretch/>
        </p:blipFill>
        <p:spPr>
          <a:xfrm>
            <a:off x="684360" y="4581360"/>
            <a:ext cx="4968720" cy="44784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5"/>
          <a:stretch/>
        </p:blipFill>
        <p:spPr>
          <a:xfrm>
            <a:off x="611280" y="5300640"/>
            <a:ext cx="4968720" cy="44784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6"/>
          <a:stretch/>
        </p:blipFill>
        <p:spPr>
          <a:xfrm>
            <a:off x="468360" y="6035760"/>
            <a:ext cx="4968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10:13:51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