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CBD8-819C-43DE-8CB1-729EC9DD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AB3-EB4A-4AFA-8DDB-FFB6C706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3AC46-278F-49D9-9206-BBD6C655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D0F5D-2DA0-4E4F-9565-82DE6D16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CF20D-A5F7-4846-BD7D-4AAF01EA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75183-04BC-4C3B-8E78-069475AA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5283A-B8ED-4BC1-ADE8-09ABFB4E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6D4CB-B29F-41A7-844B-D5EDC11A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3857E-CEE6-4C4E-8ACE-D65AE15D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6A819-A2CE-4851-A62C-C486186F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884D0-AEC0-449A-A6E5-D9A70D48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3730A-42D5-4AAB-B012-2E074327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CD4-7D6B-455C-9787-3E6FA7B6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5EEE6-87EA-4204-B48B-897F179F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526BF-0781-4D37-BB26-71C8381F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BB415-6BA8-44B8-BA47-3A4754D6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E17AF-BB5A-4C19-A779-625DE0A2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4E86C-740F-493E-8F3F-ED3DD7D4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8A94D-A043-47C8-8106-5AFE9D98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3FB09-B435-4EB5-AEDF-43A6B7EA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86474-EC8F-47C5-8CF7-3565B10D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BF87B-FAC5-4630-BA57-E802AF83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13AC7-5D6A-4DCC-AF26-0AD626EE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7DD-C27E-4F3B-899C-84F8A269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7AFEB-ABA6-4D21-9D91-65C17258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282B0-FB63-4CCB-886E-51CBFEED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F5495-8819-4EBE-BAB1-D13E9B9C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C8F51-C08B-48AD-86A3-B806B98A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B584E-C381-4E1C-B6A8-42923C56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D0AD9-1F92-46DA-A3D9-B67F9814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A0355-6E38-4AB7-ACCC-79B78D6C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1E9E6-7CED-4A28-98D4-FBFA5FEC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1F863-3F3F-4E25-8C81-25D98972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A27DB-6684-46AD-B1F9-40E04FB0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D330-1C6E-4CD5-81D8-8810AB43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22DD9-6519-475E-999C-9514CEBA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C440D-7691-4EA2-BD3A-2FD3F74F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17F3F-47A9-4F31-99BE-FC34C394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F399C-32AA-4E99-A62F-2EBDDC11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53184-DEA4-467C-A903-61547B31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8053E-70AA-4D56-BD2D-BEF8EA9C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5E23C-1944-4195-9E87-6218E176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7ED5E-9F95-49F4-AF38-1EFF6014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EF045-1F63-49C4-800A-220D9D76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DC9DC-9C10-4C88-911A-988B3957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2D62-EBF7-480A-9971-0BF0CBC5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C9018-C8D5-4802-A9D8-A8EB0EEC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9F6E4-764B-4064-8D13-625D6BD2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D4FF3-DAFD-4717-8477-F12C7A88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D85B0-BDDB-402F-83AF-746A2096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CFC69-FBA0-4ABF-BD36-7FCCF8FF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2A3B3-524C-4494-BF5F-9286779E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8A7482-6043-4AB0-828C-1BF1DC00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4E848-EAF8-4537-A2BC-F0960A91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C290E-8686-4C10-A7A3-CB3DE42B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7F320-D301-4E8A-BD89-D2F5E56F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1699-C465-4B87-AE4C-8832F782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2EA08-E8F0-4F2B-A5AD-9CAE836D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5E618-BEAF-46D3-B9E8-4D04FEBF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3CDEB-336B-4C5C-B1B0-B6AA5C64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E3428-D2CB-47A0-96BC-33F39850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A758B-23FA-43BC-96A1-C9C34532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09DBE-983D-4383-A34A-5732E18E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1298C-BC2B-4DB1-B36F-30495896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0CDAB-2588-4248-A0E7-CAF06B4A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93374-F8EF-405D-85B4-52ABD6A5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9249B-53B4-41C9-8C66-5157286D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792D-B2E7-4CC5-A768-961CB362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8A8C7-9A0E-473B-89B5-5E6C6E25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0B3030-100B-4BDB-AED7-0E747C5C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0900CB-53B3-408A-8DF8-756EEFA0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E49D2-8F79-466B-973B-4A570108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86CB7-5B7A-4F26-B9B6-DF87D636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C56D9-DE22-46AB-893C-968D76A6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1D14E-D224-4837-95F7-3B7B5068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6FB70-7BB8-4005-BD5E-084EA648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F5A36-FEF8-4A7C-9BCC-76C313CF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83311E-FA63-4ADD-AA7B-DF7DD849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A277-E97A-4553-904D-5654ECD6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C95948-6EFE-41C2-A611-3F21750F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2C388A-17AA-45BB-9143-4C6EB75E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577F4C-08E1-4D0C-BED5-5945C03A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A36D6-7430-48CC-A370-0BB43CF0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799E9-698D-48B6-BDDE-59713579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8B4A31-0281-439E-99F4-5944C77B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BFD66-56B2-4726-83A8-A0C5B475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6A75B1-7628-4DEA-BDA2-96CF13B4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7CEDA-7C3E-4CA1-9EF7-CC1BC1E0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5F4BA-1128-43B9-9EE8-60CAC8AB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8C82-D0A3-41BE-B6B8-F4089BC5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DFECF9-AA4C-4884-B046-E77F842D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C6861-A173-456D-8075-7A0D2A3A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3AB15-67EA-448B-A643-82AFAB73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702AAA-D9C0-4E5B-9BEC-C0C39D81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9CFF71-81D0-4426-A83A-1662D4D3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9E9B6-15E0-42C4-B627-C859956A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B8C160-93CB-475D-9DA5-1A5C1DC7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F9BE5-446E-43CE-B844-E1932469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6403C2-9037-42DB-9B72-3E574072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DDEC85-9B35-4896-92D0-21955ADD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1BB3-685E-414C-BDF7-72852E80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8E7E95-2A1E-4A83-90B1-82FBE027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E61E8-59E7-41EF-8D3B-352C115F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10E32-483F-444A-AA18-CCA0116C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851EC-A508-418D-A984-3672E30A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6459CF-F61C-406D-A917-BEAC2208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42EA7B-D9FB-4452-9BB5-3A15CC74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2402D-2A2B-4809-B83D-75D9D980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A99B7A-8BA8-4B9C-903C-C35FFA0C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1CAB04-F3F5-4BFF-AF5E-10759162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F7839-E3AB-4CF2-A080-B127E18E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089-099E-41D6-B8D8-5E979495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92E1-DA8A-4085-8445-7F2F1211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61ADB5-6D3C-427E-A62D-4D25E3F9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73AD0C-C7E7-4BFB-836E-C385FA28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22EE18-392E-4350-90EC-5DBC6DC1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472B23-8F86-40BC-B7B3-BFBF398E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4C72C0-0FA8-45E5-B19D-03EAE3B4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0BDDE7-CB25-4FEF-9C06-E88F2983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40FC34-C00A-4215-B6BD-2F3194C1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C8697B-2F4B-43AD-8E88-E63D005C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9A6B52-07DF-4DF4-B380-FE199886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07CCD9-E53F-44D7-9381-9BC4DE64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15D5-701F-4280-B72D-D748DC59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D0147C-6A1B-44B1-B2B1-1A7CCDDE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35948B-1813-4E06-9DB0-45614FB5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DE23EE-8AC1-4D3F-9A81-860F8F3A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16E6BB-0F0E-4C40-8C5D-23FC29FB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7E688C-2E1F-4BA7-9DAF-1CC2D992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E26971-7A47-4313-9A88-62C30519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0919A3-FDB8-4C0A-A698-C175859D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5D740E-73CF-4C08-90DA-01BF6615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6FB1A6-A271-4C79-A6F4-E2BB2503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94709E-0342-4C1D-BA74-9F1F6B04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573B-9E26-4475-9B0A-E3E25899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07FF52-906A-4A55-A0AB-C5CE5F90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CC4492-5C6B-4831-87EA-2CE856EB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C54FDF-DF39-424B-AFBE-3E4EDC6D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EF790A-12F5-4AFD-8F42-725DBD35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C4E4AD-C46E-417C-97E4-5A9617B6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4A271F-C5E7-444D-BE1F-54298BD5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089CDE-5066-44EC-BAFA-6B2447A2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AD4BBD-534C-4EEE-A577-88F3983B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DA4948-320A-4834-9A66-5B4F55A2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481B15-7B4B-4CB2-8F27-B89DDFF6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5065-CF9E-45A9-AD13-5C9A7C8B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343D18-078B-47C5-9419-48195F52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B0F0EC-AF2C-433A-8820-CBB657F8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5439D7-F99F-412C-963B-B5CB3DB8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A069A1-D909-40F7-89AF-4E7B5D9C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61906B-8D1F-42D7-A5EE-24AE523C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2D1D46-E244-4EBF-AAF3-1240B539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80B15F-597C-4E49-B860-66C69633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B2C5AD-4193-4824-BA52-1302DCDA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11E540-12B4-457E-A620-BA1D71F1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000B7B-EAF0-44BA-94B4-7BD6D840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4F73-CBCE-4B6A-AA93-4A3BAE76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923833-8EA1-4ED6-B852-48A9B361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3D732E-ADFA-42A2-A670-9C17A352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F6B041-937F-48E1-B4B8-DFBF88D6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286238-4017-4047-98E0-37AA1E0D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2BA903-4DB9-4EEA-AB75-54017E34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FAF332-75D3-4DF9-9C71-8984B6DD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A5F970-E297-49B2-ABFF-F88DD3D8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14D79A-ED47-497E-9800-56374961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51F413-D0CE-454D-B36E-175184BB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21C45B-FA45-460D-A894-2DDF0BD3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355D-063D-4888-AF41-D9DD6ED4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4567A1-681C-45EE-914B-88BDCA4B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EA97A2-8E3B-4B9B-A6E7-A35F98A5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23E38E-660F-46E6-AA56-BE739666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39C754-B219-421A-A1D9-B29C2373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DFA647-4014-4557-B509-BEEC82FF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33959D-4B5E-4251-B35D-2B105CEF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36C77F-5B3C-4867-940C-AADCCF87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926C55-2664-4B21-9223-4617F55B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46FA44-53F6-48CE-AF57-1F75754A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B14CB9-FDCF-4EE6-B80A-250875DF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FA989-CECE-4226-BCE3-87E5F600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84CA16-15C6-410B-A588-3F0B23BD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60AB60-0FE3-4AB6-937F-2B2FC7E4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702412-F8C2-4C8B-B2AD-D686C580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68E4F0-04D5-44F4-8BE6-886DF544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860C08-71E4-4571-B363-9CF6007D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25352F-B911-480B-82F5-5CEEE5B4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D9FDE7-DDD3-4202-84EE-6825B77B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822338-799E-4DC8-A6DA-CB4F6EB2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019113-EA85-4EFD-ADCA-6D256F19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BC5C72-2C0E-4F07-9E64-4691CEBF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F640-FAC9-4100-99D5-3954D989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E90F7A-6ABB-48B8-9314-CA2ED30B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61A6EC-DA23-4AC4-BC05-4542300B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5D6774-0521-4C0D-A562-1EAAD683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EF8582-1FD6-487F-8E92-56F09982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9689F5-3327-4EB1-8CC9-F8FFBCDF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C5AF51-2D09-4D69-AD9F-F646B86B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5AAA7F-05C3-4879-9709-35981E68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42194-D502-48EC-8A38-4806974A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5CB38-5899-47BD-A317-5D26FA00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DDE-4560-4832-BA67-BFF58EB4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5A753-CB7E-48E3-8E23-6BAC9741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AAAB-1E82-44C2-9961-F0310A37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FF283-A6AA-46BE-BA74-B9703BC5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5B95-4D1E-4393-A29E-11DB9238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99FAA-6212-45DC-AFAC-89632676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B439-2697-43D6-B01D-592E68EE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7B416-BD33-44D1-AFA4-99EDE2FE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9AB4E-5B26-4F49-9725-2872F7F7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4287E-6243-46A3-979C-EF5F02DB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0B069-E29F-4CF3-B728-6666C2CF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7EB-BCC1-4F67-B405-18A1D8B3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AA8CE-D7F5-4D2D-A79C-0A847705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6316D-FF69-4E4C-B780-D27A2EC4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0C7F2-8703-4CB2-A358-7D519EAD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9048-B8E5-4DD0-A20A-6E950EB3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84094-575C-4AB0-9BD9-493665BE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35557-8FE8-4CF2-886F-FC991FE8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93E7A-F896-46F5-970E-BCB2B873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3280C-2580-4710-8DCF-68D02AD7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9EA21-10DC-415A-942A-991DC1D7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B5B39-1F3F-410A-BEA4-C5AA29A1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78C-9645-474E-AA83-13469769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0828C-1103-4BFB-9A5C-7188AAAB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66D94-2086-48B6-A7C9-EE645CA2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291C2-F949-44D9-A15B-1FE4F49C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2D128-9762-4C8C-8F83-FF228027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CDCFE-1AB0-490C-9D58-0B49A4F3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537DF-CBAF-4202-9DB9-9E39FAFB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0D357-F1C0-4314-A98D-9D50AFD1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84B9-AB6F-4F67-830C-791337AB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B4ED9-D446-4CEB-8751-8895FA1E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D62A5-3B5F-4717-B45E-AD3A93DA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EEC-AC01-4E4B-B14F-A19366BA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1061E-8586-4F97-976B-CDA19FBE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CAA7F-4168-46AA-9369-4989346E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5015E-9E7D-4DEF-913A-5212D95C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BD7CB-A2A9-4EC9-A28F-49CA0B8D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A2719-815B-4788-AB21-FF685880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913E3-5ED8-4134-BAB5-D7AB6637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3E92D-73DE-4C7D-ADC1-9780386A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FB73E-7BED-47E3-919E-6231DE5A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BD3E8-AD04-427D-8613-36CE8A9B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25515-3F06-4BCB-A912-24F3C467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A7C-E318-4E45-BCA5-AE6B33E1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2E11A-0318-49DC-A61D-5BFFB289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88EB3-8B3C-499B-921B-F190606B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5FA64-CFF6-465B-8C52-14C8D904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58FF4-327E-46F2-A790-76D5DB50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2C465-F36C-4832-99E7-56848E8D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90B2A-D334-432E-B83A-E6587EF4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21C36-0B5A-43F8-85DD-43BE0F63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2F1CB-9CF6-4428-88BB-D1F54D28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EFAEF-4454-4D17-89F3-48569FC7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F48C7-2EF1-4D54-B4F6-D19EFF78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6A7-8CFF-4CC4-90A0-C7DA7706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7E4D5-D0E1-40BA-A70D-5C7465D0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9D9F5-0F36-4319-9734-DAC49C67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76BDE-00A2-48BB-AFD3-312D5E58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AF63A-64C6-456B-8B89-AA5B23D5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A236A-46E7-4509-9FEF-EBDA9E19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F9A30-5D65-4605-A97A-D3EB2266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2FFA4-5E22-4978-8E70-2275A05F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89B3B-E937-492D-85CA-751C7866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21B9A-F614-4E97-A7B8-18DD0FD2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C3686-D965-4EE7-B91D-42EDB139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CC6-12E2-45EC-B3E2-752F30F1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82709-6324-4682-ACDF-6F2E5278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D437B-4D40-40CC-B210-C3E5C3BD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7233E-022B-4195-A3D7-AA441EA1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8163C-0BF2-4010-BD73-8801C631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24BE3-229B-499B-84B4-97F4A9AA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33312-121C-47AE-9107-451DF731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4D685-8203-4CDD-8C41-BBF05D46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86E2A-30A2-4A1E-A38C-701B327B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E7C5A-60E1-4C44-A62C-BDD525CA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39A76-5BC8-460F-8FB8-FCC9A1CA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85DC-5E76-4486-81B5-44673777E1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6663-E54D-4047-8F10-61F9555903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F109-63B0-4505-BE02-262628E167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B919-EA85-4827-B6D2-4BFDF5A4B7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0EF0-5286-4E7B-B922-4390EE7BCE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4618-DEB7-4DEE-AD06-63EB8409C5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861F-690A-4639-8FFB-15F812E17E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12CE-CDC1-4D9F-B46C-E70312AF5D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E1B8-9A91-499E-A948-D473EA5492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4EDC-EC76-4CA7-ADCA-A340C2A900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E913-B866-4BA1-A05F-F4C20028C0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BB67-7AB7-4BE2-8674-8CB7D793E9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C39B-CCF6-4F09-B40A-F0D5910A54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BA88-C309-4C70-9377-34B28BE701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A046-B46B-4ECD-A2AC-94E3FE29FD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AB5A-2E1D-42F3-8E0B-A0A82AAA99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54A1-B78C-4724-B9E1-47D4FE7FDD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5E48-1FDA-4D43-B6C7-6C43E89B8E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3C7A-CE06-4458-AEF1-F16532BA02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71CF-BC13-40A1-9166-2E769B5854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4D41-0C64-43DF-9DDF-C225D7A79D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A723-3D1A-4EA1-894E-D1B42065AF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29A4-F5AE-422B-BCC4-76BE14411D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A1A1-65C8-4D6C-B72E-47B8B55CC0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ABD0-F339-48E2-B24D-B8D9970671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003D-DCE2-4AC2-AAF6-B4C14BE60C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6CD5-6377-4B92-9A9D-C146A41645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231C-2D08-4DD9-8728-B7006E86BC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4A4D-585F-4AA2-BBBC-00AAE0BBC0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4ACC-78EB-4BE3-938C-15588C20BE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4CD4-48C1-4227-AA22-A754A18F68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6002-35F8-4C8E-A6E1-88610AC8DD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0FAD-916F-472A-8024-619C84E50B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0DF4-53AD-421E-8701-FDE890126F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1357-8417-49E4-A680-402928F244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FAF0-5466-44EF-821D-9CC99FAF7E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B20F-B387-4154-9E38-340B94DA44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07A5-7558-4BA9-A887-BB2442B1E2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3876-1F74-4301-A4E6-C2702C1867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F108-FD77-47FF-A1C5-D521FA5340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6FF7-2170-4CE0-9DCF-24E3853925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1701-AE66-4E0B-8F71-4E037A7EDC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93600" y="3105000"/>
            <a:ext cx="906300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414360" y="966960"/>
            <a:ext cx="8315280" cy="56098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476360" y="4365720"/>
            <a:ext cx="3527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619280" y="508464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1619280" y="580536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364000" y="4363920"/>
            <a:ext cx="35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5364000" y="5084640"/>
            <a:ext cx="352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409680" y="1652760"/>
            <a:ext cx="8324640" cy="3552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900000" y="2665440"/>
            <a:ext cx="360072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900000" y="3357720"/>
            <a:ext cx="360072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4"/>
          <a:stretch/>
        </p:blipFill>
        <p:spPr>
          <a:xfrm>
            <a:off x="5219640" y="265104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5"/>
          <a:stretch/>
        </p:blipFill>
        <p:spPr>
          <a:xfrm>
            <a:off x="5219640" y="3343320"/>
            <a:ext cx="36003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6"/>
          <a:stretch/>
        </p:blipFill>
        <p:spPr>
          <a:xfrm>
            <a:off x="5219640" y="4076640"/>
            <a:ext cx="360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171360" y="795240"/>
            <a:ext cx="8801280" cy="59533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042920" y="398952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4788000" y="3976560"/>
            <a:ext cx="30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2411280" y="469584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1403280" y="545940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6"/>
          <a:stretch/>
        </p:blipFill>
        <p:spPr>
          <a:xfrm>
            <a:off x="4356000" y="545940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7"/>
          <a:stretch/>
        </p:blipFill>
        <p:spPr>
          <a:xfrm>
            <a:off x="2411280" y="6208560"/>
            <a:ext cx="388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888840" y="338040"/>
            <a:ext cx="7545600" cy="63867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403280" y="436572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332000" y="494172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403280" y="558972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258920" y="6280200"/>
            <a:ext cx="504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181080" y="947880"/>
            <a:ext cx="8781840" cy="49622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900000" y="2981160"/>
            <a:ext cx="554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554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554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971640" y="4724280"/>
            <a:ext cx="554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6"/>
          <a:stretch/>
        </p:blipFill>
        <p:spPr>
          <a:xfrm>
            <a:off x="900000" y="5343480"/>
            <a:ext cx="554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523800" y="219240"/>
            <a:ext cx="8096400" cy="65433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187280" y="378792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187280" y="4437000"/>
            <a:ext cx="49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1332000" y="501336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1332000" y="551664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900000" y="6135840"/>
            <a:ext cx="496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233280" y="1033560"/>
            <a:ext cx="8677440" cy="47908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1116000" y="371628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1116000" y="429264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900000" y="4927680"/>
            <a:ext cx="554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328680" y="939960"/>
            <a:ext cx="8486640" cy="54194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042920" y="3514680"/>
            <a:ext cx="49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49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971640" y="465300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971640" y="530064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6"/>
          <a:stretch/>
        </p:blipFill>
        <p:spPr>
          <a:xfrm>
            <a:off x="900000" y="5877000"/>
            <a:ext cx="496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6:0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