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A62D-AC4B-4193-BF98-B9CBE0CE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E41A-BA9B-41F4-A25B-0D8203E5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29DE7-CAC4-4EAC-AFA5-E954511D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369EA-EE13-4794-B1D8-29F2A358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74A50-14BA-4269-AA2A-6B7FD1A6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D0611-5C15-4793-BDC0-8C20260F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F5073-C2D8-41BB-9D3D-ADFB758F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35E0F-DE27-4D15-BBCA-6942E350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1DF9B-903E-413F-8D25-C6421B8C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CB794-526B-4002-B2AE-29504052D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5A302-0AC3-426C-BBB5-C12927EA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2D0A4-3E68-453C-8A01-F404D1E3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95C1-59A6-43C0-AC69-CF812DE7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4D643E-FCF0-4B38-ADFB-263D8788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55079-E333-4BD5-B9AA-F2B1C6E4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606A4D-57A4-41A2-88F8-68B710C8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F380BF-C069-4803-8EB0-19802434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A505E-548F-491C-8DA9-37D6E002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86D27-F572-43D0-8C4B-65EADF5C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EAC30-A554-4046-B0B3-5F4F24DD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624F3-7A0C-421D-BCB2-0E128148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4C7C3-0869-45B4-8EA5-06728C7E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830CA-5E70-4F94-9516-59B40EFE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3B23-6304-4B69-BA4B-5D213F77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5E6E4F-DC21-4076-A081-B254D558B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5F093-2E46-49FF-8FCF-3CB294BB6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073BD-DBE3-4D61-9BB3-CE5903F9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C9A21-2E2A-4FB7-903F-79F2A34C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40837-10B4-4D7E-AB2D-EF4F70B3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3652C-4B00-4F4A-BB97-EBC62A5B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21144-EC08-41A0-9EE6-D54F5D83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0BE6B-FD9A-47E8-A016-773AB6F8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D3FEA-CA31-463C-A900-D193512F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A0B66-4711-482C-8042-0165636C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A17D-0F9A-4677-BBFA-F4490174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24D4A-37FA-434F-B9E6-C5F6BA21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9C566-3E9F-4296-8D21-AF9141E2E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DB740-6E16-46D5-838A-FDB39AD4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15795-5D72-4C95-B291-DAB177E5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9BA2E-3409-43E5-96BF-82C10828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17EBB8-72E1-4C46-A3C5-38E70C67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313750-93CC-4687-AE01-E8229DB9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4A412-0E2E-4417-853D-9A4D689C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BF5E86-833B-4E29-9CFF-A0C3E290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D738C1-12C0-4BE5-9601-0C7C93A2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41E5-CAFB-40DD-8B3E-DBBFD425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B130E-F953-4BF5-BAD7-A7902E1D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4968A7-2C67-4461-9F1B-70175BB1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2D775-F02D-4BEA-B20C-54184671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15C132-94AE-443C-976F-10C4742F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9A6544-C00D-47A2-81E7-39ED35C1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0325DF-CCB0-4E75-BF9E-8D79CF621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609D5D-D48B-4086-B61C-9782D8ED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88291C-2BDC-4319-842F-393EC239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D46561-730D-4AC1-A34B-790544FA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21E59D-5C4B-4D48-BA2F-44A47A2B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EFFD-457A-4F00-8E4F-4E475C29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F385AF-4EF2-47AA-886F-AA6FABCB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262EE6-1669-46E4-A2E8-905DA4C9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FAFEBA-B92F-4445-B618-E57455A1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0C08AD-2983-436F-BCA9-3FCF2FD6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61FDCF-0D6D-43DB-B856-6E2FB24E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BCDDFE-6C34-41FF-9114-4D8A971D8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B2B504-85E6-4E0D-966A-20287EDAD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63797B-2912-498F-8F11-FD705310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BCD2E7-5F78-4197-983B-BE684FC9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A5DB4E-2BFD-4FBD-8704-14DCA5E9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92F5-7601-462F-AC72-1C99B370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0EC63D-3652-4473-8BE9-039BEB39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239522-A155-4534-B15D-1C8D736F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DC7C41-09CD-4BB8-80E4-E99F8021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AC436B-5F6E-400A-ABD4-27ACF474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4D3D20-3CFC-4658-8867-4B5CE498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E69CB1-F758-4BEB-8504-27FAF0D9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EB3076-E408-4779-9B2D-02571B24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E4D888-37DD-4A9E-BC73-BF34FA3FB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5570D9-5657-4A0A-BF89-0DAE3B4BE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977C24-178C-47B0-8065-60B109471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0F22-DE10-49B4-AAE3-771D1FD2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CB59E8-9890-4065-951C-E2050F40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CD773E-04F3-4D80-ADEC-105CFD39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1F9E12-B974-4028-85A8-DC77CFEC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F8C64C-50F1-4F34-9E9C-3811741B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7F50CC-CF5F-4609-A38C-9C9961D3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DF98EA-1006-43CF-99A0-F408A9FB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97F923-FF58-45F4-803A-2C7B55A5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254303-0D1C-487F-A6EE-9CEF3FED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248B9A-676B-44D3-A663-46C0CD00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0F968B-15D3-45E2-A46E-72A4FCDE6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31E1-C55E-450A-9275-F2EBF2C2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1D6D17-EA36-45A7-9D83-A1178B17F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9B5A29-1136-4624-9399-308DCD93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83C4AE-BEB0-424F-B0CE-C20CB03E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A822FB-C9A2-41B1-9B52-6F817A37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EBB5B1-2048-4B86-B547-3CAC36D9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5C5A9F-77E0-447B-BB52-2DB724B0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F0197A-DD49-4262-AD92-E96DCEF8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E934C3-8E28-4CA2-96FE-D04EA886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464961-7D54-420C-9E92-0597B0DC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8DCB49-A3A2-4BD0-9FDE-C5007B6C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12E6-2C61-426E-8444-3DC959D1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4A6D88-C939-4F57-90B6-E1F808C2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B7B3BC-A9D4-43DF-BE40-7EE0ABCC8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3C302A-EEA5-49E3-8BC1-655DF501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39A1C6-CF38-482D-B59A-397CE3B37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63089B-7FEC-4E39-87C7-F8096AF5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810363-F2F3-4E55-B0DB-3191C931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3F94B6-C393-4AF7-81F1-0E7E5A37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73A94A-2255-4574-8D31-A99B6178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307D6E-190E-4982-8805-EB0A279B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17DC7E-BA52-4BF2-B7C9-3D9DE2CA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2D20-B182-4BEF-A571-61A84E0B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48A5-288E-4506-8201-C8D49586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DA6861-7F31-48C9-BA14-CBB94442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6A22DE-DFB0-44B7-9952-A0BFF276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E08D07-1AAE-428B-92A3-58C60B1D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154300-B7C8-433D-9386-993DF403B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43C7C3-7D34-4EA6-A721-F40CDDE77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690BC5-9FEF-45C7-A946-80FD133C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87285B-6B4F-4CF6-842F-4624FD8B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D3B195-5F3A-4D9D-BA58-FB4308D2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A8EEA9-A73E-43DB-8F87-1ABFE370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9A2564-AA14-4A3C-AD27-BF43C42D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FC62-3ABC-45DE-8280-A375F425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12F11F-E714-49EC-A43B-6AC24505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F6AC92-500D-4F07-ABE8-681B4327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7C3DE0-9B4A-4B7B-BBA4-B085E790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1BE91B-54BF-441E-93A6-7FDCE087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914672-1943-4BF9-8AF0-56A4B49B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432AA0-3D88-4E65-947E-121CB815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ADA3CE-0F64-438A-AB53-5EDEB43D6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18598A-4EAC-40A0-975D-6200ACCD5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74EDC4-E262-4C20-A028-3440F6BD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C60E10-A3F0-4DFF-BB36-959C7D76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2949-A792-4566-8FA4-C89D4CF0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1CFB6E-0DAE-4588-B3A9-811C73AA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9C0E9B-DEF0-427D-8D00-33AD2ACB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C73D00-8807-4945-9BEB-B0A1A0E2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2F8BFE-49E9-4800-9220-D31E6C19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C9096D-3F9E-4D22-A3FA-7FCF1C1A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B7CA7E-AFE7-4621-81D2-2C5B706F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9B34FB-FCD0-479C-9B95-B5B3FB6E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D51B3F-2FD4-4716-8752-77E16BCC3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1BDCC3-F78C-4B80-B558-E83AC31B0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CEA81B-3CEC-4B4B-A40B-3600A665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B8BF-5E2A-4EC3-B476-1774BD13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90529E-C834-4DC7-9D56-38414752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B2BC71-4B54-4440-8952-2781B168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AF4A87-072A-4EF9-8693-A6484C25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F15883-E886-4A28-864A-2F8A5074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6FD4C3-1A6E-4157-A00F-D7CBD632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1FA5D6-17BE-46B4-8027-F8D58A8B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6E854F-6F87-4BEB-9C3A-DA209F79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CB00E1-1ED1-4822-9C2D-8E6CBD9C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54E1D7-A1A4-48D8-A2AF-18B9AEA4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E9ABF4-4BB2-4E4E-9231-3CECDF016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0502-A3EB-4CBD-BA6C-B7EE9C802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C224D1-A697-426D-9334-08F776BFF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756077-7959-401F-B586-B1728C5F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9CE23C-5A3A-426B-A77D-A35048EB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EA448E-73CC-4FA0-9DE8-E6301439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4D3374-B8BC-4F67-BCDB-FF8102F0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9A62BB-288C-4013-82D6-8A648E35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CF1A24-F30C-4C68-A465-2B962908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143EB1-51D8-48AC-98B4-4142AFD3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EE86FA-75DA-4642-9B81-7AD430A4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8452C1-F697-4AFC-90E4-062D8D5A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CB254-AC5D-4535-BE49-1A1DE6C2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E855C3-66C6-4560-BB8A-00F50741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232B17-6C36-445D-B0CC-2812E1E1B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CC5288-47FC-4864-8FF3-D16DE7B42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A3831E-E37A-4F74-8BC1-041F1B8B6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F3E12E-ED68-41C5-9A1B-7E56849F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8F53D1-6727-484C-B26D-74DE2BAC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21B6D2-F7D0-434C-84F0-2143EEEB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FB7853-E040-486B-8F2C-8EBFBC08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ADBF74-F470-44B5-81D6-75B8DCE9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5923CF-1D07-4367-A19F-87C1A135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1EAC9-AC8D-46B5-B766-5BCF383A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D78607-87FC-45D5-97E2-FEB5D69F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9CAFED-4C0E-4971-926B-1C6F7444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D81733-F0DC-4AEC-98A5-F39674EF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54123D-C0CB-41D0-B78B-7FFCAF61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DE86D1-9638-4778-BFB1-1C85BB91C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C25003-CFEB-4903-85C0-A324F5485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A17166-A08C-44D2-85FD-4B2E56B0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0D37A1-EF3F-4A21-A7F7-045F4943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23BADE-C916-4682-9045-D1DDF15C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581EB9-8933-4B17-A3AB-1DB27C21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C4D3D-FC6F-4F4C-A05B-4C01E222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9E4F9E-4E57-4741-B4CD-33684465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2A3F08-F1E9-4171-9C7A-C8636BE7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CF09ED-79BA-40F6-8746-2AFCB1B6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AC8EDF-D675-4BAE-BB18-1859A94A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E37718-1B6B-4FCC-A1A7-C73AF5D3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A679BD-5908-4EFD-8977-B36B4FA2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3BC20F-9320-4A5B-A29A-8F6E0EE80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12FC4-FB15-4DA1-8709-593E7655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AE49F-09B1-4E8C-9B86-E775E031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AA3D-02A4-469D-BC93-61F92488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34EA1-E02A-45A9-AAB4-4A436BE1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49A13-76D6-4827-9A17-32FFEAFA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32CEF-EFEE-4972-ADAE-845305CB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16DE1-BB5A-4DE1-8C80-3EEC3F43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AB971-520A-457A-9BD3-DE04141E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1D8AB-DEF7-493E-AE24-554BC741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D3726-386C-4404-8C04-C292AC4D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BD3CD-68D7-4CD5-83FA-23D46F67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BBC72-41EA-49DE-B897-E48012C8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75E8A-00C7-403B-9BE5-B1B9E0E9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74D2-CF09-45F5-A9F8-C7EBC37E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5C83D-C82A-4603-B159-17A6545B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369D9-F0FC-458A-BD35-1386E992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C1BBC-456D-41EC-8F6D-A048C075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556BD-A6B0-4FA6-9D78-CC6DAB67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09321-F64B-45B0-B3EB-97A13AAD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9B6BB-2E31-4DE0-A127-42728474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41058-63B9-4472-A03A-826A2906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F33D9-B9DB-4B63-AE6A-9B8641656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14C5F-D7E8-4BE6-9491-9277CFA3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CBC70-BAEE-4A97-A314-571DA264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D745-7416-4A60-9081-30C03F60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4F20F-0122-4A21-AA27-34FDCA96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4D1E1-1A67-48FE-81EF-9D749172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0615F-4006-42C8-86FE-6534B62E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9B5D7-C28F-46E8-8159-0BB8157E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778CB-5AF7-48F0-8891-326A5FC7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2F8F0-E961-4CC3-A5FF-65B05FB6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89CF2-AC9A-4656-8CF4-56591A2B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D5756-1528-4FBD-9E13-77E916B8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D7676-0D2C-47D0-99A3-4B3F021A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216FE-9234-4E75-B352-8AD3AAB4C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A931-3D11-4260-BE7E-A0489F77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E0E09-6AF8-4959-B6D8-E341886C0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82345-F2B1-434D-A072-561AD3A1F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C28CB-ED85-4BDD-9BE6-4F738CE5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71A9F-B41D-49BB-AB80-1A2122F4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12C38-B80F-402D-9DD8-EB796901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A71DF-642C-4371-AC4E-BE072C20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BD488-7F37-4154-8423-40E1E28F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5AF46-7DA4-462A-9CD6-69C0BDA4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61F47-2F65-4216-BD1D-043264C8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67F5A-E4E4-4A3D-A530-A0371ACE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569B-F49B-4139-9E21-114D90BD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6E2F7-24E2-41F8-9145-D16DB86B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D0778-67A1-4ACD-A2BF-042873E8A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E6FC7-E385-4FF3-915C-02A2B242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C6AA0-1E35-4570-8E76-6BE2BC42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EA2F9-E34A-40EA-A57C-9140E669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BEB16-2A8F-4009-9376-59885EB6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ACE48-0084-4975-86AE-BCC3200F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C54FC-6F34-45AD-927D-0402EB3C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4BDCA-3FDC-48B5-AE6B-2E951537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C9BC9-2723-43AF-AC9E-F2EC7D4A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89A4-2D20-445C-9D66-10EC1D57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78CBB-91D1-4AEC-AA89-66A77409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67456-D678-4390-9199-44B59487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32CD1-8676-4AD7-9148-8F862C27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EF391-498C-4604-8919-2E09F7FC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6A683-E0E4-4B4D-8DA2-758227C9C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CF0CF-4520-49AB-B742-DBC9434D1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94030-6DEA-4BEB-894C-C1E19F78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5E21F-14D4-4EB0-948B-34B691FE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9ED86-4221-47C0-8F20-A991AB66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4194D-7DE2-4475-887B-F6C2D54E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2421-46D1-47A8-AC84-94F92A37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6704B-C144-49F7-99A2-EBB7D3DD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C4798-4B4E-4A60-947C-673FE088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72568-C580-4BE7-848C-7963EA76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2737A-D902-4C47-9178-B648833B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FCE73-8715-41C1-99CE-199529FA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9B8E2-BFC1-4D9D-8DC2-BA5ABA9DD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909CC-82EB-4FD5-9833-BD84E35AA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7016D-4072-46E7-BA4A-A7877DFE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E106A-0597-4316-AA56-89C63B98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05CC2-4C73-46AB-9FD1-6DA450B8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CE71-01CC-4837-B298-233DFE99B7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7B17-7DB8-49CF-B1E9-4919CAA7FF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C7FA-5B9B-42D9-945C-C6BAFDFF24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F5BC-75A2-47FD-88B1-99B307F5C5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F4FB-BE02-4DCB-9955-40C2362313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E390-70E6-482D-A202-01A3271B70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5B1F-E306-440F-998B-7468574621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6C9B-D76C-4B1A-BC75-BE1CD8D690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4E24-0368-44E9-B404-E79D8B30BD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0619-22D0-4125-B1FB-7F2D34C1BB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25B9-8E9E-419C-B308-709BE2724F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BC11-FCEC-454D-8369-DFEAD5D5A5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7DA3-1AE7-46C6-990D-2B0B09210E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F2E5-F72E-4476-9AD0-9348B5D221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780C-A318-469B-A689-67C0647BE0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53F3-1A7B-41FB-947C-A6DCD3D8B6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EC2E-B476-45A2-AB56-A0ED043F22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1185-287A-4566-BE7A-FE415F75C7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B666-2FED-4A7D-98E0-96A7AF3460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F84D-332E-4170-9A49-7E7D54CBD1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1206-A317-479C-80CB-766261C726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0FD2-182F-4202-8B0A-B2A8F6CD91A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051F-2149-4747-BAF7-0C3F247D7E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33F3-3E94-480F-8F5F-D744319EC5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EBBA-8941-4FC9-B52F-6C5A258EA3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9BC7-9993-45A5-AD28-3FE282156A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8A26-546F-4559-B504-FEA9EE116F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DA98-D338-4B56-A3EC-4131106E6E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4CEA-3BEE-4FBC-A98C-1225DA3F85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8C88-8C86-42E4-ADB7-2D752B5A8E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F0BB-B1E4-4628-AD2F-134A4C9993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92BD-1D54-440D-883D-F927164C59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E9B8-3EAF-42BB-8099-EEA801D9C6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C618-23EE-4B20-86E4-2CE23A49C0D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4A93-5C90-44A5-B4F9-6F8D4BBD7A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7A61-104D-4C59-B7EF-BCC42CF02B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281B-833E-463D-B82D-00D7B49E4C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FE27-EC3D-4D93-B7CF-A5836207CE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BDBF-27C3-439C-88B6-478615CC74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DCA7-1FDB-487C-8B54-43CDC496A9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D55A-178A-4F92-87C2-EBD19FBB81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6258-6179-4906-82BD-0D256DFC5D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687240" y="3122640"/>
            <a:ext cx="808704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104760" y="1339920"/>
            <a:ext cx="8934480" cy="1847880"/>
          </a:xfrm>
          <a:prstGeom prst="rect">
            <a:avLst/>
          </a:prstGeom>
          <a:ln w="0">
            <a:noFill/>
          </a:ln>
        </p:spPr>
      </p:pic>
      <p:pic>
        <p:nvPicPr>
          <p:cNvPr id="1043" name="图片 2" descr=""/>
          <p:cNvPicPr/>
          <p:nvPr/>
        </p:nvPicPr>
        <p:blipFill>
          <a:blip r:embed="rId2"/>
          <a:stretch/>
        </p:blipFill>
        <p:spPr>
          <a:xfrm>
            <a:off x="1143000" y="3630600"/>
            <a:ext cx="6858000" cy="22575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2916360" y="1773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4"/>
          <a:stretch/>
        </p:blipFill>
        <p:spPr>
          <a:xfrm>
            <a:off x="3203640" y="227664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5"/>
          <a:stretch/>
        </p:blipFill>
        <p:spPr>
          <a:xfrm>
            <a:off x="5651640" y="177336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6"/>
          <a:stretch/>
        </p:blipFill>
        <p:spPr>
          <a:xfrm>
            <a:off x="5148360" y="227664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7"/>
          <a:stretch/>
        </p:blipFill>
        <p:spPr>
          <a:xfrm>
            <a:off x="8496360" y="1773360"/>
            <a:ext cx="46836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8"/>
          <a:stretch/>
        </p:blipFill>
        <p:spPr>
          <a:xfrm>
            <a:off x="8288280" y="2290680"/>
            <a:ext cx="81288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9"/>
          <a:stretch/>
        </p:blipFill>
        <p:spPr>
          <a:xfrm>
            <a:off x="2771640" y="4292640"/>
            <a:ext cx="812880" cy="447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10"/>
          <a:stretch/>
        </p:blipFill>
        <p:spPr>
          <a:xfrm>
            <a:off x="2771640" y="4941720"/>
            <a:ext cx="812880" cy="447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11"/>
          <a:stretch/>
        </p:blipFill>
        <p:spPr>
          <a:xfrm>
            <a:off x="5940360" y="4221000"/>
            <a:ext cx="812880" cy="4478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12"/>
          <a:stretch/>
        </p:blipFill>
        <p:spPr>
          <a:xfrm>
            <a:off x="6300720" y="4869000"/>
            <a:ext cx="8128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390600" y="1085760"/>
            <a:ext cx="836280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图片 1" descr=""/>
          <p:cNvPicPr/>
          <p:nvPr/>
        </p:nvPicPr>
        <p:blipFill>
          <a:blip r:embed="rId1"/>
          <a:stretch/>
        </p:blipFill>
        <p:spPr>
          <a:xfrm>
            <a:off x="414360" y="1333440"/>
            <a:ext cx="8315280" cy="419112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2"/>
          <a:stretch/>
        </p:blipFill>
        <p:spPr>
          <a:xfrm>
            <a:off x="3348000" y="142704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3"/>
          <a:stretch/>
        </p:blipFill>
        <p:spPr>
          <a:xfrm>
            <a:off x="5910120" y="2320920"/>
            <a:ext cx="505080" cy="4478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4"/>
          <a:stretch/>
        </p:blipFill>
        <p:spPr>
          <a:xfrm>
            <a:off x="6761160" y="2765520"/>
            <a:ext cx="504720" cy="44748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5"/>
          <a:stretch/>
        </p:blipFill>
        <p:spPr>
          <a:xfrm>
            <a:off x="3276720" y="399096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6"/>
          <a:stretch/>
        </p:blipFill>
        <p:spPr>
          <a:xfrm>
            <a:off x="2743200" y="4451400"/>
            <a:ext cx="1973160" cy="447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7"/>
          <a:stretch/>
        </p:blipFill>
        <p:spPr>
          <a:xfrm>
            <a:off x="3851280" y="4941720"/>
            <a:ext cx="1225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774720" y="905040"/>
            <a:ext cx="7753320" cy="55432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2"/>
          <a:stretch/>
        </p:blipFill>
        <p:spPr>
          <a:xfrm>
            <a:off x="5292720" y="2421000"/>
            <a:ext cx="2808360" cy="44748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3"/>
          <a:stretch/>
        </p:blipFill>
        <p:spPr>
          <a:xfrm>
            <a:off x="5364000" y="2997360"/>
            <a:ext cx="2808360" cy="4474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4"/>
          <a:stretch/>
        </p:blipFill>
        <p:spPr>
          <a:xfrm>
            <a:off x="5221440" y="5056200"/>
            <a:ext cx="316692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5"/>
          <a:stretch/>
        </p:blipFill>
        <p:spPr>
          <a:xfrm>
            <a:off x="5292720" y="5632560"/>
            <a:ext cx="3166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图片 1" descr=""/>
          <p:cNvPicPr/>
          <p:nvPr/>
        </p:nvPicPr>
        <p:blipFill>
          <a:blip r:embed="rId1"/>
          <a:stretch/>
        </p:blipFill>
        <p:spPr>
          <a:xfrm>
            <a:off x="865080" y="757080"/>
            <a:ext cx="7591680" cy="592488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2"/>
          <a:stretch/>
        </p:blipFill>
        <p:spPr>
          <a:xfrm>
            <a:off x="5076720" y="1397160"/>
            <a:ext cx="2735280" cy="4474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3"/>
          <a:stretch/>
        </p:blipFill>
        <p:spPr>
          <a:xfrm>
            <a:off x="5076720" y="1930320"/>
            <a:ext cx="2735280" cy="447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4"/>
          <a:stretch/>
        </p:blipFill>
        <p:spPr>
          <a:xfrm>
            <a:off x="5003640" y="4624560"/>
            <a:ext cx="273528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5"/>
          <a:stretch/>
        </p:blipFill>
        <p:spPr>
          <a:xfrm>
            <a:off x="5003640" y="5157720"/>
            <a:ext cx="2735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52280" y="1090440"/>
            <a:ext cx="8839440" cy="467712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826920" y="3341520"/>
            <a:ext cx="424980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826920" y="3933720"/>
            <a:ext cx="424980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971640" y="4581360"/>
            <a:ext cx="42498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1" descr=""/>
          <p:cNvPicPr/>
          <p:nvPr/>
        </p:nvPicPr>
        <p:blipFill>
          <a:blip r:embed="rId1"/>
          <a:stretch/>
        </p:blipFill>
        <p:spPr>
          <a:xfrm>
            <a:off x="162000" y="1081080"/>
            <a:ext cx="8820000" cy="4695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755640" y="3255840"/>
            <a:ext cx="547200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900000" y="3860640"/>
            <a:ext cx="547236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826920" y="4437000"/>
            <a:ext cx="5472360" cy="447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826920" y="5084640"/>
            <a:ext cx="7561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1" descr=""/>
          <p:cNvPicPr/>
          <p:nvPr/>
        </p:nvPicPr>
        <p:blipFill>
          <a:blip r:embed="rId1"/>
          <a:stretch/>
        </p:blipFill>
        <p:spPr>
          <a:xfrm>
            <a:off x="166680" y="1400040"/>
            <a:ext cx="8810640" cy="40579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900000" y="3573360"/>
            <a:ext cx="669636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900000" y="4221000"/>
            <a:ext cx="669636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4"/>
          <a:stretch/>
        </p:blipFill>
        <p:spPr>
          <a:xfrm>
            <a:off x="900000" y="4854600"/>
            <a:ext cx="6696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157320" y="879480"/>
            <a:ext cx="8829360" cy="5838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1042920" y="3701880"/>
            <a:ext cx="424980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826920" y="4365720"/>
            <a:ext cx="4249800" cy="4474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4"/>
          <a:stretch/>
        </p:blipFill>
        <p:spPr>
          <a:xfrm>
            <a:off x="826920" y="4941720"/>
            <a:ext cx="424980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5"/>
          <a:stretch/>
        </p:blipFill>
        <p:spPr>
          <a:xfrm>
            <a:off x="1042920" y="5589720"/>
            <a:ext cx="42498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24:03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