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483-D75A-42B5-ABFD-771DE7DB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722-F96B-493D-8E37-26F8DF52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B348F-5130-413A-93AD-775D8F96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D5805-CA31-4CB9-9162-7B5C3F08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51DD6-64FE-45AF-8816-832D861D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ABB33-D3E3-43A0-A492-08AB7984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FC3AB-485C-410F-A5EC-A3D29087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61CBD-4A0B-4033-A8B5-36891FA8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C0AEE-A9AB-40F3-A728-238AD78F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E9591-1413-4A64-BCBA-9F7A2034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DD02D-82A7-4B30-9492-685EEF1E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3B651-3EBA-47C4-B91D-49D9572F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7D4-06AA-4167-9765-A3767DC9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6D1C6-87D5-4E4E-B10E-13A53E5D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61260-45DA-470B-BEFC-142403C1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3149E-84AE-42CC-9E4C-8D381D68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A119E-FBE8-4E5E-8D6E-95FB7745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26CFF-0C20-45E0-A752-F0DB4E88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6FB6C-218F-4FC9-9FCA-C420C07A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9C771-5713-4894-B5AE-D03CFED1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79AE6-49B2-435F-BE12-08C30F3F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1809E-B831-48A7-962B-59A01604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C9BAD-4DE2-4256-97D7-1103C72A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608-F9D2-4DAE-882D-37E4E0E1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9623D-BE7C-4930-8221-31818156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2FA99-4A96-4C48-A0C3-B835CCB1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D60FC-E268-4AFA-BF59-3B1FB4B6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42FC2-B6F8-44BD-895B-0CB2953B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9A0C1-21DA-4A67-8FE7-8D974ECC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10E14-BF63-4E35-BD5C-805857FF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6402C-F15A-4915-B4A6-B946D02E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E7CDF-26AC-441E-B5D3-F10F29E9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09B5F-7107-41B5-A2EC-6F7AB000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1B653-8B52-4F00-BDFF-B061B6D3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E22C-41CE-489E-9AEC-CD87F236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6A7F9-D43B-4C79-8CE1-1DDBE7ED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60149-51AB-46E6-A1A1-A66C9D08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282AE-BC47-41DD-B66F-DB3EBB8D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EC4A2-65DE-4D07-854B-0D409927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2DFD1-F338-43F7-B22A-65C81F2F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5E6DC-7BE4-415B-9E0B-E1390456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6BDB7-58BC-4DB3-AABC-2EA2A2C4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89DCC-8F93-4279-AD58-89E42957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871D8-4A23-4C51-BC5A-CE07B446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6B5FC-0F95-4F46-838F-75AFB20F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7124-14F0-43BE-A583-21B0219B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04287-6F16-435A-974B-AEA25385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0BC12-C80D-4FB2-8E3D-C0C6B90F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8492F-693F-4805-87A6-2FA94A7F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5CF2F-77F1-4EB0-BD3F-108EE2E4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361CC-378B-4796-9FF9-B08FE033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D1B59-6932-4E94-8AE7-D0C85F07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A1435-BC4E-4547-BD83-27CE5E63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6C1A2-3300-4845-A271-6B43612E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BFAD2-EB0C-4EE1-9B2B-33797874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4CF6B-CC20-45F4-90F1-7AA3E9DC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2429-8336-4B5F-BF86-81C42B9B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FC616-4C31-4EEE-A082-96CA81AF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196C7-EDF2-44B4-89DD-D8C72D42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D6739-4853-40D1-85C8-0FDF20C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BC90D-5C27-476E-AE3B-BD37370E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73F93-6701-49B0-809B-BD9F3BD1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27C5D-9812-487D-A357-8F4A5890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7FDBB-EB49-404A-B332-B06386DF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93199-B340-41E7-AF4E-5AB22279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8B2D7-F7BA-4DAD-9B37-C9A7D89F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65893-87A3-4127-9E2F-3D2DDE95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6D76-F81E-4B75-8D08-6806CF0B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43EBC-885C-4098-9396-5D1F32B6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970D1-E8CB-403E-8672-59CE706C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26EAB-AB16-4265-8D45-15DD8281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F1263-545C-4C8A-952A-E7E1569A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BD9B2E-5929-4AAD-A873-2FFF13F4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101C7-A227-4852-84EB-12A77E5E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9C28D-4624-45D2-8CE3-5D84EEF1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54B3F-2DB5-4DF7-A5C0-8DA1402A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1E0E8-B7EE-4148-8854-027A360A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82FDE-01D7-467D-9589-9DBD9C3F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BC6A-23B9-4176-8E2E-85BF6C48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3ED410-59CA-47DA-8685-74867E2B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BEDB98-2E69-43FF-A873-97C36781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BF33E-F3F9-4089-A1ED-F62E1822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904CA-17DF-447E-A612-4B32584E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F29E7-4646-4B3C-9FF4-F51FFD9B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F0439-71B2-4D10-9204-42396B3A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33629-8C9D-49B5-A1C5-A4C500B1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CBA3BC-5C99-4E80-AE97-B7A74D83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2AB22-4B61-4950-A7FC-DDEFF7F0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D1271-ABA0-4A9A-9EDB-9A00F354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AE5F-79CF-43E8-9AD6-4E6DABF7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F4B818-2B7D-4259-BF4F-7E032166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6F12A0-9CCB-46EE-845B-106D2C02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6D83C-4DBE-436D-A228-92E7230F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573DBD-507F-4748-97B3-7C5A37D3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B49734-8EF3-4AB9-A9B2-43709C43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B52C3-2E47-431F-A085-82E0E3BD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0C0513-1D23-40D7-B81C-8043446F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7577B2-CD13-45ED-BAE4-EFA23A20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03428-5524-4908-983A-E33CC8EE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DC1959-7816-4C88-BE39-94F1981D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B8FC-E0E2-4BB5-BB28-FAA2AFB7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CF94E-6B4A-4E6D-B877-34B923C4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89472-D84F-4CE7-A1E0-1AC8D42C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D545D-5908-4427-9A64-8726B4E2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58FE4F-FCE4-455A-8918-DC3A77CB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FB4AC-35A0-4192-BE3E-B2A98919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AAF0F3-3706-470F-8E32-2DC25A1B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4B1AD-DB97-4DB9-9E88-2C845517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16B444-3DCB-4E67-B51D-A953EA1B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BFCB9F-AF96-4BD8-8A52-4E3C4F83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34F0D-215F-492E-AC83-D4713CE3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436-C6A6-483E-B4AF-965E7221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A6B1-1E81-485A-9644-2C968532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18C29D-424E-4B25-AACF-794372F7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3E7CC-65FD-44C1-AF19-9734CB67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BB5855-48D1-4A68-A981-E5A0086F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BD7516-0CE2-450F-80E4-B96379AC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8B6EA-6E6F-4BFE-B794-B59B4060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541422-A8FF-45A7-8A7B-5C612D41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83C05C-05EF-44CA-A9B4-3A11B40A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0CC3CA-F409-41A2-9790-17619343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5EF4DA-F7F6-4189-BB33-0CAA84BD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8C0B4-73A6-42B4-BBA2-22520888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4C9B-FCD8-4CA3-9587-1859DC22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E3CDBC-2634-4279-B514-2CB108D1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9C304-9C5F-4B0A-A622-4140CE6E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D08FA-4092-47CF-A420-E33836E9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F0B241-E5CA-4DF3-9011-DF147F97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01D7F2-02EC-4F00-82CC-69017D0C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C5D3DF-F529-453D-BA6A-CAB2D198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6A38E2-5C82-4466-AF2B-F7C76DD2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FCC41-9016-43EC-A9D9-5028155E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E5ADEF-5A8B-4EEA-B3F2-81461FB4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93F4C0-D32C-4D3C-B204-43C486A5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60CF-D00A-4531-8FD7-F095D1A6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F00A72-9FA9-4242-9C36-C2BA4A7A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9EA8B-D504-414A-92E6-B632220F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57499-AAD2-41B3-A8DB-1531AD13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1E8A57-696B-45CB-B9D6-2F5D0E44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427ECE-AF3D-42C5-8CCB-BFA76CA5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E6F204-9C13-4C00-8E0E-8E6420E5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4EEE7B-E857-4060-9AD2-DAB952A9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483DA-CA6A-485A-9926-CAFE822E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FE7FBE-F413-4A17-89B8-6C7B3FB7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36D84C-666C-491E-B673-981A5D68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D314-0AEF-4A16-B44B-FB745B45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76165A-E46A-4508-9B55-29986DE7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87CAB7-4648-4D6D-9B0A-8FABE1CC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F9BDF8-4F31-4E47-B128-51C53D08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A29626-70ED-4444-A86F-249ED9F9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FA0B69-AF4B-465C-8FA8-D04D94B7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B42B75-ED76-43A3-BCB7-24020D39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7D123E-23F5-4264-9C5F-AEAF07BB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B83C7-4E86-4074-B310-2FB629BF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DBB72F-BD83-4041-B4C6-A35205E0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0DA5CA-2C2B-4667-B0FE-3C73C1CC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8E12-5C5E-45ED-AF29-FB3C5C6A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776145-7ED3-46FB-978F-A7A697F1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09DEC6-C219-4DE0-8521-01336AC7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32981-B359-4873-9443-29982EB3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B11698-22CD-478F-B636-99F66226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BB1F88-9517-4284-BBAA-109A8C41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5D57CF-48C2-4D2B-97BD-086D83F1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EE3FB-2649-4666-B695-6657D96E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D72389-55F7-4412-BE19-F46D9354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676A7D-CB6A-417B-901A-20AB0100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620FEB-97B9-4498-8AC6-D41C4557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3B79F-CAA8-4667-B984-9937B37D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9B7B09-2CDD-4D43-BDAB-504FA8CA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2AC3F5-B99E-4259-91FC-1DA5A2A0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1FE289-8630-49B1-A9C4-8DCE03F7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83DCBD-760E-4A0B-8E69-D6B467B6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994989-A697-4A8C-B549-65892B75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E07853-89F2-4330-B14D-7B56C4BB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22E636-C3C0-469C-AADC-C459919A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2259BC-D137-463D-B399-4946821A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A21505-DA7A-4299-B880-19AFD598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4B47C7-BCD7-4457-AF55-5030F048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1AF14-DAA4-4257-B7ED-C6D38308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2435D3-D624-49B8-8A79-CEEDA26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790E9C-44F8-421A-BBA0-36CCC9E2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B6D111-04A6-4A26-A1A0-A7BBCD24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AF57B9-9F8B-476A-8F09-A0F629C4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6F265D-F6DF-4847-AA0E-DF72CF8F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E1EE80-CF14-4D12-9323-677E332A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FC7A5E-6A09-4CDC-A5F0-09311BF2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633DE1-C2A3-4394-A5A5-9A425EC9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1D8B2F-A76E-4728-930F-0E349EF7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AA345E-E88F-4916-890D-877BB581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1BF7-799D-4ECD-A8DD-BC953BEC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6B9E2A-0281-476A-A229-52A7EACE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D34DE4-55CE-48B8-8915-EECC04E6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F25F06-EF3A-4ABE-91DA-F896E81C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85D8DB-3999-4CF6-83A1-9F624EEF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29CCD3-85F5-454F-85EF-AC2A5EAF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BF2305-B270-4206-B6A4-04F132AF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4780E2-2DE2-4EC3-A8E2-A01AA8BC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4715-91F0-49B3-922F-642855DB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04D5-DB72-4967-A4D1-B254DEEC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394-A6EC-4E27-B33B-517464D3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C2305-13DC-4860-B5C2-E7DA9277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38B2-8F29-4753-A864-2874CDD9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09A2-2E2A-419A-90E9-2DC9FCED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6B50-2FA4-44A3-A931-FC5DFF72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E4E5E-CB39-4A5D-B5EA-E4FA3186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8DD4-78D1-4450-AF3F-EDECADDB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A3E5-7840-4844-9B14-23647364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74FA7-ED03-41D2-AD27-7D663476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E94EE-9180-48DF-A3A3-6ED07178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3D531-5C87-48C4-BC10-B0B4D09C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DA2-9324-4F7A-BCA7-D36FEDDB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37B76-C4DA-4D62-B54E-E71FBAD3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FFE40-0B52-43CD-BD45-8CCBFBC8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79B8C-5057-45E0-8ED9-F1C9587C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90122-0BAB-46A8-AEC5-4FB2DC6E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FCBAC-82F9-4F02-BCED-224339DF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7A70-1792-4166-83C3-0542B5FF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8E0B4-9813-4D0C-B0A0-8AE0E3C5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6F37F-F9DD-457D-A805-BFDCFBC8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F42EE-8821-4689-9DEF-6766D07A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9C2A6-F9C5-43F4-8F82-730AF81C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1B0-7E66-4B46-901A-31EC3E2D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DBB76-DBC1-442B-A6CC-0AFF0E24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F7208-A4E1-4599-B74F-97EC37E7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25D41-509B-40A6-9418-B13556D3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CFEA5-7AC7-459A-8B3C-90EFD02A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C4B1B-A784-4099-8E68-217CFEF9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495E5-10AC-4671-B33D-6632F1E3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BC69F-B40F-4D05-A350-59486D12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CA4BB-E0C6-430F-AC9E-74776A22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818DB-F00A-482D-8284-807F94A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7EBA-2A4C-4C35-B371-B410BB76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6D6-2DC7-4FBD-B272-7814D181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C7516-EABA-41BA-A312-E0E43878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1D0E8-A7A7-447D-97A3-B8EBD898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31E56-6CDA-421A-AE71-D1154D21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CAC5F-9569-4689-973A-54E5DBFA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45A3E-06C1-4B29-AD99-C15EA00D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376F2-AF61-45CA-AF26-4E5E5D75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EA8D5-171D-4430-A6F3-01FDD0C5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56CBB-A674-4588-8224-64BF43C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F6B1A-4881-4004-BE68-FD895111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17496-7769-40F2-BAC5-977E0CBC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696-9EBC-48D4-AAAB-18B3683E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3566B-C269-4AAC-873C-EACBD1DC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0CCD5-EA6F-4382-A656-CE1A77D7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CBCD8-91C8-40AC-8244-47EDAAC2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8D6FF-27D2-4BE2-A371-996AE909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318DE-8A06-4E2A-942F-DB858AE3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ADB43-39DC-4281-A310-8647A40E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8A0FF-2677-406E-A281-4195F91A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5FA51-3AEB-4946-97D2-7981C410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43CE2-B678-4199-A9E4-BE966C31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104E4-913F-4C2F-8E81-F7A847A2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C53-1EED-4210-9970-FAFC5E6F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0BBEC-E7D2-40D0-84FA-C5496187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AF1F3-39D9-41E4-877A-E066DEB5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95463-A171-4CAF-B496-4E6B13C9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2B0B4-F0F6-4095-84A0-C1491115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BE542-B2D4-429C-9EB3-4363F5B2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3085F-E73F-46C0-BF9C-A1E25F04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BA036-C067-4486-8E2D-B1AEAFFE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F83F8-0954-4492-ACE8-7C5F8915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E6B6D-9070-4288-A14F-88A699EA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96585-DDBB-457D-BED3-3F45999C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EB0-AB5B-408A-8ACA-98E8E1F4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2C845-6D77-4BD9-91CF-5913A602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808AB-D247-491D-BA3A-3A1844FF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4AEAE-0744-4E77-927D-FD55128D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6CE5D-C24D-48C7-83B3-3EBDBB6B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532FE-F969-4090-81EB-97A98AC2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8EFFD-D999-43CA-BDC0-A2CB32E2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B3D30-F8D4-4AEA-8B92-4547FB9F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A0774-9D2C-45BD-AB49-6E6AE091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EE90D-9921-47B0-947C-D7C83BFF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2BDF6-ABBF-445B-BCD1-B29E7328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298C-D5AD-4C4F-8911-A31BD04B53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026C-B23B-4CDC-B008-17ECC7D4F2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E4FB-FB1D-42E8-A667-EC3AE71BEC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3F07-3FD4-4F33-A91B-58A131311F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7B16-77EE-42DE-9E4E-3D05AACDFC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7A32-5E11-495D-B0F1-5D332C67F5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1E23-26A7-476D-88E6-0AF8169C4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3828-CF48-488B-88EC-BF36E7A4C4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82D8-9EB5-4953-BF45-C9E91E9225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1B0C-0EBC-4FF4-ABF5-3EEEAC4D09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90A6-604D-407E-8D84-B6BF60E60B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931A-9F51-4920-9EF9-E8DA8FC832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2D89-88F7-4834-B42A-29B08D8D8B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97A5-D913-42E7-9AAF-B9E6FAE9F8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6960-3E03-4575-9731-5773C8BF0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1D55-1B4B-47DA-91F0-55AC19E472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DDB5-7B01-41F6-B189-58449826BE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4649-3BD5-47EA-916B-48231F0475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15D4-8821-443A-890C-E9413996D9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D131-831F-42EC-8CDA-9A1C1E97BF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BEB2-B59C-47DF-8DF6-32D34385BE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3E18-9C5E-4C55-80B4-51CDB911AB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985C-2FCF-44A2-A69B-205F608894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6F82-9958-4E29-8C76-C626A46C88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1852-D19F-4323-A4D5-031421379F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DF09-CE65-4A3D-8236-4B18702EDB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2B6D-1B87-4A14-B556-8FA880974A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C411-AEB0-42A6-B076-D306D0D4F8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DBDE-4495-483E-80B3-79F170A797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8203-B4B3-4676-BAF2-9650C009D1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55DD-2B50-42A0-B35B-BB8AFAE5C8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76AB-6A7F-4B0E-AD0C-9CF515705D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36C2-3546-4BA7-A72F-836FDA523F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3BC9-E755-4DE0-834A-85FC066695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F3E7-C90F-49CF-A352-23E3A7B708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8354-F474-434B-816E-E78179C7AC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7B9C-A525-4242-86F8-4E369BFC34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3DB6-953F-412D-AD75-70F69F6822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15DA-13B1-4A47-B9F1-FA825A555D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C74B-76D8-48F0-B465-E84EF75196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51C9-0246-4087-9C5B-D87FE105F9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69BE-8C22-4BF6-A2EA-FE3227BB0D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61800" y="2962440"/>
            <a:ext cx="842040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76040" y="847800"/>
            <a:ext cx="8791920" cy="57625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2843280" y="4653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476360" y="593568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780000" y="4508640"/>
            <a:ext cx="28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780000" y="5157720"/>
            <a:ext cx="28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490680" y="911160"/>
            <a:ext cx="8162640" cy="558180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7172" descr=""/>
          <p:cNvPicPr/>
          <p:nvPr/>
        </p:nvPicPr>
        <p:blipFill>
          <a:blip r:embed="rId2"/>
          <a:stretch/>
        </p:blipFill>
        <p:spPr>
          <a:xfrm>
            <a:off x="896760" y="1254240"/>
            <a:ext cx="4467240" cy="250488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7173" descr=""/>
          <p:cNvPicPr/>
          <p:nvPr/>
        </p:nvPicPr>
        <p:blipFill>
          <a:blip r:embed="rId3"/>
          <a:stretch/>
        </p:blipFill>
        <p:spPr>
          <a:xfrm>
            <a:off x="755640" y="4191120"/>
            <a:ext cx="3114720" cy="2571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5435640" y="180180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5292720" y="249228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3994200" y="485460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3851280" y="5545080"/>
            <a:ext cx="31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219240" y="804960"/>
            <a:ext cx="8705520" cy="52480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3419640" y="52862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4572000" y="53006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5767560" y="5300640"/>
            <a:ext cx="118080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7093080" y="52722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228600" y="890640"/>
            <a:ext cx="8686800" cy="50767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900000" y="4724280"/>
            <a:ext cx="4824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563400" y="174600"/>
            <a:ext cx="7602840" cy="65088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3384360" cy="10083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258920" y="2997360"/>
            <a:ext cx="3384360" cy="1008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87280" y="4076640"/>
            <a:ext cx="7129800" cy="10080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284720" y="579132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0246" descr=""/>
          <p:cNvPicPr/>
          <p:nvPr/>
        </p:nvPicPr>
        <p:blipFill>
          <a:blip r:embed="rId6"/>
          <a:stretch/>
        </p:blipFill>
        <p:spPr>
          <a:xfrm>
            <a:off x="4775040" y="1738440"/>
            <a:ext cx="354204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76320" y="895320"/>
            <a:ext cx="8991360" cy="50673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755640" y="3673440"/>
            <a:ext cx="446400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971640" y="4292640"/>
            <a:ext cx="446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676440" y="1023840"/>
            <a:ext cx="7791120" cy="4810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662472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187280" y="5157720"/>
            <a:ext cx="66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42920" y="1461960"/>
            <a:ext cx="8858160" cy="3934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826920" y="3659040"/>
            <a:ext cx="43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4321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5:2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