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A35-AA56-45D9-92FA-584D89D8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AC2-6410-4DF2-B6C1-2CDC0743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D0710-D3CF-4322-BF56-9709109C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4A7D3-30B7-43CF-9A2A-17A0B1C8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1AC5A-A3A3-486D-80E3-0C0B49A4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AB489-980B-42BD-8176-98760AAF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50BC7-954D-436C-B00B-B293990C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F4361-AD11-46E5-BE06-5E2A9197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A1CE0-C565-4BB1-97B3-D0766D71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7CD92-704B-4F70-B222-76BA1A18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6689B-103D-423D-9EA3-85EEB8E5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828CF-421B-4459-81E8-A6643E78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8A5-8A3F-4F74-9A51-22E996C7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258E6-A16F-41A9-9C32-ACA0D45C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3DF60-57FD-42AB-902B-C56F1ADC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F9236-69B5-4F36-8EBF-087BC4D0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0FE16-494C-46EC-A0D0-63FF91EC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4B1D1-858E-4FC2-A43B-EBD095A6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5D0D6-0F04-4E51-ABA5-B9426B0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E18EB-AE92-4903-A1AD-CA61E096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F45C0-B39E-4E6D-8811-F6FD38B9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5FFFE-94C8-47A9-AA02-ABCB4770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D304E-AB83-493A-B8C7-CBA48C18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99B-9650-46B1-B14D-39721A44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D137C-5D1F-447C-A081-92945F1F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1FC7E-AF59-4A4D-8FAA-D963357D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B75F0-4CDE-4912-9088-0DA44789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12F07-C24E-4E57-9275-4795399D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A5028-B077-487F-A94A-F5F525B1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6C03D-5785-446F-8BD2-5E1711A9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71AA5-3B46-4DF8-86E4-CFBC63D5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3A2DC-D738-423C-8BB7-56F31CB2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92C32-09A1-425A-8806-D3F3314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0EFF0-4495-4A7E-9FCE-DD55FB83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A298-1C72-4D44-9632-AFB77697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E47E4-33BE-427E-9D92-4C4B5FB9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6853E-3087-4AEF-AEC7-94925B14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6412B-32AE-479B-B48B-C919205D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8AD3E-3B1F-41D2-AA70-2A8226BC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1EF79-4EC2-49C2-B899-D0915CA0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022F4-992D-4D8A-AD1A-E6BC8839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FC37D-7049-4334-8387-5D41BC63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2CA78-5B55-4BB6-9E97-BEFA71E3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EFFF6-E699-4865-91EF-0BC42B45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1B86D-0190-4AF0-B999-496B7278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574E-DB35-4A29-AB3A-D04DE524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0F07D-BB99-4FA4-8268-75DC6386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F6296-1DE5-483C-9126-8499D703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62CB6-6BC5-42FA-B9BD-24EA7719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243AB-CD26-4822-B6DD-E7019C7A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B7CBE-F263-4673-980B-A67D7411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66586-E6E3-4D3C-BAD2-CA445F64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06B5A-811F-45E0-9002-6DB2B85B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CEDF9-5362-4C3E-BCB1-9E251766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60CF4-045C-4236-9331-198ED288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ACD61-6C4C-4D1A-A11B-C8E517B1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25C2-5F2B-4A23-9CE8-809177B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4DE3D-AC3C-4673-A596-D2B56980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5FD9A-10A7-4A99-AF04-AF9073C2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8F8D7-6DD0-4B7E-9E71-B461F1D1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29521-25EA-4A19-A882-7FCC18A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38409-1705-4C6A-996D-A3F7A118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0C105-E2C8-481A-997C-0BA616A6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8F421-955E-44A5-BFBB-143FCAF6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928D0-5B95-4951-9116-70F244D3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CDBD3-94CA-4ED7-A0B6-191F082E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A2978-85B9-455C-9D3D-3B6C5F19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0CFE-FAB7-47FE-8864-00250064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D5DCD-5FD2-4985-8ABE-E5DABBEA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2CCA92-6E4B-4267-86E8-27E78A30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320B1-7B3D-4A02-A34A-3BB9C2E8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FADD2-F12A-4F64-99DA-0F627CC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391AE-7C94-422D-9CD8-A8AC83CF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4190F-6636-4CB6-9681-FDFC4834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66140-7D1D-42D8-B725-A12F5914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09879-4A1B-4DCE-9096-077EFC4D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928F1-3644-40AF-8D3C-E2E7C4BD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DD0F80-D379-409B-A69F-88698DF6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21A2-0555-44E7-B0D1-A09EB389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B91CE-4310-4ACB-A3FD-0846DA34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7F005-BACF-4A6B-B93A-D02E627C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B87D7-32A0-453A-99E0-30E0A50E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A7842-DE4A-4260-B7A4-21BA5A3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CEC42-4B58-483A-86A1-5E1EEBDA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BC83A4-D443-479F-89B9-051D03E4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6CFA2-78D5-47F7-8DFE-BB8FC10F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BF735-161B-4868-AC36-2D46B959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36343-DF07-4058-8F2F-0F8C5202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58F59-01BC-4DE2-B55E-8BE18B37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1677-5046-4E67-92DB-7B9399F8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C315A-E4EC-482C-9B82-0DB10E55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6D5A5-C425-49CE-905B-302E2F6B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48CE6-2F1B-43F2-BDA0-BB6B2822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04D36-D1F9-4BF8-87E4-E9380939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409AEB-F25D-4529-8D42-49357374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97B21A-2A1A-4A32-881B-96EA9A3E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B85AC-AEB5-4646-8017-4B0706D1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79BD2-4595-4C8A-A6DC-3006CF9D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8F4EBC-2044-4AE5-A96A-A94367D0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E8DAB-76C2-44B0-AC24-7E6A1AA5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3647-8735-433D-B8DE-8273F632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CEC7C5-C872-4904-8E2E-A21C3949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CED8E-D590-44D7-9B15-12D053A4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65B90-9B8A-40EB-BEF5-6FBF8FC1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31A67-5798-4887-A631-3453C2F6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3D955-9ECE-4628-A3E3-D7D431FD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29EEA-C74E-4691-AD60-79EE0C82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A349F-08E1-404A-9C39-14730433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6E8E5-EB31-490A-BE48-620A33CE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BE85A-3B3C-4A74-A036-71BABF2F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E0675-C2B9-443E-A5AB-0BAB8298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C08-160C-4CA7-8E7C-11F05E23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E041-CEF3-46EA-BC9F-B773F0B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E7309-EDD0-4D81-A9D3-0D72B2F0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D6871-FB76-4B6F-8764-9F7DD11D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5724F0-1EAE-4DA6-8E47-1236B6F6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542A9-D09E-41BC-885D-459B0C7D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57983-5B8A-4040-953C-5AD3B141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0BD86A-99FD-4C20-A862-EC6CA7C6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C24D1-90CB-43A8-B3BE-EFD1A5E3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6BD588-3AAE-4EDB-86E9-7CAA492F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8A7F6-AF37-4184-A880-893D07DD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31219-C463-4DFF-BFE7-8D8E4880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D2FC-C9E8-4D94-B8A1-2E11D661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EDBBA-9A12-4C91-B7B1-8534C959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08AD5-14EB-435D-AD19-E8D0796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36B8F-4D0A-46A7-B0F6-844B33B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E884D-86C9-470E-BBB5-1CFA7EDE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E260D-1F7B-4AC8-83A7-9A83ECD2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FDBCE-B3C6-4446-BD94-B6E4F957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78E9F-FE25-44DF-9B3C-8751CC97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811090-1FAA-4B13-A328-2E78FD65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0101BC-64C5-463C-958F-742F6039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1E96A3-4BBD-4C06-9894-F78421D3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0D7C-9F0B-48D4-AE7B-03A9F2A6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8C096-E770-4EA7-962A-7DDAECFF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98F8D-BF2D-442B-B5F6-4200E26C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D63E1-2803-4ADB-A8AF-20F30F96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867EEE-910C-455A-9162-E1C6D42D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FF6E9-2BB4-408E-8DD5-AA302B77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E75BE1-B43E-4AD8-9EFC-FFE676D1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D3887-C063-47B9-8F97-0FE06422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2CDDE-3908-41C3-8F4E-11167FC4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C1977E-A9A5-4C26-A31C-A95C0E69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4002A3-819A-466B-875B-3818D5D9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A7A7-FF9F-4B09-91C9-E168B89C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3F0DBD-3DDD-404A-8929-EA903DFF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2FD94-D2BA-4484-B214-0DCECDAC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6158D7-A996-4088-9951-291997E7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41403-EDA3-4EF2-B084-EAE213BB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AC7D1E-DDEA-4E13-99C3-78E4364D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B8734-850B-42D4-AFCA-E832117F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E1CE1A-4CCD-404C-8D39-CFE703B2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69F74-CFAA-4D24-AFE9-1C0AE6AE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F7C222-EBB2-4718-9F50-BB93052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4A5DC3-7B63-4D89-94BA-7922B075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2B11-0C34-4CF6-A805-417A967D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0B3BF-8B79-4AA2-81B4-63064DAF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53DDE7-CFEA-40CA-ADCA-7DEF4000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F1AD18-0606-486B-81FF-00305FC5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631BF-B840-4744-B742-74EC199F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9C6012-37AD-42CB-9E84-D44D195C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446E2-8374-4503-B457-F161596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0C9A2-7CB9-4B6D-B576-CB9EE30F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22EE70-D2A6-4922-9C27-90175C31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79527D-45D5-47EF-9631-208010B4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78F2DD-F4F6-4614-B816-D7BB0D14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529D-21A9-4CAE-AA55-EEB9010F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2B043D-1009-444E-92CE-6C2A8CDA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A18AE8-1D89-421F-BF59-3839238A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A83FF3-4C1E-4A55-B3AD-98064634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C14C3C-35ED-4EB6-B368-219A1DEC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1E9BC9-5BDF-4090-B0F9-F67DA345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7E7C4E-F784-4E46-A10E-34B243B3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4DDCB1-5045-4C2B-B7BA-1D0BE4EE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E521EA-06E4-451C-8BC6-34F5826D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82F0C3-E281-4CC9-8CA7-0A6D4B0A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66E521-8071-4563-BE52-48DD5159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097E-6561-4876-9073-F7288F2C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EBE628-B6B8-466E-BBA4-782A94B8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63DFDD-195D-408C-A1D7-734FB55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840220-7286-4DBC-BEFD-C9265ED0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63740E-3274-4B63-B6A4-8095D4A7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089413-093D-49E1-863A-8453096E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10D982-0722-4F17-9335-DA5661DD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512AF5-7081-41EF-9489-3C1AB9D5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EBD8C9-7EFC-47B9-AE78-908B9D13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7E6AC6-4FF3-4769-B290-AA405380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986EF0-9BD0-47F6-BC29-BD65BB8A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0D3B-D283-41BA-9AFE-D33DB2E9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051DD0-2CB7-418D-B8D5-EA238F93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D725AE-E874-4E89-AAD7-6A2980D4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0692AD-D6D4-4C37-8288-6F60D8FF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A1F6AD-E945-47A1-978A-3FD533EF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7FA6E0-AC9E-4909-80B3-E80B2DC5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014A36-6FB4-4143-B989-022D04FF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53AD70-B579-483D-97CD-C7FB4698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6CC6-0FDE-43D7-A791-40BEFEC3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D687-1773-4302-9B47-61427E23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096-E18E-48F0-8195-C61B7734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0F55F-576D-4533-9627-06EB7495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5832-CF49-4C24-A218-C9846285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4CA5-BF35-47DA-A8A5-9706F880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CB57-3196-4AB0-BB9A-CD92AF45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5D20-2116-4018-8C1A-E3457EDC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1592-97B4-468F-BD9A-062C1491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D644-4526-40F8-98B3-E0F17665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977F-AEF5-4E35-85ED-1EFBF2D6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D2476-43CA-448F-9271-18850E7F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FC4E-6BD6-47D2-8858-2B12F655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C5A-B2DD-4412-B1A2-D6F08CD8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E2A1E-81A4-4645-BE50-C8A8C4F6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2FA95-C507-441C-998A-DA0250FC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9E14-84D6-449D-8669-FC302B4B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9623-2FB1-4775-ADC5-B6F46A27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D3F71-02F9-4A8C-BD95-8EDDE4CC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985D4-1FA7-4541-B48F-CD09098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D7E5-98D9-44D0-92DB-CE1D5005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DAB73-F8FF-4CAF-9BA3-C4F1AB76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5017-DA46-4AFA-AB7E-C282467D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D7C9B-14EB-467D-BE5A-5FC6DFBE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AEE-1D09-4E57-AFD9-843E80DD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3206A-42D6-4B17-BFE6-0908F92C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D730-A95C-49C2-939C-D5701B01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3FDD-B602-4518-AF04-72BA3D0C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F9A9A-5D69-4DE1-BE15-A465D7C8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AEB9-B935-499F-BF5A-80E528C7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16C41-E0FE-419C-8E02-95B73205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26D19-2762-41C5-A9FF-3E82C94D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19A38-885A-49BD-AF2D-13203870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CB652-1E45-47B5-9AC9-6CA175AA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5C5A2-F836-48CE-BC05-08D24AB5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47E-F779-4A5D-8A8B-FBA661E2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1814C-7A62-419C-980E-BC88E1A5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393F9-B5A8-41E4-B433-408F951C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01972-B1FD-4EA4-BD60-BAA1073E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0CE2F-C23D-42A2-A6B2-EA03AAE2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DD32B-B01B-4BD9-A107-2B70FD7B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0DEAC-9452-4F9B-B813-215A5EAF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1AB7C-1300-43B4-B5C8-F8314BA5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968F3-5E69-406F-B230-8DBDC094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1DE8F-C6D8-4F60-9433-8F853B88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BB859-CB58-4442-9130-9D1D336B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096-2477-411B-BC7B-39434500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B459F-D6A3-43BF-AAA2-176A9A9F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8EAF8-62CD-4E52-8E5B-32040F22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BB88C-685F-4B8A-9262-C97737D3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7B734-92A0-4D87-B600-D22A4F00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99923-70D5-4382-AC52-3E8C4105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22702-27E0-439D-A41D-8BE9AE0D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C50A1-DC78-48C4-8E09-9CC810BB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05EA8-C7AF-47E4-85FD-CD0A131C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AAC49-3F5D-404F-8A49-BD7B5826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D56DC-9C8E-49F6-BAFD-4CD637DD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9B3-2DD1-44D2-B0BA-789DCA3D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FC713-B856-4EB7-AC13-DF138584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7F9D1-5012-4A15-8153-EEF6FC8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A5FCE-970B-457A-A69E-AA7E7567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AADD7-22A7-4B95-B4D2-059AD82F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EFD7D-DFED-4D3A-9BFE-33D4C7B6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7A8C3-6376-4E52-B31A-8D9BA4D4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A23E9-6EF0-42F8-A2E5-DF5EBB68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4DE5B-14E2-4B0C-99AF-23092F78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95B27-0F71-47B0-8588-4B24B65E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EA147-A20E-4EB5-B185-4DA98270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F1E-B0EC-490F-B451-51A64849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24DE5-17F2-4D98-B03B-C3609903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A0BE1-38F9-45D4-87F6-D731C528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977F0-F78D-4D6D-B24D-E005632D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3968E-D3C7-4399-876B-378C8F26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922D1-AD8F-4EC5-81C3-B7BB0A9F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9DE99-163C-46A9-A631-0CD24869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3E7D6-FFF2-46EF-9886-C85F1320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6CD29-87BF-47D0-8CE8-42AC89A9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D7377-F511-4E94-8928-9B427283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BF138-58B9-41E3-BAC8-DEBFC6F3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7183-C2E6-4AAA-AC25-F520C2712B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BE65-043F-462D-BA99-760DF965B9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0D76-0DD6-4996-B713-5CFC3B9B0F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6EC4-0566-4F48-8861-CAF470BE62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AED0-3664-4223-A0B8-17937ECF22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1BBA-03B8-40CC-83AE-7F46870DC9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B2BE-BC5E-4C38-A412-9971778474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4F73-5EB2-4F1E-A827-951B52719F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613-AE15-43ED-AE75-A636CACDB2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10E2-E92E-4536-A44B-70706A4D1C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0FB0-6D97-4B21-B027-BB4FCFC01C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8FCC-1871-493B-A507-9D35FE270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535B-8513-444B-AE81-5C0809E536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58CA-3CB0-4D8C-A264-3D8BA247A2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1D88-2A0C-4454-AB78-EE23C330F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5450-F6CE-4FA7-80EC-2F15162EC9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999F-12C0-4406-863D-EA23C0B73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8BAE-4167-4D62-BEEF-16D59860E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15B0-EBAE-4CF1-9F2D-898633BD6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322D-03DA-44F8-B4AB-8AC83374DB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F3C7-CA78-4028-97BF-B39AED710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AA8C-0190-4FF7-B0BA-85C3FBF622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8E7E-8E20-42F9-94F7-2D8DECB6CD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C5F5-E800-4B0F-88F7-2A3EE4A4AD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5070-C372-4071-B7D8-9EE6FA0DB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C7F8-561E-455B-AD81-BCFDF9F6E7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223A-6E0A-4F11-99D4-DB64CB633D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2CB2-8D51-454D-89EC-809849D195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9797-400A-41F9-8217-3583BF7A3B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B052-2FA5-444F-9FEF-C32EC12930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CA51-1D73-44A2-A9D3-BDB0E11D06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4E92-1C47-4B85-9184-329FDE6141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7716-5FF8-405E-9EF0-B05E5F077E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3099-CB56-46ED-929F-2FAD10ECDB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D714-2420-4A94-8097-F11750E4A8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2193-40AD-49F1-A6A9-D716780FC3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7836-A38D-46D2-8EC8-ED4E01A67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8F23-138E-4B26-9388-DB0001B9C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17C2-9F79-40F7-BDA6-4EC4ECCE7E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019A-FD4F-4DA3-ACD7-8EE81439C1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225F-B04E-4FCB-AADE-09F58800F1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4886-3DC6-4FBD-9207-29DE571502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47560" y="3063960"/>
            <a:ext cx="828360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555480" y="162000"/>
            <a:ext cx="8377560" cy="65340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780000" y="10382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451640" y="170028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364000" y="299736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276720" y="432288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4932360" y="494172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2268360" y="558972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4932360" y="5603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7380360" y="56325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471600" y="1709640"/>
            <a:ext cx="8200800" cy="34387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7020000" y="18302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835280" y="321300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5219640" y="391968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3419640" y="458136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993600" y="115920"/>
            <a:ext cx="6162840" cy="66261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2368440" y="1773360"/>
            <a:ext cx="177192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403280" y="2276640"/>
            <a:ext cx="2808360" cy="45529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5437080" y="1801800"/>
            <a:ext cx="177192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4500720" y="2276640"/>
            <a:ext cx="28080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533520" y="615960"/>
            <a:ext cx="8200800" cy="6172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712800" y="1341360"/>
            <a:ext cx="2952720" cy="43196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598840" y="635040"/>
            <a:ext cx="154152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4111560" y="1341360"/>
            <a:ext cx="3989520" cy="5183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5997600" y="649440"/>
            <a:ext cx="25351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409680" y="1585800"/>
            <a:ext cx="8324640" cy="3686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2368440" y="2708280"/>
            <a:ext cx="389160" cy="3459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6919920" y="2708280"/>
            <a:ext cx="388800" cy="345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2482920" y="3645000"/>
            <a:ext cx="388800" cy="345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6934320" y="3602160"/>
            <a:ext cx="388800" cy="345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2484360" y="4538520"/>
            <a:ext cx="389160" cy="346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6818400" y="4524480"/>
            <a:ext cx="38880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85760" y="1809720"/>
            <a:ext cx="8772480" cy="32385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53294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900000" y="4106880"/>
            <a:ext cx="5329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62080" y="623880"/>
            <a:ext cx="8724600" cy="62103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4896000" cy="663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826920" y="501336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826920" y="5675400"/>
            <a:ext cx="61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241200" y="1390680"/>
            <a:ext cx="8661600" cy="178740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1573200" y="3494160"/>
            <a:ext cx="6772320" cy="22669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327672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3319560" y="2276640"/>
            <a:ext cx="8208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598320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615636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8317080" y="1844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8317080" y="2349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353520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0"/>
          <a:stretch/>
        </p:blipFill>
        <p:spPr>
          <a:xfrm>
            <a:off x="3492360" y="4724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1"/>
          <a:stretch/>
        </p:blipFill>
        <p:spPr>
          <a:xfrm>
            <a:off x="6227640" y="413532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2"/>
          <a:stretch/>
        </p:blipFill>
        <p:spPr>
          <a:xfrm>
            <a:off x="6027840" y="4724280"/>
            <a:ext cx="64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1:3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