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C591-68AB-43C0-BC2E-39429F791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4E4B-BB74-4F87-858E-F5D9138FF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E61EEB-9AD3-46D6-A63A-AC72DBDA4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2E1898-9165-48DE-A07B-DDD957FDB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A5AC79-3DEA-4B8D-9761-CB404A2D8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29543E-A83A-4CB8-A327-8BF0D0417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699EE5-ADCE-4DDF-807C-AC537D8A5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038ABD-8660-4B8C-961A-3B541FFF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10D830-013B-4A8E-9976-53AE7029B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22EA3B-2A1B-4D4C-A2BB-E58F4A14A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DE1037-C797-4CDB-A560-0FE21E21B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48A354-52C0-4634-8A1D-11C71CAE1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92DF-C594-4EE7-A947-7AAEDCBA7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D2337C-443B-419E-A075-ED264A188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69E74B-40A9-4052-AAD7-B0878FF64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380BC1-C52D-4C92-B7AF-425D2C271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61F422-8D2E-4C3A-B9D1-2971A54AA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824F37-E127-489A-9FB6-D09CC7F5E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44690A-BEC1-4072-87B4-37D7C577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BBB065-C383-41A0-9783-DC45C0EC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2907FB-7D3F-4783-B0F3-12CACCA54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30CB4F-6BAB-43D5-98C0-FB5783C1A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28ABF0-29FE-4886-A2DC-86DF9E46B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38D5-B21A-4E1B-8704-1AD283EBC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7376B1-89B4-424A-87E9-899B59FF1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EA0C66-B565-4916-B71E-618962F9C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B45733-9287-4F40-91B2-175057A29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8709A6-77E1-434C-8140-2DFD6CF58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4F297B-F1BF-44E8-A3D6-C58D8B6A1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4F977D-58B4-4A03-A5AC-B12082FE1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1BB2C9-10F3-411E-A69D-D161AAE0F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2C42ED-0C87-480F-AF69-97878FAF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2310B1-8FAC-4E55-AF33-018D7FA3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A5AEB2-14A2-4557-920B-F175DEB3D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F1AFC-E8FF-484A-8293-A2A8ECD33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CB2F34-B46C-42CE-8C04-92C4BE5B4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C63DED-BF04-4865-904D-B7561A20E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510577-9EBE-4D4C-8310-33228D0B4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E3A65A-4519-4627-BD96-FC74B1740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709B32-8B15-4497-8CD4-683DBB19A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3EC090-112E-4E1B-A34C-939A63750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3A9E6D-D5B3-49F4-A159-89F7D8207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0E0E11-3E36-4C07-98D0-2CB18CBEE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6658B4-81B9-4C98-A106-4E076C13B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726F14-364A-45FF-909A-B85CC9B27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E0771-C510-4F3D-82F3-DEE06653B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B0F67B-E00F-41FD-AC52-1670602E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304C5B-A997-4F13-92FF-4D9F31D55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35DC35-C2E1-4262-BD7D-23ACD0246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5BB8BD-B599-4846-94EB-5F50E6756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D5C120-E254-4652-8FE6-C202C8B60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6EE2E2-4F43-4286-BBC3-A2727D45B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43DCD5-0C8C-404C-9F44-4B0F5FE94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0B7D28-006F-484C-9A5B-7FE459357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4209DE-7A70-499E-8A3F-5C2A4E3E3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F8421D-6A64-4F6A-B7CE-ADD82C3B3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DBF11-6E1E-452D-B711-113D3D0A5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BD32F0-D064-4BE5-B0F0-71975F282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863770-C865-4288-BB24-2827DC1F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5C8325-F8D7-403D-9288-ED40D8268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0F0ECB-628B-4EE0-BE83-FE993AF4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B7CCF2-9C66-4491-A4AB-D05D00115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7E075B-24C0-4D7B-AD82-3D6613295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C6C1EB-E9C0-4AD2-8DE7-AB59DFBA2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EE80FC-2A86-46DA-A61D-4AE7F042D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B2BD26-8C7B-43B5-B833-52806DA0D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A10E1C-39DE-4086-BEBB-9F1FCF67F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F9B36-1B27-4CDB-90F5-B16709D43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EC2297-CCA8-4D25-8D05-3AACAC12D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6AAF86-435F-4DFC-B1D0-3A9508709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197909-B8FD-4E84-B3D3-64F216D55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08991A-929B-45A7-BDED-1720E7AD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7556E7-4437-42C1-AD97-DE356332C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58D5EF-86C4-4D2E-9460-44D82865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9406DB-FBFD-4825-83E0-16F352C8F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A4AE95-2BAF-48F2-919C-FB48C5027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3DFA4E-57FD-40B5-A49A-09AEF9F51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586876-021E-4644-9343-61CB9E540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A915A-8D69-40BF-8869-04C6DEF90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5FB5C0-063E-4F08-8616-FF067318C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B4B3CE-99A4-467B-B6A7-810690DE8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3C2274-AFA8-472A-9444-533710DE4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263C62-D32E-48EB-9634-0D6238070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1AC1A7-AE64-49BF-B50D-191F0DC76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B17104-A06A-4D6D-BB7A-B33C04B80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C05E95-7465-42C5-856C-F8417AD36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6E2D3D-A021-4301-848F-C94E51D8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C484E7-6676-49A2-B09A-95A818398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AC26DB-3184-4C16-AB2E-38415970B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DFBDB-9803-411A-B931-A770AD6C6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DF3B14-BC6A-4867-B171-1D45B9AE9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B75A68-C022-4034-9AB0-05CF2DD33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B1E9F3-DFA4-4B9A-8B82-6A57632D9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35432A-CC7D-4BE7-A914-C9EFAAF90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F39088-248E-47E3-AE73-5706B3A71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33673C-7AB9-47C4-BAEF-01AAF7408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D3241B-6A02-425B-910D-6C917831F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29B5E6-97F8-47D5-90F2-916FDC2C6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8F0982-C967-45B0-8C28-43990E9BF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6C87D3-300B-42F3-8117-81DE3607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8AED3-2B4E-4B68-93AE-AE226E610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2D321B-D929-452A-9DC6-26F706EA1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90418F-2174-484C-831F-F5831BB34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40B250-F095-45C5-9426-833858BDA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4E8145-32B1-44EA-A9C3-96B782CA0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D6CA54-4608-453F-9CA6-BFC2868B9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D7FB17-77B2-43F5-AAA5-93C66A4BC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23D3A1-61E6-48EF-AF62-ED5D7DD36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5924F7-EFFE-4AE8-9EA0-2C154FFDC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822608-27A9-4603-89F1-87E68459E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55F38C-9E0B-4535-942E-97AC1DDDE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BCBE-059C-48BC-9338-D9445BF62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025EC-A019-4647-83F9-EF8054E02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699933-D136-4EDD-9928-488A41A14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DF0146-9D9B-4F98-803C-E3D7D4DE8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4B9DAC-6659-46C1-B3A5-EA3B303CF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780DA2-0D7D-4067-A2E0-80FE2251F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129B76-4CB6-4CFD-9F52-5F7AA76F8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2C0716-5B6B-46E9-A94A-36A69CEFB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656B33-0E30-489D-9443-61E9208EB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595FD7-3612-463C-A50F-16BD7B0F5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8319B2-BED4-4F3D-A1EF-10105D1ED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30393F-AD47-4100-AB66-494B99528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03B4D-DFC3-425A-857A-1465FB226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CC57CD-FC0F-4D75-BC3C-082F2E347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68F0C4-F6E0-449F-8D19-3D76356A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F60113-4902-4413-BE87-162E7C95C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BF8D10-472D-4D85-8573-343CDB330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51ED8B-CF33-46E4-95C3-6A3C417D3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E09E66-4854-4BB9-900F-248B3FFAB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AE645F-8F47-4887-BDB2-EED5C67C6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33BC9A-2E01-4EE8-9A2F-7ED79C74A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D6191D-590D-401F-9C83-52568A742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9315F6-AD67-47D4-82E9-9097E96FD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E641F-8E38-4AEA-8612-F6D3B5CD3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623D88-A0CB-4977-A74B-7315F8ACB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3C2AC8-9B41-4A13-9544-661BE793E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08482C-3D7B-48DD-9565-FBFF7452A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CA6DFD-02C5-4672-924D-06BD470C4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617BEA-8AC1-43E0-8DC6-09D99A2DB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4390B0-4892-4DBE-9DB4-5329FFE4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09EAAC-C111-4D6F-A4FB-35A0B3EFC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87B30C-03AF-417F-9BE7-B14B3AE1E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41DA37-5648-4FA3-8B01-F5F7C6829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88C1B6-B5AE-4897-993E-6522FA02A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714AE-50D9-4A3C-8356-101D3CC67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71004E-F4D3-48DA-A5A4-8AA58A3DF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58B5EB-0541-4A10-832B-E32C5C803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8E4C77-F9D7-49B0-BE77-3E3DB8583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CACEC3-B363-4633-80FD-15B90FA9C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A40327-B12B-4249-8D56-DF899AF20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732A8D-76CA-467D-AF13-F6AC7A0EC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5EB34A-220B-4497-8389-AE2B5085C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9529FE-C1CD-4076-95E8-C35F7FA6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7A99F9-3930-492E-8187-485BE1A0F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D5D7BF-2C9A-4FAE-9630-76BBECDF1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BCEDD-14F7-4EC7-9D20-A533BB15E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6ED64F-6DF2-46AA-914E-E349930B1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720E69-F196-4237-885C-3B0E97C1F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C708C2-1753-467B-8C03-B3C6D3F09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2A14B1-9C5D-46B4-98EA-0DA185E76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8F85F39-940D-4E34-A176-3E881820B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75872E-3799-4990-94FF-2E85404FA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7875CD-EF1F-4699-AFA7-5C0F38F18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39AA4B7-5B1A-4397-80A6-C522BDE15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3194B5-64F4-487C-B073-C18C3DE5B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841898-079C-4F5E-AC55-1E0870280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76409-F53E-46D3-9CBD-1BED234C3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BB3B9E-A4D5-41D8-87EC-B275ECC18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77D8B8E-C2E5-404A-80A9-DCE48F316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23856B-C1F4-4210-9D1A-D036D6E58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75ADC-DEE2-4321-8100-01FC0E143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A4597-8E2A-423A-B6DA-EE9A068BA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4E79E-49DA-456C-A79F-18F774979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C76A0-FE31-41CA-A60E-5EA67CB40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DC2D-9BE9-4354-BF95-4637095E8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83573-3093-4A23-A2AA-C9DC3E2F9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287C4-C57B-44F8-8F18-0FCD460AB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2AF77-02A3-4DDD-BAB5-8E1184AF1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9F468-E34D-4079-90E9-2BBD8B93D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B4A7C-A4ED-4DCE-AC88-43F63E7BF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E5A12-CDDE-4069-9D59-4E96EEFC1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E1A20-7040-4D74-BE3F-9F69BD444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C6969-A2D6-41A8-AC9B-68BA5130B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8C4A8-5EE7-4A53-8B9C-14ECB1414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7D935-32C6-48A8-A533-0DE1BEB8B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CD2A-EC58-47C1-B6E0-8F39F5FAA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8E7FC-89DD-40C6-941B-E77564B85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BE541-E0FA-4EE9-A61F-42AA30049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B0A61-33E3-4678-8952-402651186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17DBF-1D4E-4E0C-9032-1EA07A92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34412-9ECF-47FE-9C30-DAB61D57C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16972-E1BE-4E79-818B-DCF5E689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D8800-7D73-4F87-894F-3F00F2A53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CFFD3-CD51-4798-8DAC-95B4EE0EF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97011-55FE-48A9-AC27-A897DB02A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A5125C-0749-49F0-BCFB-90BAA33B8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B23C-9F49-4A3A-9ACD-135944C10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D73974-EF7B-4392-8804-6DE67D6E8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C64AD0-C6E0-464F-BB4F-40326C0B0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26CD2-67BC-42E3-922B-4837EE264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7B1F19-C800-407C-A737-08E047BBA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5A87D2-3E18-46B5-B414-E946C3B8D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25D397-C98F-46D9-9F3C-7AAD0F43E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8CBABE-A887-4741-817D-D3DEBE3BE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7FE016-4F03-432F-BC92-0AF26D873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23520-525F-4FA0-AAC9-E7C2EEB3C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11DC0A-A1D9-4886-98D0-702626DA7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33C7-D8BE-4BE3-BCDE-C65CEF232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DB80BF-109B-4048-9F20-839B61017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667FB1-DA8A-486B-BDDC-D38C9DC8D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44A6AF-70C7-46DF-A53E-626CFBA70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B1722A-0097-4818-A29C-9F3F84564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7F129E-84D6-4421-841E-8CB4AC37D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E9E542-7129-4A9F-A268-4A2F2441B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E7DA2A-9B41-4268-A50A-BD9AE7D5B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4C79FA-6706-43CD-8DDA-7D2D4853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7AC5D5-E77A-455A-9AD0-9EE95AE2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32DB16-A723-4A12-8796-7B28BE88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22A7-4F73-4011-8AA4-1551AFC5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BE4C1F-C1AA-457C-9E46-D6D5B9029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4B6958-2BE4-406B-A8CF-0608BBF48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ABA5DD-F81D-4AD8-AB6C-D6333F078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B370F9-2D2D-466C-8B64-E705CC9E2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B8028D-DCD7-411D-84A1-0097E1E42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BC2B3B-6D69-420C-BA02-929D7166C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7D2E16-8151-4030-A124-8C1946455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B4896D-E50E-4EBF-B4DA-D012E64C7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E2E7DA-E4A9-427B-86E5-C0903C32A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AD755A-1D29-4AA4-96E1-80825589D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3A78-4951-44B1-89ED-D33478DC3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C662C3-1CBF-4699-B94D-AAAA4E3FF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5B94C3-20F6-4945-A7AB-07EBBEED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689FDE-C83F-4238-9A3C-177824255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28DD7A-2608-477C-A8D2-E018C76B5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8D8C5C-0459-4283-A4A2-61FB1E82B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6BDE2C-589C-4779-BA04-1378DA591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63F65A-F4D1-40BE-B9A6-9BB0DBF8D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A0F4ED-EBC6-403F-B1B4-115EECBA6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99670D-29D3-4020-9C25-51ADCBF7F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B5B3B3-BBB5-4AD5-B065-72B2C7E59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368C-360B-4A25-B26E-EBAF18616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E47FC4-3B34-4294-8973-4F28A27E7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373B5B-935F-49F4-A3AD-DB351E9F3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0D5A15-42F8-439C-850B-D77CA5A6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0A4D52-A2FF-4112-9D98-D9478422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947B17-0A50-4D06-B2FD-01585F222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1BF648-4E00-49D6-8042-4E05778ED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8840F3-DC30-402E-B4F3-4BA2F0CA8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4C6B58-94ED-4F2D-AACE-69E5F84F8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B4C506-4A4C-4C12-A317-935167626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CFFCD7-CD91-4971-9911-1D33F4C64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B2264-3648-4F4C-80D5-5275CA05E7A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6F268-9BFF-40A3-ACA6-4DA2B12B946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913A6-3551-4281-A570-7D647606FCC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82AAB-8DCE-459A-B2DA-7A0493AA13F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63085-628C-4387-848A-113B73D39A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0E3AD-1CA0-4E9E-BB14-C0E7C9EFBD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7CD56-3578-453C-9A9B-3EB9E9C49B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09CFD-DAAA-48FE-8C4B-0D0DDFB926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B194E-B8EA-4386-B0B5-6776FF197BF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55387-D46A-4633-B28A-812CBE45D36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4EE12-017A-4797-BB81-EDF76D4DF6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6BAE1-B7C9-422A-B84A-8B6EEA21C10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62D6C-FF2A-4FAF-A534-3EA42145736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C6AEF-AE6F-493B-9B8E-CCA11B30820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54AEE-3AB7-41F7-899D-5D11C14211D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9D089-0651-41FA-B36C-FBF9BAD7809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479EC-7AC9-40B0-8A0B-1010687309A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30057-0C30-4C16-ADB9-22E1C181B17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C29B3-5812-4DA6-AFF7-E6EAE3B5BFE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3047D-973B-4351-9554-96BED42C1B6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E6E8A-DDDC-461F-AFEB-5E33657EAD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5AC6D-B3F7-42CF-9D61-59ADAA3580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DC0F1-759C-4689-B6BD-8BA8099122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A1F34-C713-4C7F-8A8B-A656C191C7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BB084-864C-47D4-B258-05BE22D4351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ADFF0-3027-4A10-9156-AED9A141C82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D1EF0-293C-45FD-A5E8-78B83D9B10E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16ED3-91A7-4C4A-8FA9-636C4A4ECF4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43720-C936-4528-B006-E83AF4F182B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0A0D5-4A8D-4D01-A1A2-8422B9B1030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02CF3-4FA2-4977-85F4-8D0F4C76368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3CC2C-D9C9-4D22-8E0C-6C37FA10B53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C1B13-8636-4F9A-BBB5-4831F661A0A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03C00-F80D-48FC-A466-D143E1C44A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84824-7AF5-49A9-B1DB-4007F4D87E4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466D0-35C6-4E63-963B-CE121370A0C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B5A6C-5AAA-45F5-B49D-43D4E7CEF8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D4504-9CF2-4BB7-A8F7-6122657AE84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BC813-26F7-443D-8C6A-7923569D8F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B59DE-43B9-4693-95F7-F57C0EC0D35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50920" y="2349360"/>
            <a:ext cx="8729640" cy="1079640"/>
          </a:xfrm>
          <a:prstGeom prst="rect">
            <a:avLst/>
          </a:prstGeom>
          <a:ln w="0">
            <a:noFill/>
          </a:ln>
        </p:spPr>
      </p:pic>
      <p:pic>
        <p:nvPicPr>
          <p:cNvPr id="922" name="图片 28679" descr=""/>
          <p:cNvPicPr/>
          <p:nvPr/>
        </p:nvPicPr>
        <p:blipFill>
          <a:blip r:embed="rId2"/>
          <a:stretch/>
        </p:blipFill>
        <p:spPr>
          <a:xfrm>
            <a:off x="2290680" y="3821040"/>
            <a:ext cx="456264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1" name="图片 69633" descr=""/>
          <p:cNvPicPr/>
          <p:nvPr/>
        </p:nvPicPr>
        <p:blipFill>
          <a:blip r:embed="rId1"/>
          <a:stretch/>
        </p:blipFill>
        <p:spPr>
          <a:xfrm>
            <a:off x="262080" y="1395360"/>
            <a:ext cx="8619840" cy="406728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2"/>
          <a:stretch/>
        </p:blipFill>
        <p:spPr>
          <a:xfrm>
            <a:off x="826920" y="4869000"/>
            <a:ext cx="619308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60428" descr=""/>
          <p:cNvPicPr/>
          <p:nvPr/>
        </p:nvPicPr>
        <p:blipFill>
          <a:blip r:embed="rId1"/>
          <a:stretch/>
        </p:blipFill>
        <p:spPr>
          <a:xfrm>
            <a:off x="276120" y="1004760"/>
            <a:ext cx="8591760" cy="48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4" name="图片 59410" descr=""/>
          <p:cNvPicPr/>
          <p:nvPr/>
        </p:nvPicPr>
        <p:blipFill>
          <a:blip r:embed="rId1"/>
          <a:stretch/>
        </p:blipFill>
        <p:spPr>
          <a:xfrm>
            <a:off x="1352520" y="828720"/>
            <a:ext cx="6438960" cy="2600280"/>
          </a:xfrm>
          <a:prstGeom prst="rect">
            <a:avLst/>
          </a:prstGeom>
          <a:ln w="0">
            <a:noFill/>
          </a:ln>
        </p:spPr>
      </p:pic>
      <p:pic>
        <p:nvPicPr>
          <p:cNvPr id="925" name="图片 59411" descr=""/>
          <p:cNvPicPr/>
          <p:nvPr/>
        </p:nvPicPr>
        <p:blipFill>
          <a:blip r:embed="rId2"/>
          <a:stretch/>
        </p:blipFill>
        <p:spPr>
          <a:xfrm>
            <a:off x="652320" y="3610080"/>
            <a:ext cx="7839360" cy="27716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3"/>
          <a:stretch/>
        </p:blipFill>
        <p:spPr>
          <a:xfrm>
            <a:off x="5796000" y="893880"/>
            <a:ext cx="863640" cy="70632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4"/>
          <a:stretch/>
        </p:blipFill>
        <p:spPr>
          <a:xfrm>
            <a:off x="3564000" y="2722680"/>
            <a:ext cx="649080" cy="50328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5"/>
          <a:stretch/>
        </p:blipFill>
        <p:spPr>
          <a:xfrm>
            <a:off x="6732720" y="3514680"/>
            <a:ext cx="934920" cy="7779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6"/>
          <a:stretch/>
        </p:blipFill>
        <p:spPr>
          <a:xfrm>
            <a:off x="6948360" y="5589720"/>
            <a:ext cx="64944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0" name="图片 58373" descr=""/>
          <p:cNvPicPr/>
          <p:nvPr/>
        </p:nvPicPr>
        <p:blipFill>
          <a:blip r:embed="rId1"/>
          <a:stretch/>
        </p:blipFill>
        <p:spPr>
          <a:xfrm>
            <a:off x="318960" y="2200320"/>
            <a:ext cx="850608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图片 57352" descr=""/>
          <p:cNvPicPr/>
          <p:nvPr/>
        </p:nvPicPr>
        <p:blipFill>
          <a:blip r:embed="rId1"/>
          <a:stretch/>
        </p:blipFill>
        <p:spPr>
          <a:xfrm>
            <a:off x="652320" y="804960"/>
            <a:ext cx="7839360" cy="524808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2"/>
          <a:stretch/>
        </p:blipFill>
        <p:spPr>
          <a:xfrm>
            <a:off x="6443640" y="2781360"/>
            <a:ext cx="649440" cy="50328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3"/>
          <a:stretch/>
        </p:blipFill>
        <p:spPr>
          <a:xfrm>
            <a:off x="6372360" y="3645000"/>
            <a:ext cx="649080" cy="50328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4"/>
          <a:stretch/>
        </p:blipFill>
        <p:spPr>
          <a:xfrm>
            <a:off x="6372360" y="4437000"/>
            <a:ext cx="649080" cy="50328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5"/>
          <a:stretch/>
        </p:blipFill>
        <p:spPr>
          <a:xfrm>
            <a:off x="6372360" y="5286240"/>
            <a:ext cx="64908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图片 56324" descr=""/>
          <p:cNvPicPr/>
          <p:nvPr/>
        </p:nvPicPr>
        <p:blipFill>
          <a:blip r:embed="rId1"/>
          <a:stretch/>
        </p:blipFill>
        <p:spPr>
          <a:xfrm>
            <a:off x="738360" y="1838160"/>
            <a:ext cx="7667280" cy="318168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2"/>
          <a:stretch/>
        </p:blipFill>
        <p:spPr>
          <a:xfrm>
            <a:off x="3146400" y="2881440"/>
            <a:ext cx="1297080" cy="50328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3"/>
          <a:stretch/>
        </p:blipFill>
        <p:spPr>
          <a:xfrm>
            <a:off x="3909960" y="3500280"/>
            <a:ext cx="360360" cy="35892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4"/>
          <a:stretch/>
        </p:blipFill>
        <p:spPr>
          <a:xfrm>
            <a:off x="4341960" y="3889440"/>
            <a:ext cx="936360" cy="4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图片 55300" descr=""/>
          <p:cNvPicPr/>
          <p:nvPr/>
        </p:nvPicPr>
        <p:blipFill>
          <a:blip r:embed="rId1"/>
          <a:stretch/>
        </p:blipFill>
        <p:spPr>
          <a:xfrm>
            <a:off x="252360" y="914400"/>
            <a:ext cx="86392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图片 54276" descr=""/>
          <p:cNvPicPr/>
          <p:nvPr/>
        </p:nvPicPr>
        <p:blipFill>
          <a:blip r:embed="rId1"/>
          <a:stretch/>
        </p:blipFill>
        <p:spPr>
          <a:xfrm>
            <a:off x="509760" y="765000"/>
            <a:ext cx="8124480" cy="5067360"/>
          </a:xfrm>
          <a:prstGeom prst="rect">
            <a:avLst/>
          </a:prstGeom>
          <a:ln w="0">
            <a:noFill/>
          </a:ln>
        </p:spPr>
      </p:pic>
      <p:pic>
        <p:nvPicPr>
          <p:cNvPr id="942" name="图片 54277" descr=""/>
          <p:cNvPicPr/>
          <p:nvPr/>
        </p:nvPicPr>
        <p:blipFill>
          <a:blip r:embed="rId2"/>
          <a:stretch/>
        </p:blipFill>
        <p:spPr>
          <a:xfrm>
            <a:off x="1333440" y="6097680"/>
            <a:ext cx="2733840" cy="57132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3"/>
          <a:stretch/>
        </p:blipFill>
        <p:spPr>
          <a:xfrm>
            <a:off x="826920" y="735120"/>
            <a:ext cx="7848720" cy="247788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4"/>
          <a:stretch/>
        </p:blipFill>
        <p:spPr>
          <a:xfrm>
            <a:off x="684360" y="3284640"/>
            <a:ext cx="7848360" cy="129672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5"/>
          <a:stretch/>
        </p:blipFill>
        <p:spPr>
          <a:xfrm>
            <a:off x="539640" y="4653000"/>
            <a:ext cx="7848720" cy="129708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6"/>
          <a:stretch/>
        </p:blipFill>
        <p:spPr>
          <a:xfrm>
            <a:off x="1187280" y="6121440"/>
            <a:ext cx="439272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7" name="图片 52231" descr=""/>
          <p:cNvPicPr/>
          <p:nvPr/>
        </p:nvPicPr>
        <p:blipFill>
          <a:blip r:embed="rId1"/>
          <a:stretch/>
        </p:blipFill>
        <p:spPr>
          <a:xfrm>
            <a:off x="561960" y="766800"/>
            <a:ext cx="8020080" cy="568656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2"/>
          <a:stretch/>
        </p:blipFill>
        <p:spPr>
          <a:xfrm>
            <a:off x="971640" y="1427040"/>
            <a:ext cx="7632720" cy="50328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3"/>
          <a:stretch/>
        </p:blipFill>
        <p:spPr>
          <a:xfrm>
            <a:off x="826920" y="3371760"/>
            <a:ext cx="7632720" cy="50328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4"/>
          <a:stretch/>
        </p:blipFill>
        <p:spPr>
          <a:xfrm>
            <a:off x="755640" y="5977080"/>
            <a:ext cx="7632720" cy="50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2:38:19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