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142-E044-4EC2-80A0-116BF635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1C5-DB42-473D-B8F1-54B6446A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7E9F1-61F4-488F-BFC4-361782B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26BF5-7F7E-4667-94EE-DB4AB732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C3A2E-6B31-4BD3-80C2-5A8439D1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4B539-200C-4472-8885-CE6C9DD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A187E-B2E7-46E5-A59E-52522A5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FA1E7-11BE-4EDD-A0C2-2317E7D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8B79-5CF1-4811-A01C-1A84178F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7F243-7738-4255-BDBA-DB49E9A7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23D9A-AEA7-443C-B2C8-C6D858F6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4BB5C-A35E-4F65-BA49-E02E749A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A7D-3CE3-48F0-84FF-47727E12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AB448-37A4-4515-AAAC-EC91F95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E6E84-FD9B-4541-8F61-AC413844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6FF45-8806-47B6-82F6-8512E51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00BD-A48F-4CBB-8A9A-24D3460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81FD-4C9E-4DAD-A803-0A853CCF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C4790-FA7F-46F0-93AA-60AE337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69855-F52E-4554-800A-BC4BE59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15B75-D7A3-4427-BDFE-B3205A56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70C42-6496-46BB-AF71-7387EBB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01FE-0287-4717-9759-4AD5E6A3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044-243A-4B6E-999E-9BAE6322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8CB8D-B280-480E-BF4F-FD7EACB1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55BC-B7A3-4A83-8215-1F1AA44A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9D90-F394-45EE-B261-B027145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A7F88-9EE0-4F72-95AB-4180C25D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7D4C-D51D-469A-9BC0-94390F5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C762F-BC3D-4ED9-886E-1561248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70E5A-8253-411D-8644-C0114F95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657A4-C4CA-4EF8-B53D-68A90456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D354B-754F-4938-9152-5BA68158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7B5A4-75A1-4CAB-9620-4001862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D1DD-3894-46CD-8890-033E0DF2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B7434-6292-40CE-9F3C-F6FB274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C43F-FF45-4149-8E58-7F0DA720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EE4A9-7391-4474-8A4B-C8C40559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2BE3-7CCA-4B5C-89CC-2F5F73E6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A34F1-B7EC-49F3-A04C-DBFF5196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F269-D9B9-4CD8-8786-9C846957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A79A3-E1FE-458B-8700-5B225C6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331AE-DCCB-4559-A15C-622D9E97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7B144-093E-436A-9054-3ED9D81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DC1EA-2BB0-4D5E-B7F8-0B28BF0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D78-97E5-4E7F-B445-7B630C15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664C3-CC26-400F-A995-1214378D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2EBDF-F586-4FEF-9BE2-BBFEF5E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868D5-5EE9-4FAD-B89D-F3B2B63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38D2-7989-48F2-9DAE-936D3A2B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30B66-8DCF-4851-B077-8E8CAE9A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1A9EB-0212-440C-BC90-D070C3B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58578-91F1-41D9-994E-AC52100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662AE-F336-4DC8-9698-5D32EB0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7B6DE-BD98-4FAD-9781-0D9397A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D473E-0BFC-4A90-963A-3030413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2701-1D6C-4311-9C3C-130D0E9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19688-9394-4CD2-87EE-7D0ECCF3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13F3F-8187-4F0E-B48A-A08B3DB6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B42B7-DE2E-469D-A991-DC68B2F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1CDDD-4005-4EDA-B16A-90514E8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22498-13CB-4786-8068-BA88B903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6D912-AC2C-4688-905F-57A2A64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F499A-8A76-48E2-99C5-00FBBCC3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1D3EC-2D3F-4ECA-8202-FF4C8FA3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D79F3-FA08-4511-B943-FE63B18A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22263-38F4-4380-8DC4-1D8DEB0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AB2F-95EC-47C8-AF5F-73D98BD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97B2C-2253-4E6A-B2B7-6576FFB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69F08-3E94-471D-8C5A-14E74045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E4DCA-19CD-41CF-A26C-617607F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DBB07-9566-4F63-91A0-45860F0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255CB-F70D-4CE0-8295-BC59856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5E208-BE62-4E45-95AA-34570D8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772AB-6C43-4E42-ABCD-6280B2E6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E19C4-FFB4-4F7E-B892-CF253E95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AD8FF-0F9E-49D1-937E-EB475B0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58DDC-8158-4132-A72C-AF56390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7FF-78A0-470E-A38A-61476BA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DFDD0-F58B-4863-AFDF-A95225E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BB0DC-29C8-41A8-94B9-C488760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03BA5-C3CD-4CF2-920C-2EED24FD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E6F62-0AF8-4D0E-88A8-DC88775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086E-4116-4DAC-AE08-57BF19E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E5A2D-0634-4D27-9E77-96CAEB8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BDABA-7310-4620-8F6C-A495BADA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D3FD1-34EF-4009-A0E8-0C1E192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7BECA-6FB5-4ABA-8455-B04FAB3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954B3-D080-42CB-B6E6-D8818AE5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AA85-6507-462B-8A03-8025A707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75302-69B6-48E0-9FA7-B347A1A0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86343-9910-4789-B1E8-964BAC3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A11B2-59FD-473C-9042-EF0F78E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6646B-A944-4B4C-B0C9-8CB458B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0BAB1-5FD1-4249-B9B5-DDBF050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22530-BD0A-4B2D-8B70-837816D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8EFE6-D5EC-4AF3-94EE-4118BB13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8C7124-9E72-41E0-97CF-B75E945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5AC7D-764B-4A01-81CF-0A6F0D7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E0BEC-A87A-413E-82E7-95173B0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7C69-5FBF-440F-B92A-860B332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950BA-4136-407B-8DF0-7B1B9CF8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C6530-C42C-4298-9E56-ABA146A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EF563-0907-40F6-9585-9FBEA8B2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BE6DA-AB32-4E26-8106-E610258C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D83EB-DC6D-4ED6-ABB0-CE060BA3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9E03B-2106-4B83-B4CF-27E6133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899F0-5EC5-4442-B75B-22519C5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261B1-9DF1-4F9A-9474-3B38C48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8E3B8-08DA-49BF-9A78-7B8D03C0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EEBD9-33C6-40D4-A7A6-9D16889D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D5A-CA22-4746-AD47-C5D6D163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C9F3-5AE8-43A0-8673-C91FDF6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AAE9C-EFD7-4B99-A0CB-49F654F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5D19F-97D5-484F-9A71-DD298A1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6A7BA-346A-4B5C-9D23-E6FF125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F7FCD-69E5-4A68-94DC-D1849934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07915-988A-49D4-9DE7-0CCC1497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6533FA-8BC7-4B82-ABFE-64740655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870BD-09BB-4D72-94E8-EC0E4A3F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EF765-68A9-472D-9422-5A2139F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B8AF6-2547-436B-9521-89B413F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6A534-70DF-4010-9E23-EEB6FED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8C26-44A4-4CFA-915A-9673FC0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F5E87-1D6F-4AD3-8441-78D97842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36E08-F6B2-4C83-910C-4B4D85D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C22A3-192D-4786-B365-9673CD94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E20A6-AB3B-4C25-AD28-DD60BFB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71750-6CEC-4AD6-998A-5E487A5A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230D7-9CE0-47BB-BD16-9F6B53F2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6D0EF-7C0F-42CE-89CE-967E3C35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D0DC5-89FB-4A37-9D94-9B62F170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10AC7-A264-4107-B201-B16F6909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86A97-281B-4540-9700-E0C31D22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237-241A-4C0B-B7BE-D7C0492C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64D5E-EA77-4540-9A4D-233C4E6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C435A-09DC-45BB-B654-662B247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E9146-1F0B-42F8-877C-A3EB592D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B80F5-1CBD-4FBC-89AE-4AC4811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4161F-9C7B-4232-A475-C0CF717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66A2D-5D1A-4D76-A23C-45F0FDE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6C7D8-A4BF-4705-8CC0-472FF013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40750-4907-4D71-A92D-4529D603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9672F-9876-43F5-934E-D2C61920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6F15D-DFDE-4BA5-B8F5-D6736B75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1DD0-301D-4624-8EC3-54D7DCF4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FDB75-8FF1-4DE9-AB16-D122B0BC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5E4E3-3053-4FDA-9C27-65EAF3E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FADCE-8F59-4607-B2C9-5F8B4917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1903C-9373-4837-9445-A8172D55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3F42E-AF8D-407D-8355-432E92D2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6BD059-47A6-4BD2-8FA2-C9E8ABC4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3BE76-0A5C-4018-98C7-3CEA710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20B67-B044-4CD1-A00B-9F17D91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F41DE-9AF6-4DA2-9F3E-C8F9880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28CAE-7611-47AA-AA1D-26DE2A1B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420-E4AA-47BA-BA00-05D04895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82846-74B7-4916-86B8-49791BA6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F0CE33-537C-4359-B806-D110CF57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281F8-966A-41F2-B905-0ACEA30A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68B91-6A3C-4239-9A7C-EEE3B93D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B6CDD-A292-45DF-AC85-D76AE73C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923901-402A-4599-AE45-D4E76BA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742B6-F5A0-45EC-83C8-CFE60C4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741CD-8E29-483A-92EE-C33D3C3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944BAB-CA11-4F55-A38D-9FEC0BD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E355F-F349-48B3-9B8E-0AFAF12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9233-7484-4D9E-91BA-CD85336E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DBE93-3191-4FFC-86D3-4F4AB53E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B8822-38F3-468B-B0A5-1C8DFCFB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5C2C9-E95B-4972-97EF-83DE6652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4974-2DDB-4CE8-8589-4938ECDB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9882-BE25-4507-AFCA-1D2C2F5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1687-9BE7-4291-B3E6-2199CAE8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6F24-9688-4E2E-AC76-F00D23B7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FBD-A30D-4847-A6DE-5FC0F73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F330-32B2-4224-AEB1-DE64709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5C4A-D953-456E-AED0-532F4C9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CE7E-DF6E-4035-A35A-FF179F6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90CA-73B2-429F-876C-AB0AB21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6DE4-9BD4-401E-9B20-CFBFC6BB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483F-228E-49B1-984B-EF0AF868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0C2B-0C45-450B-981D-6CEE6081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4057-B4A3-4A00-869A-4D748560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7574-76D2-4BFE-AFA0-54F2727F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6AAE-623D-4DE8-9FBB-40665AE7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473-60DE-4BED-BDFB-4488E9B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3142-7DBE-4497-B554-D0A8DB90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FBA3-30E3-4E6A-98C9-B7F19ADE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8FAF-0696-4A6E-BECA-6045857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CDE2-3743-4FA5-904C-A21B908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49C8-38D8-4951-8FFC-7F8A549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E4D5-F67D-45D1-A62A-7ECED49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F537-1141-44EF-903E-FFFC6FEA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2637-DF0B-4302-AEE8-EC0886A8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5C7E-EC32-454E-8E17-C2A38B9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8668-F836-42E0-8510-98E4E77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7C4-E4D0-4E78-8F1E-350C2CD2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B8A0-2449-4D92-919C-9D7F6DF5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CBB2A-1C9E-4137-8A7A-1968C8FE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94F5-1A9B-4A0E-B168-DF17BA90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EF9F-81A4-4B70-8C60-12E98C6A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E24D-6554-4253-AC88-03042AA8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8DB5-D229-46B3-8D1A-7A4F5D2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5BA6-476F-41E2-8BFE-ECFD648A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4938-F08F-4F3D-ACE3-85E52E7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00FC-A209-4B1E-B932-85BA5128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2463-CEE7-4B05-A4D7-3B1E24B4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831-E166-4257-9493-68870431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995C-63D7-4677-A44A-8E07CFF8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93C8-D98B-4AC0-A2D1-41AAC2C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A65C-E9DD-4F1D-975F-380CC054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126B3-0BA2-4BF1-B00C-4DCEF033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87D7-DD77-4AFF-A0B2-1548E3C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36FB-E92A-4D1B-A11A-3D890978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9CC8D-0A51-46F0-B465-BBB6420D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778A-718D-498B-A51C-74F4B0F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372FC-C3F0-402F-B9F4-F67D09C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6DB1-EDE9-4F8C-B422-D363A1D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478-5411-40FD-8F54-9334A5DF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2429-E0A3-4458-88B8-0F8E83E3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17DB-C34A-4EB0-9F31-5F3A3560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0B47-4719-43D5-9D99-280230A6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0DC7-C3AE-475A-B97C-7A4E181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F5D0-1780-438E-AC62-A6171E96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D1D6-AC0F-43DE-971B-A7ADA53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70C6C-1025-480B-96EF-E8B812B0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6442-48BE-4E77-A228-DADA5E4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4A54A-4F80-4F4F-9B4F-507CE129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4D3F4-A6D3-4E05-B644-6997C16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03C-02B4-4517-AF1B-9117EEB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1F096-DF40-4738-AEE4-8102349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4C2D-1737-441B-8AE2-8C91C67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3F20-B57F-4188-99C2-184F617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4FA9-C4C7-480B-9B21-F7842F7B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5CB9-316B-4C52-883B-07307C62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4F3D-C398-40CF-94CC-9632D1F3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15BF2-036E-4E29-9A5E-62DAF4A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DFEBC-DE6C-42E3-A80C-31C45610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134DF-616C-4CD0-A471-C7D7E73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1B1C0-4721-4303-AF56-9A5EACDE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45A-C544-4BA4-BE1D-151AD17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705B-7069-49E7-B0D5-080AB95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3C99-61EA-422A-BC40-E1C82CF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C595-5D43-4FDC-B69A-AE7AEF7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72B2C-258A-44B5-9F24-412AFF5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0038-ECD0-4AAD-BB4B-CB3271C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851F-B59E-4017-BAFB-93D2844A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04D83-B9CF-4FAF-B4D7-7EBA10ED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C7665-9B5E-4FB7-91C5-10192798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4F825-AEC5-457D-A179-97D14AC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0A34-40AF-4AAA-B1A8-D888C97C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12B-B01C-4E4B-8ECF-3775C187D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242-D189-4E15-9A23-EEFF6725A0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D43A-7F89-403E-B250-780E20718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AD79-6C59-44BA-A24A-A5F508797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CF06-94EA-4BA1-8AD3-65E160377B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090-6A87-4DE8-A1A1-27E33C6FC6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19D7-0AAF-4982-8B0D-4A7D9CFA8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02C9-5760-4D1D-977C-D88BF91900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61C-7766-4A0E-BF5B-576D96D6C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7AF3-8FA3-49CC-A37A-67A35DB5F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43A5-8EB8-4D9E-923B-917E30488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BCE-1E68-42C7-A82A-25E9CA88DB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B721-4D15-4A19-9E6B-3FB85B225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EFE5-D378-442F-AF74-8EB5CB1F82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4894-704A-4399-8C7F-9375FF5BA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CC0-1DEA-4303-9528-787A50060C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AE00-C7F7-4813-BBDF-1744C45E0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8067-076E-42EA-9C50-3B9041351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E77-AFFC-49A6-B3C6-3286D60BF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91F2-51BB-47F6-B1AF-BD86FE417C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8ED3-7D7A-4FAC-B94B-B2F817EF8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98DA-F7D8-4935-AC82-EDB9BDE3BF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BA96-D04D-4EB4-99F7-6C93F3A7F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C801-2713-48DC-95C0-139EBAAC2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FD5B-36E2-4894-8B48-8463907DD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55C-C8BD-489E-98E3-1CDC7F411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403C-CD18-4F6C-A376-73FB050EE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D31-46ED-4B00-B343-A408FC6F1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255-6F26-4F7E-B7EA-49E8AAD77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02E3-8F96-4BC2-9DF6-4326F2D46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49F-6E58-4C9A-B329-EB54769CF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2964-AD50-4908-93D4-3E1C3FAAB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3C7-9EFC-4DC2-A988-CE077BAD4A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F1A-A364-4DA6-8193-D942CD6335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F124-0BEF-4BC1-AC43-B4C939CD85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750-1436-4175-82C8-C28A9F140E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DB94-9D16-45BF-8980-9BE40421C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2A14-A477-4ED2-B72B-8A1D1F359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441D-4DC3-4D6D-9EEE-F9670D4B8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CFAC-0DB3-4896-A5AE-40C870A03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00960" cy="13338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56577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43080" y="743040"/>
            <a:ext cx="8458200" cy="5371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203640" y="414972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451640" y="416412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961920" y="928800"/>
            <a:ext cx="7220160" cy="500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816440" y="1614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48436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670392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268880" y="5516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404640" y="1228680"/>
            <a:ext cx="8334720" cy="4400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5148360" y="1930320"/>
            <a:ext cx="24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75480" y="3730680"/>
            <a:ext cx="17128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1763640" y="4149720"/>
            <a:ext cx="4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34800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5435640" y="458136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152800" y="502776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4280" y="1014480"/>
            <a:ext cx="8515440" cy="41432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7353" descr=""/>
          <p:cNvPicPr/>
          <p:nvPr/>
        </p:nvPicPr>
        <p:blipFill>
          <a:blip r:embed="rId2"/>
          <a:stretch/>
        </p:blipFill>
        <p:spPr>
          <a:xfrm>
            <a:off x="900000" y="5291280"/>
            <a:ext cx="7944120" cy="1162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97964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2843280" y="37306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2268360" y="439416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877080" y="53006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6877080" y="5950080"/>
            <a:ext cx="790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66760" y="442800"/>
            <a:ext cx="86104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590400" y="115920"/>
            <a:ext cx="7653600" cy="6573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971640" y="1355760"/>
            <a:ext cx="46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042920" y="259380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1114560" y="322740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1042920" y="384660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1114560" y="4437000"/>
            <a:ext cx="7057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657360" y="1838160"/>
            <a:ext cx="7829280" cy="3181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116000" y="2549520"/>
            <a:ext cx="7559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75596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042920" y="3860640"/>
            <a:ext cx="755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539640" y="3862440"/>
            <a:ext cx="8058240" cy="194292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2232" descr=""/>
          <p:cNvPicPr/>
          <p:nvPr/>
        </p:nvPicPr>
        <p:blipFill>
          <a:blip r:embed="rId2"/>
          <a:stretch/>
        </p:blipFill>
        <p:spPr>
          <a:xfrm>
            <a:off x="1042920" y="1366920"/>
            <a:ext cx="6991560" cy="19908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21164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211640" y="24210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351560" y="1557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164360" y="24922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1908000" y="400536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1936800" y="494172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4788000" y="407844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4932360" y="492588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7740720" y="4048200"/>
            <a:ext cx="503280" cy="71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899480" y="4941720"/>
            <a:ext cx="503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6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