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82D-01B4-4092-A16B-FD8D5B37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6B8-60E5-47A8-A560-862630F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B2795-1395-4BCB-B262-24B88905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AE796-C12C-4C13-9CC2-33528852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A469E-5B12-4399-9720-51910340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2A96C-524E-4600-AEBD-8059D4F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D2C96-58D1-41B2-A96F-8B7FFC2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81E8E-981D-4B34-9EA2-DA73B7C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FBA8B-CBC9-4084-A133-AC94265B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0C75B-C7F1-43A7-AFD9-C1BF3B66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24C01-27D5-4DC7-8170-DA1D9AEF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EE234-F2BB-4951-A9EA-7829C743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A58-C16A-4465-B1A4-14A8BA98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3C436-E062-42DE-AA1C-14CC4E4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58CB7-3CCB-47E2-AB73-11C8DDF0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9FA88-64CF-4213-92D3-1D0DEDAD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0E4E8-775B-4A72-95A5-08C79B5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E7A70-33D2-4513-BD80-5A004EEE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FEB8F-3A9B-47B5-BFCF-85F9E8B3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6539F-77A1-461F-8C43-7813A3A0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46962-4EDB-4E8A-B65A-4591954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13C76-2641-46A3-BE88-1918FCE4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4037D-544E-42CC-8116-FEFC97FA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F30-03D4-4A41-8CF2-06AB3597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E1959-C3F2-49D8-9545-1E110007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1FCF8-8A34-4F81-9930-4600BD88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EA161-0656-4974-833F-FA4CA619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16CB9-DE78-4863-BE6E-BA4806D5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5804C-7491-4A18-9B0C-8E99F449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C61D-4865-453D-93BA-81ACD995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5D99C-892A-4253-9C83-761D6A4C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DE796-5D17-402D-BF74-DDD1019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5791D-85AF-4EC2-BBBE-8C76A1B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AA7BE-1B49-44E3-A7B0-DEFC7F5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5F05-EA60-43D4-A520-00607E34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8351C-6F24-450A-A7C3-52FE9D9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A3664-26B6-4782-84E0-58C67067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3F7AA-6C7A-4349-A02B-1D694F8A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B2A56-4AAF-4ABD-BEFF-054AF283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260AE-E50E-48FD-B863-7478FB1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BD313-CCBD-4A84-86FC-7AE21A2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76118-75BF-43DE-95D5-6358262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4F05E-195A-4F17-842E-69739BCE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480F5-AD10-47EC-A328-3514E845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E7725-06B3-4D30-9089-F9B373B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CD0F-8387-4997-84B3-D8B5218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BE3DB-13AB-49E0-BCF7-79434E26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21F1B-05C3-4C61-B373-D0DCEA4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365D4-5F7E-4E6B-8377-65F42E32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16DBD-EA7F-4DEE-83A3-EAE5A23A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5C37E-C709-4F25-B7F8-0A948295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9ECD3-B408-4F71-86B0-CCEB9DA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B90EF-0648-4734-8909-D33F06A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D11D6-333F-41FE-AAE6-EBFF018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482FE-2C8A-43F1-BE34-690B782A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F49DB-4515-465F-AE47-68FE94AE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7450-B5F2-403C-A290-CDF57603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C8C38-7505-44A1-A655-72E0C6F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05C65-287D-4913-AEA8-7E92624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052E4-7A86-4C40-8F34-93201A80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0E837-B986-4CB3-9882-84A8346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FB35D-54FA-4167-952B-79586DCA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2931D-C760-4EBA-B9DF-2BC2D367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6DC1F-D403-442D-93BD-BC4D1E64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2D980-D117-4611-A70F-7409B322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C861C-24B8-41EA-A941-E01521B5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C556F-103F-4DBC-9CC5-FE939E5B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C16-3A27-4879-B1FB-172DFA98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A3012-EBB7-4460-886A-11D8F18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F01B0-017C-46AE-8464-C58D9933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70FF4-25FE-4788-9247-F2433A3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15AF5-FFEB-4177-A3C7-D786574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F4088-DBD8-43A5-860B-E2BB9C6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D06CE-4748-46C4-984B-55F84EDD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43B4E-1201-40E7-ABB6-BE9661A7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23BA7-4877-4104-B2CF-B5C98624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4C6B5-6F67-4FBF-9F7C-D166903C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45B13-C371-4AFC-8A97-1EC45420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C079-A002-410B-A428-133D03A6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C17A2-B254-4169-A6BB-6E42473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DC846-E17B-48B7-B0F3-A158F92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0975A-C818-4E45-8330-52E446C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7DC85-12D4-46A1-8C22-0E34DBB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0FE4B-C9B2-4C07-945B-9B501D43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51C52-1E1A-49F6-A0B0-E7DF5453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11FF6-EF1F-4906-A8E3-7911A71A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6FBF4-49FC-44FE-BB7C-05F26A6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518AD-C8B8-451D-9BA8-5E642B90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D749E-3616-4718-9B45-35F9802A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7A7-AD9D-44ED-BBD6-D597035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BD5C7-1B24-4096-A9F2-9969D8EB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1C4C5-EB38-4888-B5B3-FD40081E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87F47-7A23-4D1D-8A39-D1D78979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A97D3-215D-46CD-A63C-99B0E17D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D087C-7184-4C7A-BDFC-B0AFF64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41504-5952-4DA3-8DC3-F1E80AAF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7DC5E-364D-4A0D-B870-E7449E4E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D5C73-2BE4-473F-B6F7-67248B3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2EB41-CFE1-43A4-B142-88139E0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D3367-F80C-4F04-B8EA-5D8062C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6942-F0BE-46F2-BDF0-0AA948D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CDF01-1B7E-4955-AE26-453FD70A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B7399-7B7A-4682-A742-5EA7C5C9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CD961-DA67-4339-A060-1C9F2C3D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3B05D-1C28-44E7-9AAD-9A23A704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E306F-DB70-4E91-8F8F-5406581F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B2B1A-6425-47D9-B1D9-9C1A9531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6A79B-FAAC-4E38-B497-C15F00E6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2A076-5BBC-4A52-A4E7-AC91565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4E95A-2C24-406D-906E-BBFACBE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5A93E-991B-433C-8814-8F8D8F3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6F3-ED78-469F-8EA6-451A81CA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B02-94C4-40B3-B25C-A0CC8B8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959CE-58E6-4893-B890-010F401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D778A-31D4-41B1-894C-4A9E217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783A6-486F-4E09-9A1E-16A89B00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4196E-3F19-46E4-B0D9-FEE9A6E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96D9D-869C-481A-ABE2-72F2AD34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C74A4-3BBB-4A88-B1BF-1D27887A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61887-EC78-4BCA-9478-E3B57760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4A1E7-F0FD-4388-A997-AC4065EF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5BA78-70F7-4D6B-9887-D2A6948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0D294-76D7-4923-BBB6-5A4F188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B6E2-0123-4C87-8BA4-91716268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43371-24B0-4603-B832-8EB3E369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E0C47-22E1-44D5-9DD7-17EC1CF5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904D5-570B-4F4C-AA68-351CD6A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A7967-4A90-4213-8599-F34B4F8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6AD50-F794-4173-AE64-59C6DE59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3ED28-D74B-46E1-A7F9-4DAA1367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67AC3-3B8B-4856-A2B0-6CC5876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1B039-F2E7-4010-ACF3-148485F7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F2E80-79BE-4AD9-B264-5FE355C0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CAD87-7987-4887-A05A-366028A0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C907-15B7-4AE8-97D9-3446337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7E4BB-9DE8-4359-8BB7-6CF6708C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83B32-AB4E-4A35-9203-84F52CC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EA185-6065-46C8-A0B8-1A0426B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D3793-3DAD-4A27-A2EE-1A29E9A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5E2E7-E6AB-4E7D-9E36-BD3200A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BD3C5-2CBB-4A54-A7D2-C722857A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3266BD-4425-4832-B898-34B8758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4D918-307E-468D-A9E6-A68077A2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C1D7D-7E8D-4203-8B30-415513F6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93800-CF77-4946-9688-C2428B9E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D3EB-759A-4001-882F-259D40D5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CE472-3953-4B7E-9744-3C2DA05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6A072-0EA4-4173-B945-7A9F5AB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A0BA7-3108-421D-889C-79CE9E7B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5346A-F32F-4E0D-820F-386076E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4502E-87C1-41E9-BE0D-CD7EFFEB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4C27F-4099-4550-A1DB-B4CF817E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B7792-8A81-4C71-AD44-0996D5B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ED482-DEB5-4BF9-9F66-8A379B4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9BE65B-C398-41A6-B688-83EB142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2E319-C70C-4622-8771-17610FA1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4677-13A6-4C2B-B689-90AE744F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C9BE0-0731-47BD-B73D-6F8E6921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E64BE6-6342-4A65-8A52-58E07130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68CE8-D59C-46B7-AD5D-403A27E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86261-2598-49F0-93C8-37BEAC1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DE899-6E96-4870-9FFE-359B5EF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B59FA-2730-4D87-BC79-C7F9921D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782C5-EFB4-44BF-853F-BCE1964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677F6-14F5-4943-B972-426ADB5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90D85-E9A7-4C95-B579-DA2C67E6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93B85-03CF-4783-AD23-BA0652D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577F-8CC9-49F2-A4AD-A058E4DE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15FF87-A958-4D32-A7FA-59B21F8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DE9C07-AFD1-427A-97EA-DB72F3B7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32407-6948-412F-AE76-67CA8DD0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3DAB72-D68B-4C55-9BE7-A5E9D4E9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E2C2BB-BD86-4C05-A757-CD774C0A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1D21D-3CFD-46BF-A317-FA30C6E3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4E68C-8507-4F38-B185-B3D637D8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9CDEF0-71A6-4309-B9EB-2AEC23B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2C3B3-CD6C-49B4-9728-97DA45D0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BB546-EC88-453B-867B-DB9E5EF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FBF3-3CFC-4658-93EF-CC6B96E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477849-FCD8-41F1-AD74-E284E4A8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95871F-D831-4D4B-BAA7-EF17A2B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D8A4D-B0A0-43EE-BAFD-2ACD035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475264-0393-4925-99F5-9BFAD674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4CDB8F-F580-4ADA-9456-E93FB03A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9B5401-0E4C-4507-9729-A4EABACC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36D999-3184-41EA-A43C-7A8E8423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AE7D38-254B-4A87-BA88-1E8D0C8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07CA57-961C-43B5-B64F-1C181250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3B911-ADC0-4198-8734-147DDF7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CD9E-0595-44B8-BC17-30C47C5D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0005DE-62CB-46E8-9444-EB7B8348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7F7B17-7784-4F0A-9FEF-203CE413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F28C58-9333-478C-8405-329787F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369E95-7D9D-41E7-B553-A15447B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1B82D1-3F09-479B-B922-3C19B13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4CD1EE-7EE9-4438-B7ED-8FE97C9D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9FC33B-DB08-40EA-BCF0-FC8C60A7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17E1-B5B2-44AB-9C17-4031CA9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FEF3-251F-4DFA-9438-D37DD802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B1D-FCD8-489F-ADED-DF58D8A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08F2-6C0D-452D-8D1E-05D88A96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1752-C250-4490-AFFA-DCA45BA4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533E-6A8A-46B4-B60A-21E0D65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EF8D-DB54-429F-9EDF-4177F9F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361D-55C5-4D09-B88A-AE051CED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E41D-CD63-495F-AD39-54F2B6BF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AF74-CF30-4160-8CF2-007C7DCE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C712-3902-4E42-AFAB-C6B7EF70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DCC0-4AD2-40E2-A42F-61C47CA1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3B78-1828-4A5A-A986-7E28580A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C06-23FC-43AE-A6CB-F987C3E9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37A0-A940-423B-8EB6-692C8267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21C6-6417-4C2F-AB95-70DB170E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CC69-910D-4A5E-BEAD-C593F2AA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552D-82F4-4694-8B1E-2D3F794F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5D40-F625-4659-973E-E86BB6B3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209A-3367-4263-8E90-605BB896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8AC3-7138-4299-80FF-EC1D40F9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82F3-6B87-4B0B-9713-7C4A8BFB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EA1A-5CE3-45AF-9A94-994ED487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CBBC-B6C4-47B8-A673-32744E1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226-1BD3-4E46-B29A-99EF092D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E40D-16C8-4F9D-9044-2BFE9EA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7091-CAB9-4274-882B-D2D69FB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F0A3-85A4-4596-A116-6E0B705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A9C6-104C-4D56-A2C1-E29B48D5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B7CA-8DA1-4F5F-B0F0-01F2BE8C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F8D2-2606-4BFE-9C58-3D9C693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43E3-94FD-4206-8FF2-53DE3D4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7481-943B-403E-9C21-6EA09B5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6186-F30B-46B0-824B-3AEE276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08AF-134F-43E0-BC7D-CDC34127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41E-B5A6-4EB6-B751-EEEE71B6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83E1-9BB6-4326-8118-64F19BC7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A370A-8CB8-4AEE-A495-F5B7D9CC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A8BA-BDD1-4049-B4C4-56D0878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8E98-E47B-453C-998D-F7F417EA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75BF7-FD98-4D78-A753-25C81D9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C1E10-E815-4A22-9E2E-3F80A1C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7BD9-6465-4838-AA7E-D9415F89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B6B83-C00C-4A81-83BE-E0BB32B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07B2C-B12B-4E08-86FA-8D5D7760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8E2A-49B0-4EEC-88BE-8B07728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0A5-9C4B-4EE7-A7ED-1BFF36F4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4260-DEB0-4BC9-95DD-9D734DD2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CD7E-CB4A-4C43-9ECB-0F2F5F3F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84E0A-6EC5-438D-AA07-B0E567CC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61A8-6F27-412F-A3D5-6C63D0C4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DFA18-60C1-4373-94E1-43079BC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FD84-B37B-4D42-BCDE-C0479B7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D6605-78F9-4A6A-BA7F-C9A7AA4E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337FD-D808-4B31-889E-6B7FA35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B49F-6E98-40E9-A0C6-BA4723B0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5C48-98E1-4D9D-AC99-5057B804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354-8ADB-4744-93FB-31684F4B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095AC-CB48-4375-95DE-4EB3D5F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D81E-384B-45EC-8BBE-DBE9455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40CE-EB61-4239-BDF0-82B6C8A2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6C60-3E97-4BA5-AB4A-D05F490F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A7076-2665-406E-8B40-7053BFBC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7908-789C-4178-87BF-641525D3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A382-DF86-4831-87F3-7F3595A7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743A7-851E-4178-929E-F7A47750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2F7F8-5559-4F03-A5DB-73EBFD9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4243-5D50-4047-99BA-A487E13B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E04-D85B-42D8-ACAE-F8D2F698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A9068-5DDF-4595-8C1A-A80C97F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551F-20F5-4262-8CB7-1BB53F4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D64C-4794-4795-A621-8DCABE3B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0C658-7096-4BBC-A9C6-08CB256C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C5939-5287-4C1F-B869-062D0DD7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71658-5488-4DC0-9A9F-0C8A11BA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391E-6782-45A5-B4FC-B8475B48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1C18E-9873-47E8-B1E4-70038FA2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E0ECB-85EB-448A-84EE-4DCEB0C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25A18-6774-4D9A-94B7-E7710BA0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7E2-BA2C-4B93-B419-A6CA011CA1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6F46-452B-4C28-9219-889DD96E3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A435-BF6A-46F7-9153-9DB2A091A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DB4-5CE3-4982-9322-A8E4FE1C8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258-F5F8-44F8-A18F-2750AD5FA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24C-EA4C-4C50-BBE8-17528BBF6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ADC-CD2C-4F1B-B2DF-7A1FA8ED2D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705C-8A4B-49F9-AB33-A2243CB91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48F3-E29B-4CBC-A0D3-040CBC9EB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88FA-F836-4594-92C8-4663A7AA2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C88B-54B8-49B5-829B-CF74E86824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4A3-4FCC-442D-8D26-A50152092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626E-0A6F-4F7F-9C04-B781A9E3E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02F9-E1BA-4258-91B2-C73E8E610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555-6F91-43D4-B6B3-B6E293B96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4C7-6CE8-4A29-8743-EFDE5E04DF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3A7-1C8F-40AB-BBFF-BC042CBF3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F0FF-0281-4A0E-9699-61E60A9B2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C425-8A13-4B6D-95C6-0CFA0F14A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8452-5486-4B2F-952B-813C31C1C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0E20-8F46-499B-92B0-D49F3A22B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A9DD-2F79-44F9-89DA-73FFF1D64F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481-5F4B-4567-8041-D85973C589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6CF8-FFF4-4092-8340-9402055229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A8C9-4D59-4A71-BBB3-B29AC781F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F52-ECFD-4D3A-84D8-E87C623347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E09-32BF-428B-BD77-5578A4DB5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1FEA-8BD5-4815-B2ED-B6ADE9CD87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7B3-AA1C-4DF1-8EDA-5C59F7B25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BA5-05AA-443B-A57B-505AC5B0C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8AF8-7C88-4939-930C-4E2AD74F0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9FA6-37C1-4C37-8A85-E23B4F0B0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BA4E-042A-475C-92A1-FFFA1843E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E9C-858F-43C4-9BA0-33FA689EEA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140F-00A8-4005-871A-9F551F8861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BFB5-A7A2-4472-81BD-6C8FFAC08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63F7-BF7D-448D-BC1E-27769BC81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74BF-F63E-47B0-B186-289A814CC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1EB-482D-43FA-8848-FD21D458F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0BF4-38EA-4F9C-9048-B254A69BCF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61B-6C78-4739-B65A-049328F1F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C66-23F3-40A8-A69B-00E98B138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328920" y="1593720"/>
            <a:ext cx="2486160" cy="9716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324000" y="3562200"/>
            <a:ext cx="8497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1120" y="1335240"/>
            <a:ext cx="778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2" descr=""/>
          <p:cNvPicPr/>
          <p:nvPr/>
        </p:nvPicPr>
        <p:blipFill>
          <a:blip r:embed="rId2"/>
          <a:stretch/>
        </p:blipFill>
        <p:spPr>
          <a:xfrm>
            <a:off x="41400" y="3768840"/>
            <a:ext cx="9061200" cy="2063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456080" y="1916280"/>
            <a:ext cx="69228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4327560" y="2565360"/>
            <a:ext cx="692280" cy="44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7740720" y="1974960"/>
            <a:ext cx="69192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7"/>
          <a:stretch/>
        </p:blipFill>
        <p:spPr>
          <a:xfrm>
            <a:off x="1763640" y="42354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8"/>
          <a:stretch/>
        </p:blipFill>
        <p:spPr>
          <a:xfrm>
            <a:off x="176364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9"/>
          <a:stretch/>
        </p:blipFill>
        <p:spPr>
          <a:xfrm>
            <a:off x="4500720" y="4292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0"/>
          <a:stretch/>
        </p:blipFill>
        <p:spPr>
          <a:xfrm>
            <a:off x="485928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11"/>
          <a:stretch/>
        </p:blipFill>
        <p:spPr>
          <a:xfrm>
            <a:off x="7667640" y="4292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2"/>
          <a:stretch/>
        </p:blipFill>
        <p:spPr>
          <a:xfrm>
            <a:off x="7667640" y="4869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57040" y="1533600"/>
            <a:ext cx="8629920" cy="37908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4673520" y="263700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4873680" y="36162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7020000" y="358776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1187280" y="458136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557280" y="1562040"/>
            <a:ext cx="8029440" cy="37339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6516720" y="16714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7970760" y="1730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826920" y="265104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2959200" y="26798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6"/>
          <a:stretch/>
        </p:blipFill>
        <p:spPr>
          <a:xfrm>
            <a:off x="3247920" y="36878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7"/>
          <a:stretch/>
        </p:blipFill>
        <p:spPr>
          <a:xfrm>
            <a:off x="5435640" y="36734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8"/>
          <a:stretch/>
        </p:blipFill>
        <p:spPr>
          <a:xfrm>
            <a:off x="2036880" y="414972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343080" y="1471680"/>
            <a:ext cx="8458200" cy="39146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187280" y="31561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5435640" y="384660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5435640" y="4567320"/>
            <a:ext cx="34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723960" y="1843200"/>
            <a:ext cx="7696080" cy="3171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297400" y="2708280"/>
            <a:ext cx="33069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297400" y="3429000"/>
            <a:ext cx="33069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370480" y="4149720"/>
            <a:ext cx="3306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638280" y="1428840"/>
            <a:ext cx="7867440" cy="4000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076720" y="2421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5003640" y="378936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257040" y="190440"/>
            <a:ext cx="8629920" cy="6477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4859280" y="213372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4932360" y="276696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4859280" y="32846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4932360" y="38894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1735200" y="6149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4902120" y="44226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4975200" y="50562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4902120" y="557388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4975200" y="6178680"/>
            <a:ext cx="396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71360" y="57240"/>
            <a:ext cx="8801280" cy="6743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403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971640" y="508464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826920" y="5661000"/>
            <a:ext cx="799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1109520" y="433440"/>
            <a:ext cx="6924960" cy="6362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763640" y="1757520"/>
            <a:ext cx="65534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763640" y="2290680"/>
            <a:ext cx="65534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692360" y="2924280"/>
            <a:ext cx="65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692360" y="342900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778040" y="4579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1778040" y="5113440"/>
            <a:ext cx="65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1706400" y="5746680"/>
            <a:ext cx="6553440" cy="447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1706400" y="6251400"/>
            <a:ext cx="655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0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