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15DE-7C96-43C4-80DE-E7005398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29B4-A900-4287-9F5F-0C80E883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69B2B-75A4-478B-8E2E-40E3910F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494DB-E447-4F9C-8C22-793DE89B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0F317-9262-498C-9586-D4A180B4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A3CC2-5B7F-4E66-B66F-63C0D6DF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92806-4A10-4809-858E-99D3B6AE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8C77F-4FFD-43F4-B0BC-7156A840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B9F6D-9FB6-4853-B5F2-EBB98BCC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B0DC5-A8D0-487E-8BAA-7AF0E00D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36F8C-92F5-44FE-9785-DE5A2006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90CA3-1073-4CD1-A10E-D98C2A1D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9508-5D19-4F83-86C5-C0783E57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975FE-ED5B-4024-A196-BB28A7B4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A46C4-7253-426C-A31F-29EC0A25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69D58-B20D-4FF7-855B-D17E4ACD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39388-6AE8-454D-8290-F4BF7C30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9156F-7928-4295-8C41-841E0DFB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94E9C-B5D6-404A-8090-EC4A42D0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19DA6-50C7-4656-A01A-AE49DC29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07F43-4C16-4614-8A0A-DEBE2C0F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AE29E-D3E2-4C6D-95DA-2EDD3631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5A9FE-41D1-45EB-8889-47BD6204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EE1-51A1-4FBB-ADBA-1D998B5E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6E783-895D-487C-B487-0BBBAC01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442D5-99D1-4E27-A32A-AF06D145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8756D-2724-4E35-A600-CDBD07D3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960D4-2E01-41CF-B1A9-010D6650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05DBC-1D26-4CC3-B5AF-FA9DA2BA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D645C-4B06-43FD-99BB-0E136B49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03FAA-98AE-421B-B76A-4A76AD24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6CC88-F86E-4D1D-8560-2C0C53B1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358C3-8DE4-47ED-B923-C4229C60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0EF54-D1B8-41B6-A461-82A276FB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BAA8-41DB-4299-A11B-74DB005E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C10A6-6893-4DCD-A390-F4ACF078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1971E-8D6F-446D-9CEC-2255671B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B8542-CA32-462C-B6A7-2C96CC59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E7D4D-F1DB-4C73-92B1-729D366F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07D72-D9FE-4BD0-BA1E-247138D7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2ABAE-CD20-4B37-9BE8-889E18C2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9E419-ED54-49E4-B1C6-55DDFBA5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D5954-C6E4-4CBA-A92F-F76A6AF1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C8240-B84C-4A4D-9A71-E2055EFE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98D48-F1A0-4A0F-B869-ED83E0F8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87F5-A6D0-41F6-8A7A-CE372F29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77654-6099-404E-9730-EADFA518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61047-976E-4FA2-A15E-2D47C923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9AFE7-C363-46C9-B338-70AA3F4B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8C1E2-BAFD-49CF-96AE-C12C6A2E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9C1D3-F112-46FF-A9B7-6794C784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34B0C4-41D5-43C3-8137-463717EE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06FD7-82F6-4839-98F1-EAAAE31F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24AFB8-E5C7-4D1B-A7A1-C5786E17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EEFE2-EBAA-4570-8D1B-3AE5B347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30F4C6-2F1E-435F-B4FD-62A732D7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06CE-0BB1-460F-8DA3-8BAB026D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DDF31-4ED2-49F7-9D35-5A3B50F4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DFA0A6-AF2A-47F6-9C97-2D899601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A69E4-E987-44BF-8ED1-53BE7ED4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D219A-B920-4D3C-92BE-DD792246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55D9B0-C765-428B-9506-5D34BA92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0D90E-DD09-4E38-90DB-437F492E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3EA8C-3862-4D6A-B88B-ED6C181E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E18FE0-FB96-47D5-9D0E-5DEC4F5E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49ED77-6D38-4701-9555-87811D6F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691E72-24AB-49F6-9B22-1C3F436F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41D5-8FA7-42BF-B05C-4AF030BA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5E858B-D952-424A-AEE5-63868C2B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42A3A-03C2-4608-8BC8-FB2142FD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384EE4-9CE1-4051-9C65-C7D0D79F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D9169A-07CF-408B-BAFB-B0362C69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B3BF79-E176-41EF-87D8-F18DCCB2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EFAF0B-961B-4CCF-8F89-83DF23FA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D672C2-45FB-49D0-92A5-2007F425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4E2FCE-2D3C-42D9-9D24-0E39B97F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936294-F410-4560-B570-C867A4C0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50C5E0-7F6E-49A7-90A3-CDB01145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6AF7-E708-4C58-B09D-87C0D5F1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770EB0-828C-4837-BD80-A98ACFD0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043A9E-BA81-47E0-9581-7B4D3D0D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8D85C0-45C8-4D9D-9A41-EB00EDD9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F486D8-0B0C-4E28-8222-53411F8E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56BE91-0489-4ABC-8C5D-2DC76D23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F23FB6-2893-46CE-AA0B-4F5653A7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BE8C2D-16C4-4C65-AAF6-A963F3A8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3E878D-01E4-4583-81C7-27315760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D2789-968E-4468-99DC-9653EC61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D5F57-4442-4669-8163-0846F3CC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D95F-E8E9-4578-B255-CCABCD85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1F758A-1536-493D-A38B-40E0CA9B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7F2BB1-ECA9-45AB-9929-FBE639C3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D8FAEF-B49F-469E-AD77-2AB38538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8E88F9-3685-447F-8FA9-CB27F2D8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84BD8F-5543-4364-99CE-4999C818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0285BD-6BBC-462F-90C7-8720D93C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54727C-4918-4DAE-A036-86869EBE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56E6B1-59D1-4B4E-AA07-B6B476AE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554736-A210-45FC-B42E-AB059749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37E8C5-5981-45E4-8319-6080EFD2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BED3-01A2-4C86-B45F-F5BE0C29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2BAAC7-9D98-4CD6-A185-0093A337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AC1EBE-0AB9-4E34-9268-9646DE9B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4BFF46-C5F6-4F5B-84CA-7465EDA2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284453-A494-4DB4-BC32-F627DA1D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1E452E-E27F-47B0-9A2A-4C936CDF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016A71-E46D-482B-8795-7C4200B2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DD1FEA-F0C7-4F02-A3C2-4E8864F7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3C7590-8187-4E89-B8EE-0F1026D0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389631-9511-43D6-9BD9-E01A79C7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0DD7D0-789F-4A54-900B-05C6E6AB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ACDC-D353-44C3-92BA-D44A3D2A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1F1F-D6F0-42B5-8247-83C18417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682316-556F-4CFA-BC48-4FAD841A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322F85-3F8E-4261-9DBA-35979CB3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F64533-5530-485A-BF22-1CC2F9BE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3BBB9D-10A2-4234-A980-AEA9C724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C3B052-6554-4F47-BD30-89DF63D1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468ED1-FB97-4A86-90BA-F50B805A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E51A75-9002-4139-8C46-82BA73A0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AF8E92-CAC2-425A-B83A-0E771142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EB5844-25D5-4446-BE21-C64CB8D0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692247-F7BA-4F43-BF8B-2165EEB5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6655-1C20-4518-93B5-A5A4E462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CD2E35-C1D6-436B-9203-C8444750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3886ED-E85A-475D-9A9D-53433452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4F471B-395B-4E08-98AF-CC5D34AF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670D44-E3EA-462F-906D-7232B305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F7215F-9735-42A9-AC73-CA788485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4BB39B-DBAA-4387-B5B0-E79D70D7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14832B-7CAB-42BB-B578-6BE60641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BC8589-B4A9-4002-A811-748D6B19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8B9DDA-2EB0-4658-B00F-65056727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01154C-1688-4E3F-B997-AC1CE720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85D5-E71B-45AA-82BA-4FB1312B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004A86-DB65-48F1-899C-E627768B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C88926-E65E-43F8-9524-5A59A72A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5E4E06-7006-423D-BBD8-4957C91F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69F4B6-284B-48A3-B0F4-FF70AF02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A1638A-1168-4302-B23B-47038835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12565B-BD0C-45AC-A3F4-D64AF853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8D9EC6-4761-415C-8CFE-BDC89DC8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D8D7B7-6689-4E64-A7A7-1A0E25B4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380E4E-10E6-4EBC-8814-147BB0B1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16F791-F770-421E-A758-3C78A4E9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2D7E-5375-43BC-958A-9BEA76CD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14946D-9DEB-43B8-84B1-D674EE48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DD5B68-D2AF-46B2-97C4-A210A892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457FFA-D492-4A3E-A570-77978C2C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5CD743-FE89-4A68-A843-82EB0284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9FC0B2-FD79-44C2-B9B7-CF0A923C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3D99F6-1871-4035-868B-9BDA29AD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37744E-57A5-4BCB-9EB5-10DA1393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EC92A5-D686-413D-A35A-12DC2275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89E5B9-5E31-49F8-B34B-D7A39093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617FA3-ED68-419D-8677-8ED2CAD7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C752-B1EE-4353-811B-E089BE25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0C7FAD-2952-4B12-AFF2-1696FB0F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9CCE6C-8859-4F30-859B-8C54A891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4C1A35-98DC-44FD-80BB-6E9B7990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BC7B6E-13EA-48C5-A7DF-1283602E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82B5D6-E83B-43C3-8A89-0618B034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992C5A-05BC-4C1E-AB69-563096EF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1F9226-BB6C-4181-9DB7-9AE5DCAD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3EBAD3-61FB-4FF6-84EF-F7F2E3BE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289028-72D4-4D0C-A64B-62A353A3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450246-E93B-4AED-8A82-903A72BF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93FDF-88E5-408F-8EB8-9252152E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E1F212-0C43-41C0-BADA-E46EF0DC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14CC5D-381A-48FC-B389-60CB5D14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C69B9A-8B36-43E5-B715-1082D8E0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28A7D-A2FC-4C2B-AE46-B9665751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6E2BA-F179-4900-95F2-718AE606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9F326-83B7-4290-9B71-B7F29EF0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66F6F-2FCB-4F86-B97A-1A57CBC7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BAA-B7CE-4A22-A940-EB8CEF18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407A7-6639-4A8E-99BF-11415A36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02638-2EEE-4E41-80A2-028E06BE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8B35-08FC-4AD6-8465-3290CD3F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7CA07-F7BA-4839-B5B4-A4FF889D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44E34-E326-412F-AEFB-04C84591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2F062-6A0F-483A-A5D0-A8442AFD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61FD0-7019-4B16-8A93-4985E8F8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0F459-1F48-4233-8F9E-57384F2D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C492B-2073-48B2-8B17-10BE7A0A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E10AA-861A-4CC6-AD4A-2C921B09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E71-C863-43BE-919C-FAA9BC8F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2291B-17D2-4E80-884E-06533C32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E2A52-0BFA-4151-86A6-354C3CB7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721DA-DFA6-487B-B7E1-4C6A4BB8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85E49-7FE3-4094-8C44-92308B24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9C99E-1198-462B-9BE4-27F97584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DF48F-C0F7-49AB-9B5B-8F4C4F40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8C00D-18A9-42EA-9EDA-0F834D05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A5D8B-29C0-4BEA-903A-9BDEDFEA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AF174-7473-4395-A6CC-2F599E26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17220-BB5F-4087-B8F9-408A6DC9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96E-5038-4852-B9E9-2D47602C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6BB43-153E-43A3-8EEE-38A1A6C8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3CA66-BB6B-4926-8512-B586D589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5D673-042C-4BD0-903B-F44CDEC7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018A5-85CB-4810-A92B-88F962FB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DF3EB-C725-41B8-97DD-8376916C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263D7-FB62-480C-AD19-48981C71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F45A7-4C73-46B9-B705-FD12FD84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1F3D3-7945-4A26-9077-84D7B4B9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05FFC-A46C-48B6-B8C0-BE25A4C6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285A2-51E3-42CA-8E46-98F3AEED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63FC-0CCD-42E9-8C6B-C7D261F1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28FE7-886A-480F-8A99-5E95A4AE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5CCCF-1375-4A11-B1EF-E039B219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E61AD-5975-4253-A74F-78A1807D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A8F52-5DC5-4200-9511-230924BF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AD933-900F-4D60-B952-C3B8AE41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10615-C4AA-44B4-A842-F6B012B8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77EA1-29AC-47D6-BCB8-16F4AF9E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0FDA3-560D-42B5-A5D3-17CF287F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A7A84-1591-485E-B6E1-D28750F7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BB291-E155-42A8-8C43-BBAF1B0F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99EB-12BD-4D4F-A4C6-E937D3E6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BFFF2-0E96-4502-8A19-D389FDA1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9700E-020F-4C55-9514-F7BDCD65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BD8B3-213D-455C-9400-898D19EC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04B00-DB45-4041-89D1-43B019FF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5194A-A019-42B0-BF10-B3DFF545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D9754-CDFA-4186-8CF3-2F03BA73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994F5-7C28-4365-B221-39B665AB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F8365-758D-4A90-8187-E21D4906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E812A-31AE-426B-9D66-2C339498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A25B2-2AEC-4514-97AD-112099BF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F029-F84C-4720-AC97-66F3417E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8ACF2-5A23-4AC6-B6E7-830D7098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10561-381C-486C-B166-BA367DCE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E0A3B-FD48-4685-9F8C-C9B29D7F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5C314-E078-46B2-8922-066253ED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315D1-F230-4117-9075-496C89B9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D576A-8EF8-4F4D-AE49-B997998A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BDFF7-6A3D-4928-A379-2C8D804E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DE293-81F0-41ED-BFC7-D4128379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0A019-227A-4C64-BA22-E685703F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24C37-4B1E-4DE8-BBF9-B4DAF929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6062-2DE0-4736-9DA3-44E13888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D15B0-B925-48E7-9CA4-84D7C75F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475B6-E987-4796-BDDA-D23AF37D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BDC6E-397F-476F-BBC7-4EEFD079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15714-DF8C-4615-94DD-908E6E08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D39CA-A497-48A6-A438-7589B628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2D608-080A-43DF-9A8F-7944740C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F3119-78A4-41A4-A873-B64B2550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A1256-4403-4007-BF15-5333C79E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5C1B3-F026-4825-B84B-3652A4F4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E809A-4939-45B4-9373-DC3AD868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45DA-2A17-430B-BCAE-111961E148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5265-FB1E-45AD-AECB-150E63E358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5170-C1F7-47FE-B488-925964D066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BF2D-55FD-4D0E-9B85-6459388DB8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71A8-D21B-4A1C-871C-3BD8E906F7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0A1C-8A52-4752-A24E-E9151F9D64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D639-0E0F-4726-B3AE-FEC4AF2536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98CD-4E31-4687-BEAE-CEDE674539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7009-99F4-4070-A6D9-9080B5880E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1EA0-8443-4D38-96FB-BEBEF0814A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8DC3-9F3A-4E79-9656-09CDECD6DE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7FD1-91FD-44D1-80F8-5E77AD1335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5F4D-1CB4-4E2D-B32D-3D236FD192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1C7B-B765-4C43-A3E1-FB2D03E17A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B157-83F3-40E5-AC52-7C2D1B10A0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0B03-2842-425E-851E-04415487A0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0160-DE95-4B5D-BFDC-B09AE28927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0E07-DFC0-4E91-BC46-124142B504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0C34-3C21-4962-8B3A-7B1672CF64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5806-5516-44A4-9C91-CFDC67ED01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F32C-680A-4437-A1A4-45A00EC815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D793-5780-4F0F-AB54-CE87114A3B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EAB9-AC05-4837-B9F0-6803CFA768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BA8F-D971-482C-906B-A78D86617C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2797-8118-44CC-AB9A-56B854C196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D863-0269-4434-ABEF-9F92766827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71D0-9914-4D67-92A9-F166636055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B973-BAE3-4FE9-8DFB-27C4A9CFB4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E409-2CB9-46A9-ABD5-E957FDB7B1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B48D-B3D0-444D-B20F-F94509F780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065B-735C-444A-BCDD-C826028EE3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9158-8D40-486A-BB60-E5D1BCD73F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25DD-AF39-4D96-8FC4-E9FEF5280A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47A5-7C89-44B3-9BA7-C186CBF2F2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861F-9814-490C-899F-6F1E88BD9B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A527-1E14-498F-9FA4-5B3A0B182F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9AC9-4AAC-48F7-8BA5-CBEEC6AA85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0DF8-A823-4CC5-85E2-D8FF6E6DB8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3F37-954F-4A55-A497-D901142329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9E7D-6C6F-4099-8BE1-025125C4E0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919080" y="2938320"/>
            <a:ext cx="730584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69633" descr=""/>
          <p:cNvPicPr/>
          <p:nvPr/>
        </p:nvPicPr>
        <p:blipFill>
          <a:blip r:embed="rId1"/>
          <a:stretch/>
        </p:blipFill>
        <p:spPr>
          <a:xfrm>
            <a:off x="671400" y="1757520"/>
            <a:ext cx="7801200" cy="33429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777708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611280" y="2492280"/>
            <a:ext cx="777708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539640" y="3213000"/>
            <a:ext cx="777744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611280" y="3860640"/>
            <a:ext cx="777708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611280" y="4537080"/>
            <a:ext cx="777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24000" y="880920"/>
            <a:ext cx="8496000" cy="50961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908000" y="2565360"/>
            <a:ext cx="115128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564000" y="400536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867280" y="5502240"/>
            <a:ext cx="1150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295200" y="299880"/>
            <a:ext cx="8553600" cy="62582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1547640" y="5373720"/>
            <a:ext cx="7345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8373" descr=""/>
          <p:cNvPicPr/>
          <p:nvPr/>
        </p:nvPicPr>
        <p:blipFill>
          <a:blip r:embed="rId1"/>
          <a:stretch/>
        </p:blipFill>
        <p:spPr>
          <a:xfrm>
            <a:off x="642960" y="1390680"/>
            <a:ext cx="7858080" cy="40766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1187280" y="4941720"/>
            <a:ext cx="504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7352" descr=""/>
          <p:cNvPicPr/>
          <p:nvPr/>
        </p:nvPicPr>
        <p:blipFill>
          <a:blip r:embed="rId1"/>
          <a:stretch/>
        </p:blipFill>
        <p:spPr>
          <a:xfrm>
            <a:off x="623880" y="1028880"/>
            <a:ext cx="7896240" cy="48006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1042920" y="4653000"/>
            <a:ext cx="7561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6324" descr=""/>
          <p:cNvPicPr/>
          <p:nvPr/>
        </p:nvPicPr>
        <p:blipFill>
          <a:blip r:embed="rId1"/>
          <a:stretch/>
        </p:blipFill>
        <p:spPr>
          <a:xfrm>
            <a:off x="309600" y="181080"/>
            <a:ext cx="852480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5300" descr=""/>
          <p:cNvPicPr/>
          <p:nvPr/>
        </p:nvPicPr>
        <p:blipFill>
          <a:blip r:embed="rId1"/>
          <a:stretch/>
        </p:blipFill>
        <p:spPr>
          <a:xfrm>
            <a:off x="604800" y="2795760"/>
            <a:ext cx="7934400" cy="1266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6659640" y="28526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6443640" y="3529080"/>
            <a:ext cx="504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4276" descr=""/>
          <p:cNvPicPr/>
          <p:nvPr/>
        </p:nvPicPr>
        <p:blipFill>
          <a:blip r:embed="rId1"/>
          <a:stretch/>
        </p:blipFill>
        <p:spPr>
          <a:xfrm>
            <a:off x="685800" y="816120"/>
            <a:ext cx="7772400" cy="578160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54277" descr=""/>
          <p:cNvPicPr/>
          <p:nvPr/>
        </p:nvPicPr>
        <p:blipFill>
          <a:blip r:embed="rId2"/>
          <a:stretch/>
        </p:blipFill>
        <p:spPr>
          <a:xfrm>
            <a:off x="893880" y="2006640"/>
            <a:ext cx="76388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2231" descr=""/>
          <p:cNvPicPr/>
          <p:nvPr/>
        </p:nvPicPr>
        <p:blipFill>
          <a:blip r:embed="rId1"/>
          <a:stretch/>
        </p:blipFill>
        <p:spPr>
          <a:xfrm>
            <a:off x="281160" y="949320"/>
            <a:ext cx="8581680" cy="51436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4427640" y="3270240"/>
            <a:ext cx="64908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7020000" y="3903840"/>
            <a:ext cx="43164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6659640" y="4767120"/>
            <a:ext cx="431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47:0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