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42C-C5E0-4352-97EA-CA754819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401-8823-415D-9FFA-DDC82B8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B6A53-C71B-4C14-A493-E175A057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67D1-43DE-4A4B-9A12-0DF65406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FA570-72EB-48BB-9AD6-4385596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170B-0227-4A93-B1BA-6283B9F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9D0A8-6DF0-4546-998E-1D2BED7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37EFE-029F-4792-B33D-CE04D38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E2719-D840-4E2D-9B9F-C6FBBF8D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EC918-A893-4962-8B01-6DCEBD75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D6955-A722-4F80-9782-DFB41468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BFDD0-AE78-47BD-AA08-5329E868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3C9-E72D-48FC-9143-F4946A86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4A838-B560-445A-AED6-7EB00C5D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029EA-4677-4854-8061-3F4774B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FCDAC-8508-46AC-AB74-67FDDA45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9EBA1-79D1-4B56-B071-324966D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37980-EE51-4197-ACA9-82F7627B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EF8DD-013A-4C51-8335-8035F219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5182D-FCE6-4F67-9EC5-D991646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AA558-FC69-4494-BE2D-D8DC8489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36777-257A-498B-9EA8-961574C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0C685-BA6B-46D6-9D54-434ADF26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B2A-E4A0-45D0-BB44-6F81013C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F2929-FB50-4295-AD0C-C4127DF6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2E744-0D74-4785-A981-CBE5E489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441FF-6DF7-48AA-81B1-B98E67BC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1B2C-54DC-4BF1-8404-899D8AF5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F57BB-A95F-4F10-B41E-FFAED809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2430F-9067-43FF-B966-B07BBDCB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5A108-24E3-4BE1-948F-3D36524D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BB92D-C6E9-4FEF-83AD-5080A4F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29E99-B72F-455D-A955-871DDB1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1695E-FB1C-4F3A-A2C8-1D93D2E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CAB2-2FFE-42BE-BDB5-267FA34F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3FD5D-3EAA-463E-89AC-BA24D45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99D45-88F6-4AA2-A321-54A3576E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DF574-C4C6-403E-B612-A8690809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DD46D-7A5A-4FF8-A9B3-39848D7F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A69B2-EFC5-4DAA-A1ED-BD917654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BB09-E69B-4A4A-B713-E41B863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7DC24-9DBF-4FD6-9E41-882178A9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A1E39-24CD-4C7F-970B-B2847EC7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B302D-F05B-43E6-826D-BC4D80E5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FD004-923B-4B17-8126-3D189828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DA2C-71A1-4C62-9A4A-CFFD49B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574E3-4C33-4A41-BF38-0D9AAC1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71C01-018D-4EF8-8233-82848EAC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62C02-FC30-44D8-B09F-8F92991C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63083-DBC6-4073-8123-0A9A2321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80732-8EBE-4F72-8AE2-CF215FD4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23662-6E6E-4580-B590-20998B2D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9B5F1-5C8B-4BEA-91B6-086EAA52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2139C-D159-4675-86A1-56283A97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11099-9C4E-4A4F-AE13-630E27A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FA96D-D1BC-44B2-AB67-45E4F5B4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3247-DB2E-46BB-9C94-2EA1D3F2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5C473-8E0E-4FC3-AC1C-FD3C816B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CCE5E-66FB-48FD-B182-DFBC6F5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F7F3F-6157-4478-A1C0-A3E32686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6DF25-CA3A-4D46-9602-370AFD7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0C1FF-92DB-48F1-A48A-10D6FE6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25016-B3E6-4CD7-AEB8-DAB26506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75B95-7E62-40D8-A676-905ADF79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B0453-C26D-4962-BDEB-19011F34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57410-E7E0-4066-AB68-E77D22A8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6B175-2F72-4FD8-97AE-47556B7B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1A43-2DC5-4E76-BC3C-6D61097E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D7C53-32A7-4E15-9F6B-4BDA5C54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50111-8D68-4ABC-8A33-8654B0E5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069AF-2370-4C82-A9EF-B6E47B3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639F7-E242-496C-80AA-5F3A745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3378F-3664-4831-867D-B44C6A8C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A5638-BA6B-4A96-92B9-9F4096AF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55714-BD86-4C24-B71F-FB218C5A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768C0-E0DD-41B0-A66F-37EE25B4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A1017-ED6C-48AC-93AB-E40D7167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DFE8C-20FF-4216-87DD-89EF39CD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7FA-1F90-4638-87A5-99EFD4D6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9C89D-3C09-49BB-8375-6627A294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4F880-0F35-4BFC-AC6F-A64CC5C3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75E7B-F043-488F-B263-D333E100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8C1F7-A77D-4513-8B97-B370C52E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18C18-4BCC-42B0-820E-0D81403D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1A7A5-3D51-4532-9A54-F3E63DA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482D3-2AC0-4F65-A5D0-F7217F6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751D9-8CC3-4671-AA87-5558BCC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17A7F-2148-4E10-921C-346536A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DB494-59F0-4B2A-A293-461F28A9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C63-8858-448A-A4B6-FAC30EC1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9265A-134D-4194-8997-64499F53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D5E2D-3586-493E-8607-56C3136E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0584C-B1BF-46A9-8A3E-D20F4F70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F0F2A-AAED-437E-8A10-6D7FBDF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1FC0B-DDF9-4931-9E7C-0DDDCCF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3E93F-3DB1-4041-963D-1FC5BA48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77EED-88A3-4930-8C9D-2A929F59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5AA18-EC67-4566-A4E1-8FA4424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44AD6-A223-46B2-981C-F8BCDF9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80090-F164-41CD-AFAA-7A91DF62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9BF6-ECFA-4A54-A3C5-E117B69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EEFA1-AE71-40A0-9500-D32A8DD1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B883E-6743-406D-8CF5-EE1EFF9D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4811A-D83A-4C8A-91D1-575A66C1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3468C-692B-411D-A120-D8DEF4F7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B1FA3-159D-427F-978B-6508ABE8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C3DE7-27E4-43BF-9152-892B84F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FAEA0-9924-4903-B5EF-272B1513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B6269-7C89-43DA-A609-D818C62A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E71CE-31BD-456E-B1E3-3C80CE5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7B4FB-A7D1-4303-8762-63FCEB3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759-9BC9-4328-8B0A-45BB8ED2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B50E-4FAD-4635-AC14-A54A635D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07362-D1AC-4B19-B014-8E73E55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67BB1-13CD-4B90-A009-8764C1BC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DB8BD-2680-4F46-9766-DD001CC2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5349E-E764-4812-83A6-92898BF7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396DA-9A75-4FD2-A1E6-72FC5952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6FF70-997A-48E2-9B31-3EA70D0C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8F46B-E647-453A-B34D-7BAE3756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4E6CD-B028-454D-A7DC-547D306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C4C72-51A5-45D0-9C0D-EC6F553A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E5A05E-7D4C-4009-BCEA-9855DD6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0A5C-6FB0-42B8-BADC-833037B4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3D4B4-4B7C-47F8-B15B-7D43D4D1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DEEB0-F4C2-4B9D-8FEA-103FCD7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DA32D-F2AA-4F4E-957E-2FD56237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AC73B-AC54-4B3E-B749-99F620A8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54B29-1176-4EE5-9036-3969A137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7F070-B74F-49AA-A181-C92EF332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46D759-D352-457F-8319-85495853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3FC6B-3E9C-4477-B50E-52A417DE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11FF2-BE9D-4637-AD61-3144B65E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13280-3531-45B6-B940-09649D8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253-6F45-452B-8AB9-64F6944D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929D0-A1E7-4337-895D-5459A590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18536-1FC9-4477-AB38-4F206502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20923-0CC6-4ABE-91B8-3223074B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36495-D0AE-46D6-98A1-4CEBB802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26121-4AF2-4FB8-9D56-1A49C13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C34E3-A098-4FA0-B6D6-673A99F5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72805C-109A-4631-8CF4-2578BF4D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6A691-F641-4F23-B73B-0ECE33BA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658F5-7F56-4651-BD3A-E1A22D20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0DCE7-8A1B-4F12-895F-B37154DA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08E3-E006-4C49-88E4-FCE1DF36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5CCBEF-5401-4F04-B6A0-53076833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64C01-D682-4089-865D-52D6FED1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FC596-A0EE-4526-AB58-21921C06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1DC08-EDDA-4D2D-909E-A4AA536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C2F70-70BB-4754-BA49-85D87B4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D55D0-2133-477F-A397-61D9F296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81523-682F-4FF5-B658-1A5533BC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5DE02-8FDA-47D0-A973-55F27A2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DE118-0D6A-495E-ABBE-68C064FE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D6FC7-7732-4A44-9A67-20172070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B147-F28A-4B0B-8815-30BDD7D2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1E8E1-B36B-4E5B-B711-EA0107D6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70F774-AAF2-4538-8D63-42DD33BF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635FB-E7CB-4BD7-973E-6CDEC88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EE42F3-29DE-46A2-9DDE-6BAEA4D5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D5A00-8BD7-4361-A842-C1280EB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260C0-1AD7-4F31-8686-DAEC408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9E5CF-37E3-4BA9-AF9D-22E12238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5ED88-43B6-49BE-8064-3E8407F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4F3E4-BB40-40B0-8379-5EF7FD02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F0386-5644-48DA-BE14-C3BA738C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B7A4-9E8C-4195-9683-62803268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52E2FC-9D03-4FB0-901E-C396F937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D2D7A-3D3A-421C-9CCC-834E9898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68556-B1AC-489F-ADF4-6426AF86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FEF9C-EF2B-4B7D-94D7-C40CE2D6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13EC-DB1B-4E2A-8A77-DFD42F93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AB4C-C4C9-4E28-8729-DB8638F4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C540-47F0-4CAE-B3AE-E3A4E115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64D-74E7-40F4-AA11-07C6BE83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D7F7-5E6A-41F2-BF68-4F07CDC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1ABB-58F4-4749-BEF9-17B789B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9040-D13A-4FBC-B2C1-9E2FA14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B6C1-0B22-4019-97C7-DC29B66B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B01E-62A1-40E2-9211-E397C30E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7221-A26F-4E6B-AEE9-AFE4D0F2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7805-BF40-4621-8FB3-B995FE0E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924D-FE5F-40AC-83A7-BFC51380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BA898-144F-4290-A0F5-4841FB46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E1D8-80BB-4841-857F-32158E6A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4AA-46B4-41EE-9BD1-25B6588B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ADF7-775D-4D8E-9AB4-DFC1DEF6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6281-3500-4A03-A395-BDD33E1A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1556-BA50-411A-9445-FAA4EE6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40C5-6E12-4F9C-BB9C-1E9DC29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1D0A-DC3B-473A-937B-CEC9F69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7417-4ACF-4353-8622-6AB3A201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FB14D-82F4-4E0C-BA2B-CD71F66B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2E31-BD22-4CF6-8EBB-2F9B7D37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8E16-7BDC-4536-A03F-90F1209D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D60D-9700-4037-A0EB-A9B2FEB9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F12-8B4D-4B19-BBD1-12CB1BA3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6E3D-6A4C-453F-9B3A-F510B107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903DC-9D63-4059-A51C-D618249F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2E54-DF94-4157-A161-56517865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93B5-0B56-4E26-A6F4-679846DC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86836-6D6D-4A96-87E5-C7C1AC79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93DB-2679-41A4-83AE-60AFE22C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65CDF-5189-4515-B5C5-8661191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F571-8DF2-47E2-A48B-BB82885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04222-7372-49FB-B069-E9383408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26273-7DF1-4C38-A511-49C9354E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0ED-7D74-4E4C-ABC1-B662E9C6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79BB-9659-4F87-8F26-9AD50ADD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2782A-D245-4F48-B04A-4A5788D4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B9F0E-7DB5-4920-8D31-0E3078E3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86D9-03FE-4BF4-8142-B413E20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54761-143F-4C32-8165-71D8A70E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E005-95C7-47EE-95B6-0D59B1C9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ED2E6-8F5A-4760-82E4-022BDBAF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3BB71-608D-4962-BAE1-8936CBD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E3F8F-E473-42B2-B9CC-816A6140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94B3-0AB8-48CE-BD10-000618A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F23-6516-4B35-9AA3-83F0472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80A9-7ACD-4D3B-AA1A-DCB21978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213B9-DBBA-4F80-BE4F-11D18AF4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A8613-6917-4B9F-BE33-BA823328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DAA1D-9631-43EF-87C3-37292E6A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E7B1-E4FD-4B41-B81F-B34DEF1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8474-C1E2-4EDD-94D5-EB795670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5069-7416-4AA4-B1CD-21B84D4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9E92-2169-4649-B710-5EB6EF4F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7F1FD-D0BF-48AA-89BC-F8B850F2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3B47F-4648-4D8E-9D70-8447B168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3C6-1014-425E-AEB6-12919F8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7A0A3-9586-4615-BAE0-67EF4A59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4874-E0FC-47F3-BF31-8C42DC3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ADF0F-F56F-4F4B-8CE5-D81F22C2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23BF0-2393-47F4-BDBA-464510F5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13601-0D19-49AB-806F-849BC6E4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C55F3-9885-476C-94B4-CBD76A6D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8B03F-5C47-4D48-B381-F6F9B305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8C13C-56BD-4B76-A70C-94B8110A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9C34A-80FA-4AAE-A014-2CBA5F66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83B37-E5B7-450D-A2B3-3C25219B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F70-AE31-4983-8EA2-E7C278F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5811B-2CAF-4CB7-93E5-949732DB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96FF-364A-47CA-9831-731E6740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9409F-7F6E-4BEE-8CF1-D50E089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CBF53-ABE5-440B-992F-64428CA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1BB0C-797F-4377-A086-AE7EF102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B21CE-9656-4250-A186-269B6D4C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53049-EA52-4F10-B26A-4355C9A0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6369D-81E1-463F-AE23-4796907C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140D-0262-4A29-84EB-20670862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0799B-53CA-4E98-9731-CA7734E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5E1-8A9D-4A24-9FFB-A3951E389D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23AF-B14D-417D-BA7B-743D193AC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A497-B7C0-4A74-A89C-0ABB482A8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FDA4-6C6B-4F9D-B99E-75B644FAE9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29AE-2168-434D-A1E6-2AD91BC04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7BF-681B-471D-B1E5-86BD8B5037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F75-F4C9-43AA-A3D6-8E52B1477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6C15-8F01-4886-A71E-0F93A4EFC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1B1D-18A7-49B0-B697-8A2F0B387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7562-DD2D-462E-A215-D274DC541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BF59-4B8B-454E-9882-641AEF0D7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9526-84FC-450C-BD86-1BD11920F4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363C-CFD0-4D0B-9530-A605B1FEB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0A6B-A7BD-4C61-A049-188D8AFA6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13C4-F7FD-42CA-8250-439C5855D4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87B8-92A5-4FEF-AE0E-32A4549D5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535-B9F6-4946-A723-5B97603706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A0AC-2626-4DB5-B8AE-45177AE500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D2A5-4286-4A5E-9BA6-128AFE4EAA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8955-31E8-478D-A15A-A6F109355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533A-B6D5-46C7-940A-4067327D14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8EBE-D475-4F59-BE31-7680F4099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91A2-EBBE-45DE-B63B-498BE9830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F52-A060-4368-9534-C250212B6D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541-0673-4673-BFC4-02C21AD424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4D41-2813-4993-8218-3EEDA1059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3F76-8593-4C98-A5C2-76232A047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FF6-9310-47D0-9F6D-A516E8215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7E8E-A3DE-4D05-9BFC-687A7FEE6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42A6-8A2B-48E5-9907-1A89AF3EAF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E4D8-8708-43E3-8983-B69E39DAA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9AF5-6E74-4B29-8BC1-6A4857916F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208D-46A5-4C60-824F-9365C11EFF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A59A-8D1D-4C74-87D4-A658F78B87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C54-8E2B-4BAC-8ABC-1EE8EC3A8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8C2E-22EE-4A0B-9C7B-C5B8F84254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7EA4-D4E8-48D4-9C2E-4D71AB8CD4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C71C-0366-4C4D-8514-E127D54950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64A1-CBD2-4AF1-B6E1-AD0F5172E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5AEB-22FB-43F5-9E8C-32C8BF7D3E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61840" y="2752560"/>
            <a:ext cx="74203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9633" descr=""/>
          <p:cNvPicPr/>
          <p:nvPr/>
        </p:nvPicPr>
        <p:blipFill>
          <a:blip r:embed="rId1"/>
          <a:stretch/>
        </p:blipFill>
        <p:spPr>
          <a:xfrm>
            <a:off x="281160" y="181080"/>
            <a:ext cx="8581680" cy="6495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252108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322740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611280" y="6149880"/>
            <a:ext cx="813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581600" cy="2276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8610" descr=""/>
          <p:cNvPicPr/>
          <p:nvPr/>
        </p:nvPicPr>
        <p:blipFill>
          <a:blip r:embed="rId2"/>
          <a:stretch/>
        </p:blipFill>
        <p:spPr>
          <a:xfrm>
            <a:off x="538200" y="3351240"/>
            <a:ext cx="8067600" cy="2238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95672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226040" y="227664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639200" y="21477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008080" y="363060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802040" y="3645000"/>
            <a:ext cx="1008360" cy="718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8186760" y="36306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2036880" y="4437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5205240" y="449424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8172360" y="449424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976320"/>
            <a:ext cx="85629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38200" y="1276200"/>
            <a:ext cx="8067600" cy="430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924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268360" y="2736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12400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85128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2195640" y="4292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64328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595440" y="1157400"/>
            <a:ext cx="7953120" cy="45432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862680" y="180180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2916360" y="2290680"/>
            <a:ext cx="576000" cy="374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804000" y="2278080"/>
            <a:ext cx="1081080" cy="401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867280" y="2665440"/>
            <a:ext cx="1729080" cy="436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5435640" y="4595760"/>
            <a:ext cx="936720" cy="374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3822840" y="4984920"/>
            <a:ext cx="93636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9880" y="797040"/>
            <a:ext cx="8544240" cy="5800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72632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667640" y="3789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667640" y="59929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09480" y="2747880"/>
            <a:ext cx="7925040" cy="1362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85960"/>
            <a:ext cx="8572320" cy="50860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5301" descr=""/>
          <p:cNvPicPr/>
          <p:nvPr/>
        </p:nvPicPr>
        <p:blipFill>
          <a:blip r:embed="rId2"/>
          <a:stretch/>
        </p:blipFill>
        <p:spPr>
          <a:xfrm>
            <a:off x="1033560" y="2552760"/>
            <a:ext cx="7048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633240" y="838080"/>
            <a:ext cx="7877520" cy="51818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4277" descr=""/>
          <p:cNvPicPr/>
          <p:nvPr/>
        </p:nvPicPr>
        <p:blipFill>
          <a:blip r:embed="rId2"/>
          <a:stretch/>
        </p:blipFill>
        <p:spPr>
          <a:xfrm>
            <a:off x="2300400" y="2328840"/>
            <a:ext cx="5371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500040" y="1633680"/>
            <a:ext cx="8143920" cy="3590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771640" y="458136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458040" y="4581360"/>
            <a:ext cx="115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9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