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B8E-6DBB-43DC-AC74-7186DA17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60D-E400-480C-A9C1-0BD69BA5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2D1EC-E414-47C2-B56E-0AC180C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A6CC-3021-4D58-B2ED-EF932301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D7B2F-F26C-4DC8-94EC-F0B954FB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7826C-CCC0-4696-BA5C-0E87625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C017E-71A3-4899-8C24-79ABBEC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6B539-94A3-4755-84F9-C3381F6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C48F1-8420-4AB7-890A-D2FF0FF4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992F9-BB8E-48EB-AE10-0D13500D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55A1-4EC1-4896-B08A-C8157DE8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3D083-8AA5-471F-9D5F-C060438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426-0FEF-4754-99B4-68B555E3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DD90-64E3-41A8-B3D3-9F23B09A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BD9B7-AE5E-4C03-9085-4C6623C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BDDC-08C6-4051-997C-C3C5FE36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601CD-1621-46F4-B40B-D7F8B59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A01F7-3836-43AB-8E14-3ED5E8E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4ED82-3D5D-401A-9E4E-670D383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42F0-CF28-48D0-8605-434D7C2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32AA9-7F7D-41AC-94FF-2DEB5C7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25603-AFE7-4541-A31E-1676F68E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C1D31-4B2E-498C-9209-2981CB14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549-A789-4C15-9780-5BFD9580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728BE-6A44-4A1A-B8BA-228B6F81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425E-A3BE-465F-9FB9-C1A39EA7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4027A-5E14-4364-8A31-0509ADA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5D4C3-F862-441C-8408-53A97B2E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C0101-B16C-4A04-B1DD-6FA9599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D7295-2D2E-4004-8502-7BDA966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CE81-5354-4D4E-BA75-E457F885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303A7-82EF-4998-82B1-23F16A5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FD69-2393-4A3A-B6A0-4B01159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B62B2-4DDA-4F04-A61C-EB27695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42D-EE46-4DEB-840B-CD099A72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36BC-869B-4ACC-BF4A-F5E3A19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EA030-6852-462F-ACB1-8A511E76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8E45C-CF64-4598-BC1F-4F2AF75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9D2D5-DFE4-4089-9CA8-A67C735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7F8CD-24B3-4DF0-AAEF-E920BAA3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CBE83-0335-41B3-B637-DC6A24F6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83655-5774-40D9-980E-A0C7F841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643C3-2CD2-4C39-A069-C162490B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B6629-77DC-47A1-B2EC-2F47F521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6808A-CC01-4BBA-80EA-4BC4A59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66AC-8DFA-4CD4-A90E-883C161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4455B-DD96-446D-8FA1-EFB8B1B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51FDD-9EC7-4CDE-ABC8-1D0D4FD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B329F-1F1A-4375-8A17-552DDC9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3F28E-5F1F-4000-AB85-483F75C6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2D94E-2979-4E6D-8407-1D15E159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EA06B-4ED6-4527-84A3-1B2A0491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E2E5D-5B72-4CEF-ABFE-2CC1160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42A03-C4FA-431B-89D1-AF193B0B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76E9B-CD02-4B07-9084-6EE2C62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7BC61-F853-4167-B3C6-06691691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E59-D84B-4B8B-A04F-CC5942D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47034-34A7-4ABE-9B6C-964B67D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9AAA0-BFDC-4403-9F80-BE2B303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BDE69-045E-4805-B2EF-ADEF7F0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98AD3-182C-414C-88E4-9423CA0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741CA-B100-4173-A61F-F22FFB0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765B8-D167-4EAC-A18C-4622B599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AD962-1BBA-485C-B809-B6FDDBA4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5D9AE-DBD1-45BC-A891-DE785B3D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C47A6-E122-4157-AFEC-0D48795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9B58F-4975-49BB-9CED-668E031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C309-D204-40B7-A204-E66B3379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2A3D7-B334-4F52-905E-EC9AAFA1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C5DAD-DA0F-4868-B61E-54E8D8E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99B91-3DE4-4588-B4E8-7ACFA0F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B79B4-056E-4DC2-9AFA-46F5E9C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ABC05-0803-4EA9-8030-B97C453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127F0-4968-4CF5-B45A-432645A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F1A7E-9DBC-40B2-8006-C3D55A06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D0256-F90A-46F2-B194-D3435122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11511-4869-4CD7-8377-A5285DEF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15361-88ED-490F-B85C-DDC0BDD8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812-7C8C-4995-8000-1D4727E6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28902-DB86-4D5D-B1C6-932DAA3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A832F-4A74-488D-899B-345812AC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2D4BD-E489-4368-8923-3147F33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DF4A9-627F-46C2-B9A2-B0E9AE8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D54E5-5670-4E0E-9D45-B987E25E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9CEEA-98AE-4BD3-A907-CF704743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27F0D-C149-4DA0-B65E-F81141A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B392C-5496-44F5-A1E7-51D8D61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602E7-8C76-48C2-A889-A3C870A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84483-8311-4BC2-B897-6E48A958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9C8-F0D0-4AED-A903-8689B270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CF6E8-9C6F-4B72-82EA-7A8459DA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560F6-A123-4DF8-B625-7907E794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D77F7-94C0-4179-B117-0A86B73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22C33-7BC2-4640-A78E-616715D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D1538-7A93-4501-A643-B0BC9D4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8C4A6-9AFC-4CE6-B177-776194D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02A53-828A-4ECA-B27E-A362DD5B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2C319-52D6-4353-9CF4-9ED0D82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B1DEF-2DE4-4D50-A4CA-4985495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7C305-AA56-4C91-BD13-E898D65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5B37-0DF4-46BC-952F-0D386794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7C1B3-7276-45EA-BF6D-B3F9F232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EE110-CD4A-40CE-A235-F00B6D60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4B41F-A154-4A60-B141-A3B38553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B344B-989D-4DDE-8875-948C459E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18A9D-373A-4C80-B10D-D94532D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13CC2-D46C-4F4F-94D5-3C8CD6D2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2F742-23AC-4F78-AF47-D318FA1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8474F-186F-478A-924D-0245EF0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B8C75-CB98-45EA-B215-868E7C71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2E776-4312-4EFE-A15F-F366090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878-F78A-419C-B385-909189B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CFC0-4D48-4840-A992-132A25E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D0954-1F45-42B4-9C09-D169799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79F13-F467-4BD5-BC3F-D2B40936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5BB0F-CE92-4995-B2B9-2E47748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6A73B-07B5-49AA-A2D4-C150E436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BBAF9-1DA0-403D-B83B-FF83761D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96C3B-0529-4F04-93F8-17C49B9B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B0E9A-83A0-4DE7-BD67-00F8E3E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E17FE-95BB-408F-8F3D-B8DBCBC5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A39AD-52C8-4330-AE7B-07178383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FA7E4-2766-4441-A789-4BEFD0DF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1B6-C804-4E03-899D-06DC5F2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F3F2D-5C4C-4576-B69D-0599580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3859A-09F2-42CD-8DAB-F7F3A7C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A8E96-9254-4DAE-BC54-17A0D75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2EBC8-11A9-4B95-B16B-05BF502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82525-A178-46C3-82DE-FCA4733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09624-D799-439D-8790-F2486634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0E481-9D72-454A-A3C8-394FF690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2B65E-6FE1-46C7-931D-0AFE9B6C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4ECBE-E90E-4010-911A-91C98B1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519E6-D6CE-4F01-BCF2-607DF2F5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071C-B2EC-41F5-A572-E04A944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19C4D-BE4D-476D-BC6D-1C2435B4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C6F06-7140-442A-9FF9-CB761A6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17900-379D-4DDC-B3E5-9BCE331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2BCC5-85EB-4AFE-A773-18D4AEF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D5C15-9CDB-42B0-8D0A-7B463EA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12107-F4BF-47B5-9414-91DA53B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3FDCC-953B-420E-8A25-250AB23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009CC-04A5-461B-863A-E6CB8A1B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2D1ED-EAB5-43A3-889D-D7F37A8A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A5021-9A05-40EB-BE26-ED127308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52C-E9D1-4337-A20C-763A298E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52D07-8838-467A-9819-F3941F5F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60373-4597-4B4E-B405-F44A585E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89AA3-7ADF-4D70-8303-78A39BAC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95346-89BB-497C-8767-5FB0B15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33174-78EC-4AD7-9664-F75AC6E6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2999C7-8960-421B-B763-12C3F63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BEE0F-91A7-46D3-9561-4EFB66C6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47039-2C45-476E-823A-7CBCE85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9FB32-FA92-4263-97FA-A474C76A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7C1F2-0948-460B-80F0-B3605BE3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9EA-C4C8-40E2-94DD-5F64D6B8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C4654-5A3C-4F98-8476-883FAE48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FB8A1-DC10-4D56-BB9D-1E774C7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04B0A-0281-4773-A7E4-DE8250B2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79EBE-0EEC-4FFA-A883-7C7C37D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001B8-EF23-47EE-921C-B4B441C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FE8F8-E3F6-4A6C-854D-19747DE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61BC2-A629-4374-892A-ED2AB911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FEFEE-13F3-40F3-9D6E-12F89D9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845D1-3933-4164-8983-4024B51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4AE2B-0F4F-4D21-97DE-23BF2C2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E721-86BC-4175-937D-8C8C6D79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A668E-2058-4B02-AB11-C3D2BBE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7DD9C-EA69-4F69-A7AC-465F97BB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1BA7F6-D4EF-4DFD-BBAC-9141C53A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73D07-CC4C-44BE-876A-F95491CE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C5C9C-2CB4-46BD-B2A3-2DA4AFE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28F65-44D6-4019-B57E-4B28B83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774991-6601-422F-82EB-77DEE52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8A37D-A13D-479E-BD39-8999DCF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3830D-0F3F-428F-81DD-C6A80E9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75EE04-5B56-4B72-B977-73C96F2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1BD5-5505-462B-A6AA-F2D9BA31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A5397-108C-4BD8-8CBF-ED88D23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F1964-04D7-49D8-B14D-E3DB7A4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0FC9B-A219-4F3F-A5B0-CA9D0FB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F0AADA-8038-4164-8157-4CE2976D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A8AB78-577A-47AE-AAB2-05C7A1B2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690E9A-C9D6-4B80-8FBF-7AB6FD51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46272-D032-4F6A-9E8A-533F0DAC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0BCE5-2B44-4649-B58C-613F6925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3B6CE2-42E4-40A3-9493-F36086A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94F6F4-A6EF-43F3-9664-CADEC3C4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1C3E-5697-43D2-AACA-6D8E88E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6760C-874E-4F77-BE1D-F4621C9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F5BC5-70A0-43D4-A4DF-18C1C79D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DD492-7A36-4001-BF20-92D63FA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0AEE79-6023-4E2E-87E2-79753D1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54838-40E0-4351-97FA-826C1C9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364EF-D9C3-4BFB-A5EE-6F9DD006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FE5A3-C382-462C-882D-311CF763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80C6-147D-4E0D-8349-46F1B53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0CD6-D417-4031-B7B5-95DB4E1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3D4-7860-46A7-BC59-6FCC6AB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2C37-6912-4295-A874-E3ACEEA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7663-09AE-46B4-9AD7-13C0C55A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B8DB-DF60-4A08-9175-27F8DA1F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CF28-5B00-4578-86F8-A721B1A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3B08-EFB0-4667-B17C-CA1DAFE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C68E-D282-4313-8320-63E20C0F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DD9C-ED1A-4E7A-9D54-3F8EFDA1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DCEF-381B-4264-9914-D645EC54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72BC-FB48-4E84-8974-0E4C3735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8BF4-6F9B-4272-B124-4C580315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445-294D-4E4E-B05C-AF91F1D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D459-BDA6-474C-880F-EC9341CB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990B-3567-4FF8-B30F-5E48D0C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48A2-A401-4462-A417-72F837F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6D06-70C2-491A-A1C0-9DDCCE5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EFF5-F9E4-48BF-84AA-F850D16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7D3A-596D-4751-95CE-D01DAC9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038B-ED54-469C-99EF-4EF6D82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7BE6-2BA3-43BB-AB72-9A71D52C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FDC5-DAC4-48D7-8E03-61D07FF5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9C677-7821-40F1-909A-CC3B5439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E24-CEBF-489A-808E-0E0E250C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4467-3501-4DA9-8DEF-1672F37D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C63E-8A71-44B5-9559-E962678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8D1A-3E17-4500-A5F4-28FE6739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6231-B5CC-4C7B-98FF-420FC38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B184-72E6-46DC-98EA-24A9919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7638D-5A80-4675-A49B-23AB9BC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0DDC-9F3F-4C6C-9ED6-D8E8A79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94A2-B8EF-43DE-A3B8-CF07B9F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7B66-4B7E-4D0E-9C33-8FEDD0C7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8DC5-55E0-42F4-AEBF-AAD1826E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936-3343-4A82-B016-75C12A16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6814-7BA2-4EC5-A588-5D984E9D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A2E5-A94C-463D-81B6-28073BCD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5C3C-D5DC-4CEA-81AB-C9157820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346F-41CC-417D-8D72-1B9B7B7A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46C4-3E45-488B-AAED-667272B7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E5964-CF69-40D1-A5B6-AACC08B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C632-ADA4-41ED-84F2-7B58554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F71D7-7153-43B9-A5FB-ADDB34B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2076-311E-4564-816E-F275B80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CA0F-7808-4FD6-A239-1BA751A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79-51B0-49FB-92AF-4A73B4B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B914-4F32-454E-98A6-BAC8DC9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55DF-F72E-4B7E-94A0-FA178440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A87B-0D7A-4812-A04A-B7B341A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30CF-660F-433A-BC1D-DF3CFE4B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EBF7-8142-423C-B2A9-C84BDBAB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30E6-4CE4-454D-B917-1780B49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FD3D-A83C-42D7-8656-D7A165C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550F0-F99E-4F7D-9CF6-23D4D1D2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85C9-9F8F-4209-80F6-B5F715C9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F82D7-E280-413B-84B8-23879F6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E03-5573-4B09-A651-F535F6B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4B0B-9419-4249-AD3E-4D6A351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172F-C7FC-4B01-8738-7C97315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8333-DCE4-42EE-8522-B90DA2B2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69E8-F5F6-49C8-B441-C9E8B686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F9DB7-776A-452F-A391-042BB8BF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3804-B942-4DAF-9EB2-6B2BA6E1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FCF1D-74DD-4586-853C-5295506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24492-EB00-4016-B407-20D7FDB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A32D-A47A-48FB-BFEF-05357B9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8A1E-87AB-4171-8C7B-1EC35129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C94-54AF-4222-8814-585E5F5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78F1-AF85-49B9-8272-BA6DB0EE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A7E7E-9EA3-4F6B-A85F-0AEAFB2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716A5-AA2D-441F-B131-94C45C7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6BEA-A6ED-41C6-9390-34E9551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1950-141D-46D4-A98F-5D545BA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03FA-AEE8-4BFA-8D21-6D5B70EB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ABAFF-52E8-4583-9E2A-94FE30CC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4624F-A9C5-4CFF-B67E-4ECF2F10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EA5AD-EBBA-41C6-8AB4-27F99E9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6A20-6DF3-4E42-A298-4B2D368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F46-BCDF-4F44-AE40-4F9ADB7F1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D1C-A3EC-469D-BE25-5B5D2AF6ED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279F-F554-4844-83E5-95F9CD101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32A-D6A5-43B8-896B-DFAF91921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005E-8EDA-4E99-A81B-0AEF75563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8AD-25D6-4F96-8813-F46BF2E3E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3DE8-D07F-4E1A-90E2-F8D4DC370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3B93-1786-4BAB-977A-FF1913502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E535-5DB5-4F57-911D-168CC6914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994-D3F6-414F-BA02-8A341D163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2EAE-9156-4EFA-92E7-CB7EF86A8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35D-A54E-485D-95BE-8FB9C6407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2C5-4D95-4280-9F49-337861E65B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94D-4336-4CF2-A8DB-B171A19AB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373C-F8DD-420D-BB3E-F546CD3B1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D0C-C42C-433B-B831-F9BA4749C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6A77-B3A1-4184-8136-59C582FB81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B16D-73C0-441C-89C4-5CB955A68A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761-6664-44EE-890D-C123A98D06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E08B-D6C7-4C81-B8B6-174D2EC83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8D4-4DC3-4942-90BC-69701918A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2611-C597-42B5-82BA-5C68980213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1F7-D8BB-4A8B-A6EF-1C2521470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40E-69FD-47B3-B69F-EA0FFD628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651-D01A-4319-973E-C1DA97BE6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9F8-6462-463C-B56C-09B71C01F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CBD-7E7C-4FD6-9122-60CFCD12B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F88B-895F-4A3D-9667-349784C26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095-BD05-4A23-BEA8-F58DE4E20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D6D-BFB0-4BDD-8656-36BF0CAE8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AB2B-3080-44EA-8F84-1A1440DDF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975-9242-45E8-A5F8-BB5C21F6D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6BD-8FBA-4D38-97DD-3DBDF4D61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0153-5CC0-41D0-B347-D35D8F2A90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592-845F-4C2B-BDB3-FEE49F74C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9D4-ADFE-4D66-8256-8AB4257F7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7B55-B437-41DE-8366-CC99E6F46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253-BDF6-4A32-A640-96AA66D69B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A611-E07F-4108-A589-49DCF0C00A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875-9D2F-444B-ADAD-319BF2467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11B-4BFE-4702-98B2-FEFA5CCB9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FDC2-ACAF-43D5-8AD6-3FC4D73F9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4160" y="2987640"/>
            <a:ext cx="86356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250920" y="1179360"/>
            <a:ext cx="8753400" cy="17161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" descr=""/>
          <p:cNvPicPr/>
          <p:nvPr/>
        </p:nvPicPr>
        <p:blipFill>
          <a:blip r:embed="rId2"/>
          <a:stretch/>
        </p:blipFill>
        <p:spPr>
          <a:xfrm>
            <a:off x="1536840" y="3483000"/>
            <a:ext cx="6314760" cy="2219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3059280" y="15415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3276720" y="198900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5940360" y="198900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8345520" y="1557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8072280" y="200340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9"/>
          <a:stretch/>
        </p:blipFill>
        <p:spPr>
          <a:xfrm>
            <a:off x="3564000" y="4005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0"/>
          <a:stretch/>
        </p:blipFill>
        <p:spPr>
          <a:xfrm>
            <a:off x="3419640" y="465300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1"/>
          <a:stretch/>
        </p:blipFill>
        <p:spPr>
          <a:xfrm>
            <a:off x="6372360" y="40766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2"/>
          <a:stretch/>
        </p:blipFill>
        <p:spPr>
          <a:xfrm>
            <a:off x="6070680" y="4653000"/>
            <a:ext cx="64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57120" y="800280"/>
            <a:ext cx="8429760" cy="5857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492360" y="473868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924360" y="561816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924360" y="604980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61960" y="2343240"/>
            <a:ext cx="8020080" cy="2171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1476360" y="340056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2556000" y="3919680"/>
            <a:ext cx="180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47680" y="851040"/>
            <a:ext cx="8648640" cy="56862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3814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076720" y="4508640"/>
            <a:ext cx="381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5076720" y="5157720"/>
            <a:ext cx="3814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5076720" y="5805360"/>
            <a:ext cx="381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62080" y="938160"/>
            <a:ext cx="8619840" cy="55818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6516720" y="2722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6516720" y="33717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9222" descr=""/>
          <p:cNvPicPr/>
          <p:nvPr/>
        </p:nvPicPr>
        <p:blipFill>
          <a:blip r:embed="rId5"/>
          <a:stretch/>
        </p:blipFill>
        <p:spPr>
          <a:xfrm>
            <a:off x="971640" y="2463840"/>
            <a:ext cx="3771720" cy="2219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1042920" y="48402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971640" y="544500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900000" y="6093000"/>
            <a:ext cx="37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5760" y="905040"/>
            <a:ext cx="8772480" cy="5047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26920" y="290988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4608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90440" y="1414440"/>
            <a:ext cx="8763120" cy="402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71640" y="285120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344340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0622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00000" y="463860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0080" y="781200"/>
            <a:ext cx="8943840" cy="5295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511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51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4797360"/>
            <a:ext cx="511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826920" y="5416560"/>
            <a:ext cx="511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7240" y="800280"/>
            <a:ext cx="9029520" cy="5819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55640" y="34862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684360" y="515772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684360" y="5805360"/>
            <a:ext cx="53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6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