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EF8-352D-4D58-B733-776EAC79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BDC-8049-4D4F-881D-7D4A00BC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B52E6-7752-4A14-9CEF-B0C14D37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1486E-ABC1-4F5B-8CA0-E1F327E0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97E6A-260C-430B-BD2C-609CF0B6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3970F-041C-4C20-9F75-7489DAEE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8FBD2-EDD2-4374-95F8-93ED36CB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F89B6-AE51-47AB-80B7-73564E52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2524B-6304-4407-93B7-651973FA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04061-242A-44D0-8500-A5E2F407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DBE3E-489C-467C-8A9B-7827BE8C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90088-5148-41B9-898F-8DA25F89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F6C-1328-4D74-BCD7-C08283D0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A034E-6DF9-4910-81F2-01DA55CF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1730B-F12B-467F-B95A-6D9A1866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BFAFE-B653-4159-B2E9-746389B5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FD651-4BCB-4DD5-9752-CE648BF6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B06F7-A2C1-4215-98B6-4684C6E5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01FEC-C569-4F8B-B354-573C808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94011-002C-42EA-8E96-C8161B0E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60CB1-F9BE-49DF-91AA-044BBA30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9DD93-BD59-4900-BDD1-5859B787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410F0-AA38-41DE-BA39-A59E7D29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0CF-DCC3-4D3E-B741-9DD39D15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27076-4C57-419A-A427-8C61FBCE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CDBE5-87F7-4503-8C7F-BB40E19E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EC4BB-9E23-4F2C-90A4-170A9A97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88E25-F5B5-4718-93BE-06E45D76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9A1FA-966B-467E-AE51-E917A74B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A36C1-C7A7-4D2B-A791-2D1B510B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66572-CFD4-4EE2-A017-362A13DF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54F62-D322-4E15-B93C-7C06CB0C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92BB5-42AF-4E77-B6E2-163BF96A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8B9BB-CC6F-41F9-A52C-501C1D5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0D9F-36B9-42F7-9EB1-AAEF7206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B0DCC-B1DC-42FA-895B-D239BD49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B8962-AAE9-4476-BB2F-C809AC29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DA786-19BE-4851-B7D1-5ECE6EDB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0020C-1A85-44B0-ACD5-1869EFF3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55673-FE89-4FB5-9E94-7B69D2BA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529D0-6D47-495C-B337-72BC27AD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E8F44-01E8-4B86-9EBD-E57072E6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BDE21-495A-471D-B256-E01DA7F2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73EB6-BB23-4C98-9012-3652D842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932C4-8F39-44A2-88BE-82AFB69E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A505-3F7B-4F5C-A882-1525169A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ECA62-69CC-47C6-9409-BA7F4324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D6EA9-6B89-47BC-80AC-34CA9EF9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9060E-8452-4922-A17E-CD002023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90209-5BFF-4805-9077-824D33C9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C5E6C-209E-4854-B204-D4ED3424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EB12D-86A7-43A2-A3E1-D8B9E20A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8E690-5D0E-4FE6-9B86-20D961E5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2484D-48A4-4A26-ACA8-86A4C66D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A25A7-4BA1-4790-BFB6-075DB2F7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60F74-A3CD-409E-ADC0-D4C9D167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F2D8-2895-44DC-9352-3321BBDE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11CF3-89B3-4718-9490-CCDD8E88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6D37F-C4EB-4422-97C1-790FBF1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8B1AD-0F70-4F79-A327-8B29ACC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E1E98-153C-4CCF-B2A0-A402AD5E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CAEB2-7FE6-452B-8DC7-1CB5DBB2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5EC17-71DA-4F2D-98CC-A72A7593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32546-F22E-4389-AFDC-51DD188B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BF346-60D6-4AD4-A75F-876BE528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4EB94-873D-441D-AA33-19EA265B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EBE7F-6E7E-4130-98BA-D7C57501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ED11-89A6-4826-BF31-8DD7BDA0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6A28E-376E-4338-9445-0094CDEA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C4724-6735-413D-914D-0E3A3B06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FDB0F-147E-423E-BEB6-3BE1C847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17C7B-5DC9-4420-ABDB-F9BA8407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A8E95-F58D-4774-9932-E85DA800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B853B-A2D9-4927-A7BB-E271B6A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576A9-57DE-47E6-A55B-81764351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DBCE6-60FA-4C18-B41E-7417A295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DAA23-FEC0-4F1A-BAD6-75F1FD94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BEDF4-1628-4A2E-B1F8-7BCFCC1B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E6C7-D2B2-4042-94BA-F96BB5B6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9645A-A745-424C-8AF5-134698CE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FF3DE5-A98D-4B99-AED8-6FE969DB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18436-7466-4DBF-A42F-E48C7E10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BA3D8-07E5-4054-A9C5-9C65FE6C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902F5-C8F9-428C-A203-30120DE2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763DA-A97C-4053-84D6-A61F099A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A3687-F19F-4419-841E-C1DA44B1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82723-A7D0-4495-A4D6-02B34389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630027-E193-4F0D-9539-79D65DD1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F03EEB-F1D4-4D27-99C6-1FAD8D35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2719-0716-425D-9EC2-357583E9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439C2-6D9A-4AE3-A3EE-EA97A015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0C6867-39D7-4AFB-81AC-691DBBFD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9A769D-F2CF-4E4D-90CC-690C3CFE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5D427A-494F-4D87-B8F8-E0A42D7D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B366A-22D7-485E-A64D-26894C29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FF1981-C1AF-408C-AFB9-568751FE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9BCEC9-A050-4797-AD98-8F76442B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21998-B839-4F68-9EFC-135E1220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66288E-E2DC-4823-9C61-BD78E4EA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303D5-C053-4DEA-A279-005BEB8B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384B-B543-4719-9B6B-1057163F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82DB5-0679-4AB4-B1F8-6E829BDF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78099-1329-422A-B753-581450F8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A0B37-4D13-4BB2-B195-73F22E10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E96D3-4D3A-4343-9C93-D784F071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419AC-2BE9-4DAA-9E4E-08824E4E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4B00A-1747-425F-AC3E-E1CD8CC9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F77D0-E915-448B-B9D7-2466AE6E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82BE5-A375-4487-BEFC-14BAB6DB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0B38EC-7A2E-4A58-8F3F-C6398042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64249-146A-4610-A419-B1701A58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E69-9C96-4ABC-AB6E-8820C229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144B-F4F4-40BD-A825-8DA63262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96AA0-8993-4C4D-9C49-678C7BDF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C2691-F4A0-4C35-B071-FD3F4C8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DC6B1F-AA4A-40FE-AAAC-821FF1E9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87B63-6C55-4D45-BFAC-CB08D388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C313F9-B2E3-47B8-A8DE-D8D9A6C0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60A5E2-8E05-4ACC-BD14-C018304B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451AB-0314-49F9-A565-EB50274A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27289-3509-4793-8807-4503FD9B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6BAAD-3C77-4615-9D53-1C9C94A4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6E244-9B5C-4821-8E92-12CB7306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CF84-7FA3-44FC-A8DE-EF84947C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97154F-CBFF-4C9C-8283-B9E4D956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C8D185-D7E0-419D-A13E-D0B4E35D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C0E03-EBBC-43AC-87CD-86698AA4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9D832-8FB3-411C-8D70-A02624B3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62E86F-406D-4CB6-9CBE-3F3BB48E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E5CFD8-2CC7-4D49-B8B4-59FC79E6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48E08-1971-40E7-803E-3E9C3C0F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35A48-627B-4FB1-B84D-F1E3C438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5399D4-A1F4-4EF2-AFD3-30EF2FDF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AE4A9-FB93-4D1E-A63D-0DE0A018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5EA0-5114-4211-9AA7-90D3DE3B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DD642-8F95-4C29-870D-7179DC60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E89ED9-6915-42B8-BE05-E0727FEA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48BF34-E5AF-4C6C-9BE4-F2C78869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EEA51-2507-42BE-9AA2-2202102C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1050F-7E2A-44CA-B0BD-0170925D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3773E1-E5A5-4E0E-921B-F6495EBB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5D84B5-5CBA-4A32-B6C9-FDC068DE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BDC58E-7E5A-4DE6-9690-2FE92CD0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4E3971-F573-4A8A-88A0-B7124332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610055-3D02-4A17-8839-B5C7A262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59F9-BE26-4587-BFD8-48C516A5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D3744A-50BC-4857-B924-DE1A9B7D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72C64F-7494-42A0-9EC7-3B793775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94353-9DA8-4710-87BD-D948BD7B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A7CE3A-C268-4F3B-9B2D-91F9E85B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921B47-6622-42D3-9829-C8EC9C3E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74AAC9-A836-442F-A433-2E03D058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193659-2718-48CF-B0DE-A4CD3F1F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ABA74F-6ED1-4FF9-90F4-42FB8630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C22DAB-45FB-4582-A5A0-20FD7287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E3A852-E918-49FA-9047-C569579F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BAEF-B9D8-4CE6-9215-CABCD56C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905EA-06AC-4FF8-842F-D88A13B8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B3D988-5C6C-4497-B23C-3F4674C7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185E5-24AA-413F-AC39-AC23956B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E735AE-86E3-4790-93B9-6E3DB92C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801F4A-D7FF-4C43-9354-A021E042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B644F4-3A48-465A-8868-A49D8010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2D98CA-2D1B-4EBD-91EB-55EABBDF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51F113-D18E-40F7-81FE-461D9995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A8F90-B890-47D3-86C7-86276EE2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F1D351-D964-4E4F-81B5-10B16830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5474B-568C-48A8-B0B5-4A9E78A2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AFF3F6-AEDF-4D8E-86F2-B5E0782F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1D9DA1-F0BE-4850-9FC4-0A31AB9F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AD7535-3682-4495-9C75-D5D96917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8BAFB-527F-4F9A-AFC2-E3C961CB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B09D9-4268-4C9C-BE84-B4457601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EA7B5-56C4-47ED-866A-4C03F448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98A5C-7B2F-40C6-90EC-335209C1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F95-E084-47D9-B729-039FB0C4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4065E-1B61-4B6D-84BA-2287456A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64F8D-234C-41FB-B0A2-49E661A2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FCB1-0E4A-4787-96C8-9C0F5B4B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4181-7DB5-4BA3-90B9-B4948638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CE9B6-918E-4C65-8D2E-5563E5BF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9457-FBEC-45DE-8369-E3E166C4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1E84-AE91-4571-B5DF-9BD72DDB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79607-AC13-464F-8C98-C731A8FF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AE97-3666-4297-B29A-5F2BA8CE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66A3F-7E30-4CDC-B2B6-D686EB3F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FAF-8B06-4044-AF11-F10CF6D4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B49AD-A2EC-4035-9E8C-B95388D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C1511-2072-41F0-8E56-AB68439F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BA58B-BA65-46E5-AFEE-E4012EB2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61ECB-A634-441E-982E-49005065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113AA-9136-41CC-805A-4C0530C5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57198-6150-4E85-ACEE-CCDCB369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64D1E-52D1-4A5D-85B7-A28935B0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86C6F-12E2-4B22-BC6D-06AD3925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82F9C-B474-4D0F-9EE4-9F0DC20A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5FB7-91F8-4DA8-B64F-E36CDFE5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B29-F68C-4248-B385-81833ACB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111F7-C4BD-41AD-B5FF-E0DE7528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2442E-1BE5-4986-ABAB-0A412908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5B364-3F4B-42A4-B88F-59245A87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9283E-9F27-4C0A-A008-30B1A799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4139A-9443-4F8A-A55F-73FFBC22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42E65-CD27-4D36-A8FC-EE224903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F7209-3D34-4C1F-8D53-19291718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69647-5F9C-42B1-AA31-73755134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0104B-C714-4490-8719-2619C653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06F01-1B63-43C5-ACB7-4CEE24C1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ABB-BBE2-47A4-9396-5F215260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D1B07-6085-4025-9766-7E069F34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D1356-15A4-44B1-A0EE-5CBB348A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17F8B-5BED-4D5C-84DB-00B419E7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22979-94CA-4935-B93D-6B479676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A0C14-78C5-4B04-A326-79EA84DE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BB441-431E-4C58-AAAE-69BC70E9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EA48B-D0B0-41E1-8A04-AD880C45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E5F28-91F0-4693-8DD0-5AC5EF5E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C7D1D-AA3C-4C0B-AD0C-84DA486E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D786F-66AB-4483-8D1B-7D180284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05A-2CA0-4B33-8662-A7D5C751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C14A3-99BC-4524-96CD-7965D029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821CB-6837-4069-8805-87FEFFD8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61602-4D20-4B88-8E44-F327021D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EB528-BB2B-4629-8E6C-06F7C595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E0B1B-29A7-4594-881F-A8EA13E1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8FA26-AD3F-4446-942A-963C09E8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916CB-2E5B-4D17-802F-BDEA09A8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BC970-BE41-466B-B014-39F6CC9A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6C4ED-9C98-47DD-B6A7-6F6B1B25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2851A-BEA6-464A-8C93-5FD076E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475-A6C7-44EE-A9CC-72E74B11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F2ADB-0A45-4F51-BFF1-A048BC80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65065-8E41-4FEC-975F-0704A056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A1928-6DDE-422D-B69F-B55ACF0D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DF4F3-37F5-49E2-9634-FBA93F21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D7B72-2B0E-4E64-B431-7275D1F6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82A5C-79C9-4B4F-BF6C-2AD67C04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20750-0D5C-4E87-AE27-A94E4FD5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E2912-A7A2-4A5D-851D-5B04CA60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1AEAF-92AE-4AD7-A582-656D54A7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7ECFD-5915-48EB-8E39-80C636EF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691-9BAF-48D0-9CB6-D206EDE4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55B12-13B8-4C2C-AD9F-B266AB38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F1752-69A0-4E4C-B836-3C68CEF6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F6C67-B0F0-47EA-8B0F-03E557A3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7B15D-D8AA-49B8-957C-4174CA7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B6FBD-A952-4792-90CF-DA1A5221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F95B1-A719-493F-81FE-666CD52C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75530-FE10-4C9E-A5ED-28DE38E0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BF035-F64E-451D-A756-9A136F9B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8C2B3-9829-4846-A283-278D811B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90F09-0777-4AE7-8ECF-D0ACD0C0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2C39-C7D9-40F3-A4F9-E89BA7D1F4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1CA8-BBCC-4966-B60E-26A471A56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E99A-B7BD-4E87-B8E5-F754F293DC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2CDF-0B72-4F4F-8CED-4429BA8ACE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3B0E-5FDF-4B06-8EA6-633DAB2363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6EF9-A1AC-4626-A4A1-56C5126F77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06F0-32A8-45CD-819A-9004FA2BE0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D3F6-9799-4C30-8B40-8E2A535B0D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75A4-12B1-4BED-B6CB-A2E0B42C02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0C18-8E5D-4B1D-B081-5AFD13B5B7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CD1C-F349-456A-9EB4-CE855F8D15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2026-E770-472B-95B4-2D80066346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752B-D8FA-47A5-880B-21724F90C4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A8A2-7D96-4C67-8D5B-4AECE683E5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8200-F590-40AE-B4B7-BE840E3F60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0620-2BE8-4132-B729-FB643CC5EC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E021-FAA5-449E-81FB-1CDB998E7F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CAE6-A05A-45F1-87D5-59B29DD0C5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B8A7-1CDA-4ADB-B0B9-EEAF557E8D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7AE9-349F-4571-9C65-4592CF8AFC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BFAF-577B-43E1-ACB2-244419519B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BE4C-6937-4D62-B6A2-81396FAC36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454F-DC2F-4517-815E-2BAD743303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0481-D6A5-4CF0-8385-4F72BDD55A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951B-D85E-4674-94AA-D73879A0CE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BDA0-AA30-4843-B3B4-571148E483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1AA-7DB9-4D3D-A0CC-948419B993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1444-64A7-4021-9C6F-397E722DA0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6647-074A-41D4-9297-DDEE88FBB3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B1BE-2D56-4D5A-9F09-DCF4CB8BE6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FB3C-49AD-49CA-A373-0C181C4EB8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E296-B6FE-4757-ABF2-A9E2ECFD71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6D6C-FCF2-4B00-8059-1A6DB3A64D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7E31-9527-44B1-9B96-730ADFAB26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8F5E-08EA-40FB-AEB4-6A992B36F6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CC77-8B39-41D6-A283-B4529742F6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F8F2-6A3D-4035-9BBF-30E7A98A5D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2F45-728C-4D38-9578-47A33EA4CB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1964-54AC-412D-AB0F-CE6CC86BA4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CEBD-656E-41D1-9F05-7F171BAF88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800360" y="1125360"/>
            <a:ext cx="5543280" cy="11430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257640" y="3076560"/>
            <a:ext cx="2628720" cy="70488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28680" descr=""/>
          <p:cNvPicPr/>
          <p:nvPr/>
        </p:nvPicPr>
        <p:blipFill>
          <a:blip r:embed="rId3"/>
          <a:stretch/>
        </p:blipFill>
        <p:spPr>
          <a:xfrm>
            <a:off x="442800" y="4237200"/>
            <a:ext cx="8258400" cy="70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69633" descr=""/>
          <p:cNvPicPr/>
          <p:nvPr/>
        </p:nvPicPr>
        <p:blipFill>
          <a:blip r:embed="rId1"/>
          <a:stretch/>
        </p:blipFill>
        <p:spPr>
          <a:xfrm>
            <a:off x="347760" y="1776240"/>
            <a:ext cx="8448480" cy="3305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3059280" y="3429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572436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2643120" y="4149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60428" descr=""/>
          <p:cNvPicPr/>
          <p:nvPr/>
        </p:nvPicPr>
        <p:blipFill>
          <a:blip r:embed="rId1"/>
          <a:stretch/>
        </p:blipFill>
        <p:spPr>
          <a:xfrm>
            <a:off x="338040" y="1252440"/>
            <a:ext cx="8467920" cy="4353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6443640" y="4149720"/>
            <a:ext cx="36036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5651640" y="4710240"/>
            <a:ext cx="129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33240" y="128520"/>
            <a:ext cx="7877520" cy="6600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3059280" y="180180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219640" y="180180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2843280" y="22766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1403280" y="278136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6012000" y="2752560"/>
            <a:ext cx="50472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1042920" y="322740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3348000" y="400536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0"/>
          <a:stretch/>
        </p:blipFill>
        <p:spPr>
          <a:xfrm>
            <a:off x="4586400" y="450864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1"/>
          <a:stretch/>
        </p:blipFill>
        <p:spPr>
          <a:xfrm>
            <a:off x="7524720" y="4508640"/>
            <a:ext cx="50472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2"/>
          <a:stretch/>
        </p:blipFill>
        <p:spPr>
          <a:xfrm>
            <a:off x="5407200" y="5114880"/>
            <a:ext cx="146988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3"/>
          <a:stretch/>
        </p:blipFill>
        <p:spPr>
          <a:xfrm>
            <a:off x="5796000" y="606420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8373" descr=""/>
          <p:cNvPicPr/>
          <p:nvPr/>
        </p:nvPicPr>
        <p:blipFill>
          <a:blip r:embed="rId1"/>
          <a:stretch/>
        </p:blipFill>
        <p:spPr>
          <a:xfrm>
            <a:off x="676440" y="885960"/>
            <a:ext cx="7791120" cy="56386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6431040" y="299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3564000" y="3917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7667640" y="38894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3160800" y="4379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6070680" y="43941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435600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8"/>
          <a:stretch/>
        </p:blipFill>
        <p:spPr>
          <a:xfrm>
            <a:off x="3952800" y="53150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9"/>
          <a:stretch/>
        </p:blipFill>
        <p:spPr>
          <a:xfrm>
            <a:off x="6084720" y="5819760"/>
            <a:ext cx="632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7352" descr=""/>
          <p:cNvPicPr/>
          <p:nvPr/>
        </p:nvPicPr>
        <p:blipFill>
          <a:blip r:embed="rId1"/>
          <a:stretch/>
        </p:blipFill>
        <p:spPr>
          <a:xfrm>
            <a:off x="314280" y="735120"/>
            <a:ext cx="8515440" cy="59338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417680" y="557532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5364000" y="558972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547640" y="6208560"/>
            <a:ext cx="129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6324" descr=""/>
          <p:cNvPicPr/>
          <p:nvPr/>
        </p:nvPicPr>
        <p:blipFill>
          <a:blip r:embed="rId1"/>
          <a:stretch/>
        </p:blipFill>
        <p:spPr>
          <a:xfrm>
            <a:off x="600120" y="679320"/>
            <a:ext cx="7943760" cy="6134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5905800" cy="115272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56327" descr=""/>
          <p:cNvPicPr/>
          <p:nvPr/>
        </p:nvPicPr>
        <p:blipFill>
          <a:blip r:embed="rId3"/>
          <a:stretch/>
        </p:blipFill>
        <p:spPr>
          <a:xfrm>
            <a:off x="3276720" y="4448160"/>
            <a:ext cx="36003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5300" descr=""/>
          <p:cNvPicPr/>
          <p:nvPr/>
        </p:nvPicPr>
        <p:blipFill>
          <a:blip r:embed="rId1"/>
          <a:stretch/>
        </p:blipFill>
        <p:spPr>
          <a:xfrm>
            <a:off x="1266840" y="814320"/>
            <a:ext cx="6610320" cy="522936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55301" descr=""/>
          <p:cNvPicPr/>
          <p:nvPr/>
        </p:nvPicPr>
        <p:blipFill>
          <a:blip r:embed="rId2"/>
          <a:stretch/>
        </p:blipFill>
        <p:spPr>
          <a:xfrm>
            <a:off x="2124000" y="1341360"/>
            <a:ext cx="4924440" cy="281952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55302" descr=""/>
          <p:cNvPicPr/>
          <p:nvPr/>
        </p:nvPicPr>
        <p:blipFill>
          <a:blip r:embed="rId3"/>
          <a:stretch/>
        </p:blipFill>
        <p:spPr>
          <a:xfrm>
            <a:off x="1781280" y="5229360"/>
            <a:ext cx="63910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4276" descr=""/>
          <p:cNvPicPr/>
          <p:nvPr/>
        </p:nvPicPr>
        <p:blipFill>
          <a:blip r:embed="rId1"/>
          <a:stretch/>
        </p:blipFill>
        <p:spPr>
          <a:xfrm>
            <a:off x="423720" y="2600280"/>
            <a:ext cx="8296560" cy="16574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6804000" y="270828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5580000" y="314172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5508720" y="3573360"/>
            <a:ext cx="718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519120" y="1152360"/>
            <a:ext cx="8105760" cy="4553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3132000" y="5229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6659640" y="52293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7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