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6D68-D702-461F-847D-D148174AF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1870-5197-4136-8E71-C11B66F0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F2FE2-5291-4866-B310-EB27570A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A1BF3-25E2-4028-B552-DDA4F432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48D67-30B4-4466-9A33-04AEB92F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04503-FF2B-42BE-9EB5-330CFCE1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793BF-1A88-4BF1-BC66-84287360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09DDD-0F42-4075-92BA-3ED9F39D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435C8-A98D-4391-88D8-DC2D75E8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78906-C9CD-42F8-9622-BC6974117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B229B-476C-458A-B57D-0707F1E15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2D01E-9D52-48CC-90E4-9972F2628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0443-EEB0-4A37-A470-D0C9AB83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CA5CD8-8925-42A0-9F0A-880FB0A0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691F1-2175-4F4A-B30A-6EFBAF1C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52A41-DDA7-4923-98A4-728DA690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DF1AA-97EF-43DC-ABA8-551F4161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641FE-CE45-4EE3-8F06-42F2859C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4B4DB-4362-46EC-A126-CAC1B322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B4F7D-01C0-4026-A7D4-A4D57AC9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D41D8-5CCE-4348-9028-0424A2E3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1B592-E0F3-4DC8-BD12-9CDFAE80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A339B-B79F-4961-8B94-4DA91C257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8835-259E-423F-BAAF-3354049EE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E8078-7B3D-427B-88B5-F4EB97F2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8BE6C-E78A-422F-A1F6-522D86C98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9B8F5-2726-41C4-BED2-4453E9B8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38A31-5805-4C7C-A48E-D84835AC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8F277-773E-4818-BADD-6754E54D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5B660-2889-46B0-9829-F666FAF2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1ED13-CB56-410E-8E8E-A0FD2C2A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50B44-FB3A-4167-9050-2FB7DC09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2D405-2E53-42CD-9A11-FC2F3810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595FF-43D6-4E93-B40B-044D36D0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30D9-77C6-4500-98BE-44149912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C09EB-D890-49DB-BCF7-A7D9AA62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B077F-5F50-4744-839D-C2D6EC79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5C24E-D9C9-464A-8FF1-C41447D3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CB617-7203-401D-B00A-BDD7CDB9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86017C-3B44-489B-878E-A58B0779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EF24C6-D96F-41D4-B1CB-B1063F2C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6F7809-3609-47E2-BBD0-0D5B8035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775930-92D7-45B5-AE45-CBA9AD03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F2CB2-4A5A-4F0D-82CE-F1E67FC6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23AB7B-EA8F-4CC8-BD6E-FAAD09FD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EB86-6AFC-4253-8768-6AC46B4E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8A5B4-0443-454C-9AE9-10B34774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84DED-2252-4AA9-B0CF-E4F661A5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57DE4F-DB67-4FE9-962D-9EB824D3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944068-39E0-47C7-B5CF-0D68E8EB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51792-A9D9-48ED-B75B-070A5C13A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62E5E4-D9E0-4AAE-B2D7-2989E895B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4895E5-9C5A-4A25-99C5-4293A082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792323-A1B6-4E4A-9386-0F8D44F6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D9F032-A71B-4CA5-8F5F-FBA539E7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4D5B3C-4D74-4027-A4EC-E0A7F872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0DCF-FC2D-4933-B212-98BB8A4B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EE47B8-E21D-4E7A-8F9D-63CC4974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F21702-6DB6-4225-9A3D-6E611F0F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2FA23E-D3D9-4B25-9E8E-8864ECA1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26DF90-8AA4-4740-9A44-4E3D8E6F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9C19AA-D7BF-4D7B-A855-03D2FE39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F36E85-2F5D-44B6-BD5A-CB935A67F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493FFB-E620-461D-AC12-DE5173F8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BEE802-1E74-4F14-86CA-B53FE7670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B9ED30-9D14-4819-852F-9757D85A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A3A90D-73D4-4299-84A0-8A3595AC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B831-216D-4130-BDD1-9BDBB322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A3698B-5A18-4FD6-A6DA-128AD92B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4D5034-CE6E-44C0-B6AE-C8FF055A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B8D41E-D1C5-4FFB-817F-D965DD7E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72ED0A-908C-4C82-98EC-C3348D75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B24B95-11EC-4CBB-97FC-D565EB96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0CB8DF-66BF-429B-8F11-52FAFFB2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26359F-7C10-4D26-BC36-7FB5482B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ADD284-3163-48E9-BB97-06FCAC98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001084-7449-4B58-819E-67A9AC953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25DF4D-9446-4A79-B337-29C4848E3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89CF-9409-401A-AAC1-A59EA9B4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199325-613E-441D-9929-36F7D887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43655F-4289-4F13-ACF0-7B70E461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7A35B9-82D9-436E-9AF0-D72D5CDC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BBF931-CC84-4AF8-8FDB-B6437C7B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C4851E-F47C-448E-8400-D28BD99E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ED12C9-5B2A-4E69-868D-DEC71402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33F529-A70D-4AFB-8207-92A141EA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602159-B8FD-4F31-994F-1AE7F916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B85763-2C9F-42FC-AACB-A5132719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C4F2E3-FBAC-4D28-AE08-38DE90BB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B9A8-2C3F-4E5C-AF6C-4B23F316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6F5E71-98C8-4248-B0E8-080A82625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49AD3A-FEA7-421B-80DB-2B90275E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8383F7-AC80-44F2-A2E7-B9A280E2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287022-15E9-4675-A75C-F19BC4FA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29461D-6EBB-4B31-99A2-B110D924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99CC52-C8FC-40E9-9411-CA14B3AB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9C0255-7F03-44BC-9801-BE24DAB1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8CA3D0-7274-44A6-AA92-7C61D033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78C9C3-BBC4-4588-BC76-D9B17A37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7D1698-6971-4583-AE85-61D02661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FE0F-ADE0-49F2-A27F-D146E78A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366DB2-BFA1-41EB-965B-A35C6742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BEA921-9F87-4029-829D-538112EA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3480EF-4836-46FA-A684-D0E2235D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A5FD4A-C571-4D69-8624-4EC785CC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A64862-1097-4CE1-85E2-5BCA5A3A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BF8084-9A3C-4D09-B425-54996093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A9F35C-E973-49DC-8E7D-DEA615ED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F38346-F3D9-4EAD-859B-0178C158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DE2DBE-E5D2-4573-85F7-193E686C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3F61E9-C512-46FB-9AC1-336DB6E4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4D91-ECA6-4A70-A17B-BDE1FB69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CE9D-5762-4B0A-B1FB-2414BE3E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651F4D-3934-4ADD-992F-8E060C4A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D4CDD6-FD0F-409A-8519-64A4C9EB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9C97C3-AB81-473E-9D3A-6C5EB429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AEF3F6-4AA9-4347-A66D-63589431F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BB997F-F1AE-4280-992B-59D8D275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AC379D-E79D-4DE7-A451-0C1207003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67265C-4EFF-4520-87E6-FFEBAC57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48B2A5-B8E3-4FDD-A9AC-5F54EA3E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4BBD0A-9B8A-4A72-AC68-2F9D7A8A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13735B-4F18-4C09-ADB4-F419D324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F235-6901-43E7-87A7-B0C1E628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6CFF41-EE0B-42D4-85BA-8066789B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2909FA-FBBA-4005-891F-6D371B90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D7B2A5-9778-42F2-A848-40443665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638C76-250B-4BDA-AAA4-430616D7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7E2383-BBFF-430B-8920-17F7F465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01A5E2-FAB9-4768-8BB7-DB9971368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5F4BA5-E95C-4939-AB41-DB0E4C0A0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C94AA5-2CCF-41C5-A314-C8E6D870B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E55E43-C989-4C14-944E-FF73E156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17D72F-6B05-4E37-A6BF-D889C959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6872-4E08-43EC-86BF-19080698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A41486-FAA8-4815-AA7C-CA5726B9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BF4DA4-7F97-464E-9592-FC1A7223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5DB8C6-DFC7-440F-9606-DBF8C21B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763F6A-544A-48D6-BD61-AB6A689C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CB058C-EE87-4ADD-A591-78585BC4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BB9552-6614-45EF-B834-F83B6F7F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CC75C1-C774-437B-86FE-AD074B17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00096F-85B6-4726-8A76-BBB6D63C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5702B2-5A23-4A8E-A2AC-0564FF23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68824D-E5C7-49DA-948A-9CC450BD9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BAEF-1F9C-4E43-B9CE-C94E36D9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E5DEE3-5B87-4FBB-B9B7-75EE9A46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E04E8F-76F1-4C24-AED5-8701B41C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D65216-0AF4-4292-9371-4C1CE0DD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18AEB8-7987-4A69-9F76-71990D44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932341-DC04-45E9-B494-931DAF5F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1A0054-DE8F-4A47-BE99-8561F160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84DBA4-7FE4-495A-A15D-82990A6D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AB16B8-1C04-4793-B3B9-F4489205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784A36-0F04-4F71-A891-56D46ABF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B19B6C-4ABE-4E31-987F-A72CD39F8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0F6D-E1CD-4C9E-8DA2-070558A9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9FEC83-041E-4F5A-8D83-F97CF513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F1B5CA-B1D8-40A6-A0EB-8A6C83E5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96A0E7-E21A-4DC6-BF92-9B61873F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4C7880-9B46-4F1E-AF24-C271C058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B2E1F8-8822-41A7-9196-FA1CB591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A25D05-EBF6-49E0-A9BE-97556F1C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18D5F1-AC49-45D4-B361-3F5B561D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3ED233-16B2-4B0C-B04A-3DB7629E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FCC9EC-6F7C-4F7C-BC53-17A37D0D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C71EC8-3563-4627-AA4D-7CD25F4E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1066A-15BC-45F8-90E6-AC4F806B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386B80-C3F1-4ABE-A9E4-F5D000D0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725A99-71EA-4130-AF6F-E1B2653D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E91DE8-322C-4A9D-B508-03116EAD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A186A0-D994-4511-AC32-CBB37407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5ED944-1087-4479-B73B-D5597C72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414E89-97B6-4460-B983-F831B706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6217BC-BAFC-418E-9329-D329D4B6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584363-1CE9-4079-ADED-1AD4A5DE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81D0FA-C346-4CC7-9090-17EAD2C0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538D67-4B01-4547-84F9-1E9ED8BA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82F02-A1E2-4291-B103-2D1D7376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2A5353-5692-4AAA-8B4D-F5E66F9E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A530DF-74EF-4B01-B589-9E9B7271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4389E4-D911-4F0B-910F-2E96D939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FFEEC5-738E-427D-9DCE-F3DC6554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0D1E69-628F-49E5-AD86-B3501BBD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A2F5E2-21D7-4531-8EFD-99EDEFB1D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F2AF84-E44A-4B52-9F17-A35CB21F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B3706C-629F-4416-9646-2132DF08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6174A5-0B28-4784-A145-88D04801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E1A567-D374-4039-8CB7-68897335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2C5B7-A4CD-451A-AD57-412C0495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201B6F-F4F7-4E51-8765-83FA7258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66F054-C5A1-4CF7-817D-CB93F468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98F03D-62FC-4651-A311-963E6E45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BB27EA-7B9F-47B6-914B-D816FC4D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A715ED-9D3A-4A8C-9AE2-E3247BB3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FAF892-E04C-4F54-83A0-F8C8653DE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15A7EA-D940-42D4-9982-8F47982BD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CE82A-D406-45D1-9CEC-6E47C41D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F8A5C-C608-49C8-9C8B-308BFC8A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0820-BC93-4A69-9CD4-00D746D9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43A05-F0D2-465E-8BD1-E5EF53C6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50CF2-200A-40AD-8B75-E03265A3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676BC-710F-481D-8222-BBE40638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3C2A5-7ECA-4DCC-B5D0-7CD7F9A7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EBE17-F0BC-43D1-A152-EE945087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518FC-097C-4E43-842C-AA0B7AF61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829FC-5E30-4853-B271-CAED0818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FE382-7E59-40A3-9A41-87D8DF3AE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4661B-3820-4061-BEDA-EBF0D786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7540B-348F-4D6E-8766-12C7204F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8B2D-2591-427D-A3B6-D1BCD7F8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2DF8E-2E05-47B4-BD81-B94E96DA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0C6A3-10EC-4D8A-85C4-122F737A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41FF3-BDE0-47EC-9B81-86EDDDC5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00093-DCE7-4B8D-BB50-FEDCC44C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5CAC9-F59A-41C4-B06B-58551D07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C2203-1F22-4EED-A3DC-0CFF4B17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0E7CA-FC3B-42BD-B400-DABFF3A9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12076-84B4-4845-AB0B-28769C8E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FE780-0695-43E3-B9E8-12256AC41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B86F2-72A9-43B9-B012-726F296F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F133-9BBE-4F35-A73C-D8A3622A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E6984-1666-481E-858F-F6BCCFF8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83F6B-CD64-4444-A3A1-5EEADEBB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43327-414E-4363-9EAD-5FE15D40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9C8E2-F528-4C9B-A75D-01B40E4B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90505-D9C7-4506-A848-F65CD985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AD921-E339-40FD-A6AD-CEBE0167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5F19F-441A-4F12-B1D9-CBB019D8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F39D3-9282-4732-9AA1-79D43F7C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4F39F-0E13-4083-BF91-0D5CE6A2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80439-5718-4112-9412-C079B39B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154D-F69E-4B8E-87AF-3823AFA4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F02B3-0D1B-45F1-97FB-D4660AA0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D8D89-36E4-46E8-9651-E4418B8A7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BF45B-EC61-482E-A030-D49434A3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BC0AE-16DC-473A-9C69-F5F93D0A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FD4BC-C8DC-496E-B32F-70A3D581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E05AC-9922-4F7B-8391-D29FE1A7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E0132-9C69-4E56-8203-A55DA5C5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E9712-EEB7-4764-805D-C4905466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EB545-3EE3-4096-8473-C6DF382F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C447C-FA48-4BA8-A61F-7D45A084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D88F-2497-4D4B-8412-80670777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FA6F3-9309-4D97-9A66-C139E79F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8C8A1-8285-4AEE-91A1-A8D04F05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5F0E8-A327-4E0D-8A65-27E26BEA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833DC-38B1-4610-8D95-642F24C05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4B89B-8179-4638-9758-2E495D45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5BD36-5E34-41F1-84C5-08413015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38C5A-4DED-4008-911F-2CABE1C8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0325D-29B8-4A7D-9BC8-3D16B945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18A5F-E19C-4C14-9113-CE1D84D9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B5134-5CE4-4ADB-B127-9B5F7652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5C82-4D25-4D04-9658-24BFF64B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0F012-75E7-430C-A52F-8D51757D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A0CFC-BCF2-4657-8369-E7DF6CBA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21FB1-5F9A-46ED-823F-9267BE66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88F0F-9C93-4DA6-98EE-C97C91EC6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C91A4-F717-4710-9E75-EB692AB84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FEBC3-6C7F-4253-B4D5-AA45A56D9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31030-D336-442D-B667-4AD0A522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32CB2-1505-4104-BC51-EEB8B6D4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4A198-F4A3-48F1-A87B-01944B66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62B95-5BA8-4D68-BB44-BDA12C0F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374F-56E0-4925-9F47-44C5EC13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E9FA8-B0F3-4A09-9A67-393F87F0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8719D-44CC-4CBE-941A-BBE7EAC2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FDDB0-F521-4C87-8451-168E45C4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8C465-EB11-4474-9488-7ACD0C21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A9AE7-C876-422F-8097-A48ED986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8A29B-7FA2-4F9B-88EF-2ACCC5CC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A8A83-5D27-4A78-B4A4-3C575A079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6CFA2-A0B0-4D5C-B808-CFF8A537A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91F9B-F93F-4F4B-8AF5-25DE58AF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E60BEE-6E0B-4C89-96A2-0933B7BA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C24A-B107-4D59-A6D2-A4A9E99C07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B25B-FECC-4447-B467-C88229638F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92D5-DBCA-4297-857B-59F2B776E3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9784-AE13-46C3-9F22-9AE173DA14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87FF-311B-4843-8EEF-9178734BF5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EF31-3520-4906-8B86-B001F0B43E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78A2-A2CA-4D2D-B1EA-6C055C5E99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887E-2A2E-410F-A586-8043E0A898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1B98-C87A-4656-A8F7-660C6DE6B5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D6E5-A5A2-4641-A44B-E9FC534C24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7890-1885-4C8A-8F2B-C356716B67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7143-4964-4859-9F92-3466D7619A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4D1D-5980-4176-9016-260D2BC478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F544-5E4B-4847-8BBC-C416C3BDD2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4839-FA4B-4641-91E7-DE52F9E0C3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EDA9-159F-416C-9675-FC89C587F5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DA92-70E9-404E-964C-0CEAC3F5D4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0802-CC93-4031-832D-ABEF7FEC37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7B55-C843-464F-ABB1-26FF2FFABA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9A2C-A588-4F2B-A4DF-FAAB64F697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2009-E197-4911-BCD6-D62A388F7D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F894-649C-4487-A763-9C185C7B545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D985-58C4-4C33-8AF8-DA26E82B93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76F7-7BD8-48AB-B538-81486BA991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6092-DD0F-4218-8138-BB1CEB3E49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426C-60FD-4CB7-B07E-D4CB61F412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D25D-4B9D-475C-8D9D-9F2A09746C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7874-C73A-47C8-B633-F09110E221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81EE-395D-4D44-9CAC-A5D2A822D0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B5A1-6542-42D8-B8ED-BEDF85F42A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4FDF-2723-4254-9862-571FE08DD9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1A56-A7E0-486B-8A98-09E90626D4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3E29-56E2-4EBB-9BDF-EC37C38525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4FAD-CB72-497E-AE9D-C72623AFAF6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FB5E-360B-4192-BF09-831006A769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D9B2-5610-4A9C-9DA7-D19CDC4F87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0683-2C14-4A4B-A15C-80CAAC3514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35E3-58E2-4D74-92A5-39C5DC4068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D107-A919-4E58-BF79-6DC4A4B328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DEA2-DE70-4469-8B1E-807C47FF10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4817-D81B-4591-9819-69AF0794DC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33C0-4D37-41EE-AC88-4EF2BBA67B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176480" y="2471760"/>
            <a:ext cx="679104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500040" y="744480"/>
            <a:ext cx="8143920" cy="58960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1187280" y="2765520"/>
            <a:ext cx="5400720" cy="447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1116000" y="3429000"/>
            <a:ext cx="5400720" cy="447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4"/>
          <a:stretch/>
        </p:blipFill>
        <p:spPr>
          <a:xfrm>
            <a:off x="1116000" y="4019400"/>
            <a:ext cx="5400720" cy="447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5"/>
          <a:stretch/>
        </p:blipFill>
        <p:spPr>
          <a:xfrm>
            <a:off x="1042920" y="4724280"/>
            <a:ext cx="5400720" cy="4478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6"/>
          <a:stretch/>
        </p:blipFill>
        <p:spPr>
          <a:xfrm>
            <a:off x="1116000" y="5373720"/>
            <a:ext cx="7416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04840" y="1943280"/>
            <a:ext cx="8734320" cy="297180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979640" y="3500280"/>
            <a:ext cx="1079640" cy="72072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7020000" y="3716280"/>
            <a:ext cx="115236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5148360" y="4365720"/>
            <a:ext cx="1152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图片 1" descr=""/>
          <p:cNvPicPr/>
          <p:nvPr/>
        </p:nvPicPr>
        <p:blipFill>
          <a:blip r:embed="rId1"/>
          <a:stretch/>
        </p:blipFill>
        <p:spPr>
          <a:xfrm>
            <a:off x="581040" y="1290600"/>
            <a:ext cx="7981920" cy="427680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2"/>
          <a:stretch/>
        </p:blipFill>
        <p:spPr>
          <a:xfrm>
            <a:off x="2987640" y="23400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3"/>
          <a:stretch/>
        </p:blipFill>
        <p:spPr>
          <a:xfrm>
            <a:off x="6718320" y="234936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4"/>
          <a:stretch/>
        </p:blipFill>
        <p:spPr>
          <a:xfrm>
            <a:off x="3160800" y="3213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5"/>
          <a:stretch/>
        </p:blipFill>
        <p:spPr>
          <a:xfrm>
            <a:off x="7107120" y="31989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6"/>
          <a:stretch/>
        </p:blipFill>
        <p:spPr>
          <a:xfrm>
            <a:off x="3564000" y="40910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7"/>
          <a:stretch/>
        </p:blipFill>
        <p:spPr>
          <a:xfrm>
            <a:off x="3578400" y="4941720"/>
            <a:ext cx="43164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547560" y="1481040"/>
            <a:ext cx="8048880" cy="389592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2"/>
          <a:stretch/>
        </p:blipFill>
        <p:spPr>
          <a:xfrm>
            <a:off x="4643280" y="2781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3"/>
          <a:stretch/>
        </p:blipFill>
        <p:spPr>
          <a:xfrm>
            <a:off x="4284720" y="3500280"/>
            <a:ext cx="115092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4"/>
          <a:stretch/>
        </p:blipFill>
        <p:spPr>
          <a:xfrm>
            <a:off x="4356000" y="4149720"/>
            <a:ext cx="115092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5"/>
          <a:stretch/>
        </p:blipFill>
        <p:spPr>
          <a:xfrm>
            <a:off x="4643280" y="4797360"/>
            <a:ext cx="1150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1" descr=""/>
          <p:cNvPicPr/>
          <p:nvPr/>
        </p:nvPicPr>
        <p:blipFill>
          <a:blip r:embed="rId1"/>
          <a:stretch/>
        </p:blipFill>
        <p:spPr>
          <a:xfrm>
            <a:off x="243000" y="701640"/>
            <a:ext cx="8658000" cy="598176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2"/>
          <a:stretch/>
        </p:blipFill>
        <p:spPr>
          <a:xfrm>
            <a:off x="7885080" y="1557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3"/>
          <a:stretch/>
        </p:blipFill>
        <p:spPr>
          <a:xfrm>
            <a:off x="7812000" y="2205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4"/>
          <a:stretch/>
        </p:blipFill>
        <p:spPr>
          <a:xfrm>
            <a:off x="7885080" y="3500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5"/>
          <a:stretch/>
        </p:blipFill>
        <p:spPr>
          <a:xfrm>
            <a:off x="7885080" y="4149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6"/>
          <a:stretch/>
        </p:blipFill>
        <p:spPr>
          <a:xfrm>
            <a:off x="7885080" y="4797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7"/>
          <a:stretch/>
        </p:blipFill>
        <p:spPr>
          <a:xfrm>
            <a:off x="7812000" y="613728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223920" y="819000"/>
            <a:ext cx="8696160" cy="52200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826920" y="3645000"/>
            <a:ext cx="4105440" cy="447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684360" y="4292640"/>
            <a:ext cx="410508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4"/>
          <a:stretch/>
        </p:blipFill>
        <p:spPr>
          <a:xfrm>
            <a:off x="684360" y="4941720"/>
            <a:ext cx="813564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1" descr=""/>
          <p:cNvPicPr/>
          <p:nvPr/>
        </p:nvPicPr>
        <p:blipFill>
          <a:blip r:embed="rId1"/>
          <a:stretch/>
        </p:blipFill>
        <p:spPr>
          <a:xfrm>
            <a:off x="119160" y="716040"/>
            <a:ext cx="8905680" cy="60386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900000" y="2954160"/>
            <a:ext cx="360072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360072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4"/>
          <a:stretch/>
        </p:blipFill>
        <p:spPr>
          <a:xfrm>
            <a:off x="826920" y="4221000"/>
            <a:ext cx="360072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5"/>
          <a:stretch/>
        </p:blipFill>
        <p:spPr>
          <a:xfrm>
            <a:off x="900000" y="4927680"/>
            <a:ext cx="388800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142920" y="785880"/>
            <a:ext cx="88581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1" descr=""/>
          <p:cNvPicPr/>
          <p:nvPr/>
        </p:nvPicPr>
        <p:blipFill>
          <a:blip r:embed="rId1"/>
          <a:stretch/>
        </p:blipFill>
        <p:spPr>
          <a:xfrm>
            <a:off x="590400" y="1467000"/>
            <a:ext cx="7963200" cy="39240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1042920" y="2781360"/>
            <a:ext cx="403380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1042920" y="3500280"/>
            <a:ext cx="403380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4"/>
          <a:stretch/>
        </p:blipFill>
        <p:spPr>
          <a:xfrm>
            <a:off x="1116000" y="4149720"/>
            <a:ext cx="403380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5"/>
          <a:stretch/>
        </p:blipFill>
        <p:spPr>
          <a:xfrm>
            <a:off x="1187280" y="4797360"/>
            <a:ext cx="40341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57:34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