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E15-F29A-47F2-A56F-BC5706DB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9A0C-B5F6-4438-8AB8-D1E463D2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5E7B7-D77A-4AD3-9ED3-D8D02398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7FA32-B2EF-4BDD-BA4B-B0A13309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4C210-6BE1-4BD0-B632-5E2CCD46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8785E-9AD0-4BD1-96C6-2548FF2C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83824-5633-400A-83B3-9A139A8E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2D8D8-6293-4130-97EA-FD5773BF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C754D-4E6D-4C3C-929B-3D33B942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38C0A-78B8-46A4-82B9-98AA130C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B3F11-8EC0-4CFF-90D3-737ED8F3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D9AF3-5A6B-45C0-9022-8B5F603C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F7A4-8CDC-4AEF-8D18-695D3F6F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F4C97-59F2-4FA1-855C-3D3616D1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AE23D-6986-4D00-A353-43B91BCB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5BE9E-2A13-4AC4-A440-68D8A2D2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C8816-F5DD-4288-8FD9-680BD9E4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A3CD9-9AC6-4346-A33D-08B0C87E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1D75C-8D9B-4C93-B2F2-84FA8F48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34E39-6692-4B25-9127-60F7A98F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E49EC-6731-4426-B35B-935075CD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2DD82-6656-41F2-B725-33AA2107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44F01-D76E-4076-904F-054A22A3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D27F-0443-40D0-A410-4BD43C7E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D1A0B-0B27-4567-B0EA-B97ADD48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BBFE0-B732-4981-892D-647BB6F6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A465B-7CEB-45CF-B955-FA8862D5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0C55F-0407-434E-B9C6-CFC2FE3F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AE99B-51DE-479C-AB23-2689F6EA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B9097-97AC-4990-86C7-B2652A32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8570F-8C49-48C8-8B41-8BA243A6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67253-16A9-4EE8-945D-78DBE005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77089-FDAB-4066-86B8-5A760CCB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0CBD2-975B-4F64-9CAA-91D5CB6D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A62F-2753-4548-845E-6E6F6F2F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0C184-620B-4D9B-8F5F-70B2D19E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C31C6-31F8-486F-A416-4B8ED853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E51CA-E106-4A9C-A88F-CA6948DB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5F02B-51BE-4CAC-8835-5F08A7CF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4F06F-3169-46AA-9A90-B25CBECE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96EE2-6EAB-41EC-B506-930C3FEB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3DEAE-1BA4-4386-854D-A6F3ADF6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3D57F-2F3D-4E05-8A24-FCB38830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2031A-E9C0-4DE9-A6CE-8716E0A6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2AABA-F300-4A05-96F7-2C98C14E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8319-3D2F-42CE-87EC-9FB18767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8684D-737F-41B6-AD55-FC517B48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5FB16-6D9B-4B65-9B4C-E42AD124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79C3C-9CC2-45FA-AA84-41951DED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D6423-AEFF-4D21-88B1-5E1C0785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704EF-35A2-4858-BD3A-EB4D687F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B58CD2-8AA5-41A3-8E8A-EF0C3A38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E824CA-43E6-4A07-8D99-3632850F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CFE90-CFCE-49B9-98B0-B31DE646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F20B2D-038C-4EC6-A352-6A0F6D67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F2474-8DF2-4177-A060-4DE26F75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1263-7A3D-43F7-A8BB-67E4E3DD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3A983-4D18-4ECF-9365-0A432E10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95581-A7A3-4FC6-805A-8C086ADB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A757BC-2C12-439E-B2B1-DBF67717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C057B-2F85-4D5B-919A-5EDE6D2E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BB03A-047B-47D6-9546-B87A330C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EC9A2C-AB0A-41FD-8178-A62DBC79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45A21-2F99-496C-9FC7-C4EB9BA7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A4E47-0242-47C1-A21C-B1740F24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221C8B-3326-46CD-ABEB-E72C1EE0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4457BD-A9AD-42F1-A72B-F889F144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AE8D-A54D-4EF7-8226-A5E08F9D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BECB5D-497F-453F-B6E1-8B58D8A7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C9EBA7-409B-4192-835A-21BBDCD1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BD11FB-3E3E-496A-8F9F-67BEFF8E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B15CB-9AE9-406D-9FF9-2C6B15F5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E3D781-AF37-40E9-8BBE-5439A5EE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56CBF-B428-4E53-AD72-F3F1059B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6DE824-9FCB-42CA-A890-4D280A4A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73B24-537B-479F-929B-83D4C747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94512F-9B01-4B1C-842C-2D75D8FF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AC693F-A396-48A9-9528-CEE889A5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8FFE-6D4E-44DB-B56C-A1CDC991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CA9B72-1B19-43A7-873A-7696B75E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2CE024-0CF9-428D-AACD-2DC116BA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70CDB8-AFA8-493F-A9DE-E53C0D19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6BE622-02A1-4529-BB64-0E7A0382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F2BC15-CFBD-4F06-BA9E-1B7657D8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C99E53-E9E2-4394-A5FC-85F3AE01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C20C2E-18FB-448E-807F-FFD3E2F3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6547F0-399A-4688-A6E8-0F8235F3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6867E8-891F-4441-ABD5-CF496835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28A487-3971-4068-8681-37E83F60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C858-B384-4CB7-93B4-13063187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76BE01-BD9D-4453-87D1-1379111E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8A98A6-8422-41AC-A0F7-6B428EE6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0706A5-2450-4765-99D6-4BA837BB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DB4048-A807-4C75-A233-8BEA0B15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46AC18-3A60-4520-A8AF-F743D66B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47E4B5-67E8-42D4-BBE8-7D34C228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1B808-12A4-42C6-8F19-70806256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FCB198-900B-4FE2-96B3-2A6FF8D7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575F6-5FF8-453C-AB49-AC362550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28F241-827E-42BB-8ABB-00952AA4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438F-B104-4F61-9626-D31D5154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DD9645-EAB2-4038-9280-5B870F2E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41854F-F51E-4510-9D8C-42B0F5E8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4D0FAB-1CBF-4A14-98EA-C0A733B7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2CA94D-12F3-441B-89B0-7E78985D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A8DCA3-F8D2-49D5-9838-5450F466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F1FB8D-745A-4470-B7D8-788C5554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62BDF9-60C6-4CCC-ACB3-521BEBFE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20B2B5-0FE4-4391-A683-A5CDA115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D27B71-5C81-422F-A965-4751E7BF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4961C0-F0A7-423C-A4CC-5AD92099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F42-799D-4366-8544-0CFF0D6A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82C4-50A5-47C1-862A-C8E271AF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1B9458-2E44-4214-99D7-8B7982C4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E815C7-A829-4D9F-B8E2-E4B6D62C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BF18F2-44C4-4CF3-9AC9-09D2A3B6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883295-6DC8-4AD9-81BD-80A2C155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5AD2C8-D928-4B84-836A-3BF415E4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C7D27E-9354-4E5B-8849-A07C08BE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41AA0F-0FA4-4088-9F13-389E6011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C804E2-AA55-4ED1-912A-A1EFCAD9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B43672-4E3F-4EDC-A183-F83955AA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466477-B3BA-48AE-8F90-FA3186C0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7594-ED6D-4429-B58E-25753F3A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23C350-8347-450C-A4EF-5662D7F8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894A80-4D06-42C9-9899-3783D617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400BDF-7301-49F1-95E5-E2B298DB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EDE1CA-E5B1-4AB6-9429-033C6D97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0A9DCC-53ED-4BFF-BE1A-CF06C815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B2205E-8EA9-42E2-B2AF-C26EAED9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87A356-BC68-4A2A-A89F-777E5E50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DB26BE-8877-44E5-99C2-5B5DD2EC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821226-F7BD-428C-B02F-8EC13EF1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A6516C-A25C-4110-B9AC-9ADEB308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FACF-42ED-4C7F-B172-C3123A75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E34C1D-9008-46BD-91C9-A77425B6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C11858-FCC5-4EF4-BC5A-F4876CA8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463CA2-3E2A-4A2C-9EA7-12492EB5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DA9940-D462-43DC-A039-EECFD202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604615-BE74-4157-A1A6-B238CDBB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024DDD-40FD-411C-8692-DA8FE4DB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06D6FB-8181-4CA2-B21D-BC0A22FA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C39D33-5B73-4F6D-960B-6AC44F9B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706F4C-0F07-4835-954A-FFC06BEE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6ABAB3-D897-4626-B7E4-E2103CC0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D43B-1556-4BA7-8A78-69FA4B5A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AFF765-31D2-458C-85E9-BB5BFFAD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AD6792-55FD-4F8C-887B-CC185D2C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2D1608-29B4-458B-83F3-5A46DE36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A2F86C-0481-4930-8DA4-DAE27A42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484033-271D-4115-9A6B-C4860809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9FB32F-062D-4AD0-A72C-18128505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DF8E44-590E-4A03-99DF-73087CB8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9CDD6C-BF22-4EF6-A8C6-297D7945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F94247-7D36-4B38-AAFD-6C3C7360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69AF64-1AEF-44B7-8FCC-6915B117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B423-6891-481C-B4A7-D297AD04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5F78BC-23A0-4CC2-83E1-7F7750F2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F83715-84E5-451B-8810-8DCFEF8D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B3A453-DB19-4EE0-9BBD-5274B2BB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71A676-C1E4-4042-98E0-64FBD76F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11B8F7-14FD-472F-9EDA-7336F858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509C87-0C6E-4770-89E8-6CCE3D2E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B07C7F-BB23-4042-927D-C5590FD4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88F1A2-487C-4F5A-B0C1-FF473668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B5586F-7BD6-4DA6-BC86-FF49D300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513367-BDE9-4685-9884-01DF54CA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DAD2D-B726-4F8D-9FDA-E037995F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AC1941-496E-4C52-A95B-ACE7EAC6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41E1B6-9776-4C03-921C-77BB0E5E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8584F3-6F69-468B-8064-862E12A2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DE1DEC-2BF0-40B1-B7D6-C5DD1CDE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31FA22-B80A-4503-AC1A-4A891EB0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815366-FE66-454F-8A45-A82B913E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1A678D-6EDE-4DF8-B3F9-6EDD8B68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8EBCF1-C666-4B2D-873D-2AE7E4E1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0600DC-D4C5-449F-AF62-5B1CC50E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FC96B9-E00B-405B-A82C-D25449CD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16065-8FB6-441B-9676-1FD3C65F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02DA40-492C-4582-BA44-B70CF965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48BFB3-1982-48ED-AEF9-27A26CCB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DCDEA7-9AA2-4CB9-9D97-FD001A8B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3D3D33-3A42-439C-8722-3978EB2D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1A0404-983A-402B-9A8D-B67C59B7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669C87-DD9B-40CA-8AB0-B9CF1994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2DF551-235A-47EF-B859-04692FF4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09A9EC-EFA8-4623-BDD9-A50493CD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489080-7875-4F5F-A1C7-7783AE4D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6FCDD8-3414-446D-AD43-D35F2EC6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3AF97-FB3D-45FA-A266-EB947312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447B5D-FFAD-405F-AF0A-2EFDBDA3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C97C2C-6D8E-4434-A31C-1241E482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E4BB1B-09CD-47BE-9A85-E216B8B0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F0B88A-4F17-4849-A790-0FC7BB85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B1BDCF-F141-4D89-B92D-5A138F04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8457BA-61AA-4BFC-A1F9-E482195A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3A1103-52E3-4D30-849A-774DEAE4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F9DB8-B803-462F-9852-0CD49DCD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EC9C2-48E1-49C5-B3A6-A300ADB2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657-F0FD-4876-A009-BC5FEF89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320E0-6857-48BC-8E16-A6BBFC43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A4F14-DF8A-40C0-85AE-01192010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656F1-7294-4AA1-9A19-77D4B29E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8140D-79B6-4F49-9F42-C511396E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7B546-99DF-4A5E-AABF-632BFBFD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09961-603D-43AF-88ED-93269B30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B3AEC-8ED5-4260-B72B-CE0E9DBE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33306-7B4F-4117-B5E6-76158599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96C82-4078-4F46-B3B6-24F8D766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582A9-D029-457F-9257-4A726C65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2D8-B332-47EA-B4AF-CF2E6371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A2F10-6AA4-4EE6-B386-49109841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36E38-08A0-452F-8939-CDB6EC38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7957D-2AB5-4EB1-A755-E1778731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0D5C5-AF32-40F1-8B1D-F1956B5C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4AD99-586F-482E-AE35-FBC6F350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3D642-6BBA-4403-8ABD-07D60A63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81646-FC71-44BE-A02F-23CBA1AB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FBADA-523C-4665-9B34-36EA7C52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E34E0-76B2-4A32-9E11-2969E194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7E777-6B4D-4BEB-806F-23E4A59D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CB8-2F56-4883-A562-923A6314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53B93-8361-4FE1-BCE8-DC34C40B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AB9C2-EF56-4E19-9ADB-B01E53E2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1277E-8DBC-4CF8-AEC5-61439BD1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001A0-60CA-4F6C-AC45-BF495B80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2DA24-808A-4831-AE09-84C0193A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D7F6D-EF1D-48A9-AB4B-AF7D9FE1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D86AB-7632-4B6D-98D9-4D6B0BA9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EB602-971D-4B3C-9863-24F90FCA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7281F-1A48-4DD7-9DF5-66D3E436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367BC-1666-4093-8120-62B102B3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D82A-4C76-496B-9B11-EAB6BC0B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D6794-74B4-4878-99BB-30B42940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B618B-31B8-4F5F-A8F5-961ADCDC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8B754-0D2D-4A87-888A-2081C57A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50A3F-B2EE-43BD-B57D-BE64DD24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80645-5A7A-4218-BE0E-C28F9E37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68FFA-0B91-4B07-990A-176485AB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D7995-21D6-4765-9681-3A8FB302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D967F-6BD0-44E1-A80A-0B7F7E09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D6F6B-DB85-4035-8EA1-EE735671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E1F34-F05D-432C-8074-B208D626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73D1-A942-4A47-A9A5-141DC5A1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9158C-B21B-46FC-8F0F-0587A363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03E32-A6CE-4929-98BD-1DCA9D4C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34F74-9363-4E83-93A5-BB1AE349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0495C-7F7B-4826-9A26-7189E8EE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B7C88-05E7-4C44-A351-0A66F098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B57FA-41B1-41BF-865B-D9A2789B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89547-04E1-4941-BD5E-9B489192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12F85-7E3C-4C05-B87F-19C92522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50AE2-B778-4896-BDEB-BAB90A02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0F553-F5E5-424B-8DD5-ECF02450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6DF-CD00-4E3E-8FA2-13309C5A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8752F-2745-4974-83FA-178D1F21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CDBE6-9391-4C54-A2E1-AD350C6C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4A6BE-E994-46A0-9EC8-719BD569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3B028-785A-4594-A94E-A4A7F4DC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318CF-EA11-4C95-B52B-6F33A60A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04171-B066-4D6F-874B-BE1FB71C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71C45-450A-40EE-85E1-EA096A71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DD906-B92F-469D-B598-CFAD2B04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47B02-0802-4EE0-8FCF-0E826179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F1DDF-3D71-4CB2-999E-5DC152FF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2F4-3323-4294-AEE6-A7321CA9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E43C9-FE73-4FCF-8AD0-34E14C4B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DD502-3FD1-4066-B67E-07890C5A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96315-AD1A-4382-944D-E73C7B34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FEA22-43E5-4087-BB2F-351C142B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C8B17-A066-4491-8317-E44737E2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55EFA-8DA7-4951-817C-B63B5A3B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590E4-FD32-421A-9BD6-D5A576EE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D25DA-825A-4361-8578-38770B2B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72294-C192-4E7C-BC6B-2A181171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92BAC-C8CB-45CD-BB92-5BBD59DC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65A0-5B55-49DE-9656-BF1C8335E8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05E6-7E3D-422C-93CC-5DD06EF659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8116-71C5-4222-B899-DE9652116A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C251-2004-4D69-A64B-7962450FA7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3C85-7C48-4950-9C73-842CFD9DBB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7554-63EE-443B-A7AD-87BAC41E64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7795-7CFE-4297-A2D2-29B085BBF9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9927-027F-4544-935B-0DA83619C9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8E62-13A0-463B-B66E-B4FE022F3C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AFC7-7625-463A-9527-81BFDE14ED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8FD5-336E-43DF-9626-C30A8D03A9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3A1D-8005-4445-9840-A9208794A0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F1B1-14E0-4921-ABF2-406C93A4C1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9B21-DEF5-4934-BC8E-149BFB7754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AEF5-E525-4CB6-8528-02EBA41AC7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9569-8CAB-467D-9036-EAD9763BAC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F10C-46E0-4EE5-B4A1-7671DF1D42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6FE3-5B5C-49E0-B92E-540ADAB9CC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E318-F966-4E71-9C82-1968D87BF6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2A4F-43A2-4A71-A86E-B270369C7F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7919-6A67-499D-A390-C249FD1DF4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B5B8-900D-44A7-A853-B3512DF613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37FB-C614-45CC-AA14-0A9BD44EA3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57B7-83A7-48A1-8311-655B93ED9D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358B-EFCB-4628-8778-343B6E2A41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D20D-2D2A-4F97-B61D-90610108F4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0FA5-FA1D-4B28-9085-8A413167E1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E688-CE1D-4B48-8323-3D1FB659BE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3A4C-D173-4FEE-8FD1-BF294A7E3F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4967-B6E1-434F-B724-8724A54C9D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F7AF-C8F4-40F3-8116-B4DBF9E6AB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0A11-D262-4EFB-ABC7-5CA417FECB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8539-C40E-4D73-AC72-BF38E7836F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19C5-0913-48BA-89D0-309C8F7ACC3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D333-707F-46A1-A9A8-9FDF3CCDF5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5A21-A68B-43F3-A21B-960AC25882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B6A3-1DB3-4940-8921-A1FFBDC59D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4E3B-F241-4480-8CFF-FD1FC98D04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A063-232C-4891-8BDF-46A832FF3D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6614-8A13-44C0-992E-990273015A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6976-C49C-4E25-BC42-AF779B95B3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3558-22CA-4117-9BE9-82B02FB7FD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887480" y="1523880"/>
            <a:ext cx="5676840" cy="1390680"/>
          </a:xfrm>
          <a:prstGeom prst="rect">
            <a:avLst/>
          </a:prstGeom>
          <a:ln w="0">
            <a:noFill/>
          </a:ln>
        </p:spPr>
      </p:pic>
      <p:pic>
        <p:nvPicPr>
          <p:cNvPr id="1006" name="图片 2" descr=""/>
          <p:cNvPicPr/>
          <p:nvPr/>
        </p:nvPicPr>
        <p:blipFill>
          <a:blip r:embed="rId2"/>
          <a:stretch/>
        </p:blipFill>
        <p:spPr>
          <a:xfrm>
            <a:off x="123840" y="3598920"/>
            <a:ext cx="8896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309600" y="866880"/>
            <a:ext cx="8524800" cy="51242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3262320" y="29383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"/>
          <a:stretch/>
        </p:blipFill>
        <p:spPr>
          <a:xfrm>
            <a:off x="2757600" y="4508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4"/>
          <a:stretch/>
        </p:blipFill>
        <p:spPr>
          <a:xfrm>
            <a:off x="3246480" y="4508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5"/>
          <a:stretch/>
        </p:blipFill>
        <p:spPr>
          <a:xfrm>
            <a:off x="4975200" y="4508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6"/>
          <a:stretch/>
        </p:blipFill>
        <p:spPr>
          <a:xfrm>
            <a:off x="2757600" y="50418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7"/>
          <a:stretch/>
        </p:blipFill>
        <p:spPr>
          <a:xfrm>
            <a:off x="3246480" y="50418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8"/>
          <a:stretch/>
        </p:blipFill>
        <p:spPr>
          <a:xfrm>
            <a:off x="5378400" y="2736720"/>
            <a:ext cx="105084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9"/>
          <a:stretch/>
        </p:blipFill>
        <p:spPr>
          <a:xfrm>
            <a:off x="5076720" y="3573360"/>
            <a:ext cx="129564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10"/>
          <a:stretch/>
        </p:blipFill>
        <p:spPr>
          <a:xfrm>
            <a:off x="3635280" y="1944720"/>
            <a:ext cx="10512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214200" y="2119320"/>
            <a:ext cx="8715600" cy="26193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2700360" y="3284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2916360" y="39909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7308720" y="3284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5"/>
          <a:stretch/>
        </p:blipFill>
        <p:spPr>
          <a:xfrm>
            <a:off x="7524720" y="3990960"/>
            <a:ext cx="863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504720" y="1019160"/>
            <a:ext cx="8134560" cy="48196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1476360" y="2708280"/>
            <a:ext cx="2158920" cy="31687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2843280" y="1989000"/>
            <a:ext cx="151272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5796000" y="2708280"/>
            <a:ext cx="2448000" cy="31687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7364520" y="1989000"/>
            <a:ext cx="151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514440" y="824040"/>
            <a:ext cx="8115120" cy="52099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2879640" cy="45370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2987640" y="1081080"/>
            <a:ext cx="144000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148360" y="1873080"/>
            <a:ext cx="2879640" cy="45370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7020000" y="1109520"/>
            <a:ext cx="1439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176040" y="1333440"/>
            <a:ext cx="8791920" cy="4191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1042920" y="4005360"/>
            <a:ext cx="511344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971640" y="4797360"/>
            <a:ext cx="6121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237960" y="866880"/>
            <a:ext cx="8668080" cy="51242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900000" y="3630600"/>
            <a:ext cx="583272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755640" y="4422600"/>
            <a:ext cx="8064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200160" y="1123920"/>
            <a:ext cx="8743680" cy="49528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900000" y="3068640"/>
            <a:ext cx="468000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755640" y="3875040"/>
            <a:ext cx="468000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826920" y="4653000"/>
            <a:ext cx="468000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826920" y="5516640"/>
            <a:ext cx="4680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33480" y="1100160"/>
            <a:ext cx="9075600" cy="184320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2" descr=""/>
          <p:cNvPicPr/>
          <p:nvPr/>
        </p:nvPicPr>
        <p:blipFill>
          <a:blip r:embed="rId2"/>
          <a:stretch/>
        </p:blipFill>
        <p:spPr>
          <a:xfrm>
            <a:off x="1343160" y="3795840"/>
            <a:ext cx="6781680" cy="22669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298764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3132000" y="2060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5580000" y="15429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5435640" y="206064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8158320" y="1542960"/>
            <a:ext cx="86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8"/>
          <a:stretch/>
        </p:blipFill>
        <p:spPr>
          <a:xfrm>
            <a:off x="8265960" y="206064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9"/>
          <a:stretch/>
        </p:blipFill>
        <p:spPr>
          <a:xfrm>
            <a:off x="2916360" y="443700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0"/>
          <a:stretch/>
        </p:blipFill>
        <p:spPr>
          <a:xfrm>
            <a:off x="2916360" y="50846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1"/>
          <a:stretch/>
        </p:blipFill>
        <p:spPr>
          <a:xfrm>
            <a:off x="5838840" y="43941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2"/>
          <a:stretch/>
        </p:blipFill>
        <p:spPr>
          <a:xfrm>
            <a:off x="5838840" y="5041800"/>
            <a:ext cx="863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7:1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