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005-0E70-43D7-ACDC-346261C7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0DD-3675-4A78-948C-BB610A6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6F6D-6424-4B31-B313-276DBB8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1D273-B572-4FE0-B229-6ED3033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94C9C-6E1E-4B06-BB3B-DCF15F13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4E13B-A990-445C-8BC6-2272220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51264-2AAC-4BCD-B25D-879FEA5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C8812-7B2A-4F62-AF59-DD9C5FF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283D0-8039-4A3A-9FBD-0B26650F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B7D9-A89B-4735-966D-ADB9B89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FA13-422D-4107-8990-D82BB9AA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3314B-8608-4A38-87A4-ACB5C1CD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D4D-C24B-4F01-B967-7ED0FF65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9B9B7-CA09-4047-AAE3-09678E80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40CA6-0687-4256-B2A7-35445803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C8850-C027-49F6-909A-643B02B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8415E-C590-47A5-8463-4127B2D5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149C-62D2-40B5-9918-52FA003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BD96C-D359-414F-9869-D9BB315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358BC-A804-4F77-A5B1-0B73CB0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132B4-EBF3-41C4-B48F-0D7FED5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BF69E-B1FD-438B-AC8F-3E484208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200DA-CFDD-40D3-9227-3ED305D1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FC-2D14-408B-9395-6A53D3CC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7B43B-3139-4C5A-8A0A-5D7A3A98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C9A27-0D0F-4BEB-838C-D0CFF704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B6C2-A129-4DA8-9820-8B112D20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F0CE-F183-4AED-BEEE-E7617C0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BBF6-1932-4728-B753-2544BFB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172F5-41C1-4309-B8B7-E43C444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9B9D-C9DE-4E67-A77F-BAABF9E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9986-E834-4590-B1F0-8C04DAF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8546-B1AC-4BFC-9780-F6067A8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2C7CA-282E-43F0-B572-1212C11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5637-DC08-4B16-AB14-25FCD09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5A34-1164-4300-BB5B-26D2F3C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705D-91DB-454E-AF92-BE93D036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7DA2C-74E9-41C4-90C4-7A4FE93D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BB98-588A-4B99-9835-A187733A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1B2C3-960D-4EB3-BB7C-7604223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273D7-4794-46FE-A2BD-CB4DF8B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50BDE-488B-45E8-BF1A-C5FFF5A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FF5C6-1149-488F-BAC1-A6DBA43D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892C2-2B80-4FD4-BB9A-D57AF261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DDB8C-6D41-4B3F-81DB-224DE2A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11D-4F8E-4F05-BA0F-C8DF29F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52646-5475-44A8-AAA9-F681933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F127-C3DB-404D-94E6-4EBD770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40B3-CF05-409E-A931-3130F845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F98C7-BA86-413B-B956-111F0BE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45A2C-F6D7-41B1-8476-48462934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2B496-A367-4B8B-948B-274CA09E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38D05-C62F-4291-932E-C055495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3E2EF-4970-427A-80ED-BDED8712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76E34-8E5B-4FB9-ACEF-732A5223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7427D-5E47-4691-9D9B-2F559E8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93E-77A1-44D4-ABED-E74BC65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8FCFA-2D42-4677-AFF0-F522B6B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4B650-7EA7-4A96-AF1C-2BAA0E1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79EFE-617F-4539-9749-5EAF93F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1BF7F-4374-443D-ABF9-554D796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86452-9E65-40F4-BB77-CC6A353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8A8D6-2141-4396-98D1-82710165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75E87-4774-4C8E-AECE-5439A038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5228D-C782-4697-A38A-88AACF7E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ECF4A-FF70-4A87-9691-34E99831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BE712-3A24-45E1-AB5C-DBA061D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537-B5A8-4D5A-BF59-74A2FD3B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5BF9A-6A3A-45A2-BFA5-4755E2CE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1937F-9DD1-4D3D-AE2C-7969AFAE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ED8C0-0D55-49A0-8972-F1C08F54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79ACB-5001-4CEE-A28B-4088A92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6FF70-5321-425C-876E-7EFEDE5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D6F18-C3CD-446F-8C68-A7EB747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FBEE1-C61A-48EF-930F-3E7428C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118F0-12EF-4252-A853-457CBE4B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D951B-4C73-4E9A-8826-F829180C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013BD-1A0E-438D-9A91-DD5FE859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1F9-C644-4CFB-8757-F10EBC9E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12AC9-3EFD-4573-B937-A2BB9A9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F3398-D732-44EE-A6DA-32E93B9A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04B0E-A220-4333-9845-7155BFDE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C3C5B-CD4F-4820-B3C4-7A31D6C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79677-0A74-46D7-B2A9-64D0AF4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D0543-A5A1-4E45-806D-ECF477E0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8B829-BD5F-4381-B29E-349EDA2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1239C-8BA4-44FF-82F3-3240A7F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FB1F2-AEC1-44C5-985C-D5B3095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F784E-A961-4959-BFF8-2E6556A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E481-D5C0-40ED-9C88-C3452CF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2BDFE-08E0-4CE5-9E16-2239B832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313A5-E913-485D-9B1F-6DD1FEAE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16EB4-12DA-4D39-97E7-01614494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C4920-7F35-4800-A3D7-93D1428C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6B954-61DB-47CB-A3B6-1A182D9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559B4-DDEC-43C1-BBFF-9E359982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15EEC-ECD1-4596-AFAB-125377C6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045F6-A2FD-4C60-9CD7-187E44A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797A0-377E-4B58-B00E-2324AEE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6380A-1D43-4DED-AF02-3D41BE1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A093-8B06-4680-9EF5-C6B9B84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F07B3-D9E8-4C6A-9E43-61BD83C6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D5E6F-B148-4ADE-821C-F89527AE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4C63A-4135-42CD-98B7-1E334B9D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7EEB0-882A-433C-8DA7-8F77467F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9870C-E229-4BB3-87DF-ACB17CF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365CD-7E53-4CC7-BB5D-8728C29E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F804D-C92E-494C-9DC2-B774619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92146-DC49-49BE-9CEB-AB8C3F1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A53FB-4F0B-4A9A-BFA8-F8B3084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A2B0E-4B33-4F27-B7D2-BDD4E31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B44-7C4C-44CD-B343-B9DA37E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6C4-749E-4382-8613-D089F5C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9EB55-F866-408C-94EE-1A476F7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D5D01-6E91-4DB1-8087-CCE7C0E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E84C3-EBD7-425B-85DE-2E78B08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5FA0D-E569-4573-A926-DE3F9361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32707-17D9-4B3B-8A80-B6645AE8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5880A-309B-4D72-A85B-B52A2A36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D4D10-D473-4FC1-AFDA-84E3867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C75AD-612B-463D-B555-90E9A04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8F0B7-61D6-4069-964F-0392EE2D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650EB-2DE3-4CDD-9F2C-050C451D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55B-D187-4324-8579-F318CC9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1A1A4-71CD-42F8-BC99-3DB29D3C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F6E30-F012-4853-8859-8EA461B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E559D-A1A7-415A-BE24-5927EEC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35B0F-CAE0-4845-8154-6A9E6CE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6A76A-31B3-4A0E-9C1E-6A69CF4D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DD45C-4AFE-45A5-85E0-F2D48B3F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F2219-DC12-4E57-AB6C-4CBA772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AD469-2A74-4573-99FE-466FBD04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F0280-103F-452C-B1C2-2001434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CC30C-7EF1-45D6-8F43-52B9946C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F33E-03F8-45CF-BB48-6976F91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5910E-05B6-47D9-828D-7B03E82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0218C-2358-4258-912B-3EDE15D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93BF4-2E97-4BFA-8308-00D3241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7A877-2093-47FF-8212-C0C130C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1F232-56CB-4C30-9FA9-E97B11A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36FF2-6CF7-4093-AA0E-53463A2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BC643-2B8E-4580-B996-3F3EFD9E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6C0B0-AACE-414C-8132-EC3BC16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98DCA-332C-4BA4-974E-1550BC62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C0AA2-A204-4B37-9ED2-0E5EA6AA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78F6-276F-4F18-AE9C-742178AB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522F1-26FE-46F3-B27F-E74B29DB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7F19E-BA19-4D66-9A63-1CFB1FE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B31D2-9BE1-49C2-A746-86C25BB5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811EC-CAD9-45BC-8DC6-22C4EDA2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BAA42-D612-43E9-A3A1-38D68D9E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91CE7-0AE4-4A76-8A90-9110E96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CB7A9-4CF2-43A4-B7E7-73468FA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9E5C2-5F8F-4F1E-A774-04EE7DC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47A89-EA73-4BE8-B7AC-3B2363A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1DD79-CC36-412E-82D6-2FD52D64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9AB-9918-47C4-A8C1-A6F9A648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D3EDA-9517-4416-A9F1-7AE487FE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65C12-7974-413C-BD71-623A5F94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876F5-4066-4E68-A82F-E222077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5361B-4008-4922-8E2C-86320B56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93D31-13AA-4438-9644-D33D672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61A98-B089-438C-8599-9AA1063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07C7D-1E41-41BA-BD5C-2EB131E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C657E-D623-4D4C-998E-D4FFB37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CFFC2-E7C7-4B4E-A8BB-4694346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74E2D-44F5-4BA0-9A9D-8A0B42D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AEEC-0592-4EA6-923C-0FFC4D41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30AEF4-8B48-42D8-9F5A-BB9DA39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C731C-06E5-46E1-97B8-A98BCC5B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2049E-0288-4159-9A63-F4928B7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26AE6-40A9-470F-A1FA-70268EF2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B722B-7843-4C91-A1A7-F3C57834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3CE235-7533-4E8F-A254-650FCA4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92F83-D74F-4A0E-92F3-8351EA8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1C8C5-5B0C-49FC-AC8F-B1B0448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A5BF6-9E4B-4EAD-B7A1-916D9A8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CC3D0-7FF2-4CC2-B0D1-955D837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7DD8-41AF-471E-9BFD-0FE6F25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D09FF8-CE14-4A9E-ADF6-AA5F86E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4C14F-DB21-4133-9A8F-738E4E81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5FABC-845E-4DFC-B35D-23E61F4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62693-ED60-47A0-8DE3-2432BA4B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60EF9-E529-4E27-84CF-2F7E2E2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786A3-D2A7-43C2-AA44-2C0F9FA1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F3642-AE8A-4F97-A12B-4B6CDC1B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0AC3B4-C051-4FFB-BF47-05525CB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D7E27-F0CD-4583-B05B-049A85A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A724E-2D14-40FB-8B44-3AF700C8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081D-B8F0-4793-9971-681CE299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68AF4-1C7E-47E7-A5B6-E4D4F94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25C43E-27E6-4790-A096-385B65B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7927C-A733-45E7-B149-E64D6A7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C7DE95-76E1-4273-B41A-5406B172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9D0B5-9360-4EBC-A6F1-67658C38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9D919-44DC-4304-A2A6-E7C89306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6A366B-C58B-4F14-AF73-4C75A73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519A-4A47-4E2D-B4A3-2D825D0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1FDB-692E-47DB-AE3B-E0B3AE4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FE5-BA54-4C30-9E52-F3F350B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D723-C715-490C-96AF-B7712FED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EDB3-3641-4AA7-9155-1A3709B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D6B6-FB69-465B-A47A-7974232B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4DDC-C95C-484A-AA78-32FE1E1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3D02-5AFA-4517-B8A7-B01EF7FF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4E6F-D10F-4246-8F17-B813B26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7E05-0346-4CF2-A018-240527C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9168-5991-4D9F-9DBE-4043CC27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4407-32E8-4999-BE42-BA6F3D7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9021-4B98-4C7B-958D-81FF320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67B-95D2-445F-B9A1-594F72F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CAE2-B92B-475C-AB7C-55BF90D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9C5B-0A0E-43D9-9258-064A880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8641-C1E5-4D4D-B7DA-3C5F991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B3CF-9587-4FCC-8970-41D4D6E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FA5E-234A-44B0-BE59-6E70E01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F1FA-3872-4614-857A-D54B6DB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06EA-73AA-4CCA-BE8F-2CC894BD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8016-10F6-4267-905C-0F191037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3757-A9BE-4C74-BFD8-F74F93EE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BF80B-4CAC-47FD-B4CA-E5FAE731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939-7C22-4D9E-9266-06E2AC4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A42BE-3E72-4BF7-99FF-52F3579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59B5-574D-44C1-8360-A66AC497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942DF-1F92-49FE-B5F2-FE00E9EB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0DC7-B0D2-4DCB-BF5D-399ACFA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F6FA-0A72-4B98-BFE8-BB28B04E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5FC8-2442-4B0C-952A-AE87932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1DA9-6542-4FE0-9049-9F25AD8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AE7D-7AD4-4514-B395-4F4C670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8888-D362-4F57-A0AD-42890309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D9E9-FF3E-44D3-9DB2-351AF777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E00-C722-44EE-BE34-6ECC7AF8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BE95-E0D5-4285-AAB5-C8626720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81FE-5ECB-45F7-8A7F-4D571440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00DE-998D-4DE4-B1DC-F50BAD55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9D13-5583-43DE-BA3C-AB3DCAA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B5EED-B5CE-421A-869B-1519918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F7D4-B156-4C64-9EA0-025843FD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D6C40-C91A-4532-A538-AB4DEBC0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FD15-2C25-4679-BBC0-3D379EF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20D06-1B4D-4BAB-96B1-2C82388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640E-19A2-4B11-AA3E-1205BAD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2AB-D55E-4F40-85AC-27711D4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C16F-441F-4589-934F-E9E1604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3020-FCC8-4216-96EC-0932C0DF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13F2-B980-4D1E-A750-82AF844D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3840-02BF-421A-8CEF-DFE078D8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F343-B675-4BD6-911F-36E4ADE6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7CC1-15C5-4CDF-83B5-D6E9D8B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9501-710F-4781-A085-68C7F94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57B8-EC86-41ED-8DBE-93B80DA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94852-A879-4E7C-815A-782A6B77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3CF0-882B-4CF2-8BDA-CB2C497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923-6B14-46F4-93A7-36FEE92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11A5-3C7D-4CF9-B5ED-6133442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FF28-3725-46F1-A7DC-139FC4C8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28DE-A82D-46C5-B90D-78590E8D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584F-2A84-4E9C-882E-A560604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26151-D160-4622-B223-70E41A4D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AE82-3F54-4B83-8AED-45334467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E2F0-9903-4897-8DCB-895A571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A291-AA26-4141-8C20-677925B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C658-72FF-4F5A-A398-F25C4B29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AFDE-C392-4CFF-8089-0095848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AF5-5FBD-449E-AA6A-A64B3B7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2566-8207-4748-BBF2-20CB0373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5DB7-3AC2-47A7-92E1-47D839B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F4F97-87A8-4A96-AF54-1AAD79F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A5CE-1928-451F-9029-0790483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3A21A-3892-4074-92BB-31E22F7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AD87-4A8F-4A5C-BB4A-9B1CC10E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5B08-69F1-4B19-9E20-E8885B34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108CA-EE1E-441E-95AC-CC62A86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6FBFE-0187-4078-B2C1-FA4AE60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6686-1D21-441E-A437-2FAD6E1F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1EC-2E87-4B18-9A42-1858A1FD7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12B-6FF9-4932-BA49-EAE3039DC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894-9450-49B6-B410-BE1E5AF40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41C7-04F3-4CF3-B24B-A7B9A0239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AAB-86E8-4139-B079-EFFCD50B4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7DC-79F0-4537-A0A1-74D107030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1C0-359D-4690-A017-74C4A5EEE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D77-B0D2-448E-9785-EE7BE9866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94E-8A68-4BA6-96FE-A1E2D0101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C32A-2CC5-4ECA-BD4F-B2705492A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C27-49A0-4A94-925A-DF0E6B745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FCF6-5387-408D-BD89-83633C7DB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434-59A8-4430-BA4A-A8B2A8233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DFB-DAD8-4E8E-AC27-D7EB1743E6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B721-57E4-4981-A630-41CE00097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100-74BE-426D-8B66-2878CD4B4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832-3E1F-48C2-878E-2197A8F3D9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0982-5A2B-4C42-9EE7-229007117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6E8-CE6F-4F3F-81D9-886CE059B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E887-FE6F-49AA-8BB3-C0E4BF7D6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475-C177-444B-A8B6-397ED4047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62F-202E-47E8-B147-8CBC7E31A6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CE4-6630-45D7-B07C-1BB2F0C6A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241-1ACF-4B21-B2D7-2DE2D81B9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445-21A3-4342-A938-8921FB0A6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6AB-48D8-4F8F-83DE-D84CA2764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5C3-5AD5-4AC3-AB60-3F8F234914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5D5-962D-4D5F-87B4-0524C3D7D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DFC-F56A-4C91-BB3D-0210ADC6C4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F7C4-6E51-4A61-AB0E-889EDB104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62C-BA4A-4A68-8183-BFE776650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3A6-EE36-4B23-B41B-2C0B51478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E93-A701-49EC-8ED3-A4BB180F56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3901-BB4D-482B-AAB4-CDFAC5FE3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4FC-93C5-4989-AC03-4F0B79806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2BD-0977-4FC5-8A43-831BDE051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84FA-A78B-4FF4-B254-E134CAA7A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D46B-3DCC-4991-A92D-F542ACD722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75C9-DFEE-4D3F-805E-E2B07DDAA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5F4F-934E-41D1-97FE-D0188264FC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14A-9517-40BF-8F18-529F9E40C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407-1075-4AB9-AA46-5CE4D00B1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9920" y="3056040"/>
            <a:ext cx="880416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93600" y="934920"/>
            <a:ext cx="8956800" cy="19479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2" descr=""/>
          <p:cNvPicPr/>
          <p:nvPr/>
        </p:nvPicPr>
        <p:blipFill>
          <a:blip r:embed="rId2"/>
          <a:stretch/>
        </p:blipFill>
        <p:spPr>
          <a:xfrm>
            <a:off x="985680" y="3736800"/>
            <a:ext cx="7172640" cy="2152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29592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3132000" y="1974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5580000" y="13986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5810400" y="1974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8229600" y="1413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794232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9"/>
          <a:stretch/>
        </p:blipFill>
        <p:spPr>
          <a:xfrm>
            <a:off x="2916360" y="42782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2916360" y="4941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1"/>
          <a:stretch/>
        </p:blipFill>
        <p:spPr>
          <a:xfrm>
            <a:off x="6300720" y="4292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2"/>
          <a:stretch/>
        </p:blipFill>
        <p:spPr>
          <a:xfrm>
            <a:off x="6156360" y="488304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43000" y="1038240"/>
            <a:ext cx="8658000" cy="4781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237672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57680" y="196056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2637000"/>
            <a:ext cx="3024000" cy="3168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962760" y="1960560"/>
            <a:ext cx="1857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985080" cy="2952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62400" y="1600200"/>
            <a:ext cx="1785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324080"/>
            <a:ext cx="8763120" cy="4209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777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95120" y="1062000"/>
            <a:ext cx="8753760" cy="47340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971640" y="391968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7993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771480" y="1062000"/>
            <a:ext cx="7601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804960" y="1238400"/>
            <a:ext cx="7534080" cy="4381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187280" y="181620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187280" y="41925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57040" y="955800"/>
            <a:ext cx="8629920" cy="5600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059280" y="234936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3059280" y="35146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5292720" y="35146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2916360" y="413532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5149800" y="413532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3218040" y="47242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1"/>
          <a:stretch/>
        </p:blipFill>
        <p:spPr>
          <a:xfrm>
            <a:off x="5451480" y="47242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2"/>
          <a:stretch/>
        </p:blipFill>
        <p:spPr>
          <a:xfrm>
            <a:off x="2987640" y="530064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3"/>
          <a:stretch/>
        </p:blipFill>
        <p:spPr>
          <a:xfrm>
            <a:off x="5423040" y="530064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4"/>
          <a:stretch/>
        </p:blipFill>
        <p:spPr>
          <a:xfrm>
            <a:off x="1042920" y="58910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81080" y="1190520"/>
            <a:ext cx="8781840" cy="4476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3170160"/>
            <a:ext cx="7993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7:1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