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D8A-929E-4343-B08A-E9355569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739-1086-462D-94D4-7E0A901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CD670-DB46-4D51-82CD-36BA25C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80433-B9BE-4591-8304-13C3C59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8D60C-520E-4817-B8FE-D83BFC5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8E12-2A12-4149-93DD-F3CC4D8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EBE76-5DED-472C-85DC-B2C4390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B1665-39CE-4939-8D18-6F8C7EE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A791-5A75-40F0-A366-328959B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A0EB-A332-465D-B981-340706D4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E8E60-35A0-405F-8122-8FF07A5E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47E28-2C73-471E-BFF8-AB43F623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F28-1914-44D6-B00F-19970625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DCBA3-3F0A-41D6-820F-434119C3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A8D8E-88AB-42B7-B2E0-56EFF72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F594C-6603-41AC-96B9-7BFFFB1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7304F-3E4D-434D-91AC-ADC9D9F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EDD85-5925-4CC6-ACBA-8C2A09F9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3648E-CC55-40EF-A202-25263A8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1F09B-6F1F-4477-9906-C6C670F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89818-FB89-4A97-A31F-5F4D6A0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A429-1A87-41F7-A561-4F20DE14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4BEE-C91F-4B97-863A-8CE07311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9C2-A8F6-415E-AF30-995FAA3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E9FC5-B874-40B7-A33A-428FBD87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9E83E-D54B-4C33-9A05-50F79EE4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7C17-C8E3-4771-AE4D-84005B9E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CD9AB-7565-4B33-BCFD-D294D02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6AB11-48C4-4E24-9B31-D12ED41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30FB-99B5-4D29-8E17-4F4AB05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DA719-F12C-4A63-9625-457649D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EED0-B205-4231-B7A0-5A839B5C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62195-0D2B-45D4-B7E3-B3B937E4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D72B5-B328-45C0-BA11-4BAA403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AE1-11DE-485E-84F2-C24B48C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26331-C080-486E-88F4-AD95AD59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04E21-311B-4BCF-A4AA-4A9083AC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87E59-9FC3-4190-BAE8-7EAB2185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7E21-07D8-4A97-81F9-FCEFEA9D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A855-0EF7-441D-ACCB-6133EB3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634F5-8D2E-4AB6-9143-FEDC8EF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ED25-52C8-4573-AA99-6F2F409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D78F2-815D-4EEB-B287-8FBB29A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755A-E326-4728-BF62-B4896A2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FDD35-AD18-40A3-AB70-E0B6613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4533-EB28-40A5-933A-008ECC9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2B37D-70C6-488D-B4C0-A3CF5EF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450F3-FD6A-4398-B892-AEB6F03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47249-7A33-4802-A035-E3D0E94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50306-16AD-4DA6-8243-07F978C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C5335-991B-46AE-AFEA-A5837B46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4D057-E04E-48DE-B673-BFC02C28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72F25-2168-4FB5-82A4-B3CB509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57678-9523-41E7-B64F-82986E7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B5AA7-2190-4D9B-ABB5-A61D112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BD39D-7611-4F80-8D0F-0B23937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15D-5053-40D5-B7BA-06AB4DF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537DA-A349-4DF2-84B8-0A20470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BAB72-61F9-4706-9015-1F701A7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0629A-AAB9-4C5B-8005-7E0D7B3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C080-BB6E-40CE-AF33-3B48C03A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E8038-5CD4-4C97-960D-5010A0FD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F9576-CA2E-4B10-9931-C3201729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4BAF8-E138-48A4-89C0-EF4839B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483D7-B7AD-42CC-8E5E-2FC3718F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257AA-6AB9-4DE1-93FF-28036CB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57DA1-1EA5-41E7-B908-F105913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83C-00E8-4DE4-8FC3-66A75152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4C6B1-74C2-4A30-B0E8-25918C0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36230-2BA9-4CA6-9354-733DD674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FD606-A969-4708-9E38-F5D98EB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0ED51-F13A-4B5D-A729-ED46061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F0CEC-1099-4B33-A9A1-6198A89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BF88C-0E32-41C7-AF98-E05B09D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F79D7-EE95-4041-9F43-C8049C38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1A0BB-A3DF-42F5-B398-6F68581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5E0A2-6841-4EFE-8632-C07A0E9D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8C53B-0926-488C-AD5B-82467739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FA1-75C9-4FA0-B7C0-994459EC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72475-95FF-499E-A9D7-96F07C4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6FA46-C3EA-44CD-AED4-14F033D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9CF92-873A-470C-9BBD-5850624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6FBAA-0A0A-432A-8C14-225A6354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19D87-7732-4C12-8BF0-F7CE087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E880D-C06D-4799-B893-31C43015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E4C42-857A-423A-B0EE-1D88F3A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6A810-6542-4C8A-B288-00446C9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5C162-9F48-4DD5-94DB-68A999E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1AE51-814D-4935-864E-73568A50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BE89-8FD4-4708-8710-E87B7E6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3CD0E-6ADB-4594-9F91-FB78322C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EB688-97B0-41CD-8C88-70682D8D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B40E8-61FE-4F67-81E7-D51A516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D076B-F562-4865-9EAF-CCCFD1A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082BD-B056-4979-A918-4C75FC6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5AC9F-144C-4FD4-9E77-F64CB37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94AE1-910C-47A4-8E4A-B3B2185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A752A-8DBE-4AF8-B3E5-00A2BDD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1656B-B041-4D44-9D96-57E8B39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1DA2A-8898-474A-BDA4-9B5E7D3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583-1471-4BE8-AB5A-4B34E5D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15288-B4C5-4B1F-8094-1B7BFAD1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99D92-3876-4C32-AEB5-35B1F129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D0487-2E25-4E18-9A15-116E773A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AE87F-C442-44E2-8D59-35F75E62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0855D-34BA-4056-821A-43ADA67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7AD63-923C-49E9-8344-2189D97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D0531-BE35-4C31-A3D3-C9A6F417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A18B2-710C-4C0B-9261-434284D5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14FC8-A7E7-49B1-A79C-F28C2DB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38B3C-641C-480A-BBF3-8EB3D8F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94E-3313-4257-A5FB-867261E1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5DE-4153-4157-A0A2-B3DA3B5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28197-50ED-4DA6-9BA9-A435564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E3773-7B4E-4EB4-8BFE-6302A9E5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5791D-DB19-4619-82A3-840D15A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FBA26-0674-4427-A9DD-C575A419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7B788-3F36-420B-96E1-7538DF4F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9BE84-57AE-4A4F-846F-EDF0F899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E47BC-0D16-4E6F-BB5D-76D540A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856B1-2539-458A-8882-8637576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D3758-61A5-4BB3-8099-DE812C2F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CCE8D-9670-40F6-90D5-FB8F92F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C65B-03BE-4B1D-8E6C-1EFE024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CFBFC-18E0-4492-85A8-865AEAC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5443A-15EE-4859-9A6D-9AE794E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EF356-0F27-487F-898F-8D49FCE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AF85D-7E74-4E5F-B38D-EB3B6FFA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05296-92CA-46F7-8028-5F3BBAD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C0BF9-BC46-42B9-AFB0-BFB8059F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9D8AC-4984-45F8-9433-A5F05062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F6728-D2B5-472C-A7E6-4D705E35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CF425-358D-4E5F-A9DB-A6521F1E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19B08C-840E-4B1B-AAC3-E2324438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9DC8-0E95-4B4E-B9EE-5B68A9E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C67F5-3D81-40B8-A349-5F8FD6A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DE53D-0EB2-4999-AAAB-8AC36B5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5CCA8-9CDE-45ED-818E-54C6A2CC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666AC-E066-420C-8CB1-A20D0D9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9FB40-ED01-4BB7-9F0D-89AAB9C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90132-23A8-468E-B880-261610C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82671-D3F5-43FE-82E0-2500348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35ACF-2B57-4B51-B88A-78C4093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D0BD1-A0B5-49B4-BF9C-C12632CF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F08BD-5492-4978-8709-84C6896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0A20-BD74-4CA6-9DD6-434096E9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166FF-933C-4DB9-9FD8-66EE2AE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3F2EE-C548-4D46-AC93-FAB6E15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8E17E-2DFF-4AD5-8088-2EDA662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9AA5E-656C-4FDB-AAC0-A50FCD8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1C49F-360A-4BE1-891D-8B1F5A8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9C6B9-EF97-40D3-AFA1-88A0C58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BA2F7-0E2B-4027-99E9-37DB35E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1B5F6-8635-4EB2-84D5-C77C68A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7B56E-1D20-4ADC-9FF8-8BF34C65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71F8F-DBCB-44DF-8762-6D8AF77F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29CA-649F-426D-98AB-F989094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C5C52-2B0C-4301-87C2-1BA7B3AF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13ECC-4076-4644-BC97-A906AB02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B4F92-4E5B-4B79-AB50-8F73383D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A2A884-83E1-4050-A890-FC180731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5F2E9-764F-44E2-BA3A-BEB20EE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241D3-975B-4BB2-BC66-CEC057E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2BD85-74E8-424D-96D1-A2D52F0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5AA5B-3DF2-4A6D-9114-DE5EAB53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46A89-2E79-4AF7-A2FC-51049BF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137EE-78E3-45BF-B466-D0F8C04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874B-207A-4462-91A9-913A34F6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9578E-8650-4952-AB0E-5C2E402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D654B-AC32-49F5-A305-A440236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D98C9-B382-40AD-84A7-621635A1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D393D-E036-4FC8-AC7D-A8BE4352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876C9-D7B2-40C7-BE77-1A7536B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BB83D-CA4E-41E8-9838-D40C89CE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210DF-0BA6-46DB-9F6A-8281868C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D5DA2-9CFC-4294-B6C4-F5B23115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2D0C5-4893-4E8A-BCE4-3493DD2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F3F06C-ABC0-4D9B-8136-F5B8CFA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A160-FFDA-4E2D-B6B8-DDC40D7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26FF0F-B3E5-4CF6-ADE6-CEB275F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C40E7-DF9A-4089-A499-387EC6F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B9700-702F-4229-A42C-B8D04586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63636-2B12-4F02-9AA3-43E864C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7DA64-7DB2-4B28-8532-0B8FE200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5E0F7-4406-4082-8E00-FBEB1630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3E7D6-17A2-4EFD-AAC6-27DE854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BE32A7-DF14-465A-9621-EE91DB6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45F9E8-DF7D-4621-8EF6-0FFBB74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8B47B-9BAF-4FB9-9725-BF36DCD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754A-AC52-47F9-9A3D-757B81DD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992CA3-C76B-45C3-989C-802A073D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DE1152-A28D-41CA-A2E8-CC3EDAB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C84C2-3E43-44B2-A57A-417F983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71037-B77A-405B-AEA9-4EF22D4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A8634-CA3D-487F-B429-C37F2DD4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69C14-323D-42E2-B4BA-144A1AFF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C3059C-3F51-4A13-915E-B4B98EFC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2C07-FE7F-45CE-8023-B8E5C8A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6F28-1BE7-4D13-BDE4-2EE3402E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36C-51B4-40CA-8A86-1E2B088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C8C1-3776-4FAB-93BA-6981050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4400-A51C-48FF-B843-5A5EF1F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45A8-3BC1-4FE8-AEE5-B87E787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6EB7-13A5-4834-B478-F89A2F1F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7627-5664-4FC4-865E-D3202CEE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9EC7-EDE2-4500-8B02-01958A88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76BE-1FBA-4388-A390-73A17F5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0CFA-E47C-458A-8D60-9FBAFCE5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1213-8DA6-4F60-8DE4-0AD3950E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8681-7B4C-4830-924E-700C0A0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162-52E2-48F6-B81A-EFB65D67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74BC-E063-4B72-9A8F-AA53BF1B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257B-44C0-4983-B137-0E62FD0C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09EA-FEC4-4700-ADD1-6D5DF58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8A83-F831-447D-AA1F-1C2B4DE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395B-4A0B-4A3E-9F68-5EA1A8A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ABD2-1422-496B-9A64-E7CB4BB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7DD2-FFA3-4E76-A554-B9037D9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4A03-CA9F-4F83-9AC8-09900DC5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90A7-A054-4E74-BDB8-23BD531A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825F-830C-412A-98FD-F5BF369A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871-B50E-4378-A0E3-126391AF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ECDD-5E9E-43DF-90CF-95A982C4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EFF1-F60B-486D-9D13-5C719FB3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9F6A-B4B0-4D8C-85DA-B0049533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D9FF-FEAA-4A84-81C6-BBFD55F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085C-3221-47A9-8BF9-C0E2B7E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8BFF-7072-47F9-A8E0-A098AFD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0144-390A-40AF-90C9-F27F308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0509-5DA2-4C4F-9BAB-8ADBC69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D478-E34C-44BB-A14A-34890E82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2FED-BC08-48C4-9020-7FFDBF02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DB4-2A63-4851-A148-CE4D01F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D0C9A-5FC6-4317-905B-96F00951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B6AC-E318-48A7-9E6D-1DF92C70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2F11-7D10-4FDB-B6B7-A148324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8962-1ECF-453A-901C-AF7C53B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F192-2E4B-4DCB-B8F7-A372BB39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BB9AA-A982-4ED6-8960-1289DEFC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5EAF-B459-4D8C-A4FD-2B88490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2DD53-FAEF-4169-8E32-AB31102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BC17-DF6A-4E87-8BE0-2500BCC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D028-60E6-4C10-9ECD-B1AB39C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8A8-14F7-4D8B-9944-1554B39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6E08-5EA0-48BD-B499-1B332DB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8C2A-B188-4127-8437-1CDECBA6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A713-B73F-451D-8935-A3E7FBA9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1386-7145-449C-8B5F-37F78168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3643-BF98-4F06-B76F-7463295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C2E1-D73C-4D83-B5A7-761DD0B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B03A3-731F-4D1B-BBA9-EFD0DF25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540C0-5A75-47CA-8444-915B4A7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EB5C-1522-41B7-AF94-17DFFB4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1293-7F16-4850-9B4C-1031D5D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2AF-5CDE-4A50-853B-21C28B0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0C74-9449-457E-A340-BE4DC5D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05D7C-90B6-4498-8B74-FA68376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0322-BB55-4FF6-9C99-1AC7DC41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90AF-78B9-4D71-9082-94EEB63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B5CA-BA54-4165-9426-27CFCC22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6D87-8434-4575-8665-7E695A5D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FD34-E7A1-45EF-9256-97D62D5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9CDB-A9A0-4139-8A0E-22FC1A0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DEFD-9B7D-41B4-8A27-42273DF7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782A-7129-4CFD-B5F4-AA8F102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C07-B8E5-49F8-9AF7-404CE44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5C0D2-92D0-4C81-8FD2-46DED79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F5737-A847-4551-B8F7-0D2B32B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93EF-2A34-4579-A242-85E6DC4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E140-7507-4861-A4F7-B1A466D8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5A1E-1BA6-4E55-A7E6-DDBDE5D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BB72-068C-4B58-89AD-84136321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1607-096B-4553-9DAF-30E627AB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C2215-89E8-426C-A38B-6EA16B5F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BAFFA-22F7-4A72-B69A-513D150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B1C2-C66B-41D9-BA4C-35EE679D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EDF-AC57-4EC2-8A5C-D6DAFCF766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064D-6301-4B42-9012-C12B7287A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8C1-FE2D-467E-B822-A8278534D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F17-A12D-407D-9597-D1825C5FD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2FF-B0B2-456E-88E4-197F12691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16DA-C42F-434E-A34C-3A7438A64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9F7A-CBB0-4D56-88FE-F1A236B48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8BAD-3086-4205-ACAC-AAE95AD94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9B59-E166-43B4-957A-1695EBB50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12A-D4AB-44F8-9054-ADDD7BB7E9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5485-7FEF-452E-8785-C46770666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125-47D9-45A6-9D58-6D4834057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B4E-10C4-4179-8F60-D2AB6BD150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974D-D6F5-41F6-9A03-0EF8DFAD1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682-1FAA-4302-B763-7A87981D9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D030-6F64-4F6E-A4F7-C9D0FFDAAF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6927-6EF3-4762-AE20-6961CF50F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784-B1E8-4072-8859-4BC95B984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58EC-3AD6-4EB0-A545-41DDA664E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047-8791-4705-AFA0-79256C77B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A74-CA84-4F33-A59C-FD536713B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E00A-C7CC-436C-B3E1-FB25B36598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C69-9875-444D-8D3D-9D2BD4BDB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C71D-7750-4687-B447-11D79CBC1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600-973A-40A0-807F-DF0D17E4E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AD90-49F0-4079-A061-FFAA47C82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9BD-80FC-41DE-AF8E-83C5566F8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32B3-DCF0-4984-9A96-83133D68D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27B-CB0C-40D1-92F5-B33747B65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090-3273-484D-8EE1-2A4FD541B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21C-01FC-4C77-B473-28FAB1D6D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D21B-BA33-4074-A827-E98C6B1AB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DDD-2C18-4DF7-B598-45D6951DA2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F70-30CF-47AE-A658-AC2974C0E9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CB7-2AF2-4E0E-ABCA-8CD6551CE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615-C85D-49B5-B1F1-A42CC7E3B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09C-7AAB-4AD9-8A3A-A7F3847543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4EA-2E44-414D-B273-AF88D0B23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5B4-D3D4-40B5-98A5-95A824D10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C0EA-DE09-4E0E-828E-5EFDD01D1C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81E-39BB-4E3B-9690-2AB9E4098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E7EC-01BA-41DE-9572-40256155F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66760" y="2509920"/>
            <a:ext cx="6810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19120" y="1433520"/>
            <a:ext cx="8105760" cy="3990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327024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042920" y="38037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561960" y="1247760"/>
            <a:ext cx="8020080" cy="4362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187280" y="25369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187280" y="371628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554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873000"/>
            <a:ext cx="8724960" cy="5248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33880" y="1930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19321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771640" y="2795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66040" y="27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432108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32720" y="432108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635280" y="499896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596360" y="495612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3635280" y="558972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7596360" y="5603760"/>
            <a:ext cx="126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66760" y="1123920"/>
            <a:ext cx="8610480" cy="46101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5651640" y="2722680"/>
            <a:ext cx="2449440" cy="2952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176960" y="1959120"/>
            <a:ext cx="1571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495360" y="1504800"/>
            <a:ext cx="8153280" cy="3848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87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133960" y="2205000"/>
            <a:ext cx="3254400" cy="3240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6861240" y="15573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76120" y="1538280"/>
            <a:ext cx="8591760" cy="3781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3210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04828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04828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976640" y="4321080"/>
            <a:ext cx="37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57280" y="1500120"/>
            <a:ext cx="8029440" cy="3857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21940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149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4745160" y="2205000"/>
            <a:ext cx="40035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4673520" y="2852640"/>
            <a:ext cx="4003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4673520" y="3502080"/>
            <a:ext cx="400392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4673520" y="4149720"/>
            <a:ext cx="400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28600" y="1457280"/>
            <a:ext cx="8686800" cy="3943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71640" y="34434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55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47600" y="1195560"/>
            <a:ext cx="8848800" cy="4466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116000" y="329868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16000" y="445140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826920" y="507060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71440" y="824040"/>
            <a:ext cx="86011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4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