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019-AAB1-4D83-BF89-6CE6D6CA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9CB-074D-4482-BA40-71847F88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FCA7-C50B-403A-8625-19409DE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7735E-E58E-43F6-B5CA-30E003F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1F662-30E8-47EE-BCB3-8EE7A1E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A2C8-CBF1-413A-B569-EEDE9E5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F2577-1909-4E68-A85B-087860C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F86BA-7EEF-411F-974B-166EF1B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7E152-B21C-4773-8F21-5C00346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4FA77-8F83-47E3-95CB-17129E22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2EC50-C8A3-4A39-8B1B-4E0C207C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E4E3E-4602-42E9-A738-85ED64FE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237-27E9-46BB-AC24-54669551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C9D3-E7E4-4AF3-B689-0CADD40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D3CA1-F1C2-4395-9A5F-DE5569C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65097-E6F2-497A-BAAB-07BDEDE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6AC2-3E38-4EA3-865D-C16B083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D9304-23E6-4BC8-B2B9-8F2F97B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3E796-4070-4211-80E6-EDF9897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CCB8D-FAE4-4D59-876F-2E36AB3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C21AF-B34F-499D-9298-6FBBF67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0E1B-F464-4793-881D-7EB95DC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0D78-E8B6-4529-A1AD-BA94A5AE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5C8-4569-482D-B77A-05102BB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E745-C499-4ED0-B7F4-19CBBAC7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D39C-34EA-4F97-BE53-93CB5F47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9FBA-D704-4369-9EC4-90316EA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74475-9F92-4522-B56C-050FC39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4F11-F59C-41B4-9078-686C7AC7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65680-6EAF-4EAD-AAC6-9499237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F10D-D100-4189-B7DC-F965517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9D27-6875-472A-B258-8345D36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D2300-C03F-46BA-85CA-24F3A9E2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ECF9-2E40-4E54-AAF2-BE8D2C2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AB9F-174A-4056-989B-8B239457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B52C-DE4A-48FF-AFEB-BC33C064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E0EA-B3A6-4DAE-9596-75A5654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C76E0-D0F5-4389-A8BE-56859FCC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88CE6-B96F-48F5-A51D-21779F79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BB1E5-13D2-40B5-8C50-B785F2B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8A790-B70B-4CEE-AF05-BABB926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C9170-9814-4127-9861-601116B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4075E-AC11-418F-9C8D-0E20959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96042-7FEB-4B2D-A369-EADF951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FA69C-B913-48A8-8CE5-49F0067C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388-C478-46C3-B3FA-F4F911E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0D694-5683-4D49-A935-D08480C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C1C48-F9AE-4315-A9DD-14F2CF9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D3A71-3717-4419-8AF4-268B3E5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BF63-2793-40F8-8120-F82DE0B3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262E4-7CB6-4570-A92F-9AA9E68E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CAEBD-0DAF-4BD8-A869-FA81AC73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2FC42-3318-49A9-A1F9-9B685D8C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6F26F-082C-4E62-A9CA-51E7BC0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48699-D70F-4841-A816-AA7E7573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1020F-5BEF-412D-A1C3-4E60E57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069A-4E46-4093-AB65-8E0BA60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6B8C9-BE01-4283-85FA-79D04481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DC1C3-D6F0-45CC-8466-FAEC6207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22B96-F77E-4A9C-8E57-66F6763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67F28-3295-400B-A3D1-50D873E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41433-EA22-4D99-B2B5-853983F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9FE54-CB3F-4DE3-B764-5B8C3C85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1368F-08CF-489D-A0D1-A0599B82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A3BA9-FBAC-44AE-8AB2-CEF6EEFB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43685-ABD7-44E9-9B10-FBD4D68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E0EA5-36B5-4B2F-A55C-83D6F71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7074-FE46-46DA-B2AB-19C2675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94E64-4663-41EA-9F4E-2723DE9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5F887-AD8D-4BD3-AD84-3FA1D17D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15226-2098-4825-91DD-3156AA7D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1E54C-C7C1-4BAF-9BC5-F6E6119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77007-020D-408F-A62E-BD777ED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469C4-AACA-4CBE-8445-F35AC99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CBEC2-42D8-420A-A272-0480806D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4C649-F641-4200-8A3B-41E8FE6C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6155E-9276-462C-B311-F3BAFFFA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0A4E0-405D-487A-96E4-42B1E62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4DA6-CA03-41BE-84BB-200B766C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C2BCF-50D6-401B-A4DD-A362ABD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B5AFD-501C-4959-A40F-81FA48D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18972-46A8-482F-A7E0-D0137F6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BCC5F-00BD-445A-A1BB-691E512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C32F6-3471-4A90-BAE0-684DB50B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60B28-8E50-44C3-8282-4B68D06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1C54C-68B5-4EA2-AFFD-D46614D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ADA11-7385-4F03-8FE6-D3FD5E4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C43E7-710B-46F4-AFD4-4B1BCB3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1F76F-F436-4AB9-8BC9-7D7560AE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48C-302D-4FF4-A711-5944953A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D121B-0C8D-4032-8171-4A56945E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A647D-E2F8-427D-A6F0-D673AA9E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3476D-4606-43A9-B304-E6F66324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0E6A8-7597-4F3A-9B45-DC8A5CF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62994-0073-48DF-BE13-DE131E7D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8CF8F-3007-4F04-A90B-1FADCF3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27F8D-7155-4DEA-BF7A-BCDCE6CC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3476E-A4BC-4AF4-B177-C4A0CF2C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40DEC-4D00-40AF-A523-472EDAF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46942-B2ED-43A4-B174-122EFCCF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24D-5885-43EF-8DF1-57DF27E6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9B7EA-3AA5-4D07-9AB5-A33F42A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D78CA-3C9C-4F71-BF29-91FEEFD4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CD976-4D07-43AE-A534-BFDFE33D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6C9FF-4D61-44F9-99B6-29AD16EB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768B1-A9CF-43EA-A4D9-CE5A3EA0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42D84-DC6F-4609-9EDF-ED14D85D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6C222-682D-4402-96CA-866BFE5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09B6C-30C9-49B1-8EFB-CCD6E7E5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5A448-BBA0-4A44-9AA3-688E9830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7ADF0-CBBF-43FD-B62C-B6BB250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F50-848B-455B-9A97-6ED6B09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B418-F613-4632-854A-51F4450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99B23-EE87-4E19-9489-71FDD44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8841B-46A3-4FBB-99F1-FDCB508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EA375-5AA1-4ABA-B708-7AA5AED8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3ACAB-AE0D-4521-A302-F73C2990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0006E-6358-47D5-9383-E46D6AA9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F9410-350C-464F-A4B2-6ECE536D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273C2-6BD8-495B-AFEF-8753C1E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9D113-A46B-4495-8B0A-78C4604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DAD8E-4B51-42DF-A732-63FDE00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F2727-5EE3-478D-B77B-910A385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51F6-430F-41EE-A31B-57547C1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67CEE-5EC8-4D91-897F-C5A8A716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A1C8E-5B51-418B-AE23-5B514EA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F3B44-0FA1-4734-8CAC-B3C58A4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D9CB0-7CD3-4BBE-B416-D835C12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5A2DC-0C8B-4BE1-9478-1DC05D7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FFE0F-0668-4D50-86CA-B36967F9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177F0-797D-4623-9F27-333C22B8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68945-AFE8-48B7-AABA-DA1E20C6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E5A55-AA7E-436A-A06A-171A63F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E3E68-31B9-41E3-ADB0-24F4285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833-FE1D-41AD-BF61-B5DEBF74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C32B1-3248-47E6-91C2-682C5279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0E8FF-2481-4C70-9F2D-77DB607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E7763-6DE3-4C3D-8E1D-59FC45A5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4C0E5-8EBA-48E4-AA7C-F9F148A4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31726-24F1-4C75-ACDC-8346404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30AEF-4C0D-45BA-A5D9-C4EDCA7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1EAD5-D141-4F01-A711-4100CB3D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F80C5-3CF6-4707-B583-8FD3EF1E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370A1-8FE7-408D-831D-BE466166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65768-9BF5-44C9-A776-402ACF3E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647E-5666-48C8-A322-14EB5EF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3D0C1-72E5-4405-A5CF-26E79000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BDA0C-5291-46B4-8A08-A5C1495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F707F-F2A1-4E50-94B0-FC39F7B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4118A-3983-448A-B28D-38799DDB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9B10A-4CEE-4E21-841F-1480EED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DD46F-8BB3-4EF6-A484-D9013A1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5A10D-64AC-4CCD-898F-8F42665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C69A5-43E6-46C2-8F64-B863F5E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BD351-9CC6-4507-BE8E-C0A8434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D5944-29C7-4DD5-9BF4-1686383B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A1A-8E0E-43FF-9723-4D5A7014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F6C96-5769-487F-82F5-9BC11A96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96E9C-EA1B-4EB5-AD02-8094D176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82953-B413-4AD2-BA79-03357DC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08189-1163-450C-B885-D621706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FBBDC-ED43-4674-8F63-57BB76F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9D4A4-BBD7-4930-852C-1F7E4AF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C400C-1F27-4C10-8B0C-512AE72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DE190-BF0B-4028-B60F-02DAF0EE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7E322-8DBA-4F21-B597-981F1A0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17A28-D23F-4301-8FBA-658E059A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E9E4-06A8-4AD0-8B2F-6A884F59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FD104-5FD4-464F-B5E4-84303521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FCEF8-FE6F-4563-ACC7-4D23B349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F8191-9DE6-4B77-85DF-318125A3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04BB-AF8D-4943-BCA5-7123520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70EE-23D7-4385-A62B-C2E84D3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631D-73AA-4B53-8912-1CB338C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0406-6B7A-4F7B-B85D-8C5A63DF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58F-7308-43D6-9DF1-88F00684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F4FA-FA96-4676-96D0-93227D6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2D21-B967-4B18-B119-7F8F808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DD03-164C-4782-9142-D033DC8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CE00-DD6A-4F1B-B6B4-5256B20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F475-8F14-49D1-A2B3-C60087F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3B47-CC60-455B-9AD5-FC01434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02FA-566F-46AB-92A9-3F21757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758B-3D7A-4C4B-9C67-E676931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45AD-DDCF-4503-8AC3-62D496A0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9359-E899-43C8-9B3C-B5FC9C11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DB8-06D4-4612-A2B2-360653BB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448C-85FE-4DC2-840C-762651A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8587-4254-402D-B603-14B6ACF8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C0D1-6C1B-4E83-A348-62D9E97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7F8F-24B8-44ED-AEF7-EDD9264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F605-BEF5-47CE-83F9-C51E98B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F1C8C-8541-4DB7-B340-ABC595F2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B160-D9E2-4621-9CE1-6EF01EC3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3345-2121-4483-A191-7DA11D62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963A-B93E-4FE5-9E84-EE0D718C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43DD-CE9F-4B4D-8033-3458FF19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E50-80BA-487D-BD34-3EFDDBDE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174E-9727-4E18-8424-43E6891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0139-B877-408E-B3FC-68938030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BCB2-393A-4B8E-B246-114CEC2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D71F-B1CC-4DA6-9634-9E0DB040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C3C7-E0E7-420A-83C6-EC4FF5AA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4442-B9EA-4EAE-8889-703AD3AD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2831-2EA8-422B-AC3A-7359BB5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752A-290C-40F8-852C-586E417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5882E-799B-4AA4-8D7B-94A6CBC6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66B3-9650-4F30-84C4-E67AD0D3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B93-F0D1-4720-BED5-824E2FE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DDA8-E50B-4336-8E4F-B530F88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68F18-7AB5-4951-8F7C-F5CF1228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501C-B6F2-455C-9A31-046DD694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97C19-64BF-4B59-ABAA-D750887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3FAC-7CE1-4623-9F55-197B56C8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570A-AE23-436B-BD82-F2AE41D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28B4-D3A3-43B8-AC64-047DA98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91D1-9B35-497B-BEDD-36698BB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1845-E61D-4C95-A164-F07423E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B400-817C-480D-89CC-E676B9A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1E5-75C0-4582-9349-E4FBA57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6500-0EAB-48C3-9CB2-97A98D1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60A69-4CF5-45F9-B996-3673D27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81A2-50D1-45BB-9FED-60A9892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2BDB-CD56-4030-B453-62DC56B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B911-3C49-4B0B-A2F1-111E31C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C17B0-6CA9-41A5-939D-C288423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D3E3-08A7-4ADD-8AE8-EE14526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D1F4-C10A-4ECC-8EAB-F0356354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2A02-67FA-4C6B-A36C-9B64F3C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0CAF-6E24-427E-AFC8-8C540AD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0B1-5553-4B0C-A6E2-1E717E5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AC78-C13E-4045-8331-195F928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E299-2E74-4F9C-A451-5111CC9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B011-C705-4081-BB04-4F3767F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45379-2D20-4F2D-B879-BA733469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BCBA-1FE2-4262-AEDA-15D7588C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F996-B5B7-4D8F-9B11-1C9FC71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27BE-2395-4FB3-9140-5B1BC06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19C6-D39E-4310-80BB-06F0E2E9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C804-D9D0-4DE4-B2E5-F78D664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43AE-6762-4909-B756-F9F911E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B38-72BD-490A-A219-5BFC8E6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7347-7787-4671-A130-C44B9B67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3089-8D3E-490A-AEB8-39A5D7C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460E-16E6-436D-AE1C-FA00C4C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95703-D417-472D-BDB3-A24A4E0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2DEE5-0FEC-4235-A757-B362674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13CC-4545-4702-9932-6B701AD0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AC1E-C3B9-4859-8B61-222B040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6CBCD-2C55-4986-82FF-A052F3D8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D886D-C881-49C7-9DDE-D42588DB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0F7EA-109F-462B-B5F7-A157E78B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3F0-57B1-4D11-A2D9-38F0C9703E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A8ED-9D24-4E06-B87C-DFE6D4AD0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591-91BD-420A-8C7B-E06882846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AD3-8440-46F5-9E7D-34BFA840E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057C-A2F5-4699-A9EC-41FC21AE7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51CE-7B9F-4798-8077-09357AA41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998-6C39-4258-AB6F-37D603C0E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D5B-AF9D-41B7-B500-DF3AF1585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69A-49B6-4596-9A27-95F66F0EA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2A6-10FA-4E20-BB41-2E34B0E57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3D7-9116-4E82-95EE-6C99D7C84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BA9-798F-49AC-A42D-7623AC6B9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828-F89D-46AB-AB31-F281358AB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DCA-8836-4839-91ED-09A1C3E0E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0BA7-79D1-4C36-8898-495C07345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4803-BC35-4031-A6F2-6EA7BE2B4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9C70-72D6-4B4C-89B3-BE156CB5C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133-E6A6-457A-989F-17DE9AA9E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F0C-60D2-455F-9949-778F9E4E7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180B-4961-4DE0-BB17-E41433E90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0AE-7D47-4390-A74B-92BE304A3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34F-E8D7-4B03-9A57-4400A6BC4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74E5-A455-43C0-8C5F-E52AF4FC3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56A5-6827-466D-BB99-44ACB548F9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491-D0F5-445E-9BCD-493E2527E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63D0-62B6-4373-B9C9-82B710089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40C2-8DE0-4E85-B015-2863EAAB8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D0F-F3EC-4063-AD5A-7342FFF513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41D-F274-4B74-9F26-B485C00EA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D23-1A2E-4A3D-A1FA-EED638819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317-EDBF-4FFF-A29B-68982D542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E634-B204-4ACF-96A3-243309A65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171-3AA5-4E6F-B914-0A308C81FE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3EC-9885-4588-8056-12E84CC67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4CE-0BD7-4F04-9A3A-2B77F27D1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D368-1BC8-426D-8ED8-429AC2991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355-4FDD-47AF-8F9C-92F74D625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DE3-3A13-4C06-A60A-CD4BEB246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0B3-178D-46AA-B605-6502AE51C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763-2439-4FF2-AC86-F47118A87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04720" y="3009960"/>
            <a:ext cx="8134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900000"/>
            <a:ext cx="8458200" cy="5058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77080" y="1844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556000" y="26510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661080" y="263700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56000" y="34290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32440" y="342900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763640" y="4869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995640" y="48402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059280" y="532908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519120" y="1138320"/>
            <a:ext cx="8105760" cy="4581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268360" y="2435400"/>
            <a:ext cx="1151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443640" y="240516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2340000" y="371628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372360" y="371628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2627280" y="495612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6443640" y="4941720"/>
            <a:ext cx="172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328680" y="1166760"/>
            <a:ext cx="8486640" cy="5286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020000" y="1211400"/>
            <a:ext cx="1368360" cy="431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124000" y="1643040"/>
            <a:ext cx="1800360" cy="432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3060720" y="2924280"/>
            <a:ext cx="934920" cy="431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2484360" y="3386160"/>
            <a:ext cx="720720" cy="4316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7812000" y="5950080"/>
            <a:ext cx="7207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585720" y="1181160"/>
            <a:ext cx="7972560" cy="4495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59636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96360" y="35434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96360" y="511344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318960" y="120600"/>
            <a:ext cx="8213760" cy="662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165744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5796000" y="4437000"/>
            <a:ext cx="16574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796000" y="5229360"/>
            <a:ext cx="16574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5796000" y="6093000"/>
            <a:ext cx="16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347760" y="1066680"/>
            <a:ext cx="8448480" cy="4724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8368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1042920" y="436572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1042920" y="520056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19840" cy="6076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755640" y="29098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755640" y="522936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55640" y="6035760"/>
            <a:ext cx="648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2231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8020080" cy="198108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2232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6867720" cy="196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3780000" y="1511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3765600" y="2392200"/>
            <a:ext cx="431640" cy="320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6486480" y="1512720"/>
            <a:ext cx="822240" cy="320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6516720" y="2406600"/>
            <a:ext cx="431640" cy="320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1403280" y="409104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1403280" y="49705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5076720" y="3905280"/>
            <a:ext cx="792360" cy="747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5076720" y="4767120"/>
            <a:ext cx="792360" cy="7477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1"/>
          <a:stretch/>
        </p:blipFill>
        <p:spPr>
          <a:xfrm>
            <a:off x="7956720" y="3875040"/>
            <a:ext cx="502920" cy="7477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2"/>
          <a:stretch/>
        </p:blipFill>
        <p:spPr>
          <a:xfrm>
            <a:off x="7956720" y="4767120"/>
            <a:ext cx="502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2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