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366A-01B1-43AB-B8FC-C90F6185B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2F98-D8EF-4D2E-B134-5BA9EE3A8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ED92AF-0DD8-4C14-9E61-8D2C33401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9B4079-A974-4FA0-8A24-DFD3FF780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373603-1880-4A89-8E8B-29EA94AA9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044AB0-02D2-401E-829B-BDE3ECB9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295BA4-75CB-43AA-A4CC-D2F20908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1BCF4B-6D5B-41E0-A327-DDDD48DF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045EE0-1690-4CBE-B727-E3347FFC9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D4FDD2-87E3-4F71-B5A6-2F5D2087D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2E0FBB-B98E-441C-9BF5-261904C9C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499BE1-68F5-40B6-AE79-1B2E57359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63FD-DEAD-4750-9951-C3A353560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A0E42D-80AB-4F63-9AE0-244EF4541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64F33A-607B-47EC-A565-4F46DD60C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551223-69D9-49AB-9C15-FC2B59306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CB87CB-D0AA-4FE7-B4B8-B09CDA43A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2A79FA-A9B2-4A5A-8405-22BEBED17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9D05B8-64F0-43DF-9076-AF36BF97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6EE3F0-9BC1-4611-BE01-F7606E07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E540FE-B369-413D-9181-9634ACAA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2F356B-9CB1-4EB9-A829-8E4165850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5AC02B-2788-4609-9133-244674540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CB13-A2B8-4EA7-A429-6A639885A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624EA2-0A2E-468E-B74B-2F2D6CA1D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2B54B2-153C-4FD1-B114-B17BCC97E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AD28E1-161A-4C5D-8CE2-ACDC4AB4A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1343C9-49A4-424C-87A1-BCDBF9704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6CE93D-1D4C-49FD-90E4-A305B8E59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C1DBA4-D756-46BC-BBF7-A4B31C445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6459A8-453E-40C4-A8BB-3E3623632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22461B-D172-47DB-96DF-412B5C48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C118A7-3075-481D-86B1-0473E378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BB8567-B298-4574-9DE4-F88E09937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967EA-C391-4C34-AD89-FA6297AD6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04B342-F614-4217-AD5F-9E73066A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3CC406-A8BA-4C66-AE07-D046F2BDA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FEE790-D77A-4682-9158-34D814A5B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E29D80-9DED-423E-9C54-DA77B1951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F2C3B0-2D81-4DDE-A269-DE462B6EB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BDCEC0-2FD7-453F-85DE-0BE386B39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66CD28-17EA-4FA9-9707-C6AC0DE60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95CBDE-5D32-4EC6-A5DF-35EC3DB4B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DBE873-DC16-46C1-A498-536CD7D35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A230D9-AC06-41C1-BBD2-7441DE07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55D42-43DD-493F-82EC-2BDDAE6AC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F47B60-484D-4112-9A29-339655F0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E28B20-D3A6-4ABD-B7ED-E495D279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59F02E-59B6-40EE-967B-CA6A0E3F4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7C586A-151D-487A-91BA-0E3954F25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EBFE4D-4219-4626-A66B-2AA15D8A6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2C0E14-C5FE-44CD-A2EF-CB6240F4D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3616BA-B301-4902-9B34-B3C8CE245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4EC3F4-106A-4869-A3E2-FC5E348DA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316E4B-5DD2-45F0-89C1-230EE805B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CD23FB-F5A1-40A3-86EA-029B9CB5E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5039B-FE32-4A6B-B309-1EF594DAA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3DDDB9-A242-424F-B0E8-D8A32A3FC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DE82C1-0CBE-4DDB-8D55-F3E95566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95E909-3406-4EE6-9B6A-B65DF06B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A47F3C-1034-4775-B1A9-FAB71954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0CF90C-1833-4EF3-B1B9-A3A353162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28511E-5658-47FF-B2DE-31211FBD1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5F38C4-E9CA-4AE9-9A8F-5A6178916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BCDCF3-FB7B-424E-AF37-8D5BC1F77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2FBA0B-73D1-4650-8FAC-BA90651CC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3232AC-57E7-4B09-952D-6A1056B67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2867D-6E11-43B5-B9E4-771E3B47D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B00B43-7504-415E-AA0B-338BCE2E3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70FCDC-590E-42BE-8664-A9770B605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7F8989-D71D-4730-AC68-1797A1ECB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265A6E-A5EF-4C2A-B713-C9A07836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486D4A-6F88-450C-BAAB-A430A2D5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0D758D-A7AD-48AB-B0F2-84B3DB45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ACBE5D-65D5-490D-BB9A-D33338D74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94A398-ECDA-4CAF-A276-7650719DE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F8023E-2F75-4180-8A57-857ABBFD4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996EA8-752B-468D-8175-838E5DA8C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A595A-9FF4-4C3C-A256-857E5A1DC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9A056B-A437-4A1F-9DF5-AF3E66A2F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66F2F2-D7F9-4721-87C2-4E6633DB3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53EEA1-5531-44AC-8E82-1F74E6B5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8B1083-BC4F-466D-99A7-BD7E861ED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7EB188-793A-42A4-B19B-E368B99A4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8FBAD2-5B84-47B6-B9BE-26D72450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C7A6FE-1790-4FC2-95AB-0CA738C1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ED133E-FC74-4AB8-AA09-4829CF7C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D8CBD8-AC21-4493-B73A-0759EF402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86E7BA-977A-42B6-BCCB-7C5013CDF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AE8E1-1E63-4765-A6A2-08680A6D0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D0D22F-4004-4C98-AB49-FB6DBF835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800FE0-4186-4A3B-BF81-ECA39831E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0659C3-7ADE-4CDE-9F19-EF5818CC2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8A4882-281E-46EF-82EB-0458756E7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CCAD4A-C8E2-4879-931F-7E0796C1E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9C3D76-5A73-4CB1-A0DD-D30E2FCE1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070FF1-486F-47E8-86B4-F1771D423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D150FD-621F-4AB5-9E7E-8BAAC0F2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801060-9916-4121-BB34-23EC719A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7DA64B-7CEC-45C7-924C-0CE810CF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37CAB-8B04-4A8C-AD62-1FDE68B8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30EA22-A677-4C24-A06D-B03691857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7B820B-0215-4B95-8EB5-B1BF1CD85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F4DED5-D075-42FE-8D6A-8D8E469B8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04F5A9-6C68-46D0-BB54-76573BF3C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26C8FB-795B-4CA7-B7B8-46398513B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320403-148E-4123-8761-8ABE0D5E4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91BFAD-109F-4CE4-85CA-BBB919EF5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C99262-21E8-4204-9C20-F5B4DAD86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72296A-378C-4EB2-949A-5CCAFAA63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03121D-04D9-4E3D-A1B6-F5E8E335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995A-8999-4315-8279-5C982609B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68BDA-5C74-40C3-8816-DA947172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4A78AD-05DB-4AF6-A75E-53B3230F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FC4E91-688D-4216-B032-131427EC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25B5FC-ED9A-4E3D-A6C7-DCE4406F8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F13917-AD56-43E8-89CF-9890FCA64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1406C3-B346-49A0-891B-27ED48531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0105E6-78BE-4EE3-83D7-8B669A2D6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491EA7-0319-4B23-80A9-AF4A084F6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AF0C90-F01F-4935-8DEC-1C13F08B5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10C468-D4FC-4A6B-9A9C-6E6A2D5C1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65B5A5-2097-4BCC-A29A-872501AE1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78296-66E9-4928-9045-030754F6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8DE2DE-B081-4CB4-8C4D-2579F2B89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65CD4B-73A3-43B5-A658-6B0C1D3F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B9E446-FD49-4A28-B643-EFCC3E10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2C70EC-EA2C-45C0-AAD4-6C121862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681B56-2F2B-45B4-8E7B-1404A6B03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EFCAAF-A164-4DC7-9DAB-B36E06F4A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C1ADA7-55A5-4132-8B7E-3EE57B8B4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BDAA3C-6507-4C09-AAAB-5A41CD68A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BF15F8-D562-448D-922C-B30F1901D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7A01E3-FF25-400B-B1C3-704A42BE0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97424-2016-4C78-A948-F73F13FFA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4629B1-7020-436D-8495-1BA868C90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E8B00D-E0B3-4C8D-913C-0AC3631A1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F70443-0981-44F4-9E0F-620B5F32A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DCB47E-209E-4ABD-ACC7-97DA4D02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22F405-35D1-4A62-9886-565203BB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0E6225-BB26-466E-875C-F4FD3F3E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956329-1EE7-40C4-AAB0-62744877B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B7467A-D456-446B-9F4C-6BA21905C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8D637C-787D-49ED-8FCF-92AB0BC43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096E6B-A058-45B5-BEC5-E41DE02AD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4C653-6498-4E81-AB38-A79DE958D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877E40-26DC-4F39-B665-067DC2227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B2EF30-623E-4022-90DD-22804B7C3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B75617-0064-4E6D-AB50-337D8104D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EA50E0-C5FF-40C6-8B87-01D37A184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16A761-D3D7-4007-87BB-932A86D74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84ABEC-5307-4087-8476-8775BC6C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0629D4-0A0D-4546-857F-A3F320A0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CB574B-4E2D-40F5-826E-9FFDFDFC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2F2E03-2035-493C-960F-7158B8A0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F0FF04-CABD-4AD4-920E-21091A91B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C7AC4-C328-4380-8AFF-1363B8AA4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FAF430-D033-4008-A9C4-DD1021D4A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AB1478-A48C-41EF-B31F-3DB64B0E0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7B5D01-07D8-48D8-A31D-47CF56F5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34B393-ABE6-4EA6-8DE7-1678A9E11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CA6EF7-820C-421A-A19C-0E5272B2A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5F8674-C252-4E49-9293-C8098F564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84AFAE-F18F-4BE0-A2F0-BE8560435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0F0EB9-C665-497D-AB65-96F22295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E58ECF-D590-4899-AC50-843B18E7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8C45F3-61D8-4760-8275-9D59D380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DE942-2EC0-4369-A5FD-29E13203D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13CC75-887D-4C3F-8374-D10376DB4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F9C414-D619-4816-A93B-286AFEACD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C8D2A4-8262-44FE-AAC6-6369B2078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EE8E5C-2E9F-45D5-9967-5AB456C29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3895DB7-BFA5-4C5B-B01A-5B726EC7A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A8AF124-47DD-42F6-A64F-99F4E240F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AD1607-8F6F-4AE2-AA6B-D09DAF92E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704A60-9705-4E8A-8EDD-1D3537A0C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84CF72-A709-43FA-A97C-2784D71C0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2635D40-24E5-4EC5-BA8C-7B8A8A80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8B1EE-BFB0-46B4-95B6-861919E30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F7510A4-FF08-4A51-819E-4E62A51F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467F47C-7158-4172-9BEC-8257C685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5C98B73-58E7-41AD-BF11-05C86AB5A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DACFCBD-BF53-48D6-8868-211CA19CC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9BB7706-9E90-4CBC-BF6E-F151F2390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05961A8-D7C6-4E9B-9A1A-CD19A33C1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46866AF-5C34-41B4-B910-FD5CD3626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47B20D8-E9E4-4322-ACAF-CFCB07F39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A482FE2-AB30-47EC-8927-73EB5738C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704D5CC-AA8F-4406-8252-7D2F0D172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4275C-2A24-4AD3-A260-B13839301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064D5B4-5B17-48ED-AE99-E38B855F0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0D6FFA4-E190-4B77-9B9C-95FDE14E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9C2067F-20F5-47EA-9D9E-35145DC7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E3EF99-B2E0-4228-9CD0-93439F71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D49B06C-02D4-4026-8EDA-E03F3E387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BCC4B89-37F6-4C60-B6BE-8F20E8FEC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DFEADB4-4AFB-4D13-B884-58980D70D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5CAB6-55EB-4912-9BC2-CDEC199D3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BAA5A-DA25-4F7B-A058-27741DAE3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FD95-DF98-4E81-89CE-A6326CC34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19911-DAD0-4E9B-9118-3D6821139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BF952-94F6-43F7-A55B-664C4591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27FDB-5086-4E0C-80C9-12E4041E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C2466-5749-4A0C-B252-1BE6FF0D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6DC53-1E02-4B37-BAEA-5EC1ED2B4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C0714-DBF3-47E7-B8DC-2C2B67FE8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93CAE-7262-4FAD-B629-9173CB0FA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28817-72F4-4074-83BB-32314FB96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EA076-4A5E-4452-8005-AFF2647A9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7A459-6833-4ECE-8CEF-1A8B8D70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6824-C794-489A-A3E1-2BB2506AA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5295E-FCB9-4FF7-9A2F-2011882AD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C1CD6-1C8F-42C5-B70F-2893F854C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05426-03A2-4B2A-9ADA-3CA0AD538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ACF3F-F581-4E08-B0D8-AF637A6E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DD886-2AA6-4720-859F-1E2D5C4F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C3198-249A-4B5C-A7B0-6185375E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61F91-AE5D-4063-82FD-AE3108F5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75D19-635A-480A-8C23-8F3931022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FB44E-897B-42A6-9AA2-EB8450AD6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F6919-BDED-4CA1-A387-5BCC5947D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5E5D-1176-4EC8-B581-3F2CC72C3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1CE80-763C-4A5A-AE58-761E34F70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1D6DC7-1555-411D-89B9-EA92839B8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2C431-9FE7-4EF3-ACDB-8F184408B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529A0-5610-47E1-9D5E-590AEE54D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8F1AB-CAC2-4006-8AA9-388483D7C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E5F16-6BD1-4706-9692-B8B54DA9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B1390-350D-41EB-9115-1260477A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CD16C-02B2-4016-8424-B62A00AB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FCDD5-C596-49AC-AA95-EB12E7155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05F06-9E37-48D3-AF45-060D60FC7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1D1C-9202-4F69-82F0-27409E0DE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C6E91-E314-4E7A-9338-6D4B87751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659D0-D221-439D-99C2-E8CE7C99E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D02FF-0C8D-4A76-B586-424C48D55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080F6E-60C4-468B-BF6B-FA06729AE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5CC2E-55C0-49C3-9D62-F914802A0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99A69-E377-4171-A2F4-863A3B9C4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770AB-A758-41AE-8571-25DC82238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16102F-7BDB-42E4-90D2-65342DE4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186C5-0E7C-4982-9252-4D1B20E4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E0854-6059-4A99-9BA0-5ED6386B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CCA4-26F0-45AD-867B-6CD9DD10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7C137-FD4D-4676-B37D-1C18800C8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194AC-F6B1-40E6-819B-1AFD98F88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CE2572-5F3E-44AF-92C0-37E37A010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5ABE6-FAB0-46CC-A6FC-35FCB6975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0C549-3BA0-4DEA-B5F0-624D97730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FA0B38-A251-4721-AD0B-EBF1AC0F6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01ACE4-6447-453C-AAAF-85A271AA7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0C426C-BEEB-4195-9862-67A4F661C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6029C1-AB60-4D12-B802-E34A642EA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62EF2-D8D8-4588-B183-596E04DE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B611-9E30-45AD-A27B-5023BD67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F0EC0-3F7B-46F5-8047-E27448DB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E682E1-BC5C-4B8B-B0CF-D1B45F1A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768E6-A713-423C-AA14-6234060F1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A24E0-D784-411A-82BB-6B08B2160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A9E34D-3EC4-41C2-9DB4-E7A0376FB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07E746-B069-4B30-B97A-40C5ADCD1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CDC31A-3613-4049-860E-3A8E455E9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A71F2-1B47-4368-9FAE-CBC70F80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EE0CC-8BC7-4253-B305-3DE47BC9F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A7474-6787-4075-89E0-9E0BF77B9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937E-E48A-461F-B102-D0658476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0529D6-2417-40C3-94A1-0AA828F8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A4B3AE-5122-42F8-B834-36FBE106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56305-FEE9-4174-BE53-03E34865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448C3B-4750-48FE-8D0F-B006EEC9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F353AC-ABDE-42D9-8E39-898BD867D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FA3697-FF85-4E6A-A682-64343F13A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860A5-7DD5-464F-8D12-6637439AB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FF6F75-87F1-4735-AAC4-769A54F7A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6B29DC-577A-42AB-8F0E-EC1C21C4D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656CD2-7363-4609-9D66-2924491C6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F425E-848C-44AF-948A-5C03975C559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3CF60-F163-4774-8D9F-E1B9C65031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A4C46-100B-46FD-A377-B6B0D4E324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FF0B0-C81F-4002-9B37-2D7BC7A66E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50A7C-DA96-48BD-9EC5-8A95973F48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4161A-7EFD-4925-B65F-0C6EFB1C14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319C3-AF69-401D-9CC7-50631D504D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8E051-CB22-4503-8075-80389FF3FD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45905-18D3-4CC2-A3BF-2E059253DD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5845E-F4D2-4554-B79E-018A63B730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DBA4E-C749-47C8-B2E3-6E380EC46E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02FA3-3A65-4DEE-95E5-79A123D63F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85B6B-4A0A-4B05-A3D7-A881D6700C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3375D-3E53-4725-8C89-2F24F90D19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D1F46-33FD-42A7-A532-EF2454E8BA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7EA14-BEF7-4F19-88FD-472730F8C0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06AA4-1AC5-4B51-887A-60CE6AE6DA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EBE1C-85F3-44F0-A952-574A20606B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D33CC-53A1-482A-9311-41232795C6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1C2BA-D1FC-40B6-813E-C69FD2DF00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C8A41-80A8-4398-9AA1-566FECD064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4F490-1CC9-4F7D-8C8F-2221B3BBFBF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3F7C6-DF21-4299-9849-B3B59E931E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99FE7-B85E-432F-A99E-6117D3EC5D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D5CC9-18DB-424A-A741-0025DEE0FB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1FC9B-DF01-4A83-B0A0-0482C7F9AE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8AFA7-4C09-4524-92B8-A8F85F02DD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EF0E7-8E4C-4B16-A514-0D66C15D53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D261D-86C3-4445-A1F7-460077B99B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A1C53-F804-4A1E-B321-96C1593A17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1226D-4618-4B7D-9F2C-F05C7C3719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32430-E1C6-4B28-B763-15981C9BEE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6128B-6684-4051-BDC4-A395DFBD4B2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36BE3-382D-48C7-87CE-BA020994182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28566-6F9E-4079-976F-E73DF59E0A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6D72D-8102-41DB-BF37-7320F4BC90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293C0-FCF2-49F0-B826-E0223F7479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60FE-9FB5-42EE-90AB-87D48582C2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50E04-8054-44B2-AC16-2F2FE5F4CA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E431E-81FB-461E-A4DF-E8CC7F39A1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5CAC2-29A3-4107-9AD7-DF3474E6E8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3E376-E72E-4E46-8EBB-D12BA9E6B6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303120" y="3094200"/>
            <a:ext cx="8236080" cy="66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图片 1" descr=""/>
          <p:cNvPicPr/>
          <p:nvPr/>
        </p:nvPicPr>
        <p:blipFill>
          <a:blip r:embed="rId1"/>
          <a:stretch/>
        </p:blipFill>
        <p:spPr>
          <a:xfrm>
            <a:off x="262080" y="933480"/>
            <a:ext cx="8619840" cy="499104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2"/>
          <a:stretch/>
        </p:blipFill>
        <p:spPr>
          <a:xfrm>
            <a:off x="755640" y="3284640"/>
            <a:ext cx="7561440" cy="10810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3"/>
          <a:stretch/>
        </p:blipFill>
        <p:spPr>
          <a:xfrm>
            <a:off x="971640" y="4581360"/>
            <a:ext cx="756108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390600" y="914400"/>
            <a:ext cx="8362800" cy="561024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1476360" y="3687840"/>
            <a:ext cx="2374920" cy="44748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5508720" y="213372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5508720" y="292428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5"/>
          <a:stretch/>
        </p:blipFill>
        <p:spPr>
          <a:xfrm>
            <a:off x="5508720" y="37162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6"/>
          <a:stretch/>
        </p:blipFill>
        <p:spPr>
          <a:xfrm>
            <a:off x="3492360" y="517212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7"/>
          <a:stretch/>
        </p:blipFill>
        <p:spPr>
          <a:xfrm>
            <a:off x="6372360" y="5214960"/>
            <a:ext cx="1368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3" name="图片 1" descr=""/>
          <p:cNvPicPr/>
          <p:nvPr/>
        </p:nvPicPr>
        <p:blipFill>
          <a:blip r:embed="rId1"/>
          <a:stretch/>
        </p:blipFill>
        <p:spPr>
          <a:xfrm>
            <a:off x="338040" y="1095480"/>
            <a:ext cx="8467920" cy="466704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2"/>
          <a:stretch/>
        </p:blipFill>
        <p:spPr>
          <a:xfrm>
            <a:off x="1476360" y="2708280"/>
            <a:ext cx="2374920" cy="208908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3"/>
          <a:stretch/>
        </p:blipFill>
        <p:spPr>
          <a:xfrm>
            <a:off x="2987640" y="2119320"/>
            <a:ext cx="1584360" cy="44784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4"/>
          <a:stretch/>
        </p:blipFill>
        <p:spPr>
          <a:xfrm>
            <a:off x="5438880" y="2665440"/>
            <a:ext cx="2878200" cy="313992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5"/>
          <a:stretch/>
        </p:blipFill>
        <p:spPr>
          <a:xfrm>
            <a:off x="7091280" y="2076480"/>
            <a:ext cx="1728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8" name="图片 1" descr=""/>
          <p:cNvPicPr/>
          <p:nvPr/>
        </p:nvPicPr>
        <p:blipFill>
          <a:blip r:embed="rId1"/>
          <a:stretch/>
        </p:blipFill>
        <p:spPr>
          <a:xfrm>
            <a:off x="419040" y="1262160"/>
            <a:ext cx="8305920" cy="433368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2"/>
          <a:stretch/>
        </p:blipFill>
        <p:spPr>
          <a:xfrm>
            <a:off x="1332000" y="2421000"/>
            <a:ext cx="2879640" cy="302400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3"/>
          <a:stretch/>
        </p:blipFill>
        <p:spPr>
          <a:xfrm>
            <a:off x="3002040" y="1628640"/>
            <a:ext cx="1641240" cy="44784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4"/>
          <a:stretch/>
        </p:blipFill>
        <p:spPr>
          <a:xfrm>
            <a:off x="5292720" y="2421000"/>
            <a:ext cx="3022560" cy="302400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5"/>
          <a:stretch/>
        </p:blipFill>
        <p:spPr>
          <a:xfrm>
            <a:off x="7120080" y="1628640"/>
            <a:ext cx="16412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1" descr=""/>
          <p:cNvPicPr/>
          <p:nvPr/>
        </p:nvPicPr>
        <p:blipFill>
          <a:blip r:embed="rId1"/>
          <a:stretch/>
        </p:blipFill>
        <p:spPr>
          <a:xfrm>
            <a:off x="281160" y="1138320"/>
            <a:ext cx="8581680" cy="458136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2"/>
          <a:stretch/>
        </p:blipFill>
        <p:spPr>
          <a:xfrm>
            <a:off x="3708360" y="234936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3"/>
          <a:stretch/>
        </p:blipFill>
        <p:spPr>
          <a:xfrm>
            <a:off x="3635280" y="317016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4"/>
          <a:stretch/>
        </p:blipFill>
        <p:spPr>
          <a:xfrm>
            <a:off x="3635280" y="403380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5"/>
          <a:stretch/>
        </p:blipFill>
        <p:spPr>
          <a:xfrm>
            <a:off x="3635280" y="488304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6"/>
          <a:stretch/>
        </p:blipFill>
        <p:spPr>
          <a:xfrm>
            <a:off x="7667640" y="233532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7"/>
          <a:stretch/>
        </p:blipFill>
        <p:spPr>
          <a:xfrm>
            <a:off x="7594560" y="315612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8"/>
          <a:stretch/>
        </p:blipFill>
        <p:spPr>
          <a:xfrm>
            <a:off x="7594560" y="401940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9"/>
          <a:stretch/>
        </p:blipFill>
        <p:spPr>
          <a:xfrm>
            <a:off x="7524720" y="4869000"/>
            <a:ext cx="10778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图片 1" descr=""/>
          <p:cNvPicPr/>
          <p:nvPr/>
        </p:nvPicPr>
        <p:blipFill>
          <a:blip r:embed="rId1"/>
          <a:stretch/>
        </p:blipFill>
        <p:spPr>
          <a:xfrm>
            <a:off x="757080" y="2333520"/>
            <a:ext cx="7629840" cy="219096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2"/>
          <a:stretch/>
        </p:blipFill>
        <p:spPr>
          <a:xfrm>
            <a:off x="4356000" y="30114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3"/>
          <a:stretch/>
        </p:blipFill>
        <p:spPr>
          <a:xfrm>
            <a:off x="7308720" y="345744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图片 1" descr=""/>
          <p:cNvPicPr/>
          <p:nvPr/>
        </p:nvPicPr>
        <p:blipFill>
          <a:blip r:embed="rId1"/>
          <a:stretch/>
        </p:blipFill>
        <p:spPr>
          <a:xfrm>
            <a:off x="237960" y="876240"/>
            <a:ext cx="8668080" cy="510552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2"/>
          <a:stretch/>
        </p:blipFill>
        <p:spPr>
          <a:xfrm>
            <a:off x="3060720" y="3198960"/>
            <a:ext cx="430200" cy="38232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3"/>
          <a:stretch/>
        </p:blipFill>
        <p:spPr>
          <a:xfrm>
            <a:off x="7135920" y="3213000"/>
            <a:ext cx="430200" cy="3826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4"/>
          <a:stretch/>
        </p:blipFill>
        <p:spPr>
          <a:xfrm>
            <a:off x="2828880" y="4264200"/>
            <a:ext cx="430200" cy="38232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5"/>
          <a:stretch/>
        </p:blipFill>
        <p:spPr>
          <a:xfrm>
            <a:off x="7135920" y="4249800"/>
            <a:ext cx="430200" cy="3826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6"/>
          <a:stretch/>
        </p:blipFill>
        <p:spPr>
          <a:xfrm>
            <a:off x="3044880" y="5300640"/>
            <a:ext cx="430200" cy="3826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7"/>
          <a:stretch/>
        </p:blipFill>
        <p:spPr>
          <a:xfrm>
            <a:off x="7149960" y="5288040"/>
            <a:ext cx="430200" cy="3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图片 1" descr=""/>
          <p:cNvPicPr/>
          <p:nvPr/>
        </p:nvPicPr>
        <p:blipFill>
          <a:blip r:embed="rId1"/>
          <a:stretch/>
        </p:blipFill>
        <p:spPr>
          <a:xfrm>
            <a:off x="190440" y="885960"/>
            <a:ext cx="8763120" cy="508608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2"/>
          <a:stretch/>
        </p:blipFill>
        <p:spPr>
          <a:xfrm>
            <a:off x="900000" y="4508640"/>
            <a:ext cx="5256360" cy="4474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3"/>
          <a:stretch/>
        </p:blipFill>
        <p:spPr>
          <a:xfrm>
            <a:off x="826920" y="5315040"/>
            <a:ext cx="7993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图片 1" descr=""/>
          <p:cNvPicPr/>
          <p:nvPr/>
        </p:nvPicPr>
        <p:blipFill>
          <a:blip r:embed="rId1"/>
          <a:stretch/>
        </p:blipFill>
        <p:spPr>
          <a:xfrm>
            <a:off x="166680" y="1266840"/>
            <a:ext cx="8810640" cy="432432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2"/>
          <a:stretch/>
        </p:blipFill>
        <p:spPr>
          <a:xfrm>
            <a:off x="900000" y="4060800"/>
            <a:ext cx="5977080" cy="44784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3"/>
          <a:stretch/>
        </p:blipFill>
        <p:spPr>
          <a:xfrm>
            <a:off x="900000" y="4869000"/>
            <a:ext cx="6696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9:36:21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