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EFC6-02D3-4569-9F9C-E9FD7CFF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D967-7C72-45FD-B366-7DF22D6D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2AA9B-A6C6-4DB8-9420-231E5021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3A6B4-2891-4E53-8F14-82D6835E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A786C-62DF-497A-823B-4A8F5A5F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D22FB-2906-4F25-8C61-57BC6557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C3386-3A3C-4882-BBD9-2C8AA81B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1AC1B-3EBB-476A-B17C-4290B9C7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9EA2A-0146-45D7-A5DD-C6116814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63B79-CA5D-4138-B6C0-A057C061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260C4-186A-436B-88AD-DDD90B653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2EF5A-77E8-45DF-9829-AB1E35A4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AEC0-6475-4EC9-95DC-94A41639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C58DC-B18E-47D2-B96E-4923904E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C503B-424E-45F3-BB96-BB8C9A29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E4A72-B566-43E6-8517-E41318D0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3B9C0-3C5C-4D7C-967F-D3DC615E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FD5F1-60A5-47CF-B539-9DAB7AE3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C4E70-3905-4C81-85D0-E077D681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C94C3-80CF-45E5-9ACE-34D0EF2E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62326-BF5E-4096-B3F9-EC6DDD04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B7CB5-6D75-4AAF-BD50-A1C3E142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C0EAD-9A89-4837-A972-4E511B61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1CEA-6557-45EF-984E-E1F4B994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59A5D-7437-415B-8849-ADA5B1B9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754C3-661B-4A8B-9A00-FF655D24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01CFF-302B-4F5E-8D5E-B3F74FFB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7D324-A6C8-479E-AF7F-A4A16380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8CDD7-8155-46A6-98FC-1ABAB0B4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2DBEC-EFB0-4C59-8582-838051C7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2725A-A811-4BC9-A21A-6ACE1C5B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49097-8E1B-47C8-B887-E997C7F7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228E5-BD74-4D16-94BF-E1EEDFAF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F1F64-627F-4ECF-A2AB-7655847D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470E-1DF7-4AA3-AC6F-ABBEED21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4FA26-A0AE-4A1B-9F34-A1FCCBA7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444D4-8552-4022-BCC3-115E472F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E515F-B16E-44CD-91FC-48FC2A8F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9B2C3-EC41-473F-A639-CB5DB467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157F9-EAAA-471F-844A-EF7160D0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26735-8C2E-4CAD-95B1-90203349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CA81A-7CAD-4734-8C27-DA282023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4E449-9237-4D87-9400-5A51C9CB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21840-FA49-49BC-BAE3-2E631075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DC756-F506-4DE0-9A9A-30162807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3133-8AD8-4298-8023-35BFBE10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F586E-6751-4D4C-8F53-70234A1A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6804E-C6D0-4C1E-99DA-FC9D08B2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3039D-DC41-4392-8891-D44DF1BF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2A1B2-86E2-4546-9A30-CAA0FC81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A31AB9-8DFF-499F-8488-AAFC0CF8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317A63-195E-45FA-82C1-419DE775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30DB84-4099-45F9-896D-B5F00B83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313FCA-2D71-4067-9186-B1925291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9E9D79-D9B6-488C-AAF6-0F6BAE4D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C0F950-5362-4D7B-BB39-9310470C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6228-D754-414F-87AA-BB0DA979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681A2-E72F-49E4-BB66-CBAB6ABA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97AE12-1F31-4077-89EF-54C15E0C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383D64-A987-4E4A-BB1B-BC3D3DB4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4C51C2-3E46-4330-AD14-0611E803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BC8F56-02AB-441B-8B1A-5AF993E4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44C221-0C25-4BA6-ADD1-5F852F1A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48ECE8-41BF-410F-91AC-8BFAC94F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EB5B88-5035-4C29-99BD-20D6D7526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A1B785-D254-47F2-AECE-32BC35C1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9A911C-FA33-44DC-9980-06E26791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315D-1A53-4F26-882C-8B78E8A5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298D7B-A8BA-4E40-8E81-F587AD59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887F09-CAE1-4279-93B3-0C4C6C0F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1BD039-CB32-46A2-85D7-89380EEA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F4E1EC-4E35-474F-AAF1-03C214A9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806BF2-0335-45FD-B8DC-C370AA3A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736860-1589-4C1C-B62D-50C28976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2DFF70-3680-4F74-800D-734BE514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2D6307-C84A-4FAE-A86A-1D6EE05A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82DD6B-56B4-4335-98C2-DB1FCFF2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524989-1D43-459B-92F7-6B2E3B58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9EB4-1EE7-4A2E-B748-DE4BD15B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9A9FA5-0C78-4FBE-90E4-D1206A49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A3C9B5-22BD-4F38-81AF-BBE7EA7A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36FF86-9809-4274-BC8B-B40F7DE5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55CA96-9A34-495B-8F5D-8BE1881C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E3B958-06B7-41FB-A438-A05E5031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31C430-051F-45DF-92A2-BFA433F1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ECB116-AD33-40A0-993B-A3BC6439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85E32F-5727-480E-821E-F133C053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02A933-92DB-4DE6-9155-13212A41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827DE3-2F45-4FEC-A491-728C1107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CCD8-1F42-45CD-B914-DE73E208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9F01F7-4BA0-43A0-B343-FB584723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1A9092-FA9B-4458-B03B-71C1FBFE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D8931F-4E9D-44BA-A7CA-014F37E0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D866F7-B0A1-45DE-9D3B-E37379D8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82F9D0-C5CD-47B3-8498-6420DF25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82DE1B-DA10-4441-A93E-4ABE29A7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3148A1-CF37-47C0-88E8-97E54D00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958A15-4AA7-463C-8901-A0A4E28D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47EC60-489D-4B11-9526-1DF6C894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99DBFF-7741-474F-8B98-B2EA6CBD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8F8E-5224-41A9-99D1-ED707763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ED9D18-81F9-4D74-A678-9A648948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9707DE-4F6C-4980-AD00-8AF835C6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B30E72-F2F7-4D74-84E8-8222F52C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4FC0C1-E79D-4ECE-8AC5-99C48AE3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6E6F95-E723-4E79-BE4F-14FE7D82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E6189D-7E04-446B-9517-2F08A680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2601B5-5BCD-4DDB-9BE9-2ADA47CB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DEEFA5-36E2-461A-9EDF-1011ED5C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A8DAB6-99C8-4682-83E2-89D59863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F9124A-660D-4543-A2C7-18177CAE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F3EB-6579-46E1-BE87-1025AA2B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5C9C-9B1B-4AE7-B0AC-AECB6EA6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110EF1-5784-472D-9174-225842D8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68A605-8FDB-4A35-A0FF-386526AA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8E6A8B-9BD1-4BC4-A52E-E9E10A91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DF6D89-8EFB-435D-AA26-51056012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8D3B53-0A22-4A65-ADAB-C5D98BC2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F0D967-6A3E-4592-961B-F70B964D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630C53-BC69-4849-918E-A6B0162F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B0AA16-E99A-4159-90E5-50451656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2EC851-18B5-4754-8524-29E371D9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D1B092-9457-4EF7-8C60-604A80A7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EB31-779F-402A-AD35-0CD15E36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B9CCFF-3973-453F-B461-027E4F58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EA8908-1F56-4AFB-8695-37B3080C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0FBE57-7982-48BF-9F65-C21B0DA6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EA0B44-C394-4D8C-821F-1160D633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4F6A72-2A59-4835-B674-5CC38346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14FAB5-6367-411D-8CBF-8E738A64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D12BF0-CCE3-4653-9066-2C3B79D6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AEFB8D-6B07-48BA-B0AF-22C0CEF9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CB6994-1F0A-4523-B2C0-EE714552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F56120-B7BD-4522-8059-41AA920F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B0B3-A1F1-42B2-9809-DBD504EA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3C4D52-16C4-4F99-B194-9DDBE8AF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D07E73-D70A-4DD2-9C47-E6779922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5D4CB3-CE8A-414A-9472-13A6DCEB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7F87B0-02C3-4ACE-9D1C-D885B441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635EE7-723C-48E3-97D0-1042CCB4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45500E-F36E-434B-AB05-A852D2CF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A6DFC7-6A10-42B9-9477-D8B7EF35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08D8DC-AB21-48CF-8AA2-89BAFD89D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B1AF3C-92DD-407C-B8A5-29A419EA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50FDFE-3952-4735-8ED3-5320D17F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F718-6BB1-4287-A909-8B9B0965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7AF146-F642-40CB-8595-1E958DEC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290BD6-5D46-4EDB-81B9-3D3D0890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8600E9-B839-4B2F-8695-6F35CA81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422622-96A1-4342-8C3F-E5C3F70B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55D03E-05B0-4BA2-854F-8A6972FE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4D0027-E86B-41AB-98AF-F3FFD308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4716C1-D3DB-4A93-A255-0D87E48E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E99758-13CF-40FA-8157-4FF7886C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E1BA5F-AE13-46AE-9CF7-A4C142D8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F9BA62-4DAB-43B3-A3F9-D6012360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EBA1-528D-4E9D-A96A-39320217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6CCB63-7EBF-401F-BE3D-530408C7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005B08-C6A6-46A3-8A9C-56B12D2E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FFFF65-BD29-4F37-872F-E986110B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AB7F13-F2E2-4081-9069-39877E75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7B5170-73A4-4EE1-B0CE-6471BF9A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FF008D-73FE-4BD1-9570-370C71A0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433CC1-8DDB-4BF2-8185-A93F0BCC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FB91AC-A50F-4BC7-A108-EC814298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98BAA0-A11E-49D1-B5CF-5B7186DC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BFE62B-56B7-470A-988D-A3722976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17695-5244-4305-8D7B-2ADE44D3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3D90DB-E1A0-45A4-8225-C0DDDF8A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525A5F-9FD8-4621-BE6D-4766EF4D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4F9FD5-BFB8-41E2-9AA9-B5FA423C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A14A61-65E2-45EC-8DBF-363E5432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E8E32E-EC2A-4DC4-BBD8-69042DC5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6DBFA0-4121-4351-9E9C-6D5EA180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184288-62D1-4BCD-AE95-A467792B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5CC4BF-052A-4668-937E-EF18B2D9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C59DB7-2C16-44CA-8C9A-7BF08C09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D3199E-660E-4F79-9295-9FAB6279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DF49C-F322-49C1-9D1C-95F4E8F9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EB5AE6-D3D1-4287-A21A-4E439F25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E27B15-AF6C-44D9-B5E7-F475891D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AF6079-6D51-4E64-9A7E-37CC7827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54D5BD-9436-4EF6-B544-892E51F4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39D9BD-253C-4083-B4BA-899634AF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1CE0A6-1D97-4F94-9CE6-EF8AF6FD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9257C1-5641-4F7F-AC98-962B1DAE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639346-1504-400F-8684-1929B061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3615AE-607A-41B9-A78E-74D2E6EA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9D188B-9050-4ED6-9303-21C1A2BD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D0711-9621-4944-81B9-91798CF4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7C0122-2783-4E37-B108-D6E77C2C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C46C28-40DD-4ACE-9753-4DD30ABD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E7D32B-F577-44D1-B1CA-C47A4876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1E5390-9BBF-46DC-9C9A-438A4C8D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ABA429-23E1-42C4-8080-8A119DEF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1ABEE8-47A7-4E90-BCCA-6D084056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F7D0B4-CF87-4C47-9688-603360B4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55357-857F-4E99-B191-1B6AF92F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E09A2-48EA-4C15-A9AF-83CB0C5D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808E-51DB-4DD3-873E-8589E23A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E2922-7107-4ECB-9335-F8C32FD4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ABFD9-5879-40BE-906C-B006446F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977DA-3281-42DE-958E-6B24E723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E9E81-7AB6-4DAC-9C43-72CE23FB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58A7B-57A9-4FD2-B5B3-9F9E3287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DF20A-95E7-4A71-B2DD-C60AC09B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7E077-8F0B-4097-98AC-C5C72980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708F9-FDCC-45E1-869F-C61AE1DD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F7405-E261-4680-9812-465CF07F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33D20-A111-4FAA-AC09-90C87F39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B8A2-2168-4478-8C8C-8A5D9FA3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FD963-0F41-4DCF-ADB9-64BF2E0A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D1AB8-7ACA-4ED3-8F49-DA9F27DF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0B350-F359-4132-871E-BA25D6AE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C571F-D3C3-4AD1-89DD-A861E8DD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A7B33-32DB-4CF7-920F-95D6B834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A1676-BD77-4DDB-95CB-15A9CDA9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AAA1A-2B92-4AAF-9646-66F204D3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CE4A3-379B-48EC-ADD9-B8EAB911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B368D-D59B-400A-9A37-DF6CC1B7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D99B0-C174-491E-B229-E0FBE1DD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DCB3-D988-4BC2-AC0E-846ADCF0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F869C-5F25-42A3-A86C-3CEA5EB6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3459C-14E7-46DC-BCB5-DFE772BF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E64AE-1B9F-4F9F-88C2-7D9EACC1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C8EC6-52B3-48F4-8509-D961A1B1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E6907-F110-42D0-B2A8-7AB8AE9E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2966A-DEE4-47D7-A9CD-C48ED5B2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4FC8E-03D3-440C-90D9-2D735C4F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E4F64-E456-48FF-A8B7-2051871C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C0834-1E7C-4E63-A3B6-3F631912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6180D-F973-4BFC-A358-41A49F13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D4B6-15F8-4C84-992E-CE963625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DBB62-010E-4B01-939F-36F7DE4A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5CFF3-EBA3-47D5-9D13-C214F60D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1A2A4-CB75-4767-97BF-4A0E64AC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583F3-3CFB-44E2-88EB-95079B22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18948-0C35-4223-889B-765A491C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2AC1B-5605-4405-A43C-42D7E5A0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9F8FE-CEF4-42F6-AAC2-C83CD9B5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48513-B697-44C7-B78E-E91E2068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5D2B7-3C76-4427-93B1-2530E4BB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BD38A-2858-4F85-80A4-6DF72DC6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D122-AF5D-4040-A24E-E00D71B9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FBADB-6247-4F9C-93F0-EE4A5760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F2D9E-6E66-461C-9EB4-AF9D964D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E101F-E326-4E4E-84BC-C08E31AA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E865E-5C49-4BDB-9617-FEA2C104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07B8A-F6D2-4BAF-A990-768B1592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2E467-76D7-434A-AB25-0DFBEB3E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EF0C4-C60C-4BE1-92D5-B8F6DCDF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6302B-6619-4326-989D-67DE06DE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09854-3C13-43BB-B410-49B2097F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8455F-741E-4007-81DA-57AC61A5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A977-26AA-4C05-BC50-BF240C26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DD0D7-4AAC-4C8C-B37E-FEF2A3F2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BA2B3-BE03-4CBB-8F16-3010D019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2F934-DAF8-4854-9DDA-BC5E729D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92821-4013-40CE-99AD-1FAF2B9D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7CF8A-8224-47D6-AC02-9657CECE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26943-9058-486B-9A50-22D9690C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7AD40-A070-48BD-83D5-D86640C5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41FAC-33BB-4E75-B2E6-1CFF3262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62F3B-9BDB-4F1B-BF4E-6C05E054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474A1-07D5-4CC6-8BD6-EFD79069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F429-88B9-49E3-B17F-EC0639CA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F0FC9-1C09-493D-9DEC-AED8F0F2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97CBD-BB9A-4B1C-9A13-04CFCD42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37A9C-7279-4D82-B1A6-2B6EBE66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2947E-9750-49EA-BAF6-C2655D0E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814C9-39E9-4B91-AC0B-C85CA8C6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96B46-83BD-41D6-8AEA-5D55FC13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9B6DB-5DF4-4BD8-AD2F-32A78DE5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EC276-F959-4305-92B0-9BA5019C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FDFED-9AD6-4666-8DEC-B23123F9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D6645-FF63-4B23-9788-E89F51E5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967B-7F5C-4BBB-A0A4-7132F92965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7A96-D661-4730-AF6B-96D7DF5935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FCBE-C35F-46EA-9F8C-5E7BA761BD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8705-BA43-4F99-9257-CFEEFBCDCE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0C3E-9664-4705-BE8D-6B615C4B87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FB2E-B3A0-4BC8-88C9-813B477D53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F927-71BC-4BEF-BC8E-35C0A5611E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A13F-5941-45F7-B57E-2B81EFC4D3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1DFD-57D4-43A5-B55A-7D0D728ED6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09C7-23B7-49B9-9CDD-9CB3AD9C4F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12C3-DD39-4010-A76D-8AB1B2DBF9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88C1-B7EA-4F17-BB78-F07FABD34E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96B6-F17C-4612-9AD4-6E62E4B651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E224-C7B8-4AFA-BFAE-D74360AEAA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8FFA-85D1-4E59-9688-575CDF9E23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E4E2-651F-4A64-B5D1-B54D24C30C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AB37-15D1-413D-8E92-AB27CD2AAC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0832-32BA-451C-B0A9-6D68B596BB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D585-DC09-4256-BE2A-59878DD655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F368-E6D7-42BC-8501-6ED0C2A5E6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C424-C7F1-40B6-9E31-550D40551B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AE71-954E-4458-B913-C4EA7E254F3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CAE6-C135-4959-A825-12EE3EACF5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37FE-1F9E-442A-A821-BA3A4CDBA1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FDD0-4886-4544-AD61-822F9E22B0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91A3-43CD-4FF6-8ABE-88508C48A0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D9EE-5D6E-48AB-8F56-C0019D35DD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B791-B4D8-4616-8614-5549BF3564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9035-4EE3-4FFC-AD2B-745B67F42E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D2F2-19C0-411E-A8F5-2ECFB923EF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718E-FB36-4862-A9AF-65BB49ACFB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BDE5-AFF0-4093-8F1D-1DEBE3B95F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D67A-F3A8-4190-9C28-9BDA916CDF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DBA2-7A9F-490F-8D25-9CCAD14FF46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CC05-BF9D-4FBC-AF6C-D0C73D3146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68D6-6851-478E-B44A-2D3B1FC81D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B9E3-4263-4C4E-8247-32020E2931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305B-A7AE-42D1-BEE0-6A0CA76426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62D9-8C42-4A31-A0A7-ABD7AE92E5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057A-3D06-4E64-808D-F6387A04B3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9B49-E86F-45A3-95CF-05E59B0A43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09E6-916F-4069-9663-880F7ED792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723920" y="1891800"/>
            <a:ext cx="4343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6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4723920" y="3103560"/>
            <a:ext cx="43434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357120" y="2597040"/>
            <a:ext cx="804708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723920" y="1891800"/>
            <a:ext cx="4343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6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4723920" y="3103560"/>
            <a:ext cx="43434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060" name="图片 1" descr=""/>
          <p:cNvPicPr/>
          <p:nvPr/>
        </p:nvPicPr>
        <p:blipFill>
          <a:blip r:embed="rId1"/>
          <a:stretch/>
        </p:blipFill>
        <p:spPr>
          <a:xfrm>
            <a:off x="247680" y="952560"/>
            <a:ext cx="8648640" cy="49528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2"/>
          <a:stretch/>
        </p:blipFill>
        <p:spPr>
          <a:xfrm>
            <a:off x="900000" y="3068640"/>
            <a:ext cx="4535640" cy="4478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3"/>
          <a:stretch/>
        </p:blipFill>
        <p:spPr>
          <a:xfrm>
            <a:off x="900000" y="3645000"/>
            <a:ext cx="4535640" cy="4474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4"/>
          <a:stretch/>
        </p:blipFill>
        <p:spPr>
          <a:xfrm>
            <a:off x="942840" y="4278240"/>
            <a:ext cx="453564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723920" y="1891800"/>
            <a:ext cx="4343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6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4723920" y="3103560"/>
            <a:ext cx="43434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066" name="图片 1" descr=""/>
          <p:cNvPicPr/>
          <p:nvPr/>
        </p:nvPicPr>
        <p:blipFill>
          <a:blip r:embed="rId1"/>
          <a:stretch/>
        </p:blipFill>
        <p:spPr>
          <a:xfrm>
            <a:off x="635040" y="1260360"/>
            <a:ext cx="7734240" cy="223848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2" descr=""/>
          <p:cNvPicPr/>
          <p:nvPr/>
        </p:nvPicPr>
        <p:blipFill>
          <a:blip r:embed="rId2"/>
          <a:stretch/>
        </p:blipFill>
        <p:spPr>
          <a:xfrm>
            <a:off x="77760" y="4075200"/>
            <a:ext cx="8987040" cy="20923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3"/>
          <a:stretch/>
        </p:blipFill>
        <p:spPr>
          <a:xfrm>
            <a:off x="4067280" y="1844640"/>
            <a:ext cx="865080" cy="44784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4"/>
          <a:stretch/>
        </p:blipFill>
        <p:spPr>
          <a:xfrm>
            <a:off x="4097160" y="2478240"/>
            <a:ext cx="865440" cy="4474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5"/>
          <a:stretch/>
        </p:blipFill>
        <p:spPr>
          <a:xfrm>
            <a:off x="7407360" y="1859040"/>
            <a:ext cx="865080" cy="4474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6"/>
          <a:stretch/>
        </p:blipFill>
        <p:spPr>
          <a:xfrm>
            <a:off x="7437600" y="2492280"/>
            <a:ext cx="865080" cy="4478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7"/>
          <a:stretch/>
        </p:blipFill>
        <p:spPr>
          <a:xfrm>
            <a:off x="1747800" y="4524480"/>
            <a:ext cx="865080" cy="4474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8"/>
          <a:stretch/>
        </p:blipFill>
        <p:spPr>
          <a:xfrm>
            <a:off x="1619280" y="5157720"/>
            <a:ext cx="865080" cy="44784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9"/>
          <a:stretch/>
        </p:blipFill>
        <p:spPr>
          <a:xfrm>
            <a:off x="4643280" y="4551480"/>
            <a:ext cx="865440" cy="4474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10"/>
          <a:stretch/>
        </p:blipFill>
        <p:spPr>
          <a:xfrm>
            <a:off x="4788000" y="5229360"/>
            <a:ext cx="865080" cy="4474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11"/>
          <a:stretch/>
        </p:blipFill>
        <p:spPr>
          <a:xfrm>
            <a:off x="7524720" y="4581360"/>
            <a:ext cx="865080" cy="4478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12"/>
          <a:stretch/>
        </p:blipFill>
        <p:spPr>
          <a:xfrm>
            <a:off x="7524720" y="5172120"/>
            <a:ext cx="865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723920" y="1891800"/>
            <a:ext cx="4343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6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4723920" y="3103560"/>
            <a:ext cx="43434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010" name="图片 1" descr=""/>
          <p:cNvPicPr/>
          <p:nvPr/>
        </p:nvPicPr>
        <p:blipFill>
          <a:blip r:embed="rId1"/>
          <a:stretch/>
        </p:blipFill>
        <p:spPr>
          <a:xfrm>
            <a:off x="262080" y="819000"/>
            <a:ext cx="8619840" cy="522000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2"/>
          <a:stretch/>
        </p:blipFill>
        <p:spPr>
          <a:xfrm>
            <a:off x="5003640" y="177336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3"/>
          <a:stretch/>
        </p:blipFill>
        <p:spPr>
          <a:xfrm>
            <a:off x="5003640" y="25509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4"/>
          <a:stretch/>
        </p:blipFill>
        <p:spPr>
          <a:xfrm>
            <a:off x="5076720" y="3227400"/>
            <a:ext cx="79056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5"/>
          <a:stretch/>
        </p:blipFill>
        <p:spPr>
          <a:xfrm>
            <a:off x="1663560" y="3500280"/>
            <a:ext cx="2044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723920" y="1891800"/>
            <a:ext cx="4343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6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4723920" y="3103560"/>
            <a:ext cx="43434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380880" y="2104920"/>
            <a:ext cx="8382240" cy="26481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2"/>
          <a:stretch/>
        </p:blipFill>
        <p:spPr>
          <a:xfrm>
            <a:off x="2843280" y="2736720"/>
            <a:ext cx="1441440" cy="39060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3"/>
          <a:stretch/>
        </p:blipFill>
        <p:spPr>
          <a:xfrm>
            <a:off x="3260880" y="3203640"/>
            <a:ext cx="1441440" cy="34596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4"/>
          <a:stretch/>
        </p:blipFill>
        <p:spPr>
          <a:xfrm>
            <a:off x="6199200" y="3127320"/>
            <a:ext cx="863640" cy="41760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5"/>
          <a:stretch/>
        </p:blipFill>
        <p:spPr>
          <a:xfrm>
            <a:off x="7524720" y="3557520"/>
            <a:ext cx="86364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723920" y="1891800"/>
            <a:ext cx="4343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6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723920" y="3103560"/>
            <a:ext cx="43434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43000" y="1219320"/>
            <a:ext cx="8658000" cy="44193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1403280" y="2708280"/>
            <a:ext cx="1800360" cy="20160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2771640" y="1989000"/>
            <a:ext cx="144000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5651640" y="2722680"/>
            <a:ext cx="2376360" cy="27939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7280280" y="2003400"/>
            <a:ext cx="1612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723920" y="1891800"/>
            <a:ext cx="4343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6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4723920" y="3103560"/>
            <a:ext cx="43434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704880" y="1433520"/>
            <a:ext cx="7734240" cy="39909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1332000" y="2421000"/>
            <a:ext cx="2160360" cy="29527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2800440" y="1700280"/>
            <a:ext cx="216036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5443560" y="2421000"/>
            <a:ext cx="2160720" cy="29527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5"/>
          <a:stretch/>
        </p:blipFill>
        <p:spPr>
          <a:xfrm>
            <a:off x="6912000" y="1700280"/>
            <a:ext cx="1836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723920" y="1891800"/>
            <a:ext cx="4343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6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4723920" y="3103560"/>
            <a:ext cx="43434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642960" y="1552680"/>
            <a:ext cx="7858080" cy="37526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1042920" y="2349360"/>
            <a:ext cx="2664000" cy="30243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2700360" y="1700280"/>
            <a:ext cx="208908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5283360" y="2349360"/>
            <a:ext cx="2663640" cy="30243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5"/>
          <a:stretch/>
        </p:blipFill>
        <p:spPr>
          <a:xfrm>
            <a:off x="6940440" y="1700280"/>
            <a:ext cx="17352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723920" y="1891800"/>
            <a:ext cx="4343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6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723920" y="3103560"/>
            <a:ext cx="43434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890640" y="1104840"/>
            <a:ext cx="7362720" cy="46483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1547640" y="4365720"/>
            <a:ext cx="619308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1619280" y="4970520"/>
            <a:ext cx="6192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723920" y="1891800"/>
            <a:ext cx="4343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6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723920" y="3103560"/>
            <a:ext cx="43434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223920" y="1900080"/>
            <a:ext cx="8696160" cy="305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900000" y="3429000"/>
            <a:ext cx="590400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826920" y="4033800"/>
            <a:ext cx="6913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723920" y="1891800"/>
            <a:ext cx="4343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6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4723920" y="3103560"/>
            <a:ext cx="43434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055" name="图片 1" descr=""/>
          <p:cNvPicPr/>
          <p:nvPr/>
        </p:nvPicPr>
        <p:blipFill>
          <a:blip r:embed="rId1"/>
          <a:stretch/>
        </p:blipFill>
        <p:spPr>
          <a:xfrm>
            <a:off x="252360" y="1552680"/>
            <a:ext cx="8639280" cy="37526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"/>
          <a:stretch/>
        </p:blipFill>
        <p:spPr>
          <a:xfrm>
            <a:off x="900000" y="3068640"/>
            <a:ext cx="4751640" cy="4478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3"/>
          <a:stretch/>
        </p:blipFill>
        <p:spPr>
          <a:xfrm>
            <a:off x="900000" y="3645000"/>
            <a:ext cx="4751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35:13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