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DE99-F76A-477A-8CFE-E3AEAC63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8B8-FA58-4C33-81E4-32459F39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964D4-2D23-4AD0-9085-FC56E75B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47CC5-ADC0-4082-BACF-5D95E681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3EAED-61DF-49BA-A0C6-6FDED401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C44E6-60AF-48D3-9A70-D4CF9208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DEBD3-E286-42A6-9741-CBDDC583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C076B-9125-46CF-B7B5-DA1D2FE5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176BA-6EC1-42DD-9A1A-7BFF76D3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BA2C2-75C9-4C65-9E4E-3B558043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97262-6383-4333-8870-D4F95BAC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9A664-99AB-455E-90DA-27E44D26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B63-3264-4482-B7F8-B69C4AB8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F60FF-6F0B-4044-AE24-F05388E1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BF71D-A9C4-48EC-831D-C8ED5196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A5021-B06D-4833-8941-90A6966C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E0DD0-E3FF-4CFE-8748-55FBE099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E8580-DEBA-40F7-BA88-AE61F1B0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AB3EC-54AC-4938-921E-A2413127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C68CF-CA4A-4B31-9D63-C00714EC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DD284-298C-44AC-8697-D18E4BD2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35BB7-045F-4F83-A7E4-BCA71D97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82A6D-F038-4D39-AE5E-B59DD18D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AF6-6A1D-4991-8D53-2870A955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F0958-9EE9-45A2-A627-27EF8C15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70C5D-0933-4468-BA05-173BA759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B799E-F197-4834-972F-611F39AF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32A3E-DB4E-4A23-AE8C-9B2E4EB8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6DD8A-A17B-4D48-906B-0305FCDF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0A873-0C2C-40FE-829F-3FAE15D5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3CA9E-F561-4E9B-A7E6-DB091678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B8F1E-BD46-4171-A196-DB72D1C8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39818-3AF9-49F0-8151-07B02CC4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AAB99-2A21-4D29-8F77-6752BA0B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2BA0-254E-4801-81FE-86F1EBB2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82457-0B77-41BF-A417-F0A8EFD8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A483F-39B3-4A7C-899B-8D6CD425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EC81D-0F6A-444C-980E-D6E85698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322AF-3B7D-46F0-A40C-6FC52DA1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D904C-9C8D-4CFA-AFEB-F759DA4F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CC379-84BF-468A-8583-3F062E71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21565-ECE6-4C6D-971D-49809A31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E4D92-03F2-43DF-9C4C-85EE3764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D7470-B936-4A6F-9B0F-C0733EA8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FF13B-F27D-48C8-940E-B1F09762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7317-CF60-4A64-8C0C-2FA841AB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5513D-E2FD-4A1A-8F2D-FAE6ABCF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BD639-402C-4EBD-992F-BDA44806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692DC-F074-4756-A886-90B19AFD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D9228-9FB4-4B28-8056-4F1D9923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7B01B-F621-4255-A650-5043C486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DC09C5-E99C-4994-A6C8-4652774C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40A514-FF97-4DFB-ADB1-36DFEFA2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40476E-FD1C-42D9-B735-C59808BB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ABEFC-2D42-4106-871E-8717BFBA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C3406-7D08-472B-ABD7-B1BD5268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3173-A5E0-4960-82CB-D579FE94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F49D6-37AC-4A5A-B68F-CD29F9E6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8397E-2F02-43A1-9096-DD4BE426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FA3D8-41E2-4B28-A3CB-57A6CE23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486C7B-82A0-4726-9495-8EBBEBA8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B613BA-5BB2-4947-B5CF-1F4128C2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DEA4E-2AE4-4142-BE27-75A79F16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B30B2-68AF-4AF9-A5DC-8EA47FF7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4C9A62-A209-4165-B637-4EF1A76B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900EA1-919F-4F38-AEA6-158A5EF4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66E8B0-7006-493A-A417-388AAA7A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03C4-E5DE-4906-8D22-1F4A976D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19631-AD06-4250-9AA3-3A2542A5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3161AC-5F79-4344-B6DB-B3CC397C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9D85A6-46D9-45F0-BF4A-F67BD0E8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2E3BA-DF7A-4A15-B436-CC632F0C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41369-783A-4A71-B823-DA10F99F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A808DD-0BEA-4E4B-B1CD-382401B6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BA9EC5-8F0A-491F-81A3-A2C285B1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DF515E-E150-4FCF-8F6F-02360919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41BCE-42CA-49AC-9C63-96923647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53C4C0-485F-4C85-A378-95641319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BA1F-4DF5-4EE2-9A5D-3119D9A0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E93686-5922-4559-BAF1-189177CE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534732-8E0B-49F6-A136-622044A3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D8E7CB-B554-4063-BB00-324CF681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E8253E-96B9-4F06-B3B2-30B4C17C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AFEA57-7506-42C4-B1FE-44C906D4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FF31A4-DC71-4E05-9483-03A4D539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C5ADD3-9F66-4415-944B-66E1CE3A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5AD9E7-1A6C-4ABF-A839-E925EDBC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24F047-3388-4C0C-9850-7523C584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32D55B-38E5-401D-B544-96901AC9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A1DD-E3EC-4FA4-8649-56804645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A56A9A-1339-4D30-9312-DD90B020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61D04D-00FB-456B-BEE4-2FC4A592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7E8FAC-50CA-48AC-A0D6-26E4C459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FECD4D-095D-4EE2-A1C0-8D706F57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CB820E-06B0-4C48-8DAE-E733CE12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28AC60-AF3A-4C27-BDEC-DB18BC00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C9965F-560A-426B-B37C-1DA3F155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084AEC-D02F-465D-911C-C7AFA69A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AB5CFA-2E07-47C4-98FA-1F31236C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967717-9C94-42AB-AD62-5BC3BB10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E2E6-A805-4EE7-8A65-F31C35C2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9D9170-3853-47FD-802E-F7F08AF8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B6B067-10F9-4FB4-95E9-D1523A36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B60B81-E9E5-41E1-8F0E-8D293774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922EDD-EAAD-44A4-8BF1-5D10E8B1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DA68D6-D0D2-4B5F-833C-0A6B0801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EE5F44-D5C8-41A2-9864-23CB2F86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AA3083-2585-49FB-A69B-C5833161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B49A01-BBF3-4F6E-B581-2D29B1E3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633918-99E8-421E-9B05-A963E131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20C08A-9683-4CCC-931B-3C4CE79B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77E7-E3D3-46C9-B5B9-F92C95A7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BC7A-BBBF-4C04-889E-9CC1CD11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AAAA06-03B0-4584-807A-02A73AA4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776932-A742-4FE8-99F4-D114DA5E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CEBBB-15C0-4FB9-8D59-D313060C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37307E-2A0A-4E3D-863B-A7C83158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1E371B-541E-4717-B54C-3211D6F9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CE36F1-CAA4-4DBD-AA76-F08CE27B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5E52E3-04C6-47B5-86D0-7A08C338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39575C-52F6-4633-8F7F-DC46890E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CF9714-0534-473F-8218-A2C33F9B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DB6AA6-F2F6-40E6-8442-B1CBF9B3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1A43-FBCF-4D74-8F11-935601C0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97E76A-A046-4D14-B165-9BF75686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B48502-9102-41F3-8F09-62B3F0D5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CAFD43-4189-4B9B-B83F-A0B3FE00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CE543D-EDED-4010-AF72-E4DE0373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CEFB85-EEE2-44F3-86AE-F7E5372C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37D45B-ADF5-417E-9C3E-044AE0A2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6C969B-53C7-4888-A25A-12B24C2D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DC737E-0CD3-44D3-AE91-6F34D510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498E9A-B198-45D5-B3EC-300F79D4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8DEB43-5731-4403-BEDB-C257D281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5DC7-973B-4C4B-B32E-1EF91CD6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FF3150-F354-4993-8E37-05F46C37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4AA278-2153-42CE-B972-F3A97A47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5C2400-582F-4BDF-87D6-18BDB3F0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18E004-4B49-4793-8B2C-D8677223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493C52-B468-47CC-9C5B-E3E2536F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A81E6B-5F55-4349-8AC5-B9C51535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35AF44-4E17-497C-9B6B-25A37B96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95F658-B3FD-4E0A-8D4A-E1A5690B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73566C-97A9-471E-BF38-C14F5ABB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449535-8F3B-4ACE-BA0D-DF5F68AC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9D27-7D5F-4A32-A55E-4F860056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DB2353-6276-4A57-99E5-AFF3E2CE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33A09E-0D59-4734-90AE-B8715B97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DF5A40-9107-4E2C-94A9-3949A18A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FAABB8-CE65-48D8-9C9B-590AA7D8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152717-7867-4A3D-B33D-78FD81AF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491ED4-1052-4149-B27E-5D841F34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098122-968D-4625-BCB0-84D17067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6EB42A-FD96-40FF-9CCA-33885947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6A3DD9-5A49-48DF-997C-C578DFCC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AE1ABB-91CE-4F39-A330-8584DEFA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E1C0-2D63-4690-8D80-4B08C938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B9BA64-CE1F-4A77-A861-F40CBD2D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7984B4-9A66-480B-A762-EE71D73F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A03B6C-A311-490F-8A7F-D61B02FD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9B9830-71BD-4DD3-9D84-15EBE0DE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0A48E4-8602-4D16-B663-62C5EE9A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B88581-266C-4B5D-9ABD-9535BC51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3BB1E0-F95A-42B2-A4DB-B4F10114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53E030-FF7F-4D1E-A394-3BA5053A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BF1F0E-9FD5-4D1D-A7C9-C89014DC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0B78D7-D96E-4087-AB8E-3513B382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E7529-7305-448C-B515-474E58A4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49545E-FED4-42A2-AC1A-13ADEAEC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5E857F-1673-4985-98D0-9EB1BA3C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13DEF8-4D7A-4E6F-990E-8DF121FF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94199E-EEF6-4F95-9C99-719474BE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33DB30-53C4-42F8-994C-E4F2BFBD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A8057C-7C46-48B0-A667-51ADBBFB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C6091C-FA52-4D94-9818-19774F1A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7AEB11-867F-43DC-9696-C27BE5C0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71956C-F1C6-4C8F-9CA9-15FA8ACC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07247E-5DF6-4C04-BDD1-7465A265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2EC1C-1528-4032-8DAA-A97AFE0D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D582E1-8B1E-4068-A03F-91C78994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BA7795-1376-4001-BD85-24751FB7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198A2C-0601-48DA-8962-5E9D6C19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7D6353-38A9-4BF7-804B-FD0A95AB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6DA22C-4E15-4F16-BAB0-0E263E44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87F76C-9312-414A-A83F-E51C459F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59FEE6-7E57-488E-9EC2-3B21FEDF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A51E26-2681-4763-BCB2-C2C92954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26F945-DCAC-4CCB-8443-95904F8B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D351E1-02E8-4817-8091-714FF88D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FEB98-3DEE-4BAC-BCC2-0534C319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7E77CF-40B3-4F22-AC9C-6300DDE4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412DE0-BE6C-431D-9A81-0D2F7E52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987410-F35F-480D-B49E-CC93D6F1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E2949C-FFA7-410F-94F7-5866A5BF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CB42D5-CE7E-4D6C-9895-BF94E181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DD6800-FA4C-48ED-8306-C70ED035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9D56DB-406B-467A-A968-726BA8CD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FEC11-AB6B-4EAC-B9AD-F8B17134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7B487-44D4-426E-A2D8-1397C982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FDD-B92F-4CEB-A587-417010E0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58A6A-2110-4618-A369-405AB31C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707C0-B087-43D2-A3B5-381C393E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73E68-5180-40D3-B080-8B324CB0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CD706-A197-464F-92B1-43A6A5DA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A5BEB-A31F-4D4E-B339-C3EC5767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6663A-53C0-43A6-B641-63191369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52651-2FBF-4ED4-82FA-6A985278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70C68-AC3E-46F3-9D5A-EA08AB35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6BAD6-6CC1-4672-9889-EB30BA98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D563C-6187-488E-82B2-69EE3E77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0D47-CCC5-4382-95B5-6B1E58BF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9EEAF-72D7-4AF7-A886-9FAB0CF5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90A46-16E0-4477-AD9D-DFF1196D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74B12-097C-4313-8E95-3F94B56D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19EC7-2DE6-48AD-B930-E709D0DB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97E75-A037-46F9-B4FA-02AC9BAB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8E17D-9DA9-4005-BE7A-7F1EE669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5A5E1-FA8D-41CC-A00D-64870BDC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363D6-6B3A-44D2-8830-4775027C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EC069-EBD7-4DA5-B815-97BE0787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4B92D-5F70-4488-B08B-C0AA5CDD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4B3-CF3D-43B2-87F9-D853F7E1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51037-E642-4D9E-8288-663BD9E4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A86E8-AA35-4382-9883-EC75B81F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2B45D-9264-48AA-96D1-9B6088AA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7E5B7-2658-4667-8B33-62EFF2AB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46606-1076-43D8-9790-AD2098B8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E2B10-1D9B-4CF2-A210-F9DF943D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BE78A-FCF4-4E33-B49E-365C05F2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1A5D5-6EF0-4B56-B12B-891FC7AA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57F1E-5274-4280-A4E5-40156C50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216C8-AD5F-4583-9AD3-1FE763A6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1DFE-B769-4152-B071-59764A00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95BE4-AA93-4E51-97FF-B9094C1C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0893E-9D8D-4452-8512-925038FD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43B2F-0F98-40C4-A381-1E51BF90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AF94E-2410-40DA-89FC-F0F8C962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B2143-AF8D-4B12-BCB8-B06C230F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A6892-95C5-4DEF-B1E1-A4FB99C2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F93F2-605C-4F22-9463-CE84FFD2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3F0BB-CA72-421D-AE4D-C8827A8F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1824A-52E5-441F-A144-1880077C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A7887-F6C7-400D-AAED-A04AFF2F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7D2-2FE3-4756-86DE-92E28159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B7107-46A0-4457-8CA2-0C0E0D62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70482-4046-47D8-8E7B-05689AE1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B6128-A573-4043-AD59-C9D1618B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34373-C505-436C-B4F7-20DD2BDC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5694E-7E6A-4613-B5A3-555CACC7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7931A-DDC0-4E41-9CD1-E8A50769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A307C-FFA1-4F9D-8620-A879C07A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F0593-21D1-4D7A-BBAF-4A65C2A5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A5B70-37C6-4324-A510-72486348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3248F-8D28-4C9B-BEA2-62E2BFCA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2BCA-CEF2-4EAB-9716-708D25A2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B459B-43F7-4278-BFCA-29A91F7C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5FE73-4D2E-45EB-8361-06049789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EDE3E-08ED-47FB-B7DC-A4BA5804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95A13-5389-4CD9-A240-646DD966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4F144-E858-46AC-91D4-DC4E790C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0DCED-9F13-400C-87A2-D03CAE4D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2516B-9C23-40C1-9E38-8A3935D0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2A0C1-DD8D-471A-A50A-45ECF3AE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C9454-152B-4E42-B7B6-0D17B0D3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66CCE-3C3C-49EA-93F6-4CD2DB7F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EF96-5478-4631-AFDB-65A048CF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0E4DB-600B-48DC-A704-7EFD7777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16D67-B945-4290-B31C-353D06A5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CEC9D-DCE1-488E-8D3F-EF331333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134A2-EFBA-42A7-A30B-C97D2B1F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389DD-7EC7-4DC7-A513-37D90A0F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D6ED3-AC1F-46C8-8486-2F8426D9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E7C63-47CC-4E6B-B2B0-A5E25CDF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5F531-C55B-453F-8602-E82490C6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28BA7-F3C0-4927-84E8-6B15241B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BAF64-C703-43B7-918E-CF32C3B7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B70A-81A1-45BA-8764-BA89AF52DC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3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99AE-2F22-44E7-A889-7A335EFF04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1ABB-770F-4FDD-B14F-50F7E5A210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图片 5" descr=""/>
          <p:cNvPicPr/>
          <p:nvPr/>
        </p:nvPicPr>
        <p:blipFill>
          <a:blip r:embed="rId2"/>
          <a:stretch/>
        </p:blipFill>
        <p:spPr>
          <a:xfrm>
            <a:off x="5622840" y="2193840"/>
            <a:ext cx="3292560" cy="2470320"/>
          </a:xfrm>
          <a:prstGeom prst="rect">
            <a:avLst/>
          </a:prstGeom>
          <a:ln w="0">
            <a:noFill/>
          </a:ln>
        </p:spPr>
      </p:pic>
      <p:sp>
        <p:nvSpPr>
          <p:cNvPr id="433" name="任意多边形 6"/>
          <p:cNvSpPr/>
          <p:nvPr/>
        </p:nvSpPr>
        <p:spPr>
          <a:xfrm flipH="1">
            <a:off x="0" y="0"/>
            <a:ext cx="5484960" cy="6858000"/>
          </a:xfrm>
          <a:custGeom>
            <a:avLst/>
            <a:gdLst/>
            <a:ahLst/>
            <a:rect l="l" t="t" r="r" b="b"/>
            <a:pathLst>
              <a:path w="7314000" h="6858000">
                <a:moveTo>
                  <a:pt x="1714500" y="0"/>
                </a:moveTo>
                <a:lnTo>
                  <a:pt x="7314000" y="0"/>
                </a:lnTo>
                <a:lnTo>
                  <a:pt x="7314000" y="6858000"/>
                </a:lnTo>
                <a:lnTo>
                  <a:pt x="0" y="6858000"/>
                </a:lnTo>
                <a:lnTo>
                  <a:pt x="1714500" y="0"/>
                </a:lnTo>
                <a:close/>
              </a:path>
            </a:pathLst>
          </a:cu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图片 8" descr=""/>
          <p:cNvPicPr/>
          <p:nvPr/>
        </p:nvPicPr>
        <p:blipFill>
          <a:blip r:embed="rId3"/>
          <a:stretch/>
        </p:blipFill>
        <p:spPr>
          <a:xfrm>
            <a:off x="0" y="637236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2E58-B136-48F1-AA03-2AE339F9CD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3CFB-861A-42F0-B647-81A9BBF1D1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91D2-EC56-4447-B490-22F81443E8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B75F-FBA3-4268-B9BE-29A00DC718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A294-BACB-4AC7-B726-A16868BC50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F199-DA9B-4FC8-9546-7F115A2E56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DE37-82DD-4BE5-A872-FE2CE9093C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E3FA-F29F-41D1-8E60-EBB1580EB0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72E2-81A2-42FE-96E4-415716817D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E9AF-1A18-423F-B551-CEA0B59F56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2" name="直接连接符 8"/>
          <p:cNvSpPr/>
          <p:nvPr/>
        </p:nvSpPr>
        <p:spPr>
          <a:xfrm>
            <a:off x="4206960" y="3930480"/>
            <a:ext cx="730080" cy="0"/>
          </a:xfrm>
          <a:prstGeom prst="line">
            <a:avLst/>
          </a:prstGeom>
          <a:ln w="63360">
            <a:solidFill>
              <a:srgbClr val="3c7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E623-F62A-4E7A-B5D8-34A11C5FC6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B7FB-7D9C-4837-BBD7-61F50CFA55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27DD-64F2-4277-9732-1401E2F5BD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0975-10C5-4F5C-B710-5B4952CAEA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4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8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1EF3-40BF-47DA-BB0F-DF008467E3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4DC2-CF8F-4A5E-B20B-43F648E6DB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4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图片 6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97F3-C74D-4245-8203-14946713CA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27FD-BA7B-40A5-A61C-F95833C5D2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DFB1-3422-4D5E-9C36-BCC15EC2FBE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4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8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31DF-7A85-48A0-9FD6-76D925D0FF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A032-D17C-43E4-AE08-28EFC481A8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4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8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59A9-1282-49DC-BDC1-1D0A9134B1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7837-EDB2-409C-A318-62B503B46A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6" descr=""/>
          <p:cNvPicPr/>
          <p:nvPr/>
        </p:nvPicPr>
        <p:blipFill>
          <a:blip r:embed="rId2"/>
          <a:stretch/>
        </p:blipFill>
        <p:spPr>
          <a:xfrm>
            <a:off x="8604360" y="637236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8" descr=""/>
          <p:cNvPicPr/>
          <p:nvPr/>
        </p:nvPicPr>
        <p:blipFill>
          <a:blip r:embed="rId3"/>
          <a:stretch/>
        </p:blipFill>
        <p:spPr>
          <a:xfrm>
            <a:off x="0" y="637236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E104-5FDC-4558-AE98-B1D22FD2B7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4E03-47A8-477A-BDC8-94842EF2F1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 4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图片 6" descr=""/>
          <p:cNvPicPr/>
          <p:nvPr/>
        </p:nvPicPr>
        <p:blipFill>
          <a:blip r:embed="rId2"/>
          <a:stretch/>
        </p:blipFill>
        <p:spPr>
          <a:xfrm>
            <a:off x="7929720" y="5765760"/>
            <a:ext cx="1214280" cy="109224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8" descr=""/>
          <p:cNvPicPr/>
          <p:nvPr/>
        </p:nvPicPr>
        <p:blipFill>
          <a:blip r:embed="rId3"/>
          <a:stretch/>
        </p:blipFill>
        <p:spPr>
          <a:xfrm>
            <a:off x="0" y="5765760"/>
            <a:ext cx="1214280" cy="10922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D4FC-9B17-466D-977C-29B6A3ACB5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1F49-68A6-474B-8B2D-DC00E11E18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3413-D140-4E89-9541-714487FB0B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6BE5-7FCC-4A2E-A62A-0282701F11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AAB7-28EE-4738-B8F7-18D2BC7E64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87BA-1E8F-47A6-97AA-113D17B161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>
            <a:off x="2314440" y="4255920"/>
            <a:ext cx="451008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38B9-C8CB-412C-94CE-6892112204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903C-8C9E-4773-B1B0-AF2EEFEF27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EE89-53DE-4351-9CDB-B2A43BAF34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D6DB-F93F-4588-9645-D23CAAAC82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5" descr=""/>
          <p:cNvPicPr/>
          <p:nvPr/>
        </p:nvPicPr>
        <p:blipFill>
          <a:blip r:embed="rId2"/>
          <a:stretch/>
        </p:blipFill>
        <p:spPr>
          <a:xfrm>
            <a:off x="0" y="1397160"/>
            <a:ext cx="270972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6434280" y="1397160"/>
            <a:ext cx="270972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矩形 8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bfbfc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8E4B-B125-488C-99A1-F4CB56EDA5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87AB-0FF1-4BEA-975F-BA39F5C5CA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4A8F-B2F5-453A-AC7D-82F1CD447C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E781-3E35-4D22-99E7-70EDDAFA28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1671480" y="1698480"/>
            <a:ext cx="5801040" cy="1381320"/>
          </a:xfrm>
          <a:prstGeom prst="rect">
            <a:avLst/>
          </a:prstGeom>
          <a:ln w="0">
            <a:noFill/>
          </a:ln>
        </p:spPr>
      </p:pic>
      <p:pic>
        <p:nvPicPr>
          <p:cNvPr id="1012" name="图片 2" descr=""/>
          <p:cNvPicPr/>
          <p:nvPr/>
        </p:nvPicPr>
        <p:blipFill>
          <a:blip r:embed="rId2"/>
          <a:stretch/>
        </p:blipFill>
        <p:spPr>
          <a:xfrm>
            <a:off x="317520" y="3637080"/>
            <a:ext cx="822168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图片 1" descr=""/>
          <p:cNvPicPr/>
          <p:nvPr/>
        </p:nvPicPr>
        <p:blipFill>
          <a:blip r:embed="rId1"/>
          <a:stretch/>
        </p:blipFill>
        <p:spPr>
          <a:xfrm>
            <a:off x="547560" y="144360"/>
            <a:ext cx="8242560" cy="65674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2"/>
          <a:stretch/>
        </p:blipFill>
        <p:spPr>
          <a:xfrm>
            <a:off x="1187280" y="4710240"/>
            <a:ext cx="3889440" cy="4474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3"/>
          <a:stretch/>
        </p:blipFill>
        <p:spPr>
          <a:xfrm>
            <a:off x="1289160" y="5445000"/>
            <a:ext cx="3889440" cy="4478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4"/>
          <a:stretch/>
        </p:blipFill>
        <p:spPr>
          <a:xfrm>
            <a:off x="1116000" y="6180120"/>
            <a:ext cx="676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204840" y="1023840"/>
            <a:ext cx="8734320" cy="48103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6804000" y="32846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1908000" y="3933720"/>
            <a:ext cx="100836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3995640" y="45813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5"/>
          <a:stretch/>
        </p:blipFill>
        <p:spPr>
          <a:xfrm>
            <a:off x="7093080" y="45813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6"/>
          <a:stretch/>
        </p:blipFill>
        <p:spPr>
          <a:xfrm>
            <a:off x="2556000" y="522936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595440" y="1033560"/>
            <a:ext cx="7953120" cy="47908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57636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6948360" y="121140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6372360" y="2421000"/>
            <a:ext cx="143964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4773600" y="2133720"/>
            <a:ext cx="57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2138400" y="2421000"/>
            <a:ext cx="144000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5508720" y="3284640"/>
            <a:ext cx="143964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4067280" y="3933720"/>
            <a:ext cx="143964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2987640" y="4581360"/>
            <a:ext cx="144000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1908000" y="5200560"/>
            <a:ext cx="144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42960" y="1238400"/>
            <a:ext cx="7858080" cy="43812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1692360" y="2852640"/>
            <a:ext cx="2519280" cy="20890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2916360" y="2133720"/>
            <a:ext cx="158436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6012000" y="2852640"/>
            <a:ext cx="2519280" cy="28814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7236000" y="2133720"/>
            <a:ext cx="1584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700200" y="1390680"/>
            <a:ext cx="7743600" cy="40766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2664000" cy="2519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2527200" y="1700280"/>
            <a:ext cx="89244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4"/>
          <a:stretch/>
        </p:blipFill>
        <p:spPr>
          <a:xfrm>
            <a:off x="5465880" y="2176560"/>
            <a:ext cx="2663640" cy="31240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5"/>
          <a:stretch/>
        </p:blipFill>
        <p:spPr>
          <a:xfrm>
            <a:off x="6805440" y="1671480"/>
            <a:ext cx="1582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714240" y="1442880"/>
            <a:ext cx="7715520" cy="39722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2232000" cy="30970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2627280" y="1571760"/>
            <a:ext cx="1584360" cy="4474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5076720" y="2276640"/>
            <a:ext cx="3024360" cy="30970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6946920" y="1571760"/>
            <a:ext cx="158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314280" y="1562040"/>
            <a:ext cx="8515440" cy="37339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2"/>
          <a:stretch/>
        </p:blipFill>
        <p:spPr>
          <a:xfrm>
            <a:off x="2987640" y="44658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3"/>
          <a:stretch/>
        </p:blipFill>
        <p:spPr>
          <a:xfrm>
            <a:off x="4140360" y="45086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4"/>
          <a:stretch/>
        </p:blipFill>
        <p:spPr>
          <a:xfrm>
            <a:off x="5248440" y="45086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5"/>
          <a:stretch/>
        </p:blipFill>
        <p:spPr>
          <a:xfrm>
            <a:off x="6443640" y="44658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6"/>
          <a:stretch/>
        </p:blipFill>
        <p:spPr>
          <a:xfrm>
            <a:off x="7553160" y="4508640"/>
            <a:ext cx="100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8" name="图片 1" descr=""/>
          <p:cNvPicPr/>
          <p:nvPr/>
        </p:nvPicPr>
        <p:blipFill>
          <a:blip r:embed="rId1"/>
          <a:stretch/>
        </p:blipFill>
        <p:spPr>
          <a:xfrm>
            <a:off x="262080" y="1333440"/>
            <a:ext cx="8619840" cy="41911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755640" y="306864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3"/>
          <a:stretch/>
        </p:blipFill>
        <p:spPr>
          <a:xfrm>
            <a:off x="900000" y="386064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4"/>
          <a:stretch/>
        </p:blipFill>
        <p:spPr>
          <a:xfrm>
            <a:off x="1042920" y="4610160"/>
            <a:ext cx="381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图片 1" descr=""/>
          <p:cNvPicPr/>
          <p:nvPr/>
        </p:nvPicPr>
        <p:blipFill>
          <a:blip r:embed="rId1"/>
          <a:stretch/>
        </p:blipFill>
        <p:spPr>
          <a:xfrm>
            <a:off x="347760" y="1166760"/>
            <a:ext cx="8448480" cy="45244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2"/>
          <a:stretch/>
        </p:blipFill>
        <p:spPr>
          <a:xfrm>
            <a:off x="1042920" y="4379760"/>
            <a:ext cx="5905440" cy="44784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3"/>
          <a:stretch/>
        </p:blipFill>
        <p:spPr>
          <a:xfrm>
            <a:off x="1116000" y="5157720"/>
            <a:ext cx="5905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33:2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