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ADB-4F28-40F5-A07B-890EA713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930-06B1-4DF7-9E5F-0C208948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DBD7E-6556-4659-B0FA-F16B3414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D5D18-7372-4AD4-89E6-F6E9AA7D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BD7B9-C0A3-4402-B6BC-0B2D231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75BCD-46FF-4E5E-A635-6986F4B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5F7C1-7F3A-4756-B8AE-07ABF61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D216-C10B-4BF4-9E2B-5349B48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5D20E-DEFB-4E68-A656-CF56988E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B2E06-BBE6-44D1-8878-C0BC8EF5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ADCF-A9F2-4111-862B-B01DE630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C6F3D-BDD4-4A23-8585-0C9BD10B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B9F-7054-4C88-89C5-AA771356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02923-4210-4ADC-9784-A88C3A75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B7F85-E958-4121-A19A-84C99D5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67367-6353-4871-846E-62B94F31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06AED-EC0E-4067-A1DF-86B0C4D1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23DF1-7A6E-4818-A0B3-0D4BACB2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F8347-B3C4-40C2-B735-FC1BB1B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32A79-747F-480F-AEAD-85F69A2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B96A8-4EFD-40DB-8B77-4C739E44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D90D1-BA40-44F2-90CF-C1F1694E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B9C37-AF6B-4FA2-B9F8-7C37F8B2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B05-00E3-4811-B5EF-F656543B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25E52-02CB-409D-8925-B5AC9C79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331A7-50DE-4E2E-891E-BBE55FBB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1909-99D0-4BF4-BE39-3C0131A9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F8526-F32A-4D9E-9E65-5092533A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6DF01-8C88-4A75-A62A-C1D57E8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4253B-9593-4C62-BBC0-6A8F6733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D8B89-0555-4C82-9E80-24173A38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83137-FD9A-4F09-9F2D-5D8A31E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514E2-475A-4C24-92E4-9090C6A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D0F16-F7AD-40A2-A680-5770F98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9DF-68BD-4C24-B6E5-06EA9EF6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B7143-95BF-48BD-B6CA-C970C2E0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2FA46-518F-49E7-A2C7-16F7609F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88FAD-BB7B-496E-9724-B49F921A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D881C-476C-4B8B-BA85-10DD9D60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D8453-4232-4F35-9B7C-61498E63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2C0A7-76E7-41DE-B520-25744C29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2DCB0-6416-4A34-8ABE-EF25698B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58957-B3FE-4A3E-B444-245075DE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11055-1CB1-4BE3-8E65-5E2C45B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F2060-A164-4501-A159-2C70978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AF4F-835D-4080-A5BF-2C661369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E0F92-D079-4ECB-85D1-608D667F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0E49D-00C8-47BA-8796-F8346140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229BE-6CB6-4AB1-9D85-61B33FF3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3DD12-9C5D-4EB9-9B0F-4FDEB193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B0A8A-F3DB-4EF3-A8B4-E9A4F034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1AB0E-581A-4A51-BCD1-1050DA3B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8FA02-A3AB-45DA-A983-1AB38AF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24327-EDB3-4C7F-BEAE-3ACFB0FB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D63D8-CBBC-41A2-8F3E-31DA1028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C91E1-5D5D-4488-837D-80949B43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F89-CEC5-42C6-AA9F-B269AC4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000A5-609E-4008-83EF-E1705C47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B6647-CCAE-4CC3-BBCF-511A669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31E7F-C8FF-4BDB-A29C-4F59FAF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19450-E31C-47EC-8314-666E4C9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09078-5C3E-4938-96A7-874DDC60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D7FBD-7BF0-4536-B459-F170B065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79D3E-97F8-4ACA-B1FE-E4FC7550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E79BB-ADF9-4E0E-BF75-617F1E9D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05915-C618-478A-A01C-E0831E5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6314B-94D6-40A9-99AE-8A5571B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2900-33F5-4736-96B8-A922B07D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F3A9A-A5DB-4F3C-A23E-CA971CA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54E58-F3E5-4145-B609-461F6017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45623-10AE-405F-89FF-7FB2B27F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321AD-2892-4E3F-8668-9CB1D9EC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B54DA-FC55-4B15-930A-6D496B78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4007C-E4CB-4B3E-8D19-56626E3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5B72C-6124-4170-BFB5-9686723D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82676-81BA-478D-AB90-7132A739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47157-37EA-4CFA-9042-2E40F63B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FA107-C729-4A7F-87A4-6684727F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FA45-B368-4662-A4F0-5B353010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20A9C-E758-4A0B-B5AD-D15CA7A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40E14-8BE2-47C0-8AD1-0DBBB981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26A0C-0F3F-4B4F-9FCB-779B7F3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0BB2E-6D2E-46C6-8731-6C0E08B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C7A9B-801D-47A2-B244-BCD8A9D1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D2444-0A63-4D4E-A7B9-44E55DC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23CBE-3150-48D8-9520-84A71BFB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CE792-AEFD-46C5-96F9-39E07EDC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59E84-66BC-483E-9F9D-1B499BF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E8669-6E2A-4A94-A8A9-6AD860D1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CECA-51E5-4BE9-9854-5972BCBC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0D7A1-8CE7-4619-B6E5-B2F0344E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39F5F-863E-4EA9-8A60-4F8037E4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49AE9-153A-43C0-96E0-87E9690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04BB3-D716-4D82-A5BF-897B0E5E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CCCDE-2745-4194-AE4C-D474CECD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1D6A0-F114-413B-8E25-CEE199FD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0EECF-AD8F-4B85-8723-4AFD2661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E9ABB-C596-4DD1-8BFB-D1AD237F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F75C3-2BF8-4912-957F-CD63743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0E05A-E215-4DE5-B8D3-4E5A369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7FA-2474-441F-879A-AF8BAC4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A5842-BA81-4A0C-9A68-485DB9EB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9C7E1-0C43-463F-A4CC-32FCA241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92CB5-7671-44B1-861D-5A93A81F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2BA51-18BD-4281-9C07-62BC1FDA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960B4-14E1-467D-B44F-EB09798F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F7841-C357-4DC7-9DAA-57197A3B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474AD-E878-45B1-AC3A-D4AD5B74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49C1A-EEEC-4EAD-8AA3-C237B19A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DF726-D830-457B-B842-9D4E77B0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BB64B-DB23-4BB9-A272-F6EA1E87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EC1-AF4C-4644-AB35-4B738480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7AF-614D-487B-8AC0-8EDE89B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3CB13-A202-459A-BE6C-0B5D07C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A6AAC-2989-48F7-A029-D230303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A664C-6604-4B99-9451-560121A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E6F5D-575E-4EEF-A851-884CF64D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F287F-595B-428D-AD59-4FC9AB4A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83CDC-6DCB-4360-862A-E2536BCE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AC446-C27E-4305-9FD4-844CB1AC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07519-9760-46D8-8FD0-2C1A23ED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57D72-330F-491B-ACF0-44403172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BDF6F-1BCF-4820-A1B0-8FB7AAC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36D-95B9-4233-B119-20B0900D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B4E8A-AF03-4D4F-B339-4476E925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73BAE-27D3-487B-9474-61068DC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A2A01-36B0-4441-B630-5124DB1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ED6DA-A7F6-4659-99D4-8C6579FB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3BB92-487C-4CED-A985-4464D44D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EE213-EB2D-4EE9-8DBE-43227746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C1B03-94C8-4B88-9D9A-27ACBBF8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AE48C-01C3-4B60-8852-C2A46188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CF8DF-75AC-40E9-AE97-CE2EF15A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62668-BAED-416A-BD80-069B4186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B7B8-E3AB-4255-9A19-85F9CC1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E7DC31-95C9-48B8-B8DA-33A85F2F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20ECA-81F6-4816-9704-C61A3C5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7772F-C66D-4B2D-B997-67C43D1A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F92E3-33F5-44BC-BDF9-10F3CF43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8A4C9-6BBE-4F2F-9520-348A4F0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B1E44-F76E-4E9F-A72E-6BDA58B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014DB9-8484-47BB-B890-6C3A42F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AD96B-DA52-408C-9386-092B87B2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EF74D-F6D9-4B42-AC0D-6D7DC96F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4DEE1-CB4E-48A8-9D51-24903E30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B65E-97F9-4A6A-810B-CD1CFE41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BCEA4-DB2A-4FAC-AFCF-29A7F02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A3A8E-FC47-4B30-A17E-8A4C9D15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1DF37-ECB7-47B1-A871-0E1D9E4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617992-BDA1-4B83-82B6-70EA894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CA9BD-1547-43E5-A29F-CF3D8F18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7CD6E-DE44-4710-9469-DD5B83B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02C09-78D6-4B8E-A7BA-FDCE8E2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E93AF-ADC4-43F4-BDFA-B5AD58F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2AEC6-F873-43FA-9331-75E69D9B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269DDA-9116-468F-B680-744E4B60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E3F0-F22B-412E-8B2C-7E584873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E6E12-3CA3-42C5-B09F-D5F044EC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0E2D9-E9C0-4550-ABAD-9353E13D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635AD-AA97-4A03-84B6-2A86731C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1274A-F90C-4F4D-B50A-1A9FC39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382A0-0332-4502-8B8D-790B0FA9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6B8D6-0191-4D8B-93B4-A2506E1A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2E40E-2423-4225-9B3A-C88FFA10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F424D-1ACA-473F-B327-4E7EDBB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1356D-D1B2-4E25-944C-B5B5DDE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5E90F-3720-47CA-AD74-0FA4D4B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1B20-9093-4CA1-9702-7656EA61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A8EE1-0C49-4351-B0C3-59E987D8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F12F2-6D2B-4893-B33F-1B301B62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8A66A-3A23-4C30-8566-37C78EFD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34BA-AF5C-4340-BF86-753C82CC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13D8-69D1-4C85-B076-5C66EEA6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0FA0-24EC-47FF-8C36-F4985072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E338-8B18-4495-BF50-1D538C5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4E3-3A26-43D2-B4A5-02DD199C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9A48-E219-4A5E-9E5A-8C9112D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9927-BD50-4F90-944B-A76CBF3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A811-ECE6-48C2-89CB-364BE91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238E-FF27-4037-A02A-7FD5EA80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2371-8875-412E-96AA-D8B5A603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D8FE-C316-4702-807F-BB72ADE3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D1CE-C2F4-47D6-8865-B20D7E09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2D40-2486-4F42-B562-71F4C0B0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CC14-ACF2-4901-91F1-E0F07F61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4FBA-CC6B-449B-BAB1-B378CE1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7BD-0415-4218-87F3-2F96074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BE0C-6DB7-4921-970A-6D92679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0A25-21FB-461C-BB9C-501AA1E3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0645-445B-4283-BDC6-2EE8A0A7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78B4-C250-4B9E-A8CE-D6C00AC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167D-944D-421B-9515-27B094FF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28CE-7B6F-4B90-A06F-5EC98111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347B-3F74-437F-969B-8B0CA24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1D47-2154-472F-AEF8-777BC615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87D3-DFC0-45FD-B3AA-6D09EAFF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8B7A-E350-46EE-A39A-DB5E8B68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072-F2C9-457C-96F3-3EB0969B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8D66-F805-4205-B97A-D693218E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609FE-0164-45D9-9064-9F27CDB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7F1A4-9F9D-4A32-8F9B-DB1463C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1E26-E4BF-4F3D-A48F-A9C49D58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651D8-D306-4442-A6EF-CD1A1603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14CB-EAE5-4ECF-963B-93246D6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ECD4-C7E4-41CF-A169-1D4C989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89C7-9E88-4ED5-91BE-93919CA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84B13-E3A6-4F21-A369-4D14C33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A5BE-CB08-439E-A60E-B1833452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3BC-BC0E-4E9E-956C-0B815EB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5D8F1-9FEE-4F10-A3B1-3CC218EC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16D81-7B75-418A-82E9-2FAB4E49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FA2FF-4198-4E80-8147-D0BB3C6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9F410-8BE3-42AA-9CE5-E9395056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AE6AC-9EAA-4EF9-B323-8DAFBE2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4EC6-0069-4E32-8FF0-1643121E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5E6B4-4D6E-4223-8B8F-AD97D1B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E098-1142-4537-BCCA-85CE371B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AD66-0AA3-4E79-96AD-EB96D9F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E058-AA23-48BF-B069-8B819FD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2C1-7990-4CD3-BFA5-9DF984F1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F3F47-75E9-4D39-B820-EA8FF461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E0E2-3DE3-4A24-A7BB-15CBAF9D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E3E4-5447-47B2-AEEE-ECDA0044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A476-EA84-4CEE-B7B5-E85928C8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5D0C-D327-4DB5-8102-382A011B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B40D-244C-4C62-973C-946D6D6C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886E-CFF4-4539-BDD6-7C497357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29C08-6E59-4A6E-AB6C-E81DB8F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B6D68-B009-4AA4-BAB3-D4DCC136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C3F2-D253-4529-A793-8D108159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161-F726-47C1-81C4-99F6006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757B-0ED9-4144-BA58-41862DD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AA5F-C157-4BBF-B24A-7B2EB7F9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712F-32E9-4030-86B0-7C3F13D4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F4F8A-D310-4D9D-8C7F-ED02B78B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B42A8-A02A-46CA-A306-4BEEA1B6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9674D-DAB0-4368-882E-6EB9BD25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C5FA-8B85-44E0-8018-3B075F2F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5EE06-22CA-42BE-BC02-67439C7A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0F8B7-F797-45EC-AA47-248448E4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34A74-F68C-4F9E-93B9-22A936E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F97-7AA4-4AA7-AA92-3BD51D7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073E-33F3-415D-92BD-2BDC7A36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00E5E-777F-4944-A166-A68C4FB8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2211-A952-4EEC-B2D7-0E5B65AB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891E1-B0CC-4721-9ACA-C96AF7E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267E5-7E94-457D-B412-A64D742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6B80E-F882-466D-834A-F43496E4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69ABC-0648-4FE4-978E-58993B06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55D67-2C45-478A-86BB-62FC9D2C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60D47-2EED-4052-9E51-6D45A7A1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41AA4-FC81-48A9-8DA9-F505B51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8EB9-2F28-47B0-B121-14BAE37650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734-A155-470F-9931-244134165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1490-AB87-4A87-AC18-B2A49FB2B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0590-C2FC-498B-A602-654378939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A62D-6A52-435D-81FD-FACCA12F2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4E6E-71BC-45E7-9375-846E1D7615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F58-17E6-46B2-B052-443EC9981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735F-1162-4334-8FA3-1F5D4BAB1A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25CB-4314-4298-9A90-CB0269E82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D492-B2AB-4041-8EF6-EEE901BF1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D6A9-26E4-4E62-80C7-91858AC6A2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254B-9739-409F-8526-F19AB353E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4A06-30C9-4148-BCA5-CC4ADB01E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983-DB9E-4D80-82B3-28C858915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A91-3F80-4013-940C-265B1F9521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5768-D695-49DC-AF9F-F219AE7E4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F84-D3D3-4579-BF53-3639989C6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EDD-836A-47B0-8190-81C3F9AB2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CBB1-0A0F-4292-AA6B-5FE2D0E3C3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E14-EC67-4B56-94FA-9FE8EB3BB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8D5-99E3-44A4-9CBD-E1A2AC4D50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5688-DCDD-4705-BC86-7C4529367F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3CE1-194C-475D-972E-D08BDEE55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AE11-148E-4800-9EBC-0DDF3880B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389A-B7E8-4C31-9CFC-4D76211B6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71C-1800-44A6-BF94-0CC6F17B60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5816-865C-4466-858B-990F30B47B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99B1-AFF8-458F-ADA3-3D630A5A8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F35-11E9-4A93-9A62-F09AD75771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E291-6245-4FC7-A5C3-196FA1B03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24E3-D4EA-40B5-B609-915A5C4F7D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94E6-0838-4200-A2CB-D636185558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3363-1688-44E6-9EC8-6B97CB5C3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5A9E-CBAF-47CB-AA22-54C6643E2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1C4-24B6-4FF4-AC0D-DAD6B811E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E9B-52FA-46F4-8E56-C1CE7F071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2D08-1602-4C66-9C2D-286856A507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6FE3-688C-4186-8FD2-BF77D3F30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BCD1-529B-42ED-B64A-6E0D33A78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3CE3-F8C3-4905-907E-F286E249F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85880" y="2909880"/>
            <a:ext cx="75722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252360" y="887400"/>
            <a:ext cx="8639280" cy="5781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900000" y="410688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1042920" y="4724280"/>
            <a:ext cx="568800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1042920" y="5950080"/>
            <a:ext cx="5688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08120"/>
            <a:ext cx="8591760" cy="610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948360" y="5603760"/>
            <a:ext cx="151128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311560" y="6292800"/>
            <a:ext cx="1511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47640" y="781200"/>
            <a:ext cx="7848720" cy="574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987640" y="148428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6443640" y="213372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3924360" y="3500280"/>
            <a:ext cx="1152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4427640" y="5373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4427640" y="4797360"/>
            <a:ext cx="115236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6659640" y="5373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8"/>
          <a:stretch/>
        </p:blipFill>
        <p:spPr>
          <a:xfrm>
            <a:off x="6588000" y="481176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9"/>
          <a:stretch/>
        </p:blipFill>
        <p:spPr>
          <a:xfrm>
            <a:off x="3132000" y="5964120"/>
            <a:ext cx="93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99880" y="1314360"/>
            <a:ext cx="8544240" cy="4229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971640" y="4883040"/>
            <a:ext cx="684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314280" y="1314360"/>
            <a:ext cx="8515440" cy="4229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55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55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55454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554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299880" y="1247760"/>
            <a:ext cx="8544240" cy="4362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525600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52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258920" y="4437000"/>
            <a:ext cx="525636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1187280" y="5041800"/>
            <a:ext cx="52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600120" y="1619280"/>
            <a:ext cx="7943760" cy="3619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116000" y="2262240"/>
            <a:ext cx="4464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4464360" cy="9363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03280" y="3933720"/>
            <a:ext cx="446400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403280" y="4581360"/>
            <a:ext cx="446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262080" y="1862280"/>
            <a:ext cx="8619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395280" y="1057320"/>
            <a:ext cx="8353440" cy="4743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518472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468360" y="2392200"/>
            <a:ext cx="5184720" cy="8208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684360" y="4005360"/>
            <a:ext cx="5184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395280" y="5243400"/>
            <a:ext cx="828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0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