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982-A214-4ACA-AE3B-8494F203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34C-FB66-49D5-B9C8-3D16A68B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1685-CD73-4E6E-993A-9ADF640F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DC314-BBD1-4E35-90D2-8DF512E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79E6E-55F2-4C44-953C-B420689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A18B2-F209-49FB-98A1-1D332346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E9846-B012-4B72-BBD9-5757E87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0219-11B8-4696-8463-342ABD07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2057B-78FC-42ED-8F9A-E0F01E1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6825-9D96-4770-9F67-35249C93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4C5AB-766E-44F5-88A0-A1757DF0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3A292-128C-49C7-89BF-1F58FDD1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695-7AD7-4FF4-B283-9EA7DB67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8773D-BEFA-4C90-B5D9-654D1E8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B47A-2D7F-4815-813B-5639457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8D08C-D555-444B-A7D5-7FF6C67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A54EF-868A-4593-B900-23CEF4B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22B77-BEDE-4C45-975E-473821D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D31B-E7D1-4044-9CDE-90842AD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DC95E-8A89-4718-B7FE-8BD5C69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A726B-A321-46EB-82B4-C7B3D4B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2212D-5A95-4598-BC81-C254D57E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F8D0-FB2D-4E46-82E6-51A2D9FF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F32-031C-4212-833B-2BB3EBEB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70FCF-2259-4AE6-A915-C41CC5E0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9BE6F-A8F1-4AC2-AB5C-AA27B980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FA09-6DD3-4028-81DC-69E5C51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2126A-C41A-4C90-850A-9C689E42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17B45-7784-4194-BDDB-A6E333DF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CD8F3-B316-4D66-8624-A851DB0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65DA-ED17-4DCC-B504-845F621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54B29-FEF6-41EA-A391-7F6EA02E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01EE-53D0-4230-BFE7-4E21D40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829A-A713-4A90-987E-7125C5C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84C7-E330-466C-A57D-E9965314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4F6B3-EFD1-4E04-9350-50F1A4F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368CD-7AA3-4FAC-9831-6ED1EC52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A93D4-F09F-4FA7-87C2-FA77C622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75CB6-1A29-4482-A054-C10D707F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B29D-2CBA-4D46-BFD5-3F11AF0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28B5D-EEB3-4418-AACF-6DE9DFE6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93726-96C2-44D4-8DE9-729C5F35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1A81A-B506-4C5C-A419-7935E1F5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2640F-6EF4-4DD5-9A5E-6C5143F5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E515E-A8C3-4CB7-969F-95A462A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749-79AA-4602-92BC-AFE9D27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10F8D-D2C4-4D16-881A-3F26B34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F1A55-A53C-42BE-B743-C565EBF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0A7EB-9347-4871-A416-003DE9B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347F8-3C3D-474C-95E3-CE23C65A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DC659-340A-46FF-A025-C11CAB95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897E5-66AB-463C-B9B6-AB75BA76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21D6A-3F45-46BA-8903-D3CAA6E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BF622-CBAD-49AB-B6FE-5E1BC19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3C7AB-ED65-481C-80B8-3189710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A36E3-395C-4EC1-B5EB-9B9B8650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F2E8-C4C4-4069-92F4-1FDC79B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5D6FA-7D8E-45D1-8E18-5DE3360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D5DE8-79FD-4621-AFBA-A55B65E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490E2-01B8-4C62-A5D4-F319E8E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568F2-68B4-4B80-815B-4FF4277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BAC5B-E701-4FFC-99A9-5C7CE70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8C831-C8A4-4C73-9621-B6C2C9A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55AB4-ED8E-4F77-BB3E-AD548151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A6898-2FA0-40A9-A2AD-522DF5F5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139E2-EBCA-4B81-810F-A73F09FF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27AD4-6B9B-46E3-A7B4-F43ABBCD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6B40-2AEF-495D-A730-0F4166F0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E4230-44E2-43F5-BD48-A2FC4BC2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E5288-5FFE-485B-9FB9-BAD9CCC4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52118-42C2-48F8-B451-6018E66C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CBE95-E905-4F91-94A7-58B763A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601EB-6656-4E4C-A019-A771D7D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36F72-0F5D-4CDE-8A98-87325E2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7975B-EFBA-4619-81AB-18D3D51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42768-0568-4112-B13A-CD3D59B3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6A8B7-4411-4B6B-8DA7-16DF7929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FB3A2-2050-41D5-A6C4-0A113B47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5B3D-5165-420E-9798-EDE2410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EB807-889E-43D5-AD19-4400D07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0A250-DBF0-4BF9-9C9B-6F3964D3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A631E-5C36-498E-888D-2D0D354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99728-83E9-4BB9-A41C-62511576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06A81-6384-436E-871C-6A08359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95115-EC63-4F37-A552-A39D401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02262-E4F2-4A6E-857F-49960D9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9EB92-9179-4F7A-9BF0-F3B8881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DA030-28A6-48CA-804B-1D71B3F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FBA52-3544-4CC8-B92E-993F56FB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C3F3-659E-4A1B-B79D-EE05D9B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A678A-2710-4624-8A96-6272C72F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0FF3D-754C-4E52-8A4C-F2B7B4AB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DBEEC-C5B5-4FA9-90E6-0A4B6A0F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95EAC-C6E9-454B-BC82-0B4F97B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FE74A-3877-4EE7-8057-65189809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65E7F-BB8F-49A0-9D2F-E5BB6895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719C6-B7A9-4B15-80A8-A1774BA0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6CAA3-3DF3-4BA5-8D51-4D74BFA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9F434-E7A4-49EA-A9E5-751ECF1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158CC-5B8F-4CFF-B9DA-1F1D18B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32F-F8A2-439B-953B-129082B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1EA01-6018-4472-825A-9F3653E8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0A91B-0491-4F39-AA09-C2792B4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9D1D6-EA6F-46B0-AF71-2385191A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F591B-B8A9-4C6E-A896-1A0330BF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23F07-40F4-45DD-A542-E46FCC8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AA876-72CC-4E25-AE65-59C8163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125C4-97A4-4397-8F57-0BCD013A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FEE55-D77E-4BFF-A330-05AF558B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FBADB-2895-4FFC-80A7-34BB9221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8C1AA-D7FE-4DF4-96ED-A100F59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F87-EF9D-4B78-B829-C76318C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631-9996-4227-A9EE-DB8EC2E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F3EF5-6722-4E6A-AD5B-C931B14C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9E07E-7746-440C-A218-0E4775E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3ECD1-A97E-4708-94D3-D1F4EF1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2739E-93FB-4AFA-A44D-8D8298D9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0C41C-8E7A-4755-9786-5516E112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0E2CB-901A-486D-8D81-EE085F42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72F8A-2965-4D6E-A917-AFA6A8A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B6C6D6-3415-4499-8C13-E1E4594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1869B-C04A-4FB3-9544-30C5B83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9B899-90F1-49F5-8860-42D65D4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7FD6-BA54-46B6-B939-2C74F78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D2E3B-FD8B-4AA7-9424-2F68F90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57944-44C4-488A-880D-853F5AB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57849-DD2F-4020-A286-6FCF45A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98ADB-A042-41FF-ADD4-7A0C98D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8D4F3-73A2-4C32-B0F6-410BF9A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0720B-A873-42B8-BFCE-9951468F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1AAB9-2BE8-41F3-B738-16977CAD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F3FAC-C15D-4AA3-82D8-3D460CA4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00C1F-E3F0-4AB0-85D5-A5FC78C3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85D60-D969-4C1A-9501-10A6D31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CAA-559A-4542-8483-2A3B2EF4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BC696-2D1C-4003-B855-8B70E87B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23BCA-6155-49D3-834C-3C4992DC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381EE-11AC-4BA5-8118-BE54EE9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62BD0-261A-4A4E-942E-1C359660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3217F-3ABB-4750-8D09-744DCD8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1441C-9A13-4302-91EE-9CDAC2B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0941B-7C51-4B24-AED2-E55E7D1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FD3A5-003D-4618-9F1A-204546EE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8C167-EEF0-4D32-91FC-4DF70F90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9D536-E185-4BF3-8131-332911D9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453D-EC19-4172-9854-8F5100F7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5A223-D936-48DF-947B-22A0DBE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DE934-01C9-410E-8648-C46FCC75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B6E12-4A09-4B92-947B-4A9FB1B5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7DCFE-152E-44DB-9863-A8EA1255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AEAAE-2714-4EF5-BC9A-61FFE51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12EB7-F2F5-42CF-AAAA-C4210A5F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2F041-9167-4265-A2A3-C1A6C951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861B9-B5F5-4B84-BE0B-06C0C05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869D0-1788-4443-9801-9F24D5B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590BC-B4F2-4A68-8025-739E6E32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81B-E11D-430C-A586-0CEBE1E7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568F5-9E69-47D9-B71B-6990A74F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3BDE1-9C50-44DC-A726-C5A4359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47C58-C120-4A69-8687-05A8C6F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8F716-4781-4B06-89EC-E8E28966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A4C28-02B9-42B4-A3C5-AD98AB27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B27F8-4E76-4F36-BCE2-0F9C1974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F6B2D-0DBB-43B7-84D8-2CCF763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F8FE5-EF15-4530-B759-ED57F9D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90AFB-B6B8-453E-8EBE-EC6C42CF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AAEDA-F3F8-4329-B1FD-413551B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16D6-F5CD-47BB-B4E2-07A74F84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83ECC-2F62-4670-B537-165D6770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45358-A061-4A23-A14D-8A8F5025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7EAB9-E4E0-4BEF-A02C-9254BD6C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6240-6435-4E6C-A0B8-756F2096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C410-B20E-4595-8735-0B3F1EF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AE69-C141-4FC1-88FB-0ECD7136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13C9-4A13-4C27-87D9-93031DF5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467-ED08-4173-9CD8-C514AAAC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0A7A-1E15-43FF-ABC8-7F31046C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947E-E018-4D5D-9F10-9ACECD1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CC40-820B-4CF1-AAD8-6DE9B6C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645E-2D29-4584-84F1-BD53EC9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9974-20D3-4361-880F-1240A5D6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4E35-A284-4396-81B3-D7A72682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8243-D2F8-4AFB-97D4-3ECEAE43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D62F-76A6-4D88-936A-53906ED7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0BEB-6E1F-44F4-B5AA-5CCACFA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7945-081A-40CC-BC09-04D012B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AE8-F978-4584-A790-611FE05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E638-C2F5-42B2-A6DC-22267AF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2A0D-CBA4-42B6-9847-1D92CE0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3A30-1FC8-4F0C-83D8-487DC77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F146-3B14-42D5-9CA9-ADE7A2B2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9816-5DE6-4A23-A11C-47C58DA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6A7D-AF37-4117-BAD4-BBFCE96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E819-CFAB-431F-B74B-39B0B814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E5FE-707C-4E4E-9102-B5D56DC9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37C9-66C5-4711-99DD-C61A7CF6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8671-5F27-4CBE-A8D4-8A428F4B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EDA-386A-4010-A662-B4E43C4F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5A45-A0DA-4CAF-8817-EFC9568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430F-43A6-40D5-8E7B-A01F941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D5628-A88E-4694-B4C9-9FFD65C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8372C-B12B-4C15-94F7-AC17CE0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5049A-42C4-40E9-BD68-080B77C6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50EA-1681-43DF-8389-F192F1A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D9CAE-4736-49E0-9D77-2784450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9C77-4040-418C-B434-226DDDB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6B7C-9A91-4D8E-BBF1-935F3539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01A8-7C2A-483D-A793-99D25432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B8F-0BCB-474B-BEA1-27F84C7B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A172-3D17-442C-A501-2701EE7A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C104-1DE1-4EC6-9D58-BD103F2D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0D69-3247-491D-BCAD-54626007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5AB05-B03D-470C-BDCE-ACB74936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C672-A7F9-4E9E-B3EC-A0F3047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09D0-A0D9-48D9-8972-4FFDF764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E86B-2DE7-4D27-8527-114A9F1B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5290-0FC1-420F-9F7E-4383AC7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652B-B225-4106-B341-1E4D832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F796-9345-4182-B1D7-61CFECC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794-C1AA-4434-A511-1138479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794E-78A4-4D70-9F2D-575C508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98E81-89CE-4E31-8B60-9FBA14F2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BDF2-504B-4977-99BF-7D1A6CF0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02B57-0D8D-4D22-BC85-9629304F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CD18-5E30-435B-9D46-2E315602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E995-A01E-47A6-BF71-B4FF9BF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B55E-3F06-48E3-8DA0-1A9FDED4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3095-204B-4FF0-ABDA-99B5886A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75996-10AD-4CC7-974D-AA50DB1D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BBFAE-D3E3-44F4-9D95-8FF5585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E11-6F8B-4810-AA07-C92AAD9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5A78-2E6A-4AFB-9EE0-C7E6687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0C11-ABA4-4830-B1AB-18DCC12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531B-9F6A-437C-995F-93FFF8F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EB79-FA72-46EA-BE0B-46D5FD19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68A1C-CA97-48D8-BAE9-802C267B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FF5D-90D5-4875-9B0F-00B428F6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E42AB-C18D-4589-B44E-EC4970B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98E3-BA30-4C58-A582-33765773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6CACE-62A4-4BDA-81F5-1CD30FA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5F8A3-26DB-4D80-ABFE-D8F8C262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92E-7BC4-4732-881A-7E130AA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14FD-3760-4823-9474-5636C73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CFC99-1B5C-4EE8-8242-00909481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6CF56-BEC7-4FC4-B317-1FD75E2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8F18-9572-4ACB-ABE6-B49D55F8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E01F-6CB2-48A0-8B87-E30600E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FA6F-D281-4550-8FD2-57650541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F5C19-2E3C-4A51-AB3B-02784CA1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8A1A9-62DD-4D5E-857E-A5199E5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5B44C-F681-47CE-BD94-2CF8C45F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F7D1-5A06-481A-84FB-7B7041AF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8C2-55A9-454C-ACD9-F396DD465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7295-2C17-436C-A2AD-C561806F5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A85-1AF0-439A-8DB3-5F7966804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CEEF-EEAC-402E-88A8-51BBB0FEE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5F2-EE3E-41DB-9EE1-A6B390227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794-BB9E-4DFE-A6E0-927F71269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9BAF-351B-4797-BE96-90D327694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E05-1944-459B-ACE2-1178089F4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6DA-DB89-4F18-B0C2-7BFCB12B7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78F-7BB0-4F52-AEF2-BF91F7349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CB11-9A88-449C-BDD5-AFC00752C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315-3356-44CA-9D52-9FA8FE322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B0FE-69E5-4C77-B551-754326EE8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E99-CAF3-43F4-AC53-52ACF5820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0A6-408C-4B09-98F4-C0037CDE3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8BD-26EB-4249-88E1-A9DB311F8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3B3-6F86-4695-B0B3-BA740F06D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42A-5D8F-4438-86EE-CCBAD8A85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6DE-BDB2-4280-8A18-1AB586D9F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2A3B-9C57-4478-BA93-03D03B4A8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474-33E7-4093-8D14-F2317E5B4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E2EF-6ED3-4423-BE36-74975C3A2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773-55B3-4D8E-B318-8EBABF902A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DF3-BA8C-403A-9E50-97C2BD2C8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DC9-513F-4235-B04F-2E268F05B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A311-65FF-450C-8AD1-550A00246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BD4B-E762-4C0B-9C94-8959E2926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350-DB90-46C4-9DF5-7A4138A1A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53A-76AF-4E12-AEA3-E3699B250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989-7369-486C-AAE4-112CAF977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C218-A723-43D6-B77C-1957B9841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582E-76DA-45FC-AE93-50304B67D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7611-BE27-4F80-8AF1-A7C52EB68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D4B1-B119-4493-B728-04A94E37E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3FBA-BE7E-4436-95DC-DF45380D5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BD97-2E17-4826-B48E-DB6ACB7AA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6FA-5F02-41ED-8F86-20450431A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F81-2CCD-4D86-B94E-4DD141F54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D0C-2DE1-42AF-920C-8DB2CE04D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39C-ACBD-4687-9D9E-154D9A04C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248360" cy="7905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50864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9633" descr=""/>
          <p:cNvPicPr/>
          <p:nvPr/>
        </p:nvPicPr>
        <p:blipFill>
          <a:blip r:embed="rId1"/>
          <a:stretch/>
        </p:blipFill>
        <p:spPr>
          <a:xfrm>
            <a:off x="958680" y="4076640"/>
            <a:ext cx="7429680" cy="191448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9634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7391520" cy="196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3059280" y="1916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3059280" y="256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529272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5292720" y="25797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7596360" y="1916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7596360" y="256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1763640" y="44514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1763640" y="51004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1"/>
          <a:stretch/>
        </p:blipFill>
        <p:spPr>
          <a:xfrm>
            <a:off x="4284720" y="447984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2"/>
          <a:stretch/>
        </p:blipFill>
        <p:spPr>
          <a:xfrm>
            <a:off x="4284720" y="512928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3"/>
          <a:stretch/>
        </p:blipFill>
        <p:spPr>
          <a:xfrm>
            <a:off x="7164360" y="44370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4"/>
          <a:stretch/>
        </p:blipFill>
        <p:spPr>
          <a:xfrm>
            <a:off x="7164360" y="508644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04920" y="652320"/>
            <a:ext cx="8534160" cy="5553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435640" y="38894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76720" y="456732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340000" y="5748480"/>
            <a:ext cx="14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86880" cy="4800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588000" y="106668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87280" y="1657440"/>
            <a:ext cx="14418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292720" y="170028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651640" y="2276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380360" y="2320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4643280" y="2924280"/>
            <a:ext cx="216072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802800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9"/>
          <a:stretch/>
        </p:blipFill>
        <p:spPr>
          <a:xfrm>
            <a:off x="125892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0"/>
          <a:stretch/>
        </p:blipFill>
        <p:spPr>
          <a:xfrm>
            <a:off x="2916360" y="35002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1"/>
          <a:stretch/>
        </p:blipFill>
        <p:spPr>
          <a:xfrm>
            <a:off x="5508720" y="3500280"/>
            <a:ext cx="21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2"/>
          <a:stretch/>
        </p:blipFill>
        <p:spPr>
          <a:xfrm>
            <a:off x="2916360" y="532908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318960" y="1866960"/>
            <a:ext cx="8506080" cy="3124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88508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88508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885080" y="4508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395280" y="290520"/>
            <a:ext cx="8353440" cy="6276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995640" y="12114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924360" y="1844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924360" y="24210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3924360" y="3068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3924360" y="46530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3995640" y="5243400"/>
            <a:ext cx="468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14280" y="1295280"/>
            <a:ext cx="8515440" cy="426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63370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900000" y="4249800"/>
            <a:ext cx="7920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5300" descr=""/>
          <p:cNvPicPr/>
          <p:nvPr/>
        </p:nvPicPr>
        <p:blipFill>
          <a:blip r:embed="rId1"/>
          <a:stretch/>
        </p:blipFill>
        <p:spPr>
          <a:xfrm>
            <a:off x="333360" y="1552680"/>
            <a:ext cx="8477280" cy="3752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50864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343080" y="1219320"/>
            <a:ext cx="8458200" cy="4419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257040" y="1633680"/>
            <a:ext cx="8629920" cy="3590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755640" y="31561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49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3:4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