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A268-43CA-48BC-8346-DA9AAE7A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D5C7-18FC-4BA8-8E32-939707F9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3ED24-DC95-4553-A505-387654B6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C7A10-BA99-4A7D-B09A-CEAA16C0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CD369-B11F-485F-B136-204F6CFE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A511E-F64A-41C2-A2FE-B90626E9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359A5-6D3A-4DCE-BED8-F958EED3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67ABE-0780-487D-8185-08B7CDCF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FFA01-7449-4076-BB16-1DC5829D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C8791-47E6-4E3A-8BA1-67EEAB7B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57973-F634-4432-97CD-0C9F933A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921EC-0164-45A4-B9D4-CE4ECFEA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088-0BE6-4FE1-8BF5-73F21191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44ED2-C978-4E62-86AF-30F75C75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24CE6-5E99-440C-BB4B-718B972A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2F95F-8430-461C-8219-FBB81382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343B0-AD76-4903-BFC4-D712161A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D6B52-D640-4B15-A008-77618D59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C306D-2BEC-4283-AD02-BC171B36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F11B5-8EB7-49E7-A530-FBD3004E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80896-31B3-42BA-B8DC-AECFA05D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F9A76-7E7B-45C2-9E1D-DBC5C113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30BD4-801C-498F-A76C-7795FF2B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B152-0F2E-449B-B107-FDF78588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308D4-7426-406D-9D17-1EC6C88C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3A35C-D4EE-4A31-8354-4A17AB8C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418EB-0CF3-4AFD-8474-A38C80C9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13558-F49A-46D2-BED1-D3E3DE45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8D15C-FF33-49C2-9A49-8E4F64B0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28847-3BBC-442B-85B1-CB71EAF3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6CC92-952E-473C-86E3-1E7D098B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095B7-B75A-4E5E-9F65-C9CD1C42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50AD7-56F4-4F13-8CCA-76FB4B6D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8BA11-1966-4E9B-B377-3B16BC4D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ECDC-B2F8-4023-9D93-4094915D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68D1B-48EB-496E-9FCC-0B1B558B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1101B-2767-4F13-8861-B406014C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697E2-693F-47D5-8D77-07A4ABBE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FE893-44A8-43ED-A8F1-62F6F21B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F0050-9A6B-473C-B652-1732CCB7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4C8F2-2095-4B76-8EA8-C0ED1697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BAC6A-8B38-4047-9365-8D28DE00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3FB6C-AA6F-467C-A218-DB3BB0A8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2CEE7-92CC-4560-BC12-F3E2A210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507A4-4F48-43C5-97A0-3D880BA9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4E59-02A1-475E-8F2F-74DA10B4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5D273-B8E6-4203-8D11-9D1C5B46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B0B88-629E-4B09-A50A-FBEF9D47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79FCA-7E61-45EE-9020-5335087A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0657F-1E1F-4F9C-BF1E-70735D95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63F36-E198-474B-80CC-1D7E828C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B35DBD-AF90-4A01-AAB1-33C3A890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FDA54B-CE0B-4C6F-B5C0-141D5702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993B44-E377-49D0-93CB-F6267C9E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E80DBA-D7A4-4B2B-BA71-FB210E9B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3D1DB8-B69B-4C41-9CBE-30DDC0A2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A6FC-62D4-4CF7-8BBA-0616294D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CA3592-3FE0-4CAC-B987-E8F5691B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61DA44-AACE-4076-B1F3-A0E88691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171F21-2F43-49EE-A5F0-6F909E94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BEC2E8-EB6E-4AD6-B86D-7121FA1D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5D970-8533-4943-B8DF-3D019953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258ABC-9E0A-40F8-883B-9CC90150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955DA8-24F8-4F7D-A977-4056905F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5AED09-DDB5-4191-9958-B0733497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AD841F-5EC2-40D4-9EEE-7E227F89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6D2284-A113-4554-8419-139E5ED0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B9CA-0962-4A33-8D6E-E6A76183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6CC387-3808-4761-991F-231DAAA5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4038A1-5992-4C3D-B518-3FDBDB33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E90525-859F-4402-B0A7-D658C422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2B199F-0BBD-4046-A983-AC3B1696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C3B67E-7D92-4651-A810-373592FD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475F1E-C839-4FDF-B592-E1356C64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7AA810-5CF1-4070-82A9-0DD188C1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52807A-4E96-411D-8B7B-19D283E6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9EDB2E-4F66-4560-814E-F06C5EAD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991257-919A-4FE3-BF50-164DA928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3784-6124-4222-BE0E-9A4714F4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AEDDA9-F3C8-4065-9C68-045648E4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10D149-1A05-442F-8BCF-CD735996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BA2C11-7FC2-434D-8C25-1A9F3164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8109EF-FE37-43AE-8403-4275A4EC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CEDE3-0605-43CA-8015-0932D145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68215A-CE63-4713-9B81-F7F1C257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2BA1EF-4836-402A-AB8B-93BEBC8A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3AD477-017F-44C7-A87F-9BB5520B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C55E4A-608F-4C4C-A440-FBA3CE33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BAB665-7632-4353-9226-2D1390A4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F944-0ABE-4F3A-ADF9-7C13BED9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31E65E-772E-4A01-8548-7B8DF827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EBE540-E2F2-44FC-BC68-D879088D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CF01B2-B9C2-45DF-A74D-D98C4557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41BBEA-212B-4289-BE9A-8129A9EA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6059D1-4384-414F-AE8C-4F62D485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C0BB1E-A24B-47FC-9D2B-A7F9B58C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83B436-6F4A-46C2-8B6A-F608FAFB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7DA09E-2996-46D9-B680-9B6ACB32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BBEEF7-0027-425D-A276-2E58465A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B26B89-D988-4400-9909-C3087CD3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A2BC-B6B2-4006-A5C6-AA49260B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5021D4-D82A-4E2A-B544-457DCB33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0CAAED-212C-40A6-A720-F6C3AD58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161292-0051-48D5-9C1A-576C24B1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E522B9-2FE6-4904-8715-021347E7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53C1F5-5370-45F7-9127-280ABD96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51222F-86F2-4462-A1BE-0F200A0D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636406-A056-4412-B9DB-A003584B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C1AED1-3B7B-4164-B8B1-B5A5A03B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C5634B-35B8-4D25-9112-DE473E73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DCE8D7-CA2C-4FCD-99D2-49ED329F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6E4D-4F55-4840-8308-AEF32F41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145F-1277-4550-A2E9-4EE327D0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CDAFE1-DE92-49E7-BDEC-2F2D2664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261151-908F-4717-AA25-6BF41F6E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083E7F-4E5C-4C66-A915-CBBB8512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27D01A-4E08-44F7-9313-B5A5752F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43A990-1092-4A13-97D7-07E4714A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201109-F04E-4BEB-B2AA-5CF3A9C1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2B560F-F650-48BC-9FA3-3ACED131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5A4715-4E39-43A4-92FB-FE2798A3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5C2EB9-C9B1-4045-9E91-CE610CD1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D335CF-5D81-458A-9C78-D4808A46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B77A-1CD9-40DD-89D4-92B4D834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FBA383-A2D4-41D3-8856-8A9495CC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5A4CF5-3A99-49F5-B30B-62AEAD86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E51739-918E-4843-B30D-3644714A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E92D94-2BE9-4342-BBF5-55C075D7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EBBC91-545E-4F6B-8E90-A0922E9E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59513C-E2BB-4179-BD18-26FA8A01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27081C-29DA-44A4-8997-B58561FD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977E19-12F1-43AE-8569-DBB5865D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80BF59-9BBB-4BCA-B9B2-FF9F0D48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571941-BF7A-40D4-9756-AD743B66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9614-795F-4246-A3F7-6D28D96B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F97449-2642-4460-805E-E6BFDD12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7CB646-1FEA-4C49-A6AC-C2A7B9B9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D4C47D-20DB-43CD-9F31-6F273444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5F4339-D6C3-426D-8457-603EF46F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87F840-A199-4857-9F5E-6A90282E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BA1F00-0EB2-4B4C-A5F2-FAFE5F43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B825AC-1254-4F49-9275-649692C9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817981-5A14-44CE-84DE-FCEC3903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BA4B90-09DF-4A2F-A59E-FA91F41C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CAC13D-11F5-4292-9845-D41D29B8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DCB4-F2A2-40F6-A4E1-1272A2F3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BBC535-2D49-410C-9AE5-A869E90C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E0AD78-F79A-4875-A681-D28356F5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178A64-4D86-40E5-9DEA-19EACA46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4CEF04-B506-46EC-9771-CB4D53C1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28EBED-8FE6-431B-8FF8-E0902B61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16E3C5-5834-4B79-80B6-4FCF95D3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3A39F1-344D-40EB-9A92-70EDA9A8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802795-7319-4F62-9096-04811B62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531CDF-6019-43B0-9012-EE960136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C7EAB9-C080-4D5E-8AF2-64E4F029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D759-576B-4784-97AA-6AB47204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5508EC-56AB-486C-BB54-74A18433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0AC212-56AF-4461-8136-B607AC02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7C9A0D-6E45-4548-9A88-31C0230B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C08FE4-311D-4592-B48B-07BA26D2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8BD65C-AC83-4CF1-B5D3-7CE7F326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9CF906-2298-4518-99CF-2506D1E6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07932F-23E3-4014-963D-9697828E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FFF6C0-B6BF-4AE0-B5E6-FCFBCCF2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80788E-26BE-4BD4-861D-462A0C01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7E3CEE-8F98-4F68-B771-7E61E1F8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D4001-BA05-4A6E-B756-B67FC621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82110C-38BD-4C3B-8891-AEAD2192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EC0B0F-8951-41BF-BA94-3F159DCF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E13A53-6DEE-4B19-8AC5-32E7406F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7D34E-8BE5-43C9-8A38-C630AE83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B1CFE-04A3-4E6F-92C6-2B4132D1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C39BC-E843-4601-AE69-8104593C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E066C-245D-43A1-92D2-D7DD2665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B9C-E5D1-44F5-8B78-0BD454C6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C7F69-9A66-4725-9564-84E70493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49290-3F71-4683-8B46-53D0D33D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8A04B-3BED-4838-9EBA-5E01932C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18F63-B550-42C0-9B74-2FCA9749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3B8E2-1EC8-4479-AA13-50C16C53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082D2-E03C-46E6-ABA2-AD168867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462B4-47D6-486D-81AD-D351FFC6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CD960-B884-493D-A920-7B2AC967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43A79-A8F7-46A5-BBDA-ACF75608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44699-1F0D-44D3-97BD-1ECEF014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B2DE-C0FF-45A9-8E6F-A919F46D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7B457-8C32-4DD3-9D73-525998E3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41FBC-516B-4E0B-96BA-C002F489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5322A-41F4-4643-9336-8426902C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CE28C-2D09-447A-94CD-AE29C9E9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F2B0E-0955-4AA0-9D94-3DE31097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45B6E-A1A2-4225-9B1B-98DA955F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D7BF9-893C-478E-B4FC-0B5F6D6F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27237-7122-4A2C-8D94-9AA4AEC5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76700-D043-4134-AB1B-7565F1A1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6FC3A-E4EA-423C-90B0-4D71C59F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285B-0D45-4D71-8CAA-87D6F1CF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10CBE-D085-432E-A850-902B59B2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181C9-FAEA-409E-8A8B-E5E2C592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B62C1-3CB5-4853-94D7-FA1C79C2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0289C-6B0D-482F-BCE2-B0B6FF55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A5106-2426-4123-9155-4533F2A3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57C2E-6BDE-4CAF-8FA5-6DC0159C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05BB1-3896-4297-B64B-3E1299E8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78075-34A8-4E1B-BE3F-186BD2E1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2AFF9-A7DA-40BB-ADE4-BC787524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FAFE0-7592-4F3A-AAF4-29E3ACE1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F06C-BA54-48BE-B524-31A31D03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78FB8-6D84-41CB-B405-33FD480B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F1A5E-59CA-493E-A459-AFB61709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13696-AA3C-460F-ABE1-F99897A8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0AA7D-9B7F-4BBA-8AAE-77680307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723E0-0B52-4AE1-B941-A45B1072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BD253-E42C-4443-A65A-E1F3C5EA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1529F-AAB7-43C0-8781-BE89F1F8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05AF4-A249-4C04-9068-B0F3DB95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9195C-88E2-45A8-A5A6-58592F20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D73D7-41CC-4660-8B5F-7982847E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F92E-3B6B-44F6-92C1-47CC4368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062F9-6289-4088-9670-2C93358E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2A6CD-99E0-4BB3-880E-CA386B58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7A472-771F-438F-A321-2956BFD8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9119A-EDD6-45D4-8742-B96483E5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039FB-7B95-41E1-AAAD-05B01850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CE6AF-D980-4597-B901-2259CEAB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EE567-E1B0-40E4-817C-E41712C8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1C766-F754-47B3-93D1-FD8E71C7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2C7D7-1474-4047-83B7-55EE0326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BDCC2-7F92-4A97-9A96-F0941AD0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AE32-60E8-4CDA-A3BF-50A434A6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323FD-4548-421F-9BFC-0E6CB55A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F45B3-9ACC-4F6E-9AA0-283E08A4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6843E-216B-4001-9C84-FD422966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A6C1B-4477-4ADD-9E0D-7B815177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3C894-E8C7-403B-B4A3-BC1C8801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E19FE-D65D-4A8C-A6AE-643DD3D3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11495-8711-4CB7-B6A6-794221C9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C0F89-7829-4E0F-AB4E-E4C6DF1F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8588F-6042-462E-A180-066D898D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4095D-8AFA-4E59-A493-260365EE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A58-F7FF-4B96-BD63-B85A84A4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36AC9-4606-4D61-9C6C-1DB73F1A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22FBC-A868-4AAA-9806-1F9AAD01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A9882-F6EB-40F0-B6A0-3D235B61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20C37-05A7-4831-A4FA-06A6A1F8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43B71-CD82-476A-8BEF-BD238B12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33DE2-FE82-488F-A299-4EE944FE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F28FE-2BAD-41A3-B877-E2B83512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01B03-02C2-4C94-A145-325B6559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3AED5-A465-4C25-A49B-4498E010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3F2AC-703A-45A9-A788-D37B9643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BA17-35F0-4F4C-886B-97CE40396D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3548-5D0E-40F4-AC2A-92E95C9D9F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13D6-491B-4081-B9A4-9652F6D7D4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388B-506E-4D64-97B5-BBBCB714C9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7FDB-001F-4663-B4A9-E2F7DDF400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BA5D-9960-40C3-99F2-6549BC2E9B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09FE-E0F0-4DEA-9066-5E36C350EF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E699-1AFF-4968-9339-037EED2909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7AD4-DA3C-459B-9A94-C4589ECDCC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10C8-9C1E-4415-9B70-A54D014D19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8F76-C65B-4901-B271-85916E927F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32F6-07B7-48FA-8CD3-B06579D6E5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3C0A-E225-47D7-8506-D87CEE916B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4251-974E-45A0-BAA7-0194DA5105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8FB2-FE0C-47A4-B18E-B81C303887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49B2-BF77-4ADF-AE6E-DC978BD00A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922F-5E77-4BC4-845A-6536A20DC9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C30D-7924-4ACC-AF9C-0713DA25F3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B50D-58E6-4CC0-B291-92A87F1FB7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241F-DD37-4803-A6D8-F64489B3C0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8446-9CF7-4A11-B26A-39F317DF2D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78BC-084B-4F6C-9F47-CE7C0235C8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4344-75A0-4F09-9992-0BA28C4D45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16AF-08AC-4228-9C6A-48D3F81B87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F677-7465-4B01-BF7C-A66C1F0DF7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DEB2-C63A-4486-8C3B-E3B1BA9B68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CF29-E2E1-4527-BF47-E50C142EF7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841D-7965-43A8-B01C-26BEA26DBD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D89F-636A-4EC7-BB18-CC9BE587FC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953F-861A-4B73-8341-19E7353AF4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520F-DE47-449D-B0C4-5E3643ADBC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355C-1D7D-4F20-B9C7-A377A2AB26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1B6D-67F0-4621-B4E8-DA0523920D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4FE9-5CD4-497C-8E67-FFCCE9E451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4BA4-0B6B-49C7-924E-97FD571643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C704-35A4-4050-ABCB-AAD3E06466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C2AF-D73E-4DA2-8A85-3FE576D172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0E24-D015-4B26-9960-F40B658ED1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FA61-705A-4FBF-A84A-2B91156A3D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1953-C8C9-48E1-8E6E-A503987225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43040" y="3067200"/>
            <a:ext cx="585792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69633" descr=""/>
          <p:cNvPicPr/>
          <p:nvPr/>
        </p:nvPicPr>
        <p:blipFill>
          <a:blip r:embed="rId1"/>
          <a:stretch/>
        </p:blipFill>
        <p:spPr>
          <a:xfrm>
            <a:off x="343080" y="923760"/>
            <a:ext cx="8458200" cy="50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68609" descr=""/>
          <p:cNvPicPr/>
          <p:nvPr/>
        </p:nvPicPr>
        <p:blipFill>
          <a:blip r:embed="rId1"/>
          <a:stretch/>
        </p:blipFill>
        <p:spPr>
          <a:xfrm>
            <a:off x="547560" y="1405080"/>
            <a:ext cx="8048880" cy="40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755640" y="4941720"/>
            <a:ext cx="201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85840" y="733320"/>
            <a:ext cx="8572320" cy="53913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268360" y="2492280"/>
            <a:ext cx="179892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977160" y="2492280"/>
            <a:ext cx="143964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822840" y="328464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822840" y="4033800"/>
            <a:ext cx="64908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1763640" y="4797360"/>
            <a:ext cx="64944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451640" y="4797360"/>
            <a:ext cx="64944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5940360" y="5589720"/>
            <a:ext cx="43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1" descr=""/>
          <p:cNvPicPr/>
          <p:nvPr/>
        </p:nvPicPr>
        <p:blipFill>
          <a:blip r:embed="rId1"/>
          <a:stretch/>
        </p:blipFill>
        <p:spPr>
          <a:xfrm>
            <a:off x="533520" y="2705040"/>
            <a:ext cx="8076960" cy="14479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7020000" y="350028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299880" y="905040"/>
            <a:ext cx="8544240" cy="504792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58376" descr=""/>
          <p:cNvPicPr/>
          <p:nvPr/>
        </p:nvPicPr>
        <p:blipFill>
          <a:blip r:embed="rId2"/>
          <a:stretch/>
        </p:blipFill>
        <p:spPr>
          <a:xfrm>
            <a:off x="1144440" y="2535120"/>
            <a:ext cx="2990880" cy="352440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58377" descr=""/>
          <p:cNvPicPr/>
          <p:nvPr/>
        </p:nvPicPr>
        <p:blipFill>
          <a:blip r:embed="rId3"/>
          <a:stretch/>
        </p:blipFill>
        <p:spPr>
          <a:xfrm>
            <a:off x="4608360" y="2489040"/>
            <a:ext cx="344808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1128600" y="544680"/>
            <a:ext cx="6886800" cy="612432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57355" descr=""/>
          <p:cNvPicPr/>
          <p:nvPr/>
        </p:nvPicPr>
        <p:blipFill>
          <a:blip r:embed="rId2"/>
          <a:stretch/>
        </p:blipFill>
        <p:spPr>
          <a:xfrm>
            <a:off x="987480" y="606600"/>
            <a:ext cx="3343320" cy="344772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57356" descr=""/>
          <p:cNvPicPr/>
          <p:nvPr/>
        </p:nvPicPr>
        <p:blipFill>
          <a:blip r:embed="rId3"/>
          <a:stretch/>
        </p:blipFill>
        <p:spPr>
          <a:xfrm>
            <a:off x="4788000" y="534960"/>
            <a:ext cx="3352680" cy="352440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57357" descr=""/>
          <p:cNvPicPr/>
          <p:nvPr/>
        </p:nvPicPr>
        <p:blipFill>
          <a:blip r:embed="rId4"/>
          <a:stretch/>
        </p:blipFill>
        <p:spPr>
          <a:xfrm>
            <a:off x="1173240" y="3875040"/>
            <a:ext cx="3371760" cy="291456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57358" descr=""/>
          <p:cNvPicPr/>
          <p:nvPr/>
        </p:nvPicPr>
        <p:blipFill>
          <a:blip r:embed="rId5"/>
          <a:stretch/>
        </p:blipFill>
        <p:spPr>
          <a:xfrm>
            <a:off x="5060880" y="3860640"/>
            <a:ext cx="320040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6324" descr=""/>
          <p:cNvPicPr/>
          <p:nvPr/>
        </p:nvPicPr>
        <p:blipFill>
          <a:blip r:embed="rId1"/>
          <a:stretch/>
        </p:blipFill>
        <p:spPr>
          <a:xfrm>
            <a:off x="428760" y="1338120"/>
            <a:ext cx="8286480" cy="418176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56325" descr=""/>
          <p:cNvPicPr/>
          <p:nvPr/>
        </p:nvPicPr>
        <p:blipFill>
          <a:blip r:embed="rId2"/>
          <a:stretch/>
        </p:blipFill>
        <p:spPr>
          <a:xfrm>
            <a:off x="2354400" y="2247840"/>
            <a:ext cx="53528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5300" descr=""/>
          <p:cNvPicPr/>
          <p:nvPr/>
        </p:nvPicPr>
        <p:blipFill>
          <a:blip r:embed="rId1"/>
          <a:stretch/>
        </p:blipFill>
        <p:spPr>
          <a:xfrm>
            <a:off x="1843200" y="1766880"/>
            <a:ext cx="5457600" cy="332424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55301" descr=""/>
          <p:cNvPicPr/>
          <p:nvPr/>
        </p:nvPicPr>
        <p:blipFill>
          <a:blip r:embed="rId2"/>
          <a:stretch/>
        </p:blipFill>
        <p:spPr>
          <a:xfrm>
            <a:off x="1905120" y="1771560"/>
            <a:ext cx="53337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4276" descr=""/>
          <p:cNvPicPr/>
          <p:nvPr/>
        </p:nvPicPr>
        <p:blipFill>
          <a:blip r:embed="rId1"/>
          <a:stretch/>
        </p:blipFill>
        <p:spPr>
          <a:xfrm>
            <a:off x="299880" y="857160"/>
            <a:ext cx="854424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2231" descr=""/>
          <p:cNvPicPr/>
          <p:nvPr/>
        </p:nvPicPr>
        <p:blipFill>
          <a:blip r:embed="rId1"/>
          <a:stretch/>
        </p:blipFill>
        <p:spPr>
          <a:xfrm>
            <a:off x="581040" y="1576440"/>
            <a:ext cx="7981920" cy="37051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554328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611280" y="2421000"/>
            <a:ext cx="554328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684360" y="3156120"/>
            <a:ext cx="734364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611280" y="3933720"/>
            <a:ext cx="7993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11:07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