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43C-63F1-43FE-B8CC-AAD52E2B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D03-6445-443C-A25C-C3C7A33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4CC85-44DC-4A60-BDFD-148C002A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F5612-21F3-4DC2-9724-6EFC49B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51679-A847-41E0-B4E4-052DAAB6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EE2EB-77C6-4BC3-B681-189B50A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FA93-EA12-4EDC-84EF-0E700A5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A04C-F04D-4308-B7C6-12950F3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4C7D2-6017-4757-99F1-E977C49E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A1FF9-FB45-48A9-9E88-72562B83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6B5C8-2A97-4DDE-9E25-912B4047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A1101-29AE-463B-9D66-59CE2E94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E6D-B66E-4351-9F70-8C413880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179C2-F773-456F-99F4-5B507E9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63721-B774-44BC-991C-3E7141C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BC6BE-7257-4356-ACAA-F6126B67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C59D2-98ED-4963-AF98-4A82188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75B31-FD2C-4B7B-ADD5-60B4B24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AE74E-D366-4C16-B345-8E0F039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E0CE0-0805-40F3-963D-7981C1F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141A4-487A-4F15-978C-5A9931C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F66C0-51EB-4EDB-A69F-A3C11DF5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0CD61-B340-4CD0-AEB5-36D07EED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FA7-7306-4486-97F5-1AB4A497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B6547-CB4F-4CA1-A41C-6BA4E9AE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1358F-FD86-4E70-9133-C040D53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539C5-1657-4D78-9C19-D131C7B1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1396C-5379-4FDB-B07D-6E658C5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03FFC-C8C6-437C-A3DA-93A3D7A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F7D1-BB72-4D55-B6CB-0D5D3C2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9B31-F789-4CCB-BAB9-20387FC1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393D-8C84-46A4-8CC3-7FB05696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0C273-9663-4ED0-8F4C-AE41958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9F24E-239F-4A76-8A37-B9CBD58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22B1-E48D-4550-B523-140769AE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9E797-DB13-462B-93A0-959329B9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DC908-FF8B-4BFA-9D07-840F5C65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6EE83-C273-4F4A-A4AD-E53E9F66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EF1F9-7839-4D20-8D68-3686BC05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36E18-C8FE-4D9E-9A72-047A599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3A1D4-755B-4CD3-BD73-4B36498F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15774-7707-4F1C-9A01-853A78A9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5C5E3-B343-4A25-992A-F8A35527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B1307-424C-43BB-B90F-9A7A03F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150DF-5016-49FD-9C81-EE2C45E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1D7D-287D-4616-AD61-2B0116F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E7132-4C3B-4BAE-BF92-0EB8353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34461-10B3-42F3-A5C9-53A5D8B0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92058-94C2-483A-A71B-2D64F93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0CB13-B12C-4D9E-8CD2-78C9FCF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942B3-BDB0-4489-8379-7793E9D9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31DD2-7BA8-4E5D-8D5F-7899E052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6EC37-B0A9-454F-82E4-676170C6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03612-8C8F-4595-87D6-0222F5B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F653B-C0CF-4B40-B0E2-FE27F86D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2563F-FB8F-4802-B11C-A17A83B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68C9-09AF-4633-BD81-C92EF6DD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79BD5-E711-47D0-BFF4-39DB24B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0E524-4128-4712-B113-B09001B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E2B09-633A-41E5-A3C1-745A1DE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C32A7-A1EE-4DF1-81A8-B4E98B0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DFD56-82BC-4E2F-A46F-C1B887D7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C16F9-A753-4E46-884D-B5F596CC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0A5F4-FFDA-46EB-A8D9-A48E4A4C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5EB64-1486-484C-A30D-7F838F8A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A330D-0FE7-4A87-B818-60386277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F9FCE-11E6-4E86-BC68-739DFB8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91D8-CC32-4AD8-9395-31670D9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ECD1D-B3BF-4E10-BBAC-466ED9B5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A953B-B872-4D94-89E7-7C32049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23288-5CCE-4D13-90E7-68760944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48064-8E8E-4C03-9B83-5A3C713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79AE8-84D7-4ADE-818F-A964220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2E3A3-49D1-4FE8-9D7A-CA13C30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4F51F-5860-45A1-92E7-A9A8E2CF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0E134-03FB-4839-A24B-5F8030A3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1227B-5137-492B-B206-7DF8EE3B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17722-F4D8-4E5E-A2D8-29A8056B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DC6A-778E-49EF-BCB2-47F1F1E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C95F9-47A9-4742-ADD6-FE05A92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2F98E-E3D0-4C7A-BE80-BBE2DE0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F19BE-5E38-4C1C-B007-6E58CB7B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891F8-D443-4707-9F4D-E4859162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C475E-A711-41E3-A5F0-F4F774EC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CF75B-5F5C-4533-B7E2-8B8523FC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D3878-395E-4A12-9342-F29BDCD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A2C59-F7FC-46BF-AAA0-17F58FCC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793F8-369E-486B-BFA7-4FC3F8A0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6BDB4-4FC8-4BC5-8BF5-A0A4063A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F35-70A3-45FB-9532-D7A6C2A8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2A4DA-699F-4DC0-8A89-E159C298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1B131-9A8E-4B0A-A6EA-3DC8599D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8D9E9-9F6C-46ED-8AC8-34740AE7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A953F-0DCD-4E88-A52A-D7685140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1F190-9980-432D-939C-D0279DF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19FFF-ED24-42DE-983B-E351D3B2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C485C-D91F-4513-815B-96B5C486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8EA19-0B77-42FA-B84F-178C5A6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6EFE9-F94D-4997-A538-15613D8A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2D8C1-D442-4D2C-ADAA-971ACB2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1D9-5B0C-4F85-A883-0502035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D9B49-478B-4AF9-B858-0BBFB50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307D0-7109-4AFF-9780-333E0CE4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6EA1A-64B7-4215-A5E6-A52EBAF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6DDB5-58EF-425B-B27C-45A8F759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DC121-D9C4-4287-8A92-8A8DBACA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04ECC-BB77-4325-9C31-8D22C718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3C236-372C-432F-8D7B-D1B39FE9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913DA-BA8C-4703-9766-E7026CE8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957C3-6F8C-4596-9B23-1F4A5975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5D716-396D-47B8-B0A1-3A1B158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B42-B992-4AFC-A21F-0BBA58D3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D77B-845A-4E58-BBC6-50525FA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5E27C-4309-4CA4-905B-E7A5002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2EC59-5802-467F-8EB3-0326210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26273-C0FE-4ACC-AAFD-3A97BC4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F38AC-C6AF-4B29-88A0-B02DA8E8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15471-6AB9-4289-A41D-39209002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32405-BC7B-4CD6-B916-E9D4EB1D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16272-B692-441E-B4E7-3C944934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18280-8E1B-4ED7-8268-3F18D5E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57DD7-08F4-4BC1-90A2-A44A0E8C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0F067-5464-4491-99C1-5E9456C5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020B-CA1D-4EB2-88F1-9913EBAF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1F1F6-6ABE-4262-A2EC-4FB0CB99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67C9E-9CE7-4282-AA88-EDC5B26A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FE359-96E2-491F-9CD0-FCEF1DEE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85851-09E1-42DD-A3E4-60F3426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E4D30-2DCF-4423-8632-6B969E72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C2B6A-9F9B-45C4-BD95-C8415BD2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E273C-68FF-483F-A872-2482CD2E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3F7BD-6463-499A-BDDC-9D608121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3FD50-2BF0-41CA-B9E1-8E817CC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93874-BD82-4AAA-BEBC-E4A31DC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76B8-C7F1-44AA-BD61-C4F0FDF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93F7F-7263-4B8F-9332-BEC109F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987D6-ABC2-492A-B5C7-C60690E2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F08CD-0906-439F-B385-75532DB2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543AC-E181-46D7-B466-4AC7639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08848-F600-49C6-BEED-41393D5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22FB6-C423-4E1F-B531-698555D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0F3D3-1CE3-4F4B-B2E7-6CE9C55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7E593-A00E-4A49-A7A1-8B70E169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E84A6-7C38-438D-BC5B-2965A4DE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67329-3634-441D-B60A-670FF771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58AD-7E3C-444B-A185-D4E7B92F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97C9C-4682-4D09-9C94-97CA715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808DE-4E6F-4B1A-9B3E-90288100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58A7D-16AF-49BE-BB20-6479AA7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0D663-212E-407F-B44D-DF2F3D19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ED463-3876-44C7-9815-44136D98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97650-E84A-4D15-8F6C-6D70980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04173-2C67-4A61-8BDF-D5BA0883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FBA2B3-1906-4D1E-93EF-04FC11CB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57CF1B-6C2B-4FCC-A2B2-E1D65F8C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C68E4-CDDF-4960-A0A1-B49BFD85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03C8-14F1-44F2-A9F9-27F960B5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A92F7-9CDC-4793-BC81-52B280A8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F99CF7-A13A-4484-AF88-CD45B0A5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F7D22-915D-4CCC-9CAD-0078821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963FD-54CF-4A6C-AFFE-C73E3C1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BF6CB-A2FF-424F-9C73-2DEAF7F3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B286D-9BFB-4504-A80D-7932439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9A4D8-9541-416E-B5F7-0109F87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2CD0E-6EA6-4E9C-9DEB-5D188335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A5FE5-3E6F-4A74-8295-FF3AC8B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A663B-C97D-492B-821F-097E127A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46FD-AC5A-4517-9737-B85A7F48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AB8F1-49DB-44B2-A6EA-D1A0E21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E1383-4B76-4A9C-A51A-0A840276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3C6A55-FAE3-4D6E-AE68-4D3A0BE1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42416C-8645-4D74-A3D9-BA4DF0F7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CABF2-737B-4B8C-BFDE-D48F1DD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FC61E-AA6E-4F98-8696-089046B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A53EF1-789A-4A0A-92A0-CEE95D0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EE5C43-2EFE-4BA7-8C3C-5AE5A9B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15D2A-1D61-4A08-918D-07C0C88F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6744A9-4138-4846-8BA1-73512E3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44AFB-35A1-468C-85A0-F2F9F53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B2DAFF-0545-44A1-8881-517935D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8AAD2C-18AD-405B-AE11-E47876F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10E2A-845A-4E66-B97C-699285BD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D925C0-6BB7-4CF9-8ADE-8C942E3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0D3A49-8C91-479C-941A-5A1B68D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C12E9-AD5A-4DDD-B2FD-3EC1FBBD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C87093-1260-4856-8D67-0D353EE3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CD2110-462A-43BA-BDAC-1B6B81A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D7F101-30C4-4DCC-B48D-9C782FA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E84B3-BE35-4847-87A1-C5851D6B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CD55-8509-42D9-A77B-7ED367E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D5A3C0-77F4-42BA-ADED-09C76828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4D02BC-615E-4AE1-9F8B-4092D66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2FCCFC-DF3C-4F1A-BA99-7221B80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831942-F633-474E-B699-E514A07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C3D4CC-8DAC-4B63-99E9-30F2190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36676-F857-4EDB-8262-B47AD8FA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7501D6-8DCA-48F1-976C-ED9B8FF1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472F-ECAE-4CC1-AB74-51A9CF2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0D1F-8402-482B-8812-2E21B1F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684-C1F9-443F-97AF-C5202178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8142-AA50-4C2D-B029-9BE5C53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17EC-6D7D-4628-A8C2-EA4BD3C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029A-E95B-4D52-800B-4FE7D0E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0F8D-FA74-4A75-A79B-60DCEBA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32E6-832F-4624-8EE6-BDECC67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9454-80DA-4022-8DE5-C87D603B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B11B-ABAB-4FB0-ABFC-58B25F91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1CB7-E8AF-4F17-933E-2DCB57F1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947F-FC10-4B79-912E-96DD1D41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F9C2-0C6C-4AA4-9807-7B88109F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76B-F937-4E78-BF8A-FCB697F5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6E42-0794-4543-AC48-D01E3CDD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C1CC-FDEC-426D-AF54-C4D9326C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96E7-96A8-4323-8209-304BD191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73A1-DDF9-49F0-B9E4-4EB4820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1878-4DD1-4DFC-91EC-A1CB41C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511B-AADA-44E1-89CF-1A7B3534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44C1C-CF0D-4060-ADF2-17DBDA9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6921-5203-4629-9417-9B0C50D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75CA-3A38-47F5-AC64-0D6B9FE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C488-D251-4969-BC7B-C542DF3E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D33-1001-462A-9DED-A0B540F5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98AA-8ACF-404A-9AFA-FD0F930F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77F0-8272-4F9E-B050-C3B7D0D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1761-52D1-4E27-A212-A51CCE56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9A2E-8912-4174-941D-2A935D35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B618-CC47-4A96-8DE6-05722D34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1EA2-BDBC-406E-8144-819F46E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EAAA-3A8A-489F-B359-D4CBBAF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AFD9-0F34-4D81-8382-30861B7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AA8A-09D6-4FF3-A3E4-8EA2D24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D928-FB89-45EA-85D9-4E88C408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2B1-35F0-4961-853C-86E9143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4E4F0-C833-4725-A9E5-32E8C16E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556D-346C-470F-B251-9010ABA0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384B-8A37-4BB6-9E4A-FA749DC1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8F6B-F966-497B-BBAE-CF19790F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4071-E191-4DF6-B17E-27D1ECF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4A2B-AA94-43CD-AD10-0470E1B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CFF8-B76A-4DC6-AF6E-2FCFC0AD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52CC6-D109-4DA4-A9EA-D9A60B7F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D8C21-3B72-4094-BAAC-26C1CA4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FB8D-832B-4C49-822F-A6CAB16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D9C-3ED8-4818-B3EC-807667D7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8DE38-A4C6-4F10-ACD9-B72C3AB5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8C759-C96D-4459-AB24-375B8093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5257-A1EF-4E27-B38F-25AAFF52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D2E8-F5F6-46E2-AC10-D53A001C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7203-93CF-482F-951F-EE7F10E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EA0F-C663-4605-97FA-9126369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B0BF-AA0D-41AC-BAF3-295A2AB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876D-08F0-4596-A937-7A23D64D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A6D2B-B909-4FA1-AB9B-49C8F191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91FE3-CFD0-4E36-8291-BD03E1E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375-F7BC-4400-B31F-4F68DAD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3D69A-637B-4C9E-BB96-78B8457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2EC3-4198-4290-800D-D79CD2F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30475-FD6C-466C-BE9A-7DA47517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186D-165C-41BE-B79E-CA6F3112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58574-0426-4E27-A028-8E2CEBD2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EBB5-197E-41DF-8615-051AB7C3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6C8CA-2A13-4090-BF50-A4665E3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69D52-903F-4D75-ACA1-795E8C5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2147-3CE7-4092-86B2-BDD1B88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384B-1754-4C5A-9E9E-B469270A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59D-A525-47EF-B8A1-5B732E2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1274-4620-46EE-9B41-DBC889E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2B730-8008-46CB-A510-C14A58E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0052-8D09-4CE1-A029-1F77C9D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AA2CD-09BD-4F44-B807-0D65997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B95B-4DBB-44C5-9266-EA12C2D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6380C-3788-41BE-9D35-BEBBC9DE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790A-BB59-42B7-8723-221DB77D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A1710-2958-46F9-9681-DD1C537E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E61C-458D-45D1-B597-9559AD8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541F4-1C0F-4FA3-A51D-D0EBB4F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502-DD00-4372-AFF5-C17DC3690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857B-E399-45EB-B28B-18EDD1EB96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AA6-9600-43B7-96F6-C7E1621F7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4AB6-2391-4EB5-A32D-66FD1854E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CE0C-01AC-4513-80D2-275DD3064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DE6-9A3E-4947-A5BD-DA68049BD5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C70B-F122-4B54-B729-8031B6252F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D99-A54E-426F-BB6E-52E70BFA9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8C7-D9CB-4247-B807-A2564229F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CEF-895D-4CB6-904F-C1935ADDC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E035-9AF0-4244-8604-D3BE0E1BD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CBE0-35BF-4225-8648-D19ADD639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BFA-20B3-4D4D-B5B4-7459A7EB9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89F-EA94-4BC5-99BA-45D0A9AD3E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CFDB-D5E0-4B97-BC5D-7898DF8D5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52D-D6A8-4EA2-8E79-AECC4E8A5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EEC5-428B-46CA-8D88-BA8DE79FEE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9A6-D89C-4DB2-89FA-94AA3417A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EC6F-2C02-4FD0-A776-81537559A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CA3-43E5-47FB-8070-298BAFC1B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9729-3878-42A4-BE33-9B0CE0142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2929-A7F1-4C05-BCD8-9F86D1A5B0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08CF-0A15-4389-A5E4-51910FF3E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924-9DEE-4DED-9A77-7AD39F5CC9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16A-A956-4E27-8557-BBDA639E5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40E-AF4A-4AD0-B52D-1F2B63AE9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950B-6A81-4511-81F5-F17A3C73E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8FEE-13FC-4597-AB11-EA87F3B859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B245-40E7-4CA8-8E42-80CCADB6C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F181-216D-4848-95BC-7E6CD13829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D9B-2896-4C87-825B-146771F0C7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D859-FB9B-4FB7-8048-86C9EF497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BD3-4B9D-4D19-B191-ADDE0C94E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6BA-0F7D-4A7E-89FF-DEFC65E381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3EBF-F2E7-47D5-88D8-CEE2CDE84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F18-2CDE-4E44-B110-0119D77D7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6BD-1758-4E6B-A1C0-342A77ED1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6D3-E3B6-4464-A307-E6B1F83207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144-B557-4CA9-A544-2BEF2458C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5154-B74D-41A6-A0F7-40F34F250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7DCB-C87A-42CD-9768-C0DCB774A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FA6E-0EDC-4CFD-A7D0-2FE1E7F86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4360" y="3171960"/>
            <a:ext cx="8624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4160" y="861840"/>
            <a:ext cx="6295680" cy="5134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195640" y="41353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2124000" y="46674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28680" y="1077840"/>
            <a:ext cx="8486640" cy="1743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636560" y="3475080"/>
            <a:ext cx="6382080" cy="2305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22840" y="142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867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101080" y="146988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317080" y="19303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349236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3564000" y="47242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6659640" y="4076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732720" y="46674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705520" cy="5790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0400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1806480" y="6021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093080" y="59929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571680" y="2533680"/>
            <a:ext cx="8001000" cy="17906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5580000" y="3255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3592440" y="3673440"/>
            <a:ext cx="908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023840" y="2252520"/>
            <a:ext cx="7096320" cy="2352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219640" y="3500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04840" y="1071720"/>
            <a:ext cx="8734320" cy="47145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201680" y="2550960"/>
            <a:ext cx="2232000" cy="30387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665680" y="2565360"/>
            <a:ext cx="3227400" cy="303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451640" y="193032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52320" y="985680"/>
            <a:ext cx="7839360" cy="4886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10969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960800" y="1628640"/>
            <a:ext cx="2924280" cy="4105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048440" y="109692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71520" y="1050840"/>
            <a:ext cx="8400960" cy="5410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2556000" y="5589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435640" y="285264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33240" y="1143000"/>
            <a:ext cx="7877520" cy="4572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32560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18960" y="1219320"/>
            <a:ext cx="8506080" cy="441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00000" y="4984920"/>
            <a:ext cx="76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