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A5C-8E78-4F01-95F8-427A17C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9FD-447C-43AB-8B22-F8BCD9A5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00F21-4EA3-4738-ABF6-C7D0FA74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630BD-BB02-4920-8091-95311C2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356D1-21E1-4CE8-BD51-B9B9EA19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075F9-C983-4B64-9273-1D60C2D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0039E-44F8-433F-9C07-8FD06EE1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97476-DBC9-4258-A439-3CE589E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1A47B-525F-494F-B35F-73E1734B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596E-0F49-4A9F-8E90-CEE11530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708B3-4FD7-4E50-85F2-66C10A3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48FAC-DA37-42F4-90C2-57E6AD0E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ADA-C49F-431B-9BEE-A7AE362C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69671-47CD-4C43-B7E8-8E43DD0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B12BC-075E-4A2C-A5FD-924956E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C552C-0A5B-4C1F-B452-E6011A7D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6FE77-4DC1-4F1A-A4AC-28B8998F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E7F61-81E7-4591-8178-A93FAB7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FD279-CE2B-48CB-8B93-0718863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28051-54EC-45FC-8DE5-29059EA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757A6-9D9E-4F0A-9265-394661D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8A502-A75E-4889-A472-878CDF92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B7899-096D-44AF-A2C8-C53473F5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78FA-FD1F-4DC3-BFDA-C8F3FC44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32060-F0A6-4224-B509-6250D290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CA0D7-17F2-4B13-8787-2921BED7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32230-35A6-4F71-A597-E5795F0B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23E0B-01E4-4B8C-A66E-F5066AFC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538A7-C521-44A1-B251-C0238A9E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26C19-7301-4B28-A5D7-F7BC1EF5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E81C9-662B-4BA4-89AE-4D8B843A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FB849-C009-4A29-8436-969EC51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76CE-83AC-44E1-8F61-F168D3F5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7A779-4461-4BE3-8994-F66278E5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4D0-CD43-4C74-B86E-6EAF7234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68CC7-91B8-41FD-80AB-58B4AA7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FDF27-9AEC-42A4-8D22-104A9096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DD7CA-0FEB-4C12-82EB-4A33570F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67B10-49D7-431F-9644-A6E7C352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BFF50-436E-45E3-ABC0-2900C79A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51194-0409-4EE1-AE4A-A47BEC4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81131-AC88-4FCC-B08E-5F24306C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C4651-D189-4020-A2A9-848E400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36952-FCC5-41A0-A3CD-53B64FD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DD1F8-162B-4C22-A7A3-CB110BAA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835A-31CF-48D7-9604-1974033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C9FD8-945E-4026-BA39-59598809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2AC1A-4C20-499B-8D19-0E3C3375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C6F35-7E3C-4DC4-9F09-059ABE3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6E3E9-6E31-425D-A443-F9C30A4E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6BBD3-0EE5-4B00-A30A-F1A87182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5F5F1-D196-45D3-B119-D1151FC5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4127E-BA00-4F8F-8D6D-2AFA1E4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C1E02-E45D-4971-9AB8-A9696EFB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AA141-DFDE-44FC-AED7-ACC74F03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A763D-6C54-44F0-8726-28C95626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5029-7AEF-446D-9B1E-79E95C48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E8AA2-1B06-40AF-80AF-7F73331A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FA936-AEF9-482B-B0F7-C02C88F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8578F-3583-4597-BCB7-E5F7009E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C6E74-7A31-4050-BD32-2FAF436D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CD113-7F83-4960-813B-D5E0A6A8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A30AC-10A6-405C-AE0C-1FC02301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D84F7-4147-43B2-9422-07007548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B289B-A8FA-4E79-B85B-576DA403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1774C3-4502-4359-A58B-32D16B42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0B8B5-47E1-44D3-9BD7-75CA1056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D46-E50C-47EB-9C29-5E948134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8CCC53-EE53-42E3-A82B-B47B959A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72D35-AF87-4F8F-8B61-DFA8F543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86E44-F400-4A5E-862B-0CA9A4FA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B822F1-C0F8-403D-A4BE-A14E439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B83FD-632E-4BEA-B3EB-57113F9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57C4A-83E1-4DC0-9D13-92850B5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9B356-731A-4556-B563-75FAB04B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6537A-7998-4D86-AD4D-0F3BFF08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DA5FB-2AF3-4A07-A074-F3302E77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80EC9-1FE0-4F08-80B6-22AE47BC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888F-605C-4CF5-889D-6B21BE81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09EFC-36BA-4EA8-83C0-D076844B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A12175-F266-41BE-BAC3-9CD37FFF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10AA6-034C-4AAF-B39B-EA7EE193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A8A7A-F2E5-4AED-94D8-BFCDE5CA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5CDD7-6929-413E-9619-32D0137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E0993-49EB-4926-BDAC-9BDC28C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7EA71-A2FA-48E4-AAFD-9FAFC960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97039-932A-4E00-836F-652F753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89298-34F3-4CEC-B6F7-96B8BE76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3C248E-E778-409E-8CF4-67B3994A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F53E-2975-416A-945A-61093FAE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E898E-6C26-4DEC-9695-6967F68A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BFF02-AA6E-4D8D-8494-7C51A02E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22CD7-C6C9-4630-9A2C-F6A8DA2C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DF9D0-5254-42EF-B99B-26FF1B7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B3FF13-8D93-4D80-9C50-62344547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ED784-D3AC-461C-BFB6-F029F4DC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4B1A3-A75B-432B-A3F8-80A46B78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0E703-4E5B-4DA3-B00C-7624139F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52455-4A8C-44A6-9AA1-8D0D3B89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CB6D4A-293D-4F8D-A442-FCEDC328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9B7E-A641-429C-8568-807B39B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5F458-4805-44E8-BAA7-966F7C70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272E6-5B0A-4302-9F27-A3B65300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06CAF4-7704-443A-906E-E31B1F8F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A55883-BBF8-4086-AE9F-CD975257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6703E-D3DE-4449-87B7-A8B41B72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8259F-5808-4DF0-9DB4-405D8C3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2A379-D785-43CE-8A5C-B7B2D31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9CAD6-DE77-4577-8A14-3C3F5343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256AD-6555-42DC-885C-4AE8CE3E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E00E0-753D-4E77-9332-BB612D3F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8160-DF49-4DC5-8147-F048F9DB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1722-7DBD-4BBE-9E9F-7EC8AC2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10672-E9B1-44BB-9FD7-5CB96A20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E39D7-9D22-467D-A84A-AD2163A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D2B439-7419-4364-878C-0BB7576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230CA-A59A-4C16-B888-C07E0C2D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D7CB0-DA2D-4944-BF40-42928D49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4F32C-CF0D-4419-83EA-E720165D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81D49-E189-4AB5-8F4E-4615977D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B7EEB-F515-4AA3-BFA0-FD7B276F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FC242E-0F3D-4BBB-BEE2-32F62460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DA136-8B6C-40AF-86EC-DEE4040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14E0-C9F3-42F3-A8C3-689D2CF5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C5579-8F89-4D28-BC1A-80BFEFE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C0ABC-8FD6-4CC8-BABF-83564D9D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46D84-9C99-48F1-BF82-40038852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414B4-1B26-44BC-8082-0905423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7805A-46B7-49DE-9FEF-8C081AE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BC27C-A870-4DA9-81E6-45AFF566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12DC1-90F8-4DDA-974B-2D418418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AE985-B1D0-4E7B-8E20-83AD1FF6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85DB0-BD83-4D6B-8E86-FFC92428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DD495-5B0E-43CD-81FC-9E98E8AC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E3CE-22A6-4110-A18F-E03FFFD0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550D7-61B7-4798-98C5-55F554D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4C32B4-9BBE-4ABD-AAED-CDAA92BD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F3528E-2BB7-4AAF-AFC8-EECBF46F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994B9-F327-4D14-8702-841B5627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30283-ACE8-4BA1-BC20-98254FA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BC655-D4FD-4844-BC63-F2F7C794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309EC-DF14-461E-A208-D0CDBF9E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7BAE3-4DD8-4B87-9ED3-5CE99FE0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5ABEA-C64E-4E35-A81F-4F5C6064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F87CB-0338-430F-BE89-59411D6E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6BF0-4ECC-4880-B604-49B51164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9BC79-33BA-4951-807C-23D0D9C9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48BE52-C886-4818-A213-A2783562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CE630-C44A-41B3-B186-2D0F60C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6B609-419B-47FE-BC94-C143FE5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F7D27-C311-44E3-B55D-5FA84766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C05C7-B86E-44EB-B15F-F3BE91FB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5E498-5923-46DE-A94C-5CDA2268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987EE-6D4D-4DFC-A327-CB9B6ECB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C42C2-BFCC-4A15-9C77-F2BCEB02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CB1ABD-F383-4A8A-95CB-B495A4F4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255A-7A94-489C-BDC9-B02DC29D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BFCF0-6ED6-47BB-A542-BEE25D1E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C8B76-7D18-43B8-9240-18E941F0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9EF519-3B73-49D2-A77C-6643023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E46035-C8CB-4E54-8320-62367AE5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6864FF-E8B4-433B-B98B-46648B13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69EB41-77CA-4168-8159-7C471BF4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71426-5AE4-4310-94A0-6A105FF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FDAAD-B5EF-4A4E-9F47-93F81697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8D584-8DBB-48EE-A703-0231ECD5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0E0F3D-9721-476F-8966-AC79913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D6E77-4D8F-451C-BD92-D360D6C0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09CDC-A8F6-42FF-88D5-BE59A7E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E8D9A3-F095-469F-819A-1F2FF4B7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F3BAE-DBB8-4CA1-BB81-F3C555A3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3B2B8-20B1-4D24-A289-EA5CC385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38D3-873A-4347-B1AE-F545BB5E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548E2-24C8-421F-A1D6-3FB9A10D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82D1-6C7E-4C2C-8973-E5B5E9BA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C726-B750-41B0-A9B8-9DE5D9E3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E0406-16A7-446F-B457-567E8EF6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5906-18E7-441B-A4FB-6C1F462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6281-858F-4F9A-83A8-6EB7E475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C0DEA-4B40-4422-8D90-98AF501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AE69-FB8F-430E-A133-12130D15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7B466-89A2-46C9-9CFE-B05F858B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2487-FCB1-4D64-A49A-5C62BCBB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68C2-2DD0-46AC-AD85-83CCF591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1C5D8-C0FC-4326-9544-69F55B3B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1B5A-4DB0-43D0-B452-16EAE10F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29C-AA8F-46A9-AD70-CAA80D9E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5693-F122-4127-9ACE-EB10597B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A6141-17B0-4291-8996-63441AD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5332-AE72-4C82-ABA7-DD646C33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BDD2-E250-45F3-8463-F56CC19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2A4FE-A0E0-4381-BABC-28F52BD2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42AA-431E-4A88-AF50-D180ABF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B327-D972-47C1-9F3D-63D6832D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1297F-55B8-4016-A5FB-DE00C008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1D278-D11F-45E7-8AEA-AD4EE44B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D6BD-77E5-439E-AE6A-64A29C1D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9AD-8399-4C60-BDC1-9196B99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F86B3-C578-4209-BEF8-012B52B7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25177-A5DE-47FF-A297-B6611BD3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26355-ACF4-4E71-868F-374A9D2B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26873-D55E-4CC4-8301-BAE8D608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3A1F3-0E09-4624-AB41-1E8434FB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8EE5-B76A-4D8B-946D-FDD0DB45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BEBD-91E5-4908-8A55-8D140FB8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6F82-6AC9-4CD3-90AE-F6404E02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5248E-8A0B-4EA6-837C-D8B07CA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0CB7-485E-472E-B75A-49B69949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5BB-E460-45C1-8994-4C3260C2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B5BD9-1633-4C53-91E6-A0286CB3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20E20-9A71-4DFE-9672-0FBDCFF2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C27A-7393-4B06-B542-1ECAD0E7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602D-95C9-46E3-ACA8-43B5B4E6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F917-F658-4EAA-A7E3-0753700E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8617-ADCD-40B3-A95C-13010A81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29132-0CC8-4211-9FAC-2920ABD7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A8D84-03BE-4BA8-8CCD-DEBFA6F3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1D76C-B306-4585-ABBD-7ED25108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2F66A-6448-4C41-B545-79DF7345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687-4E06-41A2-AE6A-F64BB71E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548C0-2E9E-40A3-8474-0C722EB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7A89A-6932-4F84-AB14-EE5E1B75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B28EE-B9C4-4C0A-B8B6-617FA4A3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15585-DE7C-4F6C-ACAA-617AC0C8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0C58F-0428-4354-AC49-8F2708A1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5FED8-8E86-41A0-A301-533A85C4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CEE3-06CC-4F38-96E9-11BD2B8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404BA-B06E-4870-B538-C2894532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827CA-BD78-4BA8-82B8-C6F0D69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E7568-5B13-46DE-B005-D40A8B62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582-9EA8-41B3-8479-1C79B49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21CA3-FC39-4527-87CE-19C6E0A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7D6F-4BBE-42CD-B6FA-19191099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26785-FF23-4383-A2BA-C3626F7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0A7E3-DB43-4F53-917B-E4F9768D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0EE15-6623-4E37-AD65-F34C7DA0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67E40-C8DC-42FA-BAC2-0D4AFC37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BFFF0-9BE0-4BDE-AD42-F99978E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2A0BD-13C9-4871-8CD7-BBF224B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C4EC8-85FD-478A-8D04-06714C1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C139B-2713-4485-9CDC-D51E767C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1BF-750C-4EEF-B591-E4CED606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AAC6C-812B-49DC-910D-CCD5456E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31938-5B16-45BB-9A98-5DE75448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9BCD-76DB-4E68-93AE-A281DDDC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3F168-6B75-4705-911A-A5D99A39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66B4-EA56-4BEB-A151-B2819BB0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9E816-A9BD-4DF1-AAB6-D943A307B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3918D-F985-4814-8EA9-0109C8BE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75F0A-7D2E-40E0-B007-369D945D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FD42C-6B6F-41AC-8417-8176CC50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072DB-04F0-4EE9-A05B-EBA808C8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53F4-CD56-4648-83C9-324BD5BEB1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A888-621A-45CE-B20A-28E70629D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CC1-51C1-4F2E-A075-77C8E3370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D06B-B66D-4AFC-9ACE-B9D70A57B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B568-BBF2-4881-8214-763BA298FD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C273-06AA-448B-B407-A653DDA538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404-06B2-40E7-B19A-654C07B555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9CAA-79BC-4698-A0AB-5B6A6B583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358C-18CB-4239-9891-7A95EDE56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62FB-3708-4EE8-94C0-7A7D64960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95E8-52BD-4F41-B9FB-4958FAD22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F961-44C5-4B4D-B6D2-11CBF480A6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06B8-8172-4CDE-B30C-358338727C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9705-13AF-4595-A46E-1615C4D97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4199-85B7-4400-AAC0-D9582D34D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A870-7218-4A58-B184-4689FA2673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6095-8629-4768-9704-666409E41C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98F-A250-4FA8-8BB7-384EA1D92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13B3-FF7A-40D1-AE98-53684A1FB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9065-4A25-486D-87E3-17D15DBF2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777B-0189-4392-811B-0B8CE4DADD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314F-02C5-45E9-8A7B-AF40D42CB9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085E-EF71-4511-BD2E-54E253447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0ADD-E6CF-4D90-842A-C740981F10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D093-A68A-4F99-887E-29CCB0437C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2D2-4B14-4694-A1DF-99CE83DE56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F0D3-CAB9-4EC7-8B6D-5D255B3A7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29A1-7F11-4248-BD90-1331C9B7E4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78D5-E4FC-4D72-959E-4D5C25AF7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3D8B-B74A-4529-9115-4FD1538B74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1A98-B113-41E4-8BDB-7D89197783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5AC4-AF8A-415C-9B3D-7557B044B5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811-DC8F-4ADE-A791-522ED378F2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46EB-DCC8-4CEC-AD29-AE41A25B5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0E3A-1734-4AE9-A920-93D31CAB92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82B-70D7-48E5-AB24-CC8534FC01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9D0C-39BE-4890-A6C2-E0105FB54A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FEE-0BD3-4A5E-8AE6-E57D28153C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3490-FA60-4C83-973B-3F6D7A6F5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C48-D613-4092-BA8B-FC1DAE604F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57280" y="2943360"/>
            <a:ext cx="622944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2231" descr=""/>
          <p:cNvPicPr/>
          <p:nvPr/>
        </p:nvPicPr>
        <p:blipFill>
          <a:blip r:embed="rId1"/>
          <a:stretch/>
        </p:blipFill>
        <p:spPr>
          <a:xfrm>
            <a:off x="247680" y="390600"/>
            <a:ext cx="8648640" cy="60768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1692360" y="5905440"/>
            <a:ext cx="590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69633" descr=""/>
          <p:cNvPicPr/>
          <p:nvPr/>
        </p:nvPicPr>
        <p:blipFill>
          <a:blip r:embed="rId1"/>
          <a:stretch/>
        </p:blipFill>
        <p:spPr>
          <a:xfrm>
            <a:off x="676440" y="1938240"/>
            <a:ext cx="7791120" cy="29815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258920" y="4249800"/>
            <a:ext cx="540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795240" y="743040"/>
            <a:ext cx="7553520" cy="5371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276720" y="321300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093080" y="3213000"/>
            <a:ext cx="136656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60880" y="4048200"/>
            <a:ext cx="13665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08720" y="406224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844720" y="47973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77080" y="4797360"/>
            <a:ext cx="136692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059280" y="5589720"/>
            <a:ext cx="13665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093080" y="5589720"/>
            <a:ext cx="13665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552600" y="1357200"/>
            <a:ext cx="8038800" cy="41436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164360" y="18162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916360" y="41781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2541600" y="472428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76801" descr=""/>
          <p:cNvPicPr/>
          <p:nvPr/>
        </p:nvPicPr>
        <p:blipFill>
          <a:blip r:embed="rId1"/>
          <a:stretch/>
        </p:blipFill>
        <p:spPr>
          <a:xfrm>
            <a:off x="299880" y="1523880"/>
            <a:ext cx="8544240" cy="3810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684360" y="3357720"/>
            <a:ext cx="2592360" cy="2087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828880" y="2565360"/>
            <a:ext cx="167184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580000" y="342900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724880" y="2637000"/>
            <a:ext cx="1168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795240" y="1295280"/>
            <a:ext cx="7553520" cy="4267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63640" cy="37447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484360" y="1413000"/>
            <a:ext cx="187164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580000" y="213372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7380360" y="1484280"/>
            <a:ext cx="151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7352" descr=""/>
          <p:cNvPicPr/>
          <p:nvPr/>
        </p:nvPicPr>
        <p:blipFill>
          <a:blip r:embed="rId1"/>
          <a:stretch/>
        </p:blipFill>
        <p:spPr>
          <a:xfrm>
            <a:off x="309600" y="690480"/>
            <a:ext cx="8524800" cy="54770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88508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788508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7956720" y="4797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7885080" y="56037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6324" descr=""/>
          <p:cNvPicPr/>
          <p:nvPr/>
        </p:nvPicPr>
        <p:blipFill>
          <a:blip r:embed="rId1"/>
          <a:stretch/>
        </p:blipFill>
        <p:spPr>
          <a:xfrm>
            <a:off x="290520" y="1562040"/>
            <a:ext cx="8562960" cy="373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3492360" y="44658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4788000" y="35877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6084720" y="44514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308720" y="358776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380880" y="1314360"/>
            <a:ext cx="8382240" cy="4229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33200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6227640" y="2492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332000" y="3630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22764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3059280" y="4797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364000" y="4797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4276" descr=""/>
          <p:cNvPicPr/>
          <p:nvPr/>
        </p:nvPicPr>
        <p:blipFill>
          <a:blip r:embed="rId1"/>
          <a:stretch/>
        </p:blipFill>
        <p:spPr>
          <a:xfrm>
            <a:off x="281160" y="714240"/>
            <a:ext cx="8581680" cy="542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684360" y="247644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3671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539640" y="4076640"/>
            <a:ext cx="3672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39640" y="4811760"/>
            <a:ext cx="431964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539640" y="5575320"/>
            <a:ext cx="4319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1:5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