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853-9C9A-4D1A-BB48-DA07A18F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9B1-ADA2-49F2-BA93-78BA76C3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80816-75B4-47AF-BBDF-48D3079D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0413F-6489-42E3-B5E6-E5BA1372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1F0E7-4EA5-43D2-B3ED-600C833B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A53E1-A98F-4829-9A94-DE1FA1B1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7769C-BA85-43C4-893B-833BED81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2572F-8B9B-421C-BD1E-C0032870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88ED7-9FE7-4BAE-B615-9FBA93EE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ACB13-3C7A-462B-94B6-11F40E57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A7472-8422-404E-9E6D-E1E5FD04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FAB12-D6C7-4EDB-AC2F-134E7F9C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A29-1EDF-4C91-A5BA-AB4F8D45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DE7AD-0ACC-4E21-9620-44C2362D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9E30B-745C-414F-8CD5-F3D66E84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38450-7292-408E-AECF-45A3E9CD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7F5BE-F13B-41B1-B836-34108608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4B7F9-E985-46B5-8E7C-8BA13437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B91DE-4C91-4423-9FA7-844B0511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77E07-2176-413A-B407-F05AE694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12CEC-A0CD-4D77-BB59-DE8C9282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3E671-4E3E-4C4B-927E-D5FE2566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47AB6-E893-4151-82D9-AC2E39C2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474-CE3B-41A6-9D9F-02CAC51A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C6D81-DD07-4F9F-80C6-6F0E1B21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2CAA7-2037-455B-8759-BE3752FF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EB570-2E74-47CC-AA5E-72B61FF1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3401E-2F8E-46B3-936A-561ADF3A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B6427-0857-4C46-A453-8ABCE344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31C4F-F638-40AF-9F7E-F6D59406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B4D3D-BEEB-49DB-8E73-9AC21E3B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9BE5D-A5A6-48D7-A55C-CF4B66C0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13D95-2D6E-416C-9EE0-32C6D5B2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CC49B-593F-4322-A30B-9D8B7394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A751-6607-42BB-9A3C-BD5C5F7F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DEBBD-61B4-4560-A98D-F9F2D10C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BC438-93A2-4837-A4CD-F351C9CD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96564-BE8A-4FCC-A5A7-A76B4F05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64B21-F27A-4234-BC6B-4F3C295D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C78B6-AC7A-465B-9216-7F187341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DFAED-8988-4F23-A78F-9883758C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AEB10-7F57-499A-AB03-191BA825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FE7EC-06E2-491C-8967-D97F227D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0D0CC-14F6-48EA-99B4-03167558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C1761-B9F3-49A7-9171-C4AF66FE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0C19-741A-414C-81FC-CBE23595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6430C-6572-4944-AABF-1F695684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F1B5D-1DC3-44A7-BE66-6FB3CBAE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21E2C-4B8A-48D5-84BB-65D87F52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F90A4-5C4F-4A3D-B9B7-13F8BBF4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5751B-F484-46F5-9B7F-606890A3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2ABB9-AF33-43BE-B6B8-59E8F591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47B9D-C1D2-40CA-985A-05487279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3F271-2800-40F4-98B8-02E8655E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E97D8-119F-4B39-B64B-92594C87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5EBC5-067B-4D28-8CA7-E35CC937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4027-569F-4DCD-9817-B7A23220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1BD88-F4E6-4DE2-A085-A44E744C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292C5-17B5-48D0-9958-8CD20B11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FDE90-EDEA-4280-B4E9-DACB930B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3B7A1-1F6F-42A9-AA57-A2B771E1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1FE26-AB1D-42CC-93AD-E5E84544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10E55-610C-4BBC-B123-0879399F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9D1F4-2BC0-4A83-A0C2-69AFF17C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F79D1-A228-423A-95D0-E274B21D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0D71A-0A93-4923-9D7A-6EC18AC8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57759-0327-4E1B-9E2F-2047D336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3020-08D2-4B97-9780-56E03176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7712E-458D-419C-963F-10D1D7E9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AFB2CA-CA61-494D-8C62-E2F39E42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9D2A3-55FA-4CB8-B047-AD280251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8C410-6390-4676-AFC0-C7713F6F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2FF43-C7C2-412B-9B76-D094001E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AA722-5A30-4951-BE1F-A8C7AEF4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898DD-3C8B-4290-9074-1AE41B4D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47B28-2BE2-42F6-8BB6-1219F3F1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4763D-B1F6-4799-BFBE-A8C9051B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DC0C5-7CEF-407D-AFA2-2B1E8BDE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A5F2-52B1-4CBF-95CD-9DA7FC6C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A2668-BD1E-423B-9D0F-1481A2C4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CF4EF-70A1-4A3F-9C3E-92DAA23A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2D73C-D1ED-478F-908F-1AE5A3E1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F0567-5FF0-4A50-ABB6-3CAC3999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BC4D20-0B30-4204-8989-CF648952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6F015-BD5D-472F-B239-93B5DADF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603E8-3FCE-4A92-A188-AD4EF5A8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D39F1-D87B-47B8-AF18-719EDE6E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EE1F2-632A-4AC1-8A27-B80D7783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1B850-57F1-464F-B545-827F5EE1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22C4-B5F1-406C-9DEF-A555C8A9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83122-771F-400A-BF51-C8A46876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55FBF-0FD5-4923-A20F-837C91FC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B62156-5237-4E3F-8D4D-7210591A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54471D-DCA7-4E86-B423-996F4E7E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1C311-7FC1-4BBD-AE9F-19E1F6EA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36E23-B225-455A-8CBD-44B34956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3CAA6-42BE-4501-9027-9A02050C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18DEF-3D9A-43EB-A66E-68D3E07C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5D2BB-BC52-49CE-9692-C210C400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DB007-416E-4BDB-9045-0548DFE1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96DA-F7BC-4BCE-9B5E-A5F9887E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ACCF7-3ACD-4056-9210-F9F58D9C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2204BB-C659-4E4F-86E4-1F030F54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4DC2D-920A-4722-9E97-4CC3B7EB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42ABC-D7B4-4499-BEA1-23254B97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B8AEB-5CA0-441B-93B6-E8F15D25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6D3AA-0B91-4FC8-B3C7-B5FE337A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23E791-D399-4725-8FC6-F875AC22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6FC3B3-4077-4F44-AB05-01A065E1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8C594-7AF5-4D8F-ACA2-1DC221C8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FB4E3-E34C-49E8-9D47-DABF7C94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D30-839B-4D4B-A53E-7C0AB0F2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A781-FA3B-4464-A456-A53E61E5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BAE2F-7DB4-4E53-B88A-191CB815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5A9D7-93CC-4CEE-A319-57E52CF3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4C538-740D-4D53-8DD0-2A8E8C71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4115D-37A4-4A82-939F-893C2ED6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F0D89-FEF9-4727-8BEA-2011CF97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E54B8-0A1D-4318-81E2-EAF4199E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697589-74A7-4F75-A3C1-1C538855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9D6FD-6B8A-4F32-9D06-E255B41C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C9AD6-EE6F-4816-8BCC-4AB67A75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CB9D50-33A6-4934-AB8C-53145BE9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E265-76AE-4749-8943-5786BB90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C574DB-44E8-4204-AF75-8EA739F1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6DEE0-810D-4CDE-B8CE-CD0F62A3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0AFB9-AF98-48A3-A51E-19C6C8B5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CBE653-42D5-4BDF-BB0D-DF0CA8DF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D3C68-6687-4C29-A98F-474F2FE1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55D658-C60B-4F96-B1DA-D1D58096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3208F-8F38-45FE-8394-CC377C23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F8E9A2-6658-4FAC-867D-3AFE9838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E76CD0-83BB-44A8-B9E7-78FC996B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4C0D5F-F2A0-4B5A-8733-0C35B163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360F-7146-4BDF-BD21-08254E4B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9C7210-B7D7-442C-9230-5BE80AE4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258BBC-00B0-4294-81CC-D400684A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DF34C3-026A-49A1-B99B-16788E57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86C068-3BAF-43F9-936E-2171917A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34448C-976E-48BB-BCD0-E0A4C2B1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A6E734-1EF0-48C0-B127-D3512AA5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05B9FA-EA4C-4151-BF2A-32652EA4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8D821-3651-483B-A9E9-7C57C445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04609F-F42F-4A05-8736-92EA8FED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8A4BE-C29E-4C7A-9811-925DD2E2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FA9F-8B6C-42E8-BBBA-9B447157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115FE-6241-4BE4-929F-E7E2112B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6F6821-DC23-48BB-8DCA-59127C45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4334A0-584B-4943-8F4F-62640F47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5CF51C-2BBF-42D9-8904-A3F4BFA8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9DC724-7A3B-47FA-B8A8-04679694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91A5CF-46B3-4BDE-98ED-EDD3D09B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9B07A1-CDBC-4AC5-B30A-B43EF8D3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6171FE-2CC4-495B-8562-9B0B90E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2E59CD-4E9D-4873-94BD-DB1B8B62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87E3A2-642F-47FC-AC65-7B706F3C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5E98-DEB4-4FC7-B727-9DA310D6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110826-2FA6-4F15-BB5A-89E367D8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0D5263-F57F-4C95-A0DF-31D79E04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E85EE3-F562-4A90-BC12-50C12752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9DF117-E956-443C-BBE2-247F566C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20E70-CD76-45C7-ADE3-BE8CB18B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5AD117-C0F2-4798-BE52-6D01B3D0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C4DADF-2BF1-4B32-98CB-A8E1662F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B8FD07-0EE1-4435-8D49-A5C9C1C4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CE18DA-B6CA-45FC-8EF2-BE9409FA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187A1D-6EA7-405B-9DD7-355A852B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8C4A-6B9F-4EB9-9D68-E7A03052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075686-9A4D-4F17-A913-676525A9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58A86F-EF3B-455F-AB83-1C4289AB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783C9-2297-4A26-953D-3956E5F8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9867B1-A8FD-45B8-8A48-59549801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6E242C-5EF6-4753-AD3D-146274AF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A66641-230C-415A-8296-38D46106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A6E2E8-5E87-4CD1-A712-307DD24B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7A32BF-9FCA-43AE-A420-33E74568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28506C-B752-478A-8534-933F7506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6D3F5C-2B3B-4730-8057-F3339B85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1692-F4B7-478E-BBC9-78845F1F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0AEF49-79D5-40B2-B133-34404CF4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971062-6204-48EA-922D-6D93C228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02D749-D20B-4AA2-A2AE-C6C3C3B7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FA8D3D-0B03-4906-BF8A-6759B209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811763-711F-4DC6-8DD0-B9AF496D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9C8EE6-FCFF-41C5-BADA-6C52B486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6F11D3-2C1B-4921-90EC-257D2186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970B2C-86A1-442E-9441-52DCF8B8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6A7478-9CCE-4C6C-A3C3-559A75F2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BD73F2-576B-4FED-80BD-FEE870AB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1B448-15E9-4C59-9375-3D594A0E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99D066-0FAD-4D2D-A3FD-F323982F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29C39C-254A-4910-B458-F8E2C126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07CE80-31D0-4CD9-98E2-F8C12733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DA74B7-96D6-4C11-8BE5-CC610336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633453-DBF0-4A60-A57D-92360F40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9846D1-F5EA-4981-9749-E52A7472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660888-6DA9-4E80-9FC1-F15F0D3A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5040-FDFC-4314-AE2E-14CA2AE4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27DF-7419-4CB8-ACBB-88A479ED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D94A-6D33-4E73-9817-4C8EDCC0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63B6-DFDB-423C-B516-933121D0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B58B1-046C-4C3F-9B88-1D677FFB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E460-2677-4417-80D8-029C8116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1DD4-D76D-4730-9762-75DA60D9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217A0-94B3-401E-A20C-A3AF32DF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724EE-7F06-476E-9329-70F6BC9E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8F09-7BAA-43FC-9A5B-E9263D04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CDABA-51D2-447D-BCD2-BC953798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BDEAC-BC98-4E8F-8D89-B49C9943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E2B17-02E8-4273-8938-30261DFF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CAF-0312-4614-9ABB-B7813D5A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4E321-A774-481E-97B0-8F12E99B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1068C-37BE-4A21-82B3-BECF6F6D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0FA36-1BF9-4146-A223-183835CD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543CC-4DAF-4B5A-B5AB-93A734F5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F94EE-C4AB-4C36-9DB7-7F8A6B0A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C591-8265-4F45-84D5-2D6A295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6807-7279-4C63-8D8F-BB8DCF09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7D00D-2914-4E32-9829-6115679E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77C9D-C7CE-4FA0-986B-E5265BB3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94F07-D8EB-49F6-9E17-CB914B68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8A5-1E4E-4B29-A781-EF3EFF7E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D9D7E-B27E-475F-9A99-69ADBA12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0F8F0-1147-4791-A7C2-0B9CD298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F6078-D9C4-4F67-956B-E875234C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47A45-F259-4340-B3A5-03F5670D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73E94-4F6B-4AAA-80F6-708EB132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70D39-FDB9-4101-91C5-13A414FC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B97A6-2CBF-4B9E-9BEE-6A64132C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06CFF-CC9C-44B0-BD99-B0EF4A13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AC72C-F5BF-48FD-8AC3-7F30987F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2A4C6-2DB5-46F9-8FCC-874FA880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00F-A68D-44B9-8366-3BDCC393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868F0-6B2A-4468-93EC-9CCE9B5A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0670C-DFA1-43F6-BE71-FF8F7B13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8BD2A-F6FC-4BAA-9872-CA340875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7511C-1205-4576-8EFE-12168A31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5D37C-C87E-47E7-A772-5A16DBA0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C03CB-3A08-4F91-AF78-ECE66829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A40CD-AD70-41CC-A65A-8CFD90F5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9AA6A-8F32-40DA-83D1-C919D60A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6A77F-E35E-4A86-A8DD-01F7182B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26654-BC93-48D1-88CA-A6E75CD9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50C-6A1D-4B86-B25A-500BA8EF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CC73D-1B83-44C9-AA4C-877006E8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94988-BA31-4E29-8274-8D7B69DC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9D1B3-F69C-40C4-A705-F03DE78D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629D5-CB23-4229-9317-1D3BD464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DD3A5-D90B-4C05-868F-63997B81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A62A3-4F0A-4143-B084-2AB3B5C5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4855E-8DD5-4BAC-8BC0-C29EFAD0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D305F-D93C-48A5-AA2D-079F30A5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B86D7-9BCA-4536-AAF7-C36119AC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874A4-3593-4469-9B0B-D6D7BCB3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8E0-9DE1-4C06-8978-6205A87F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9B03C-B6EC-4F2E-A28B-46563733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6984C-DB48-4666-82A4-47678B72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1B21C-36FB-489A-8C56-2457EDBE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8E3E2-49A7-4505-B1F6-78B526E3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972B1-342B-4D94-944A-976E4805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B722B-9AB9-4228-B9ED-8836B9DA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4C4F8-2469-434C-ACDF-9EA1D918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8031C-E3CF-42E4-8EC7-9971A194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07440-2E25-4BD7-A3AB-743A716E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E95A3-CAA8-43C9-8051-80F50078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3FD-0F2E-4A56-9FE9-B53B9F6F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63FF7-F16F-42C4-AE9D-78BC6FF7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CAA89-B8C9-4FC0-A06E-8B3077B4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9B4B8-B10A-42D0-A015-28FF1D07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A6C66-B15F-4491-A0BB-CE9E9DE5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55CC9-B4FC-46E4-A8DE-E222F13F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288A1-EE6A-4D65-B2FB-43A31A2D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A297A-2438-402A-95C8-17FF8D99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2C74C-CA91-4558-852E-AC34CA6B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77DBF-8F9C-47F2-AF96-22747FAB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E19D4-F1ED-423B-891D-48A810CF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ED03-CE50-48F5-B99B-F536ACF498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9303-5604-485C-85F3-1D3BECF84A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3852-46F7-4FE5-BCF5-A23311D5A5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C949-B3DA-4604-BC72-79C48AC900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C945-D736-4C4F-8C8B-1BF515C86F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77C9-68AD-4C7E-881F-A24FD5C7F3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D240-778F-4A17-9618-0D910DFDED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3314-85E6-442A-99D8-C6157A3A71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EC57-2072-4E4D-8AFF-644323B938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8741-CC06-4D45-B60B-15FF391001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D33E-767F-4880-A1E0-5D6E84F066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2A10-CDB3-433E-904B-D5E33EF9C8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14B4-CD14-495F-A18A-B4ED230CB0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B333-8B22-48DE-9B88-FD65E52FC5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5515-0A74-425F-84AA-8D475F585D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5540-B42B-4E69-9A96-51E05BC401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38CE-93A6-48A0-A386-342CCE58B3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C9EC-D696-4D90-A9C5-F57DA8B115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E904-1E4B-4FB9-B3F5-B61C701758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87BD-80A6-417A-8A92-7D42285287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6480-215C-4736-A2F2-0EB6A28B39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57D2-42F7-4299-9078-54EFAAA958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2B86-19DA-4689-8E54-AC4AD12341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C4DB-2F7A-48DC-BF1D-7E6B2A5C76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E830-63C5-4BD0-AF7D-E0E7504A11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F348-4DAE-4354-A422-49F910C698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8BFA-1FD2-46F4-A2EB-16ED199E6D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1C26-A617-4F00-9981-F691AF683B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624A-D1EC-49D9-AEED-28E7E6FF28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5AEF-0C58-4783-893C-4C9044EA8F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96A3-18DB-4B02-83FD-68B22FFAA0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648B-DE07-465F-BB95-49C42EC4BC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0E9D-00F8-4B81-BD90-9C011B9CA5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837-565A-4173-BB8C-305D7DA504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C417-48A6-4E5F-8D18-E24D1B882A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C562-8E3B-4600-BDA6-D7E5CED6DA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E92B-51A4-4F5F-92F1-46FA8546EF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7FC1-1D05-4EC2-B2E3-AC194074DD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529B-46EF-4D4C-98FE-A5D09147C0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521B-9A26-4534-9D48-E3522040FC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2E99-BD52-439C-ABE1-4D3073160F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FDF0-9B99-4EFF-9716-FBC7B155A3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57240" y="3095640"/>
            <a:ext cx="885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089000" y="306360"/>
            <a:ext cx="7537320" cy="6485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327560" y="2081160"/>
            <a:ext cx="344520" cy="306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012000" y="23115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6149" descr=""/>
          <p:cNvPicPr/>
          <p:nvPr/>
        </p:nvPicPr>
        <p:blipFill>
          <a:blip r:embed="rId5"/>
          <a:stretch/>
        </p:blipFill>
        <p:spPr>
          <a:xfrm>
            <a:off x="1509840" y="2895480"/>
            <a:ext cx="35226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281160" y="1585800"/>
            <a:ext cx="8581680" cy="36864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3780000" y="1844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2556000" y="227664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7596360" y="272268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2340000" y="31561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6746760" y="3659040"/>
            <a:ext cx="2872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5407200" y="4149720"/>
            <a:ext cx="93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304920" y="1019160"/>
            <a:ext cx="8534160" cy="48196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258920" y="2766960"/>
            <a:ext cx="2376360" cy="31831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3132000" y="198900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5724360" y="2565360"/>
            <a:ext cx="2880000" cy="31831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7597800" y="2003400"/>
            <a:ext cx="10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90480" y="860400"/>
            <a:ext cx="7763040" cy="55436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3168720" cy="43196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2771640" y="936720"/>
            <a:ext cx="144000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5508720" y="1744560"/>
            <a:ext cx="3168720" cy="43196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7308720" y="907920"/>
            <a:ext cx="144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52280" y="1481040"/>
            <a:ext cx="8839440" cy="3895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826920" y="3268800"/>
            <a:ext cx="525780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900000" y="4048200"/>
            <a:ext cx="5257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147600" y="1790640"/>
            <a:ext cx="8848800" cy="3276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00000" y="3616200"/>
            <a:ext cx="511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00000" y="4349880"/>
            <a:ext cx="604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233280" y="990720"/>
            <a:ext cx="8677440" cy="48765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00000" y="3630600"/>
            <a:ext cx="511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11164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755640" y="5157720"/>
            <a:ext cx="511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243000" y="851040"/>
            <a:ext cx="8658000" cy="591480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13314" descr=""/>
          <p:cNvPicPr/>
          <p:nvPr/>
        </p:nvPicPr>
        <p:blipFill>
          <a:blip r:embed="rId2"/>
          <a:stretch/>
        </p:blipFill>
        <p:spPr>
          <a:xfrm>
            <a:off x="1000080" y="1833480"/>
            <a:ext cx="3390840" cy="461988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13315" descr=""/>
          <p:cNvPicPr/>
          <p:nvPr/>
        </p:nvPicPr>
        <p:blipFill>
          <a:blip r:embed="rId3"/>
          <a:stretch/>
        </p:blipFill>
        <p:spPr>
          <a:xfrm>
            <a:off x="5018040" y="1859040"/>
            <a:ext cx="36957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9:2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