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381-1F70-4B04-8066-97C544A0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3C5-EB99-4C56-9EBA-C16D26E1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36419-E6AD-41C9-8CD4-785A55A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A70B9-88A6-47FB-8037-F1B0F49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46E7-3E87-4E7F-BFF3-A5506A4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2D8D-D03A-492C-AFCE-7E1DB62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D9BF5-046E-4008-87A6-410EE11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A5069-D4A8-4A30-9B10-6888896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52B8D-CC1B-4844-BFBE-B44439F0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061E4-601F-4D19-9C8F-B958CFBA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499C-18CB-46F8-A82E-B275B1D4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2CE9D-7F4D-4B45-BF9D-D8FAA485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4F3-45C2-4B71-AA00-4C8467B5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736CF-1597-4996-9C1A-E50891BF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6FDAF-C89C-4A7D-A05A-D9B13543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85DC3-4742-4A04-94F2-5BBF67E7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DFD3E-7C9F-48EB-B40B-4E0C341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C64B5-5D1B-4C27-A043-90797BA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C35F3-E03B-4A74-99AE-C2C9CD0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E6D71-7D0A-4649-AF6D-27D7428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0370E-83E4-4693-8170-06CDAE2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5BD3A-89CC-4F13-B953-F43C742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1E3A4-E535-48AB-BB87-9AB51F85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EC0-C740-4BE5-B8CE-ED8ED27D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161D-98B9-4AE7-B2A0-99BFFC96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4543C-D4D0-46AA-B3EB-90149CFD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F8894-27D8-40B3-A3D2-8807A7CC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C2FDA-DB33-465B-A5A6-EFE142EA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1C164-4613-46AE-9F05-32702836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B26BC-E9E8-49A3-9BE0-1588D82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DDD1F-1FF9-44DA-8DFC-3071FE3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6F530-46F3-4838-B5C7-42822B0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85FBD-4A52-4DF8-99DC-6709F1D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82A76-0347-4F15-A1C7-02500123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606-7014-498F-A579-99E2BE42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5BCD-A514-44C0-8F1C-E73591D0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CDDA5-FD37-406C-A369-D6CDE7A6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96AF1-75F1-44E8-94E8-235A5924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9B5B-AF7B-4890-9879-31CC0EA3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85A72-A711-4025-B7C4-D7302672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E2BE2-5410-4B0A-BDE8-3675F28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B35EE-278A-4FAE-9270-A79F368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B5CB-C6EF-49B5-A8C9-70BD32B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89F0-1C7E-44D5-B53D-9C62BD6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DBFA3-BD1F-4EFD-B409-A6275F2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7AFD-C842-4BD1-B427-C5DDA62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5B0E-48CF-40C5-8125-E17257D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650F8-1747-4AED-9CA0-0830945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8C018-085C-4AC0-B8DC-AADE643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984B6-7ABC-4B35-A57B-DA4A4EE6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88101-ADCD-4A6E-AA65-4F38EB77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30F9F-CA57-455B-B3C4-8D856033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FCFAE-3B5A-4DCD-B064-BCB09F6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6D5B7-8F79-45E7-B6A9-A26ABDEC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4C7FB-BFA6-48B5-B5CF-2881086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4A6EB-CBD6-42FD-BADB-838EC8E3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E077-C350-4298-81D3-EE9DBE5B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FBE85-C73A-4B86-A8CF-735D345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8C0DA-04ED-423D-AF75-97D1B69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5EF8C-0AF7-4F78-BF9A-BBF8FEA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365A6-38E0-4E52-B9A7-FDC9677F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F1A62-4069-41F0-B156-81F28847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42E05-01B4-481E-B02D-34C22848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44EA6-6193-4A58-98AE-E7570C97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896CB-8DAC-4C76-9C6E-A56B8DA7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BB7F7-704E-4190-BFA5-E60C32AB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09F31-8192-49B5-AAD4-A06B2108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004A-CAD9-4EA1-8BB6-1137501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80B9F-EC20-4E4A-947E-6D44258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D6838-AB4A-4876-B995-F4DC3393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2C9A2-F461-4AB0-B1AF-03352D4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11A05-D032-496C-9F3A-D1068E1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0375D-8C8D-48D7-90BB-985E9CB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60AF6-5607-4294-80E9-1B6C9AD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6D076-5FB1-43B3-9FCB-C872AFDD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C3992-BE6B-417C-AA09-37FF0F72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D8AB2-3C5B-4271-A391-CE1ABDEF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FD3CE-3E28-4F22-866A-40AC81C8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718-2FC2-439C-AB0E-C6FC7D1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C7322-5634-40C1-97F8-93A9BC7C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51827-CC3F-4F88-BF78-34BEEF73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B3A52-3814-4655-9242-2DCCE85A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C308B-1008-4E4A-BF0D-8A4C0B11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E1F46-8514-4928-9D32-9B3FBFBC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CA34F-93F9-4378-800E-E386074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FFBFB-55FA-4AAB-B00C-5E9DC7D2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51B2F-E22D-43FE-96DF-23DD4AEC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B1CB4-1F52-4207-8943-05E951A0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2AF4A-84A2-48E9-9D90-585B9C58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83EE-9FFF-40D6-9B0C-7C0942C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15EB8-5B6E-41B4-82A0-447EB2B6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7B7B7-5173-4570-BDD9-C3018932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AD482-D363-49BE-B544-AB4832F9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F308D-3022-4934-A2FC-63B39F7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D6CA1-4DAF-44BD-972A-BDAE3D86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7706F-449F-4FEB-AE49-DFCFED4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51723-B7B7-486D-9766-EC343906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82184-99CB-4180-979A-5174876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BD036-89EA-4A76-B589-79A8863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52DCB-BE80-484D-8C8B-E7CDB5A1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16D-5B21-40D6-A58D-C601A137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63177-4E67-4302-B741-E8628E0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F00E9-D651-4DE6-A0DB-A2420C8F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5AE7D-989C-4AAC-8D37-956D5D7C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78390-2C47-48B0-9395-BF49B254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EE0FE-9123-4E4F-BCF2-B1DDAFB0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10CA7-C401-4960-B2D1-BEC8B8BA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0DA64-E838-43BF-A160-476E2F2B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18C2C-F74C-471A-B252-20C6F709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1084A-66E6-4597-AB20-A909C3C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CE977-A266-4D3D-9FCF-70907BD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282-58C8-4C84-896C-D9BB1B64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6AD0-F36E-4C85-8258-7011AEE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1577A-09D1-4D5B-8FB9-36B9A0C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160E0-D89A-4480-9F67-8315682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E207F-59F7-460A-B6B0-9078B830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720F5-BFAB-4ECC-A286-A0859B29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FC3F1-8100-4640-8012-B55C7E2A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789BB-6270-4D83-A79D-12530B93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EF872-B10C-4D57-A563-020ACE09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ED59F-9A68-41B9-9754-3ABEA3C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23B4F-72B2-43E9-A98D-3D46630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BEF83-DC36-4432-A213-A8832EC3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440C-5227-41F7-A3C9-D96BDB23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8726F-3C8B-4BAC-BA2B-6901111A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C654C-FA2D-4CCE-8368-25DAA47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252F2-B11E-4D67-B079-B22585C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8736C-D446-4B7B-B963-5BF1DB6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54CF9-F696-4B30-B649-E34D4AF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746D0-8ACC-4054-8FA0-80FD241A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59697-79E9-4633-8257-2CD117F1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3357C-2E6E-4E47-89C8-799FC013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36C23-188F-45E7-A85C-823380E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E5C58-DDA4-4BA1-8255-1F93480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D186-B6E5-4103-84EE-4138179D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11421-C501-4C11-A5DE-64E83678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CCC5C-8375-46DE-83D5-31B3056B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BBB0C-A304-48D5-BB00-ED81C3F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DE1DE8-99AB-46CE-AA00-F11A8558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84FA1-A2DB-4F29-B253-496C419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74318-1F74-4586-BEB5-1634E1F5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7CFC9-7A4E-4CB1-B95C-D605102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FF099-87DB-4ADB-A67D-DFF416E8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13037-4343-496A-A8AB-DAB51AAC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5203B-411D-465B-97D9-58F8FCB3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23A-7413-4518-9FD4-C0825DF6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5D967-F5C3-4ABA-8560-A7C4CE6A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AA995-08B7-4434-A460-726CD2C1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D397E1-65B0-4641-82A1-304DAB11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793EA-78D0-43FE-AE00-689ACD14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EAD93-6A6A-4958-A50A-989993A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85CF1-8AF1-4CE1-9E3A-63B5D38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AD81A-AFB1-4D74-9EC1-D1EBC005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C8DE5-EC8D-4CAC-B17F-FF04357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A3136-FCF9-469C-AC25-BFB583E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D4A3B-C795-481F-87FA-846E9FC8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4EE7-BAD6-4A17-9755-B601B256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64A46-4BA2-4D49-A22A-F92AEBFD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FEAED-12A1-4FE6-9874-1EF60410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0CD34-C3F8-4EAD-B27D-63271C2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C4415-0BFF-4807-A288-2E1E8DC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DE44F-5FEE-4798-81F4-0E5D73EE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553F1-0F6B-46EE-8E3D-321DE1B3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CFA51-773F-4A8C-8BFE-9FEA9FC4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027E1-2992-49F5-9952-0C2FF9E6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87A8F-19E4-4D8A-B579-5DA3FB19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E65EB-56E5-4859-8860-E93D2DE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17D6-9CC2-43C1-8F89-B5E173F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6B808-EBBD-4F33-870A-0D449EE2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73A154-5388-42A6-BA43-F78C1B23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F3B9E-031D-42A3-B771-08AD1F7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24FC-B042-4BA4-A0AD-A7FC551E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CE6C-2100-4352-8A48-7C25864F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FAE2-D6AB-4314-A6AF-61D42A3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A841-9F74-4D88-8169-FBD98D9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E7A-276C-495D-AA6D-8884785D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308F-05FA-46A6-8CDA-601414B7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5FE3-F13C-45AE-A390-E6B5F37E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2689-E40B-468F-BC02-F2A408C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0D7C-B2ED-48A3-B612-3C12B822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C9AD-104C-45D4-A494-AA3D72C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7C5D-D53E-44E8-BAF5-8F91BF52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A4B9-15B6-4248-A52E-1A42AF20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9D78-AC63-4191-90BD-49831EFF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0ED8-A314-4089-90E3-106E475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FA699-8458-483D-B923-5DB5158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02A-49AE-45C1-8EDC-28F851AF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B6FE-9CCD-4355-81C0-F2B8480D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936C-ECBE-4551-9659-BF93FF7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E42E-1B62-4478-A184-87657CCD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A6FF-7506-40BB-906F-F7F19CC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C960-185B-40DF-B25A-470D07E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C8573-E323-4F07-BB94-B3699A0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AC5B-093F-42C1-8E43-FD1C06B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0524-F7A7-4D7E-BE35-48D74A1C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4318-0F2A-457C-B928-358F02F7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3D9E-D302-4A55-AAA1-57C40B75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14E-942D-4B4C-9F29-44A0908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AC9E-2A39-49BD-A42D-882FD69B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4B6A-32C7-49D8-AF57-F7DE042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2AA0-FF1E-4560-89AC-C537B59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C06D9-0C48-4EC4-9497-E72910BF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E071-5BC9-478A-A139-C57E5697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B39F-F8DB-468C-807D-AE4D850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CA6F-CA66-410A-A9A4-1F6C19A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C725-9F4B-4F12-8951-738C4DD4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9EAA-C158-4FA8-9214-898CD9DD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C862-58D9-4A69-A254-D9258690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373-0690-40AE-BEC3-8E93701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FCDB-0F4A-4DEF-8C06-42A12C0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3D4B-FA82-4F98-B1EC-9A0D1C38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50F4-638F-4A07-930B-8539AEB4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D50E-798B-4A91-ACC2-7BFFE55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B04D-843E-40A1-8A20-4A01CCD4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D809-BE65-44F8-9F34-14C4BA02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B67E-B8DD-45E3-A5A1-07B5FB9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CE05-FF22-4B8B-8605-0074A71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1C1AF-B713-4F68-BBE8-140AEDF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C8545-ACB1-4421-B6D4-B7F6004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DA9-9ABC-4A36-BE69-83C95EA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155FD-10C6-4F39-AA62-0D3FF6D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000F-2F31-4943-B936-3D2FCC32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89ECC-8B28-4D03-A496-10D7A975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1F33-1177-40EE-A174-AC48A970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32C1-8538-4B08-8601-478A249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0D98-1254-4154-8AA1-3827127C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95DD9-BB92-4E1C-9495-2C8FBDC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277F6-9DCC-4B84-B2E6-16BAA5EE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AF19-8F7A-4D72-AD5A-F488C4EC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2CF2-607E-446D-BB5D-1C70379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3AD-7BE6-47B2-917F-9902559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AECE-4FE4-4D8A-8BE5-878D1FD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001C-2B99-424C-92FC-CFB5F1A1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94E9-879F-4633-BA0B-2271BD6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B387-1EA9-4B1E-B541-DD1A9D39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B984F-6D2B-4CE0-82DC-C30CAE60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A281-553C-41F9-8565-AAC6B331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4222-37EF-4488-9E1F-C3E2BE6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560E-8C16-4E2C-A957-66C3E0B3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2E42-FF10-4B28-A183-CA99D04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F06E0-8F2C-4740-87CC-1EEFF58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37C-F1D0-428A-9EF7-DDEEA35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7517-4C60-4654-BCCC-F1AAA772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946CE-D854-425F-89EA-6FEA636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E85A-DC08-48BC-8F0C-0E99486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810A-A441-4654-87B2-5AFE271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F301-835C-4FA8-9793-BEA39FFC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BB26-DD40-4C64-93B6-4AE70074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8F586-C6E8-4D25-B348-FBE2CD4E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E376-8129-4E14-AE84-2A8EBF70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62C8-6971-4468-9799-27CE770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C32DD-0AC8-4255-B846-C307837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D36-2FC8-4616-B1FD-0B7F25FA5B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A954-3A65-4E32-BD24-658245079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CBBD-A3C1-4B80-B329-81A3E5E15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031-C2D6-41E3-A9F0-D511B2938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437C-70E9-4E88-8B0D-8480163E2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DB3B-629E-40BC-8B8D-1149E3BFD5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22A-2902-49B8-88D3-D18F2C9688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E60E-6B76-4D0D-981D-543EAFB0E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1292-131D-406F-9F13-F79E0B764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6A5-E274-4D5B-8F17-7F5A513F0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78CD-2891-4315-812F-67085A844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9A2-7E35-49C5-B841-356AF9FDF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8A9C-D459-46DF-8C7C-FAD46B27A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166D-4071-4794-A8B2-DE0276465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76C2-DD39-4BCC-840E-67247B7493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E92F-EF8A-48C4-8094-5CA8BDF15E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49F-C852-4A98-BECE-CB44BCE2A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151E-BF11-447D-95B4-C3D61092A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25E9-E061-440C-A9EF-DC5DA9074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3B7-B387-4A15-A1A4-9723DCD4E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7A71-BEF0-4165-B748-E8E6C7B88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6F34-BA4F-49F0-A4A5-378DCFD421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E550-7F20-425B-9394-C4A930062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D00-1E94-43B6-BE61-0E8ABD8AB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B4B-B51A-4495-A5CF-2560629DA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C274-C69F-492B-BF55-5A4E616DA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3C6-78B1-46EE-AA27-B684744E0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269-990D-4310-A9AE-2068360FDB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ADB-5359-425A-8E8C-37492E26D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C639-4DC9-4C4E-9962-D0C803990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2821-599D-4329-8DF6-506152D32E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70B-C3F5-4698-AE0D-58C3C717B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38E-7ECA-4AC0-B641-CBBB1F2F0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ABDE-BA1A-4215-A9D6-A4E8CA2CC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CEC8-CDA2-49F9-BEA0-11C16919B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FEC-FEB5-4DFC-8BCD-AB27B5087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AEFD-B0B4-4775-988C-4B8418179F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B5E-2BFB-4A4D-8ECE-C923C01F1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1B73-04AD-48A5-859E-C0B184EC7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FCFE-9073-49C7-992C-8C6ECBAEB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62040" y="2581200"/>
            <a:ext cx="6019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766800" y="260280"/>
            <a:ext cx="7610400" cy="6153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31561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826920" y="486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539640" y="5373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11280" y="593568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1486080"/>
            <a:ext cx="8562960" cy="3886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23880" y="998640"/>
            <a:ext cx="7896240" cy="523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399960" y="1390680"/>
            <a:ext cx="8344080" cy="4076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87280" y="472428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465880" y="3414600"/>
            <a:ext cx="3209760" cy="951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32097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666720" y="1643040"/>
            <a:ext cx="7810560" cy="3571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168720" cy="936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508720" y="3948120"/>
            <a:ext cx="3168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285840" y="774720"/>
            <a:ext cx="8534160" cy="553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826920" y="341460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71640" y="4019400"/>
            <a:ext cx="4249800" cy="922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332000" y="508464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1332000" y="5661000"/>
            <a:ext cx="540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262080" y="1152360"/>
            <a:ext cx="8619840" cy="4553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71640" y="294948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116000" y="403380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1547640" y="5172120"/>
            <a:ext cx="496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185760" y="803160"/>
            <a:ext cx="8562960" cy="5505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187280" y="3227400"/>
            <a:ext cx="374508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4178160"/>
            <a:ext cx="4465800" cy="922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4465800" cy="5047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55640" y="5748480"/>
            <a:ext cx="7488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37960" y="1343160"/>
            <a:ext cx="8668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3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