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2B5-2AB5-41FC-A93D-A497C9E2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DDA-2251-4A55-A211-CFD7C63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D0F39-F557-4025-9845-E0597FF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5DC42-99A8-4553-9A47-80BA4DA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7BDC-A00C-49C6-82CD-770894BC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3D61A-4185-43EE-9887-47D6F40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7EB11-D8D4-4D29-A6AB-33E9E0CA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0B28-19EB-47B2-85DD-DD17AC6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ED301-228E-4841-B0D0-F3363C1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B618B-D5E9-4E8F-B101-7408ED79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158F-F413-4274-9669-C9C7977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43BC6-4916-4693-BEEC-3BAFAFE1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DCC-1AF9-4130-95EC-2EAFA6A8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052A6-7CFD-4529-BDF8-4D372E9E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F0BCD-98A6-4DD0-9544-0C250C9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EC0E7-BBBF-4B78-8B94-A526F80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97290-885C-4E58-96EC-259C628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22AF5-B3A7-448C-BCCE-40124BB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65E54-15FC-4000-8D2A-EE23671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6C8A6-6966-4C06-A5D2-4BB1CED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F98AC-9B75-449C-9154-9B8AB44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5DBC-01AF-4578-9459-288F9AE2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52F2A-03AE-4376-AD12-6108D850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B5D-F108-4521-99F9-A34C54F6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7CC0B-C92D-43B8-957E-6C91470A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3EF0-748C-42A6-92E5-D2573A20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2162E-BC6D-4EEE-A5B9-7AEA2421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3307-4914-40F9-9539-1E0F4B0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45342-E316-4654-9C67-15948F97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BE51-6CB9-4F0A-AE3A-DB29339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BECCE-6027-4C94-B1B2-B97625B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959A1-A1FC-4332-8A67-83B456A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1982-F3CE-4941-A3BB-248BAA0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D801A-124C-469D-8F4D-5D737E7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40DC-8A32-412B-B40B-C6F4B9FF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647C-909A-49FE-A61F-30FF30A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4F58C-00D7-418D-B2EA-A23B37AA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E732-258F-44A7-8001-F7077992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1A5FA-F2A3-4859-BA27-7A62AC2B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4A09-8CEB-4182-9D59-782312C6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8B94B-3523-46BB-A87A-79C00DC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8C460-FBB9-447D-8E0E-6EC1C035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7D44-376C-464E-82BC-FEAC5C2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15446-C388-47CA-934D-4DB426DA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04878-3BD4-45DE-91D0-64AD14B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0D6-464A-4A57-9123-66024E2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034E5-6600-443D-9719-E7B1DDA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453A-C8BC-4C47-903F-ECB71F7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FA9DA-4235-4D60-9666-FF096E5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22C69-7C5A-4E6E-A6DB-672B5856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900C4-8BAF-4F32-BDAA-D4BC9D27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0E61B-2606-4614-A23E-E36A085C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F690A-ECBA-4E2E-996F-EC2997A8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EDDCF-522B-40EC-AC94-4D3CA45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3CB3E-9811-4780-A764-07328E78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AC220-4B4E-44C0-9E9A-2EE74AA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94E-7DC6-4CC1-BAA0-BA34453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CF6A1-812E-48DB-9635-673994F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D30F5-3DBC-495E-898A-39337F2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5F205-20A4-464B-A69F-AF24332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55E46-22BA-46E2-BAC0-5CBFB54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1DB68-AEE9-4FA2-94AC-F72EDD7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82276-F23C-4879-B83A-31205BF4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FB56-128E-4ED1-82EF-A54B1D2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B9C8E-52EA-4F28-8F04-95FD86AF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90A3C-7E93-4179-AFB6-B93E2CB2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888AC-730A-4D9E-9653-EA46A6C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D8F6-3F65-4850-99EF-88F6AFC2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E1796-544E-4677-9A7C-FE98C86E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3DCD0-2648-47FE-813F-1F47192E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DC22F-1DFD-4ECE-81D4-5B97F85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5C314-115D-4FD3-9A18-B4EC7D4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AD8BC-AD54-449B-966D-5668AD3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476D4-E51E-48B5-8433-C7A5DA7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6F1A4-74A9-4EEE-829D-70F528F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142B3-8F4E-4C78-B46B-0381B8E5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D6C9B-C47E-42B5-A034-20D8358E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04D48-D833-4D7D-82CF-31BE5620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A34F-7D4A-4DC5-9AC4-8A820F66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3D0D6-3066-49C6-BAEE-4CE42637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895CC-1FDB-4609-9087-30ED916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E8544-1C91-46B8-8D11-A9C5579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DBB68-268D-43B8-BC0E-31D23BB4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EE6A5-5E7D-4442-9D79-09823498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3C5BA-71B1-484F-9793-71765B3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1F314-5CAD-4DF4-B2FF-DED0978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51ACF-AC20-4668-AA04-33E59B0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C8395-57E3-4BCD-9EF6-B1EE2F7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C2F0D-0EB6-46C4-A775-816CDB82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29A1-5344-41F8-A473-846693CA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BD91E-9082-4A07-80FD-B039B16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2F44A-E774-4F2B-993C-5D65EFF7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6A59C-C8E8-47FB-A751-23C60B0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9AEE4-1FB6-4742-98CC-0BD14AB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E3010-B102-446D-8C6D-9E86E4DC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928E3-3176-4603-BD59-E407F556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50813-9313-432B-92F5-88B6F497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B905F-7498-4148-8875-B5EF53C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ADD79-76A2-41C3-A487-96B0419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D9EF7-0E0C-47E7-97C7-9B3D17C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DB4D-4051-429A-8D31-723FC56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7BA0E-60AF-4742-ACE2-0430F0D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387DF-3C3C-4DF9-84C6-C12922F1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1D9F1-DEC5-4D44-B17D-C5C2ED15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A9D78-0FD3-4D20-846B-2F5099B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D7598-2379-4772-8DBD-7CDF1AFE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D437B-56FB-4361-AE81-1CCB7B3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6C8BC-18AC-4A46-97E0-A94132F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E9AA6-CE8B-45C9-BBB4-CE7DBEA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FCAE9-3127-4566-9DB9-C8E50F7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3AC23-A401-4990-A40D-D83355A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CF7-4282-48BC-A704-1AB7CF00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C9DF-08B4-4FB7-BB50-4F39861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F3B3B-A4D6-47A9-94C8-8A132D3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8F137-04FE-4C2D-85E4-B934736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93245-8EAE-45F2-A1E2-FB6FCE0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0F6DD-A254-4EAB-A5C2-7BA91B4C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0E618-EB7D-4292-BA29-97814C10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64187-767B-4E38-9AA7-04BDFEFC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773E7-04C7-49A5-B969-E507EDE1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99716-8245-41D0-9C1A-B14F1BA8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672DA-9FFC-4810-B9DB-FBF33845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DD65A-FA9F-40E5-A1EE-F169537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41B3-92DA-406D-9997-751838D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F0F3C-4BD8-45AC-B36C-2F57C2E8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96D91-BE2A-41DB-A287-AF902EC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AC58F-8082-47AF-ADEC-B355142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90CD4-4377-43A5-BEA2-9FBCDF0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6964E-1139-417D-A948-32E0465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BD6A7-7C7C-4C0F-B0BD-0717B996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5FEE6-9259-41E1-AC36-4FA109B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81B94-A4A8-42C1-B385-55747505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B5BEA-131A-410C-B8C2-AFD481F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D75D4-35EF-4D9D-8DA2-6AAACF72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1534-3D94-4431-95EC-46E2D89E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C2590-68D6-4524-B79C-F98BF8B3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12674-2724-45BB-AF24-7878891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F924D-A20E-40BD-8F69-ED51843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7E53E-2249-46C1-945F-F9E2119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2C9F2-3A2F-4C47-9862-23A0CBF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DBD4D-6ECE-43B1-B2D2-753044D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9188D-7DAC-43C9-91E0-A4062C6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4D019-75C8-4675-A2CA-25BB66EF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999EB-5FBE-4782-A576-4AE60DC2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53E66-3F1F-4A91-8E02-8656C107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1EC9-7D21-48FF-A6A7-F5554E9C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CF166-8EC0-4ED7-99E8-B5F98779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A4F1BA-1056-491B-9486-211F99A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A157B-339A-412D-BD55-8E7D445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44A68-26A2-404E-A05F-9E813A65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CAA38-0B18-42E4-A2AF-21AF797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FFD17-24F2-4A38-8B3B-546D2C8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787AE-8D82-4EC7-A99E-4E55DF6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DFD5D-75BD-4809-B581-A470E2F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DB8F6-FBDF-4537-AD6A-6DFE66D7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016E3-2AC9-490E-9E23-91A6757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C809-FD7A-49F9-8659-74E66380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5F353-BA21-4633-B3F7-8BF4302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42679-AA7F-4A40-BA0A-F4D54E2D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C2DED-A4D7-4BDE-BAF3-ED317E82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76CFC-FDEA-40A6-BE8C-9F90470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071B8-497C-434C-8BE4-E1B66FF7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2D71E-B587-45DB-84A4-1CB4DA7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2A2BE-7AF2-4871-9398-228CC2FE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5BE52-26EE-46A3-B2CF-B0DE007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884AA-6B26-404C-9CD6-037A2B9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FC5D1-E589-4543-840D-1CCB0A9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5B07-0127-401A-8A00-F0514745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55FBC-8CEC-467F-9A97-D43A7C35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76948-F437-42EB-B2C8-448BB498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650F0-560C-494A-961B-9C56300D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1D24-4177-49F5-8AB2-087C95C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FF68-8E0C-46BF-AD86-CB86389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4364-07E6-467A-AC7C-4A19C625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B4FF-06DE-4A1F-A681-84DE56A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C06-AA5D-4B24-85D3-D3F4A58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6C49-FCBC-479B-B19B-FF6212F5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BB78-52BB-4D73-BBC2-5994CC4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99F4-8044-4F76-9BA6-E39B4D4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EF7C-BE94-4A06-96FF-6B5904F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089E-DDC2-4ADA-92FB-67C26FE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F343-3AA0-4579-95CA-97744986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0EF0-B52A-4364-AA56-3CE3FD2E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2F8C-CF08-41E2-BCBC-31FC59A8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893B-5FE5-4E13-9880-7554FED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098C-ED39-42B9-8361-34FE037E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503-2687-4768-8957-D828C315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3781-4FAD-4756-97BD-F5D1889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6CD3-7D09-4A2B-986B-03D5B7CF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8F7A-5151-4842-8381-1A2BC549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19C1-E210-4017-85E3-497F81C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FD28-BBC7-4D69-BCA1-A3D6FBB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8422-AF70-4F17-A7A3-4070F0C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A875-0460-45ED-B7F9-EC6603A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3C8B-371F-4AF3-A44F-59A5E03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4060-91B2-4143-A02A-ADBE86E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2A86-723B-4ECC-9AD2-14CA94C1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B57-54F0-4452-9DDC-882A6D09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ACFB-89AE-4709-8CB7-777B48F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813B-3725-42D4-B471-1A97A0C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C043-0879-4A70-9A63-4EEBEC0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20A5-58FD-4F57-81C0-B18E0374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C196-63FA-4AFB-9670-448E5D71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4B45-5D28-469C-9C1D-8BCBF03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C047-6B37-497F-ABCD-567B118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C087-ABC2-477F-80A5-9F556EFD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FB65-3E83-468B-9C64-096FFB7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D0A9-59CF-43B4-9188-4688D5AD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ADB-DB05-4584-984E-F92FD885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1C3D1-7CE4-40A4-88E9-3B12201C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D80F-FA16-4498-BEF3-165C21C7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AD80-2776-48D3-9673-04FEB378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2AB1-C920-42A2-B502-C5CA93F8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F483-9DB7-4785-AA41-1535B7F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A47A-5DD8-4E69-A5D2-25FB9F6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B6BC-7D92-4DDF-8521-87D1447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6DC0-5AF0-4E8F-ADDC-44EEB86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53EF-3EA3-469E-8F7F-C72B973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65FA-65E3-4F4D-9E75-94F45DD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6B3-9E76-483F-865D-130F96D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B176-78B8-40A6-850A-81FE8A55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802B-31ED-4852-8247-032BFF4C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910C-CEE9-48ED-B93A-01FC5372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AE3D4-1E03-4F6D-9E53-FFEB7A6F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14E0-A1F2-423B-9ACD-803F4E3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BAFB-3823-4758-AE34-A9E92E4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9C14-89BC-46CC-9C7C-41CEFE1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8AB7D-4470-4BC9-A666-FDA9C03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CAD8-44D4-485E-BFB5-E7DABC2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2C5F-98DC-480B-9951-D2BC8AA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344-D839-475F-BD19-6DC2B3B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7B03-AD9C-44F0-9DD2-604337F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17B8-46CF-4711-BE01-5B2102F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D1F5-0C82-4D85-AB25-E4CF1A47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93A7D-5A31-472A-BB4C-B68751B7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8A4E-4BF8-4877-967C-3B1B4F53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EFDF-6ECE-4802-93E5-F8880D2F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10E17-4862-4E43-99CD-9ECEEB73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363B8-9906-401D-AB93-25F3DCC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541D5-AC83-43A8-B763-40059E73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BC94-8F56-42A8-B5D4-767DF10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964-7F97-47AD-B69B-8985AFB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2D690-62F0-4E44-849E-751FC69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027E-499E-4674-B998-2C953FD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9804-1A34-4ECD-922E-A6225FA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DACC-C830-41DB-AADD-0484712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CB72-A8E6-46C6-9C2D-C7C70106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B9FCF-CB2A-46E4-9D7E-1E0DF1DC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D2FE-1EAF-407D-B9B4-63586D70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DF3D-950F-477D-917A-C2160629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9CBB-3805-4EA9-90AB-BF7BE21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36225-7835-4912-9171-93D0B77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17C0-0CE6-4A51-8B08-2539CAEDB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75F-6D73-4C3E-8A23-9B644489F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A96-9EF0-444E-9587-A3CECCB2D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4B9-B967-4480-B608-B23905125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91B-A4A0-4670-9C01-C4C96719A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37C-90F1-4651-861E-64BD51F4A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445-F32A-4FCA-AA13-C77022919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0B4-210E-4479-85E3-43673BA09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D61D-0648-422D-95FB-93EF32F6D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8E0A-F64C-4CFB-BC50-E7C92786F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9798-C10B-4438-A35C-C662DD1A1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F52-57BA-4DFC-89C3-E45B89E9E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72A-3F0E-45E3-BA51-91499EC49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9984-139D-4EC1-9E6F-E094F8BFB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33B-10CF-4510-84AB-BC076B466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2A2-3C41-4901-B47D-C63050C34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DD3C-C183-41B8-8D53-50E24F0FF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8C34-4D1B-4800-B31F-C3F654CD9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3370-23CF-47C9-BA6A-AE5494C14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986-46FF-4A1B-B62A-74E413FBC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121B-1B19-4108-A359-67E45A704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4FB-FEE6-428D-9AA2-B8AD198037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72A-1BF0-412E-969A-0F85D45FB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AEC-1FE5-4E5F-A53C-7DF9C741E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ABB-8A36-4031-9B75-8E6E46974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A4C-9C78-4E1C-BC1D-B6C7CAE4C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24B7-F292-4F44-A8D5-F2AF7BA03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81FA-07D8-4C0F-BEB6-8EEBC7869E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920-EAF5-491C-9580-3A1088C60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36EF-C559-471E-A6B8-8CB00EC4D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8F8-C797-4388-9153-BB47D88DA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91A-A683-40BF-B8FF-03C8D2A85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915-EE58-445A-A5E8-24A04F574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F8D1-8386-45EE-BEF1-F920FB584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32C-6CD9-4ACD-BC2C-00E089385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7EAB-5BD9-4067-A868-3CDCDE289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9225-289E-4449-9C56-F94055BB7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74FE-EBB7-44D7-BFB0-277195187E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8B7-24E2-4687-AAE5-E83E6EF56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F46-43A1-492E-B0A6-5877683A2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1760" y="1773360"/>
            <a:ext cx="240048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876240" y="3273480"/>
            <a:ext cx="7391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262080" y="1595520"/>
            <a:ext cx="8619840" cy="3666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916360" y="4710240"/>
            <a:ext cx="446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552600" y="1266840"/>
            <a:ext cx="8038800" cy="4324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3146400" y="204624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3132000" y="419256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2411280" y="4956120"/>
            <a:ext cx="48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1442880" y="814320"/>
            <a:ext cx="6258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38200" y="879480"/>
            <a:ext cx="8067600" cy="5286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2484360" y="40482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556000" y="48546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556000" y="560376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552600" y="2219400"/>
            <a:ext cx="8038800" cy="2419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7524720" y="2421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8229600" cy="3867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796000" y="442260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468360" y="200160"/>
            <a:ext cx="7924680" cy="6457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194328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148360" y="5762520"/>
            <a:ext cx="194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5300" descr=""/>
          <p:cNvPicPr/>
          <p:nvPr/>
        </p:nvPicPr>
        <p:blipFill>
          <a:blip r:embed="rId1"/>
          <a:stretch/>
        </p:blipFill>
        <p:spPr>
          <a:xfrm>
            <a:off x="581040" y="852480"/>
            <a:ext cx="7981920" cy="5153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160800" y="541656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2743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419640" y="279576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492360" y="427824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390600" y="1074600"/>
            <a:ext cx="8362800" cy="56674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2232" descr=""/>
          <p:cNvPicPr/>
          <p:nvPr/>
        </p:nvPicPr>
        <p:blipFill>
          <a:blip r:embed="rId2"/>
          <a:stretch/>
        </p:blipFill>
        <p:spPr>
          <a:xfrm>
            <a:off x="324000" y="44280"/>
            <a:ext cx="3671640" cy="1036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12800" y="28591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12800" y="5573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172360" y="55753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2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