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416-160A-4BCE-A2F0-23958CAF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FAA-89E6-45EF-AB0F-03AE6AC4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4489-3502-478F-AF83-FBEF59E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5205E-7901-45C5-AF72-C0833E6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9EBE8-488B-4E5A-B1C1-8FDE3B3B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211F2-1757-4F31-809E-916B321E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5CD71-8A56-4C7E-96CD-82ED23F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8B04C-1D90-4540-B459-5290C3B9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E0011-118A-493A-85A7-BD1A1542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9DBCB-8127-4CA7-90FC-15098D42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04DE9-10ED-45B3-89B8-1104D552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827D-DECC-43DF-9CCD-143CBD85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8CA-5EED-4058-A6C2-8B256F7E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43147-2C91-41E3-8A7E-E6AFD19F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557DA-166D-464A-828E-D87ADF0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BB535-57B5-44B1-9FCC-F9DE763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75430-FD8B-4529-A8BD-122FE8F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56DE-2F33-4112-A7E6-CF4C6A2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6CF13-EDBF-40C3-A48B-1FB98F7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63D6D-414F-4E1F-8CD0-751D0A7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D2B80-64F5-401A-B060-370C5B2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9CC5E-97F3-4E2F-884B-C8F1E92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BA812-E741-44B5-9518-E297A1F0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6F5-310C-42DD-A695-6E3E261C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D052F-EE10-497A-9982-4B95022E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8E84D-8C99-450C-8586-BE570263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19549-70AD-41CF-A0FE-D03DD86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FBBF6-833F-4F56-8C2E-6563C130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BB34-C68B-4B6A-85EC-95D3F1A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838B6-D030-4209-86DF-821EE4CD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0A50F-F970-4D2D-9E0F-6D194202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F3394-C584-4874-A0D1-75F6BC8C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DEE79-B20E-43F0-928F-8902E7A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83D2-90C5-408E-B491-39F099D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4384-40B3-42ED-AC15-D65575F1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7679-906E-4C38-AD56-487C726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7C7F7-089E-413E-8410-F4A51B3F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EAA72-BEEC-4550-A68D-4558AC0F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D80DE-3241-4D9E-9E86-B8887971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100B3-D643-44BE-9154-025CC3DD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F7B09-F16D-4615-91AA-68100022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3EC8C-69DE-4040-996F-2202CBA5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851ED-CDAE-499D-B7A4-7E98FFBC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E8E3C-7F1C-4F6C-A79C-F13E1EE8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A8388-2FF3-4684-8F5E-AD1D096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C0D-2A3D-416C-B5F8-1DA3CFFB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9DC02-F5D3-4C2A-9961-D56A6E7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F459F-5675-43D4-B05C-FBD72CA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D1699-4B03-4771-A620-A6E4F82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D80B5-D289-4C18-9AE4-95DAA3D7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D7A8F-D0DD-4D72-AEF4-4107446A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1E41A-B98E-44C1-B76F-2F64920D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5AB95-0086-4103-A8CB-065C7B1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2AEDE-F80F-4426-A9A4-33C44D5C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12908-B88A-4C08-974E-D4FC25C0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0B217-9798-4614-A491-37E7A428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49D0-7D03-4A1E-849E-C95DC5A2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67604-D59C-4E00-8373-1AA11190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76819-7095-4422-9622-E5BF49B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63175-CBF2-4635-80BA-A194FD5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D33DC-EBA1-4124-98D1-8CFBEEB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AF649-5FBF-4A80-A160-21743128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F9CD3-864E-4089-91FD-EFADB6E2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A4A4D-9F2D-45EC-BAF2-204B1B9B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65F47-3C53-45E6-92F1-B08ADB52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66023-DE1C-416E-A361-BC378558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4D175-4329-486A-9FCB-272039E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0B3-C40B-40C7-97BA-9CB5AB7A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BAA13-302F-4C40-8FE2-19E63AA4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9F120-5D6B-4BC8-BA9B-5BB6FA37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5C7DE-17CC-4BDB-9ACE-41ED8DA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F54F7-46F4-480F-947D-9E4F9C0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41952-A747-41C9-B18C-267B572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82FE6-4FA6-4A54-9D77-BD78C72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C9BC2-6530-4BF8-A470-187D5076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01C86-770C-4AF4-BCC7-67E5C897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71DC4-9B97-4E47-9CA2-6AFA6809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9440A-7BDD-4842-8C7B-2B8D4BBC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23A-AF5E-4A2B-9F7E-D2E6C956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E5A6B-EFED-4EC9-9E21-665158F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F5DED-AE29-42F4-97F2-F942E239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EC3F7-258A-4D98-B056-3DA42467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23EBB-1D86-49B0-A001-44DC04F8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8C93B-8BD0-4FC8-8ECC-8DB88DE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AB4BD-ED27-457D-A0DD-97F9CEF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0D607-870A-4838-8604-DC1F482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5DE30-A769-4AE9-87D6-39FDC16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2B392-A70C-4ADD-821C-F57F191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56052-7517-4D2F-BCA5-74F8BD88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C10D-33C1-46AD-8106-8F3FB098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5FDCF-0C03-4D74-B1C0-9BD72C94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4C455-FCF8-4D1F-8CBB-0BD1B3EF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E2F8C-F3DC-4DF5-B09F-69FA1F7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F054C-1D0D-4470-82E1-5CE4CD9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401BC-13BC-4CE1-A9F0-6BE85B46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B8966-A575-4650-854C-510A490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DF180-ED6E-42BE-8B96-864CA707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5505E-CDAA-4E21-B329-6DF52129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40F9A-24D1-487D-884B-1D388AE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786D7-3A57-492E-9EE1-3F6F1B2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D34F-180C-4CEC-B4EB-11DD8153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8080F-DF54-4C02-8A16-B54CAE8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4ADAB-F3B0-4353-B49E-CBC90D4E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D3E69-06B2-4BCC-B858-ABE22E01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AB120-EEAC-4952-9403-4762790C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1E8E2B-58B0-4F89-B5D6-2BF2214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953C1-C4A4-4111-9D1A-97B003F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5D3CA-B1F6-4A7B-B0CA-6E9242EC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E3F00-F34A-43BD-8706-E426EA8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A4E61-B60B-449C-A81D-40C86B4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BC493-50D0-4844-BFC8-49B967F0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0C4-1D5B-48FD-934C-EEEB5B1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871-BC91-4C48-84E0-421C8AD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E60E3-3144-4BAA-94C5-4C4C69F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2BD8A-7A2C-4CE3-8165-E656712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95943-9107-4EBE-8568-B26D749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5A314-8462-4E86-9856-044BBBFE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BF051-5039-4D58-8241-5F21294B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CE723-4523-4B97-91B4-FDAC7235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4F5C5-47BC-4825-9A70-886C50C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EDC05-AF8F-48A1-80C2-36FE7F9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4F8D5-4912-4A2B-8585-E5EF56D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35783-2753-4D79-8612-A797D6F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D1A-FC1E-4D79-87F2-2F4C1EE8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82739-055C-4B7F-B0E9-6BE6D6C1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979C6-C2D6-4E48-B58A-A3167A0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DD301-4467-4120-868B-2534B6F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E83FB-71F8-4CC7-98F4-16B96FA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E109F-16D0-49C5-B983-85B19CC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4BF63-3C66-4812-B159-7107A676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24A7B-8741-4B2E-B252-4BE2440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DB442-AA56-483B-AF48-0178BC8F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A55F9-78DB-4AB3-ACBA-0A6F430E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FCE51-587A-429C-A5A2-B55866E1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624D-A372-4B0B-917A-652F4528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74A5E-3C32-4A56-A6AD-4E888E9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1FC54-4E01-42BC-A799-601A47C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D0E4E-58D7-4E44-A9DE-745CB8CE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71C6F-1432-4884-87CB-97FDAC8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591F1-5C5E-4C25-8794-2C758F8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58AEA-1826-43CC-90CC-0CC7D75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83079-CB1A-40FF-9B74-374069AF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4EFD0-E5B7-4D89-B60C-808FFCC5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0F0B5-89A1-4961-A422-C60526C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2E12F-8FF1-4C93-818D-BB7903C3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FE30-FDD9-4586-AF01-11C08528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48AEB-A4D4-4C27-8F1A-4625CAF4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154C0-5E63-4DC7-91B4-3371A6E0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4069E-35A8-449A-8D2D-E104F7D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E6F50-A171-4EAE-BA79-FAF3EFE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3407A-7221-47D3-8398-965A5833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CF649-CAA2-4E49-98D4-CE2867D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9A03C-3A13-4C00-920F-E5FCD4B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C0301-BF35-4E32-AA69-7622342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65776-C0DE-458D-A96B-370A4C2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F3623-E942-493C-A6BC-9C0B0E2B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C5AB-7106-4970-9182-A176E12F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8EB53-EF85-4C4D-8771-39C87D71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589B92-8146-427A-A127-30089FB5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BA5C6-D6D3-45D3-8B84-A371D0C5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713F9-478A-4162-9CAE-84D1093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93B94-2D65-4E60-A005-BD2B033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A8CF8-3CAA-490E-9A77-10B36FB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CAF10-0A56-4A7D-B285-ACC776F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CAA0B-8A8C-4962-AA3B-9B33FF1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8CC70-B14A-4E2F-A95C-F72A35FB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F48F9-C7BA-4099-9453-98AA4F5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DE8A-DEE5-4C73-9A11-B739F957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D4203-F029-41A7-A624-BA59CB0F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27501-B75C-45AF-861A-3D434518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20537-0DC7-401F-ACDD-F396F309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334F-5D44-46CC-8F2A-F142716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577D-4A85-4D00-ABEF-3683DBA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CE9F-65EF-45A9-8745-C13FB90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B784-4F61-4D75-B28A-0A098015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DE1-1EA1-4F0C-88BF-471F680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D7C8-DA16-403A-8C51-14071B6E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ACEB-5FED-4A4F-8B96-312D875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0FD8-03E2-416E-8E65-FEA2184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1096-2B5B-4444-8AF1-4584CBE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E14D-C124-4B04-BB42-C4FB2C33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3A56-C4B6-4AF2-B832-9B753A1A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2844-AD0F-4F58-B133-ACFD0272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E8A8-D514-415E-BA28-C0D554F3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ED5C-D3F1-4A77-A08D-C148A1E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4F1B-E12E-4C1E-886B-E3518184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551-553B-427C-8598-87603C2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4066-4C81-41DB-8EEC-A2A73F41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DD79-E312-47E0-9C3C-598F4611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2543-4824-44E2-9438-D733255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85D9-32DA-406C-A7FF-826A7D3C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839E-3FE8-441C-A8F6-19E77A1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537E-0B7F-415F-91BE-9D027D9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9B73-CBFF-43AF-8418-F3CF586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459D-0D84-4B50-BD30-BF5549B8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377D-D00B-4EA1-9878-BAFC1146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BB25-BDBE-471F-9ACB-55832EEE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151-0E0D-4703-B91D-F440A28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FF6A-4614-4397-BB22-02E0F6E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B4F9-B199-4EF3-A416-9F1BAD89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5B0C-2D7B-4774-A3B5-721B90EB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59F3-8553-40C0-916A-5C60A68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9B23-DA9A-49A4-A59D-D072C357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0427-CE7E-4540-8613-6F37669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0D80-63A6-4A0E-B023-E90ABFAF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98B2-62EF-4E86-8855-8B28F47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1D9E-F44C-4991-8C33-0C522D9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0E1C-5693-405D-9894-8F709BAE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3C7-4525-4DFE-8835-F28DF140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A51E-7229-462F-9414-995E72DA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FF85-7DE7-4ADE-A5B6-3575DFB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95C89-2D1B-4F4B-A9CF-CD9A091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AF2E-3085-4B64-B874-BCAE7EF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1708-3449-4B7F-AA88-E22FBD5F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E887-16EA-4AA9-BE75-6AD428A7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0087-8D8C-4B31-88A2-5695CA5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315A-920C-46B5-B539-253DF50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FB638-09EE-4750-80AA-BB37AF6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0B2A5-1395-4F93-965D-FF26451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470-1479-49E1-A3B1-9C4DB92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B585-8D7C-4E7C-9F22-46CAA97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5266-4AE7-4308-AA73-9694E1FD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D89C-3038-4FF7-9D06-696D0321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FD8B4-7FF7-4E98-8472-740F8B5E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B15F7-AFF7-49A7-8E75-32EC4244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BD188-84F0-4248-AA8D-CBA0A76D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B9CF-40DE-4364-BD5E-5151F7A2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2C21-41C8-4D0A-A3CB-65DF54E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3AD27-FD18-4AD3-A22A-D3E085F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4F5A6-AA94-452D-AB9B-C0C02A04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2B0-E078-4A5A-8E4E-62B5E95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5440E-6F5F-4919-AC0B-C150917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0326E-6A92-4111-8C2F-422D85E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CA7B-C9BE-4D2D-B4F2-2BE1219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2B739-A301-48BE-9AFF-B74D13BE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E707-B005-4AF5-8FD2-2CF0F2D6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A05DC-732A-4536-9342-E0892FF9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BAE9-94C7-4D6E-AB9F-426B513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232D-F12A-4059-81C3-E0F4ED1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6657-6659-4797-A1DB-E42C1C6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04DBC-B691-476C-8B72-3B7C3C81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158-08ED-428E-822E-07F727B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A5004-F8DF-4DA9-8847-9BBF12E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254A-085D-44B7-985A-D654CD08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AE8A6-16FF-4042-8D91-9430E6F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06015-9B15-49C2-B270-03745A4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FC98-6312-45A8-979D-69A0526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E7C2A-E999-49A5-B142-2B422B9C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E92C-E5F5-4C7F-B6C5-DAB09235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38A1A-CFC9-413A-B53A-070981B4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CFC92-8387-4A02-8D94-E6AA5AA9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E261-EDA8-4869-BC9B-4B33429C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1259-BB7F-48FD-94FB-6458BEAB6B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E02-18C0-4695-A186-24030C623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B7F0-868E-4F3B-AFE9-F082D1A77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6ACF-EA38-4F9D-816F-32F6654CF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1B01-8965-43FF-BB49-EA5C8916F6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E0A-B0C6-48F7-A7E6-DF57E40F0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50D8-84C8-476F-B944-516A815B3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9D0-6E77-40A6-BB1C-E55009350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2CE3-60C6-496E-B5DF-B6B30A29E8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394-06D0-4D77-9C4A-A131042E4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E5D4-BC01-420F-A75F-E696AF8AE7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1148-BB96-418A-A3B9-F55AC1517F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784-1293-4381-A83D-6DDE2E98B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D3A5-1D96-402E-9E9B-99AB888AC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2A3B-CB6F-48D8-AD4D-5CB4673209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DD35-B57A-441E-A190-17E66C53F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589E-0B11-489E-9E3C-6C8983B81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64D3-E76E-4115-B706-E80B3750E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359A-9034-493C-8F86-3A61B92F84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250-11AB-496F-88A0-30AB1CC43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BFB2-49C1-41A4-8098-98C6DF65D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C13-000C-4D31-942F-D2083786E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DB9-B257-4EE5-9D39-96DF5B7AA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52C-CD00-4C47-95EE-0BB20A764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0C5-3751-49DD-8364-BC1F011C92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BDE1-4D3B-4A13-9F02-64AF42C39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E49F-5464-473B-A6EF-AE7523EFB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A604-C936-42E8-A7DE-9C67A5E3B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D08-E24F-4393-8ED5-1A83FBAE2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6482-9D91-4B4C-82CB-A3711916F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701-C673-47F8-942C-D8C60479C5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239F-98D2-4F7A-BC0B-1D2C853A0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1E9-8F07-4A93-9576-1BF5CD8AA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03DF-FEC5-46E3-883B-8E1E07686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F196-229F-48B6-A950-67DEB18633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D544-0474-4772-9216-76F964D47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8052-AB14-4B02-A76B-A3D8D96C2A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C30-4C9E-4CDB-AE6D-0848BF01B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D125-76F9-40F9-A0A8-FE597C7E7C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C250-2F22-4F98-A6D6-B09A50864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28920" y="1989000"/>
            <a:ext cx="2486160" cy="8384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819000" y="3305160"/>
            <a:ext cx="75060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547560" y="2624040"/>
            <a:ext cx="8048880" cy="1609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35600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645804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900000" y="36162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2916360" y="36306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4716360" y="36162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8609" descr=""/>
          <p:cNvPicPr/>
          <p:nvPr/>
        </p:nvPicPr>
        <p:blipFill>
          <a:blip r:embed="rId1"/>
          <a:stretch/>
        </p:blipFill>
        <p:spPr>
          <a:xfrm>
            <a:off x="557280" y="1324080"/>
            <a:ext cx="8029440" cy="4209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1692360" y="326880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1619280" y="407664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6012000" y="4021200"/>
            <a:ext cx="136656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1835280" y="491328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6373800" y="492588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433440" y="262080"/>
            <a:ext cx="8277120" cy="6257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492360" y="25797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635280" y="33433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7596360" y="4653000"/>
            <a:ext cx="576000" cy="398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851280" y="5099040"/>
            <a:ext cx="576360" cy="398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308720" y="5589720"/>
            <a:ext cx="57636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14520" y="1633680"/>
            <a:ext cx="7914960" cy="3590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4211640" y="29242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500720" y="4437000"/>
            <a:ext cx="158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1585800" y="2081160"/>
            <a:ext cx="5972400" cy="2695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180036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4572000" y="314172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500720" y="3860640"/>
            <a:ext cx="180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09600" y="1571760"/>
            <a:ext cx="8524800" cy="3714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43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652320" y="785880"/>
            <a:ext cx="7839360" cy="566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042920" y="6021360"/>
            <a:ext cx="43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476280" y="981000"/>
            <a:ext cx="8191440" cy="4896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030480" y="223344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718320" y="22050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2598840" y="324180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272280" y="32274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3030480" y="42354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6272280" y="424980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2828880" y="52578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6703920" y="5257800"/>
            <a:ext cx="4334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7" descr=""/>
          <p:cNvPicPr/>
          <p:nvPr/>
        </p:nvPicPr>
        <p:blipFill>
          <a:blip r:embed="rId1"/>
          <a:stretch/>
        </p:blipFill>
        <p:spPr>
          <a:xfrm>
            <a:off x="276120" y="100080"/>
            <a:ext cx="8591760" cy="665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516720" y="488304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516720" y="600696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657360" y="851040"/>
            <a:ext cx="7829280" cy="5457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227640" y="11826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1513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227640" y="3357720"/>
            <a:ext cx="15130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6227640" y="44370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6227640" y="5487840"/>
            <a:ext cx="151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4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