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06B-EAEB-487C-884B-5A98DD3C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8DA-866D-4234-8015-BF23D14F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EEF7A-EC1D-4EA1-BF04-7082D015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9FE58-AD46-4273-9C29-87153C2B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92D52-36F5-4FB2-9AC8-68ECC3E5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1A2EB-DE3C-4E02-B7CE-2386544D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ACED6-9322-4661-90BE-6B8223EF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7162D-7367-43B7-9132-F9860F88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04FBC-936A-4B21-B322-7B1F6000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D711E-1D4C-454E-88AE-71D424D3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0909A-83A6-421E-ACB7-7A22E627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1B8ED-4B30-43A5-B8E0-07CE0C9B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8C6-DCAB-47F7-8731-84142433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8BA33-3497-484F-9391-51233E6C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61252-2BC2-4695-AF1D-D3EF9FE1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A4B2F-1976-4028-A111-BEE7AC9C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661D5-86AB-4A29-BC00-40C8316B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67617-BC24-4CDF-ADF5-541D3FD6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4B701-8C75-4ADD-9D0F-AD387C0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3261F-341C-4169-96EC-750B3BF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EFBB4-884C-43A2-B413-5602A951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358FF-7C7C-44FF-917D-FC49F3B4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84667-3881-4ABB-B4BF-CD3EDD65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F0B-3CEA-4D4E-ADD8-B128D43B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F33B7-A630-4FEF-ACA0-CD8067C1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F259B-A154-4EA5-B2FB-5C3C51F6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46311-1043-451A-A5B1-DC98E08A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6AB9F-02C7-43BD-A381-96E4AE2F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4C6AC-D8F9-4D7B-B356-592533C5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D3A10-592B-46D3-ADA0-19940869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F5E48-BBAF-4C3D-9888-0744594C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04865-9491-48BC-8F76-641B1EBB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545D9-91A0-4EE0-9A1E-4F28805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877DA-4B22-4F65-849B-91ECFA9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8335-5CFF-4D84-84BF-C593F3D8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8A1AB-1B15-412E-A541-744DB165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29BB6-3D7A-44C5-A5F5-7B6F3FF5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2E8DE-AAD4-4DB6-946E-86BF2792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443B6-EC74-466A-AC54-72536AAC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69974-21DD-49CB-AECB-69922959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9EEE4-4D0D-48CC-9041-7773D9C0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3E2C8-AB07-4D16-A826-320700B3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5AAA8-F484-42F4-ADDC-B8C9F288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CBEE1-08FE-488A-BFD8-53C7B4B5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07AF6-7E2B-4650-99F2-BCE289F3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79AA-51E5-4A64-A778-3508F739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B8289-8451-4D9F-9A65-7BD23B5A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395F3-D80F-483B-B2D3-147B5612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7FD78-643F-4589-954C-7FB2120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47857-D2F7-4D96-93B6-D82C0548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1C20F-E0E2-45E4-BC2E-66AA32E9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27B3B-C05D-46C1-B295-241AE09C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C7E83-3800-4E53-BC0D-B8296D1E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C33B5-AAD5-48DE-8088-CD4C0885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D9714-8C1B-4965-9847-6EAD8643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F03D5-7D20-42F4-975E-3274F371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155E-47C3-48F0-B417-0B6ED54F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C0CAF-3FFB-42C5-B720-33A44BB4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9C4FE-6985-472B-A0C7-375D0D0A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FEEEB-4437-4674-8EB4-445E3867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11DFD-B7BF-4990-B77D-75881768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BB6D0-2E79-40F4-9C1B-527143CE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E1F43-AE01-4BC9-8A08-FD55692C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46DE6-83CF-4761-BA42-F3CB4B07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D1F23-0603-4212-B75A-1009CBD1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808F9-6830-4B01-95E8-C442239E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D5CB5-C604-4F9E-9013-936B7C48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E265-6255-48A2-B5F5-BCE11A20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A73E7-2F11-45B6-81C1-1B6090B3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FF2AD-69CA-4B92-83D8-421BACBE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0B941C-F48D-4B8B-B6FF-18E174F2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EFB83-7D7F-4770-887D-EA3E5E5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FA533-6491-437A-815A-BD24E4C8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420BE-0ABF-4B90-9737-8358B9C4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4592B-29CD-41D9-9D4E-91D9F930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EA08F-9685-45FD-B988-E206D592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31CD3-984B-4DCE-B228-0055AD57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CA176-EC22-48EA-94CA-9308C46D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9635-A836-4A5C-B806-9D387A93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C9CED-100D-4928-8639-CEDE2C38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AD988-0338-4949-B4E3-0E40033A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174A0-8C9B-4C2F-8E4B-F1A05806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23358-9E76-4BD7-916A-0D9941A9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43CFBA-E481-4C7B-9617-F5EE6E5C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95DFF-3566-431F-95C6-CF9C2702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7F95A-F1CE-4DDB-9937-681468C5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1AD48-758B-4400-AD40-5C5C935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158DF-8651-4B23-BAB5-B49CE2BB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EBE5B5-3264-427B-A90B-7A14E336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A042-4718-46BB-AB52-679C7ACA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66707-4AE5-4336-864A-9245C041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D7BC6-62FF-455B-A91E-4B452F8F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A2B9E-388F-48CC-9926-5C8E4D98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A0ECD-ECA2-47B1-B21D-9950CA61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433AEC-1C01-4E9D-A9C0-8B359DC7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A0AF3-434E-41E0-BD31-88F4499A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6C5EA-4931-4B8E-AD0F-4F745963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18B59-675F-4B7F-A203-2768CD3D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C046B-FA45-489D-BC45-7BEDB31D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6500F2-F3FD-4218-9F43-6F4F229C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79CD-8B21-402B-9236-3D99E81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53A5A-7383-44FF-9DBF-66F180EF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086BE-0E48-45EE-AD08-B88CB15C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4ABD8-4937-4C0C-96E0-C51BD3A9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ABC6D-DC3A-481A-A3A4-1EAF0603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F95441-5FA3-426F-B8B3-1394A7C8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A4049-D252-4C0F-AC8E-E15D4190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D053FB-120A-451D-905E-BB646A69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CEF08-C9B4-487E-A5C8-9639B518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1042F-EC1D-472D-B3B6-DE339F6B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795D1-1B93-4C1F-AC8A-4FCFACF8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C91-FA88-4F13-81A1-C3A8CE7B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6A31-B0A4-42B0-AB1F-0AE4BFD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5949CD-5181-4C4F-9433-D73BE0CE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11C3D-4E90-4395-80B1-FFEEA52F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1DFEA-9B43-4190-8FCD-6456F2FA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2477A-F2E5-4745-AADC-A5D1A07D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2D713-61FB-47A1-9748-FB969BB7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21E36-98E7-4417-AC48-CBC343E1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80A7B-E7CF-4A18-B09D-796BA00F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48FD64-6C32-43C7-86DE-2C3648A9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1E84D-B684-4AEE-BEA8-E48B7ECD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04F523-E6E8-4020-8283-C330BCC2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019D-8400-4221-9213-B9F96D24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50E7CC-392A-4089-B446-15A2DB81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55E1D-289C-4143-BD33-6E602A0B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1A89E2-AB9E-4D0B-9DD6-D1ABB66A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B1CF89-4392-4844-910A-0AF76CB5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D2F3D0-5094-44E3-989E-1660604B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A1D95A-0E80-41B9-8D95-41339A91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DFF41-C4B4-402B-B154-AD35A7BF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1545E-E750-4E7A-BA25-EEFE3409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26591A-E697-42E0-A281-B4E7BDF5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9A626-5BA9-4887-A915-6F2AF59C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2F25-C7CF-4F15-881A-3E7472F6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6DB5E-0647-454F-B75D-8792C6B7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78ADE-86A9-4FA4-A4C3-48201A09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C02384-B949-45E4-AB99-BCDAB823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4A4F98-DF05-452B-ABB0-DD550540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12966-AFAE-40C1-9B04-463AAFE1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39A6D4-1E94-47EC-8E4B-49D48200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D1DAD4-E489-4882-BFE9-D22414EF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2DCA5-820E-4BF4-90FF-74A0AFE5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AA8AD-96B9-44E0-9E19-16877D45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0E9E57-B770-46F1-A9EB-07D73885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AE64-EA32-4578-8427-55C59210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A00D75-6F62-4FAB-9E4D-5EEBAD1C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F78B3-B258-4D0A-9265-F7BFCFCF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13C91-073D-4A72-8091-DA3729E9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60656F-ECB3-438F-A186-77328988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FCFBE-29A7-4179-BE8C-B9E2CC83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AEC0A-EB22-47D2-A544-036B24ED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F1FA05-AA15-42CA-8AC4-A752CA80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F766E-0A77-48CB-B3B8-0870413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A57342-CF50-42FB-B48D-0DF8DB52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0BE7B3-3F8E-4D1F-BFBD-7A4ECA27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D810-611D-4768-893E-7E1E1526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271B4B-BC7B-4AB6-B7B9-2DA82E7D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CCB103-38C0-4357-A1C5-152172B0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FFBC08-72B0-451F-A2DF-DF4CD9AD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8F38D6-61F3-46CD-9182-885B7E92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5503CB-8C00-4021-BA93-B1DF989C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A52B4-C0D0-43C5-875D-347DCF32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AB5885-A629-45BF-A563-9F401A1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E03B4-543E-445D-8C8C-DCACCC4C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7B6FBD-9BA7-4AAF-9A22-0B7950EB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3E1D37-C4EC-4AF7-A357-B06468AB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846A-CBE5-4A12-BCDF-937E3646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DC3D7-1DF7-4A6C-9EC1-431B415A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4B18E-DDE5-49C1-A17D-C5372786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98A18-0CB8-414C-A8F5-24E1D1A3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19C1D-E67A-4AF8-A0BC-BB00A4C3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C138-C3DC-4452-B86F-5A641B37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3082-F94E-4576-8ECE-0F10627C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723B-73E4-48D5-9657-5C4D025A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7E6E-FDAB-4DDC-AD39-34F0CA52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1290-1B61-409F-B884-69886DEF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C30B-D931-4C57-9544-12D9A7C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ACC9-8859-4193-A47C-C86F31A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6066-724D-438F-9C2A-E2B301AB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3134-0C0F-4738-9075-93AB7DEC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91C2-1CCC-4A09-9519-E97A81A0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93C7-4540-47FA-9F69-491FF4B6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8FF6-481B-49FD-85E1-382C3CE4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0002-397C-4417-ABD1-7F5F2A5A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929C-1CE3-4AF7-86E8-43406F85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E15-1E6B-45C0-82ED-EE500990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E5D9-42C1-4542-853C-6FAD9F20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D5F8C-C5ED-46A5-A52F-74DDBE03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6214-8415-4BDE-BDF5-ACF5DA70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4B9A-C059-4B98-88D7-329001A9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A7B5-B0DB-4D41-BA1F-16B992CE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A75E4-7B28-4C69-B4B6-CB311713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A83B6-99DA-4711-979E-B6AA9443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2FFFC-38E9-437E-B133-A5FD5D7E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A6D1-4D90-44B3-9790-8B531BE1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BD6B-E323-4B19-82A5-822A333C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83C-C48B-4739-9227-AB4797CD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14F25-8CEB-4766-B46B-13592287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DD1BC-4F43-43BE-9F6B-8BCC340B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2F3D3-8EB8-474A-BD6D-E9A414F0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EE738-887E-4185-B4A0-04C4FEA9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DF7E0-D9C5-4398-9363-F10A56C0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D6AE-4144-4A25-94E8-AF5A7C94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249B8-CAFC-407C-B9EB-2F2BC72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631D8-5AE0-41F5-9DFE-35F45D7D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D3D32-F351-49F8-8927-33BD2D2D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EC31-810C-45E6-B8C5-8CAAC8DA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91D-FA73-43F1-BCD5-252362AB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DC9F-5E90-4E88-BA49-BC5DE6E0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5AC1F-F280-47A1-AE12-8DAEB3F0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5C4BA-E7ED-49C3-A548-794597EC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065BB-CF46-47A3-9CBB-F9007A99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393BA-3593-43A1-8823-CA3980CC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C2E6C-6BF1-42E7-8316-8E946466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8F89F-41FC-4D62-B2A5-89473DED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7069F-F762-480C-845F-6003E39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7A8BC-8A56-49B5-8C43-EE6A4FF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B9BE0-5EDE-4C5F-B13D-B80F7DB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C64-43AD-4B53-866D-AF000851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F1547-5ABB-483D-9A24-7CF683CC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F3830-3475-4130-A285-34485679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5072F-684F-4F4F-B6B6-5BBA6CAD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C62B3-1B3C-41A0-B5F3-E484A347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09BC2-EA40-4E44-ADFD-E21B66AF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C9244-AC52-4BE9-A9C8-B5CEB2D6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1907F-39F0-4B94-BE11-3E46787F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50655-CCEF-4D3F-938F-E11C9B73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E3548-A0D2-41A0-B2CD-143FE47F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04B38-ABAF-4A70-91E6-0F3B4885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378-46D8-4CFC-9E46-6FBF0D43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BE75-62A4-409C-BD80-4005FC3E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879CF-D776-4EAB-8B3B-F8EE8963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F57EC-E2BB-4A22-B69C-5068A01C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14E0B-5934-420E-9FA6-170428D2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710A2-9673-40E4-8538-6536C8BF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5A39E-A646-4AB7-9A1F-FFBC1732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AB49D-6C5A-4621-8522-E3AB0FC6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4FEDF-0D42-4978-992B-F593E6E6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F8D2-1D18-4404-B53C-37A7ECC8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A4BD8-21B9-471C-AB48-F0DCA22F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CC6-7F22-4F4F-9CEA-3F158438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79B8-E166-4A5A-9A83-33F1262E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E8DD5-54E1-4DB6-959D-0FB1B340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CAD62-E0C9-47DB-85DB-E32C6359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096A2-C27A-4138-B9FF-E62F1156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FADD4-6165-4931-BD49-AB715AFF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43E0E-2F48-47D7-9466-7FA1BE9A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4F741-BD2F-4F7C-B69A-5A8F08F3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7199F-C2A3-4734-99FF-6841F05E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971F1-76AB-4CB4-BCEE-45322024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ED383-0EF4-4BF7-A382-A09FAD98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1CAF-83D7-4383-BB1B-C559EF09E3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9B42-C2E0-452C-A459-1DDBBAFDB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F897-AEA0-497E-AA2D-87C56EE90F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2158-96FA-45C9-8CB6-706FB18FE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D5AC-3995-4F9D-BF71-1D4277D80D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7E4F-B301-4F66-BA72-333A068CDA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61C1-3DA3-440A-B8FE-BAA046C1EF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3989-220F-45E3-9133-3EFD37413F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6F0D-3395-458D-B904-9E31664D98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9F34-7FB2-4355-8640-2C50954A26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FA30-01AC-44CD-8A55-9760084478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8E62-A954-4FA9-BB01-30159D8641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C9DA-2222-43D7-8A0C-6ADC3E5EEC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FD3E-63D6-4B4D-8D45-10355A2BB5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E57E-5716-471C-9CA6-9DC75FCC97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11C9-6577-4622-8B95-A518486B6D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1253-1D90-4FE8-9C1D-369289E4AD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1078-E324-4B92-BB62-78F7ADB687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CC16-5F52-4165-9CB2-9BD89E2F7D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9697-AF65-49C9-8D4C-DA53E9BED5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C93A-361D-4F55-984E-0525764D02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B03-BB14-4FD9-9961-B3DCFB74A9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580A-F7A5-4B74-968B-015097D20B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8EA8-4F2A-4167-936F-BDAA7C8CBA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02DD-5B52-4B1C-9424-DE1F04E18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9FF-BC8F-4388-8C66-E75792F47F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B929-A6B5-4946-A071-586FF8378F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794D-E2B3-49C4-A74B-F97A01AFBA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91E1-117D-4384-A8FC-1B06AC0A39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96CA-B4A2-4E63-BBF0-A525F1C4EC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D73F-213F-4EA3-B19D-B95B16E45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32FC-C1AF-4DED-8DFA-38950E5ACB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5F7C-E84D-4C07-B39A-50A3936856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C43B-BE85-4099-8C91-4290CFCB9A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CFBC-78A2-4426-8565-2CDE592E34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92F0-B5DD-4414-8445-7291953D68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1B8B-F50A-448F-9F83-370215E235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AC06-C5B5-4F58-8B63-A476E0F74E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9224-094D-4E1F-A613-332FF13FEA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C493-BC1B-48E1-B0D6-3E7C1144E6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19560" y="1844640"/>
            <a:ext cx="2504880" cy="8380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838080" y="3435480"/>
            <a:ext cx="7467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9633" descr=""/>
          <p:cNvPicPr/>
          <p:nvPr/>
        </p:nvPicPr>
        <p:blipFill>
          <a:blip r:embed="rId1"/>
          <a:stretch/>
        </p:blipFill>
        <p:spPr>
          <a:xfrm>
            <a:off x="1090440" y="1052640"/>
            <a:ext cx="6963120" cy="22953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9634" descr=""/>
          <p:cNvPicPr/>
          <p:nvPr/>
        </p:nvPicPr>
        <p:blipFill>
          <a:blip r:embed="rId2"/>
          <a:stretch/>
        </p:blipFill>
        <p:spPr>
          <a:xfrm>
            <a:off x="590400" y="3645000"/>
            <a:ext cx="7963200" cy="22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28472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28472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093080" y="16574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09308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1936800" y="42498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1936800" y="4869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4716360" y="42498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4716360" y="4869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7697880" y="42498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7697880" y="486900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5200" y="747720"/>
            <a:ext cx="8553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343080" y="839880"/>
            <a:ext cx="8458200" cy="5829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2556000" y="836640"/>
            <a:ext cx="604836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2556000" y="1413000"/>
            <a:ext cx="604836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2700360" y="2017800"/>
            <a:ext cx="6048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2700360" y="2593800"/>
            <a:ext cx="604836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2484360" y="3170160"/>
            <a:ext cx="6048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7740720" y="38386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3132000" y="46814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5867280" y="4724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0"/>
          <a:stretch/>
        </p:blipFill>
        <p:spPr>
          <a:xfrm>
            <a:off x="5796000" y="5172120"/>
            <a:ext cx="936720" cy="3841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1"/>
          <a:stretch/>
        </p:blipFill>
        <p:spPr>
          <a:xfrm>
            <a:off x="4716360" y="5603760"/>
            <a:ext cx="936720" cy="3841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2"/>
          <a:stretch/>
        </p:blipFill>
        <p:spPr>
          <a:xfrm>
            <a:off x="7020000" y="6035760"/>
            <a:ext cx="10810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447840" y="1576440"/>
            <a:ext cx="8248320" cy="3705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6156360" y="2563920"/>
            <a:ext cx="201600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6084720" y="3500280"/>
            <a:ext cx="201636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6156360" y="4437000"/>
            <a:ext cx="201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795240" y="762120"/>
            <a:ext cx="7553520" cy="5762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5867280" y="86508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5867280" y="183024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5867280" y="273672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5796000" y="393372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5796000" y="491328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5796000" y="5805360"/>
            <a:ext cx="237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299880" y="1071720"/>
            <a:ext cx="8544240" cy="4714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2987640" y="3268800"/>
            <a:ext cx="273672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3059280" y="5214960"/>
            <a:ext cx="352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590400" y="1471680"/>
            <a:ext cx="7963200" cy="3914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2627280" y="2852640"/>
            <a:ext cx="532944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2556000" y="4854600"/>
            <a:ext cx="532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7" descr=""/>
          <p:cNvPicPr/>
          <p:nvPr/>
        </p:nvPicPr>
        <p:blipFill>
          <a:blip r:embed="rId1"/>
          <a:stretch/>
        </p:blipFill>
        <p:spPr>
          <a:xfrm>
            <a:off x="216000" y="95400"/>
            <a:ext cx="2987640" cy="885600"/>
          </a:xfrm>
          <a:prstGeom prst="rect">
            <a:avLst/>
          </a:prstGeom>
          <a:ln w="0">
            <a:noFill/>
          </a:ln>
        </p:spPr>
      </p:pic>
      <p:grpSp>
        <p:nvGrpSpPr>
          <p:cNvPr id="954" name="组合 54279"/>
          <p:cNvGrpSpPr/>
          <p:nvPr/>
        </p:nvGrpSpPr>
        <p:grpSpPr>
          <a:xfrm>
            <a:off x="357120" y="941400"/>
            <a:ext cx="8429760" cy="5829120"/>
            <a:chOff x="357120" y="941400"/>
            <a:chExt cx="8429760" cy="5829120"/>
          </a:xfrm>
        </p:grpSpPr>
        <p:pic>
          <p:nvPicPr>
            <p:cNvPr id="955" name="图片 54276" descr=""/>
            <p:cNvPicPr/>
            <p:nvPr/>
          </p:nvPicPr>
          <p:blipFill>
            <a:blip r:embed="rId2"/>
            <a:stretch/>
          </p:blipFill>
          <p:spPr>
            <a:xfrm>
              <a:off x="357120" y="941400"/>
              <a:ext cx="8429760" cy="58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图片 54278" descr=""/>
            <p:cNvPicPr/>
            <p:nvPr/>
          </p:nvPicPr>
          <p:blipFill>
            <a:blip r:embed="rId3"/>
            <a:stretch/>
          </p:blipFill>
          <p:spPr>
            <a:xfrm>
              <a:off x="4322880" y="2133720"/>
              <a:ext cx="1917720" cy="446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直接连接符 54280"/>
          <p:cNvSpPr/>
          <p:nvPr/>
        </p:nvSpPr>
        <p:spPr>
          <a:xfrm>
            <a:off x="4356000" y="2421000"/>
            <a:ext cx="1944720" cy="3887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直接连接符 54281"/>
          <p:cNvSpPr/>
          <p:nvPr/>
        </p:nvSpPr>
        <p:spPr>
          <a:xfrm>
            <a:off x="4356000" y="3645000"/>
            <a:ext cx="1871640" cy="1368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54282"/>
          <p:cNvSpPr/>
          <p:nvPr/>
        </p:nvSpPr>
        <p:spPr>
          <a:xfrm flipV="1">
            <a:off x="4356000" y="3644640"/>
            <a:ext cx="1871640" cy="1368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54283"/>
          <p:cNvSpPr/>
          <p:nvPr/>
        </p:nvSpPr>
        <p:spPr>
          <a:xfrm flipV="1">
            <a:off x="4356000" y="2276640"/>
            <a:ext cx="1871640" cy="3960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314280" y="976320"/>
            <a:ext cx="8515440" cy="4905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2556000" y="5127480"/>
            <a:ext cx="237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8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