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CD73-536F-46EB-B1B7-D58CD155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4E2-869F-49A0-ADD2-BEC25619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6B098-F0C9-445C-ABCF-9AC16B3A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88C1E-F016-41DD-8019-A3354436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54518-6FD5-4E5C-B648-DBCDA668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A38DA-92C5-4376-878E-E4261124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A96C1-29AD-4218-AEE8-0E1AF8AF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6168A-05A6-4B51-869A-021C9ACD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53393-C4C7-4794-A767-81AEB8CD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FBD9E-300A-426C-BE64-E3BAD0A5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22DB5-E4B0-489A-8567-7C92EAEE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D0889-6AD8-4D82-95DD-6FA8EC85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C7D-0D41-49B1-BD3E-5BE72DF5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4B0BF-AD42-4315-BD28-682265AE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EDBB4-A739-4FC8-AF42-DF4EBD17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6B806-47C4-4E57-878C-0C794E0B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563B3-FADD-4C8C-82CB-62E9C98D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78E92-B2E6-43F6-93A8-431CC455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E4CF7-060C-4F7A-A0D4-723020C1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80AF6-4C77-4CEA-9316-40C3EF9E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7EBD0-D567-405D-8F6C-E4BCA85F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C16C1-CB9F-412A-BBDC-E636262C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42747-7FA7-4611-B8F7-94796671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44B-582B-4829-AE75-73676AB8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3FB23-2AE8-4864-B59B-9443012F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16FFF-ED7C-45D6-8F18-8216FF67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483A5-C8CE-4F06-AD38-38A2BF03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F8A32-0D18-4945-BC61-47D00591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DFF38-CB2A-4102-A808-B429ECD1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B3811-83A5-42D9-8DDE-16DBF811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759CC-D9B7-461E-B751-C7D15731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DF5AE-02AB-4580-B360-A2F69E38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82E01-C91F-4D8B-BB16-CE0E733A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88D72-522F-49DD-BCFC-AE8903E1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7290-8AAF-4EB8-AA7B-3920A189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9B0FD-DFC2-49CC-B75A-256FD1D6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0241B-3F66-4BDE-AB03-CCF2502C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6E882-4F02-4BCF-831E-67AAEDF1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DCC83-DB73-492E-A472-56D071A2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31D8B-1085-4290-A187-FD5C7018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576BE-50EA-4575-9FF4-0E2D926D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95D80-23E7-41E8-B25B-3FB1417D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CBBEA-090A-4B78-99CD-35E59DCD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88B27-BF4C-4FD8-BB7E-C97F3E86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3DC00-11E3-4599-B2B5-1171E032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22F2-B5E0-49C3-93FA-C8005BA2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C372F-332C-4A2E-88D6-60866A93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101D4-6DCD-4A91-81FA-7F794340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F1AD7-DE6C-4C7B-BF8B-DF71EEDD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6169C-207F-4421-97D2-B01D6E2A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4FA95-3503-483C-A4C0-9A372317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F3A09D-6A9A-40FB-9780-1BEFF05A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5D1AB7-CAD3-42F9-9044-5C9DA0E6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DC0C9-3178-44F8-BC7D-CE1C7E91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A8AF1-BAA5-41A4-9752-5A3DA859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57DC7-84EC-4822-8441-2049E322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4CEE-996F-4E63-8529-570D6FB8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8EAE9B-3BE2-44E8-909C-9E9FEBE4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929F3-66CD-40A5-8862-F6BE8234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539DBE-87B5-4221-956B-509531CB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45FF8-CE65-4B29-B5FA-D6C393C1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BFE40-60F3-4BF1-A84E-1AE172E0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6D94C-8B23-4BA6-982A-49BCC863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B64F1-74E7-4B3C-B141-41723F72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437608-3C9E-484F-B780-78D1760E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25DBAB-52A4-41B4-B5FC-E49EB7F2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4D75B1-2AC7-4547-90AE-FF924AA3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E599-114F-4515-8936-910AFAB3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791F44-FE10-462B-9BCE-F9EB4D39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08E8B3-CB9B-4071-B2EE-4E060E33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A100E-ED16-41B2-BA74-8BAABD9F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E50E69-5AAA-42B9-969F-CA8E22A0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5DF110-AC1A-42A4-A78A-18C6EE19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6FEC37-98AC-4E6E-A5E3-29B04D08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7AB29-4F68-4379-98AF-2ED9F11A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28E211-D69B-483E-992A-F7D8E57F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BB9AE3-06E5-465A-AB9A-A95D0C1B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0A639F-7DB9-4C31-99A3-74D6A963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FDDF-DAE0-47D8-9988-FD7D8FC4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39383C-5CAB-434A-BFF6-FEE8C154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DB05A2-DADD-427B-9EF7-7D87F0D5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76D386-B77A-40F9-ABF5-FAC61572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30F1A5-833A-48FA-9388-88773AAB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CC3287-1216-4D86-95F4-CFF098C4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9CF2D0-9556-4E40-A7FF-010D7D6B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D6F20B-D85C-405C-8E07-19BEDAA3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4E8D1F-5DA2-44DC-90AD-7CF4D50F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83580C-DE48-4F05-BCDB-5DA9FFE9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32EF9D-6D2D-4649-A18C-DBB32154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4C9D-648B-419D-919C-2BF491A4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BA1A95-F7CE-4EF7-9C1A-ABBD9C57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357F19-4EBA-4575-9659-E1B87D21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6441D9-83ED-488E-A1AF-04556F2B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6D072C-5116-4E5E-B1AE-87BB757D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54F395-CAEA-49E6-AAA1-E89BBA9F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F17D8A-EBCD-4BE4-8C23-16A77609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11CBB4-F01B-49F1-88D1-EDE59E72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893617-D72B-40F4-A279-714F4597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B1B6FF-3C8B-4694-B269-7CF65E84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B8C965-F261-4EEB-9F7D-01A55F79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3D1C-7CA8-4F9B-8D9F-93337C11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CF9E97-5ADE-46BD-9A72-148F52FA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68C39-84C4-4CC8-9627-1F2D92FB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8A673B-2EC8-466B-8345-B0D81556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205B60-B297-4949-9BB9-B6D18862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435B5C-8381-4801-A9A2-9CAA189A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7253BC-9F0C-445A-B330-BF5ACB70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B30ECD-D915-4ACD-9E78-BA7D166A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92CE7D-D0D9-4E55-8252-851A0852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0060E0-406C-4F10-B53C-DC5C1600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197E68-B232-4055-9E07-2E4DE44D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3444-3234-4D68-8B37-AB9F9F42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C42C-A52B-425D-9EB5-3EE3BDE1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6B3268-5C20-47B5-B7FB-4615E4BD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7415DD-7D51-4163-BB04-7ED91781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00D8D6-0BF0-43AA-94EF-D5BAACBC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FDFD21-24D2-4CD1-B0E7-47CA3E65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1A1D29-B9A2-4DFB-8805-37FCA890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A57117-60BF-48C2-BB2B-F006B561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602B41-483B-4B1A-B275-624143FD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557321-AE34-41D6-9401-8361843E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A1EFC7-59ED-4F37-8049-AC03198C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FF240F-1847-4695-A9FC-B1AE0127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1916-97F4-4F58-BBAC-2401273C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0DB535-469F-425D-9681-DFFFB0D4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03F7ED-68C8-42EA-AAF2-66390502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94103-B7FF-4A04-8CD3-5F62E791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708EBE-4576-452D-8AB7-19FF91B0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7D8550-DACD-4CE5-9E81-608882ED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42BE97-615E-4E48-8EBE-26BA70F9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0131F6-BAA5-423A-973A-70831EF8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D1D513-E608-4F17-8733-E88E9B19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AFC910-26AE-4DB0-A9CE-9E61CAAB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8E8065-6EB3-4C05-866E-B137E9FE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C332-66B1-4F0C-B42A-EAC68E17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90D254-D811-4472-849B-0E3822B7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FFFD75-5238-4BBE-8EC9-7563A251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A75329-A75F-42DE-88B7-5AE83CF0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BB528C-E1CB-4C59-8177-09DCDA5B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FC49C3-9B96-4F43-BB69-AF1ECC03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D777D3-16EE-4B5A-952B-4010CB9F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EA420C-C313-4CAF-B5FD-29A16CB4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9DF7B9-0AE9-4786-B8BB-2B438864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B09829-A09B-4809-AB71-F97E7761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812156-589E-4CAB-8F7B-69FDB519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C9BA-160A-4BB4-BB9A-26441AD1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52DF81-CE79-4E51-AA96-B570D0F3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5D122D-EBFA-4E8B-963B-A3DC9139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EE22F9-D581-441B-B042-4D48696E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F26F24-3532-47DE-86C9-5F12271A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F44DDE-1D41-4DBC-9C06-45CF9B72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8BA32C-E8DD-419F-914B-795D941C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37D867-107D-495D-915A-BE9B85FA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17F7C8-D248-4680-A668-6C85DBB8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198046-6E51-4255-8122-3B84ED6E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0D41A4-1F86-4458-BA38-50E668E6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440C-5C03-4A3D-BC81-4E08B295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425630-6877-4CCC-A5F4-43C51A3A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92A902-67DA-4B2A-9558-3B51A2F0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0FF46E-4283-43A6-AF5A-69D62A9F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C2730D-8A70-4213-BC2B-5203BD3F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35F8CE-B773-4A96-A5AF-0191ACFD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CFAE66-D460-460C-8553-5F4518C2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B22085-D844-4772-97CC-DB09B788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06C4F8-A4B2-4A1D-BCE1-267F5D91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CFF211-7A64-47DB-820A-3FD5FEC1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1A348F-F7FC-4C37-BCDB-6D0856A3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1FD3C-C881-4F37-A1EC-4F2ECE11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6AF4E4-A059-4439-873E-043830DB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8E734F-ECE0-40FC-ADFB-3EE7DEAE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D2B508-C0AD-4240-8DB6-59A59E19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0503B-8C78-467B-9815-58F23181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05A53-C5CE-40B5-8C9E-154B50D2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BE664-6673-438A-B92F-48213FFE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9F3F8-F832-42B0-AEE2-E9CB509A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5DDF-99A4-47F9-B8D5-10E61DB0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BAA98-F28C-4831-A740-79031CA0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4B457-99E2-4771-A32D-75BC8C86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CBB08-76D0-4682-8DB3-342A43DF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D005B-7E21-44AB-9941-81B5A20B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79D8D-BF9D-4431-B6A0-9183EF4B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98D3D-BA5D-465B-B747-42AA9616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BACAF-BA95-4D9F-B7F2-AFFBBFFA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233C1-D341-4408-A5C5-5023B270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F4C84-D217-47B3-8C54-81EE151B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246E9-5FA7-4E94-B45D-32305AE9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2A5F-E002-4DD6-8FD8-23E743B7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5D63D-B2F7-4D48-A737-5E0C83B1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E7B81-31B3-440D-9F5C-11A4FA16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62B3D-CD97-4EC1-945C-EAEF90AC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E2F34-4C2C-4375-AD98-69C28444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F6F04-4673-4354-B804-1DB3759A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EBEDE-C8B8-4410-96C8-DFA3BC37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9DC13-B04B-4F5A-A3CE-8264050A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05A4C-0717-4135-BE66-92C1F1E8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D7490-8EF5-459F-8D53-5CD7ECE8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4479B-E4E8-4EE8-A74E-CBF473B1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5CB-026A-49A1-BCC1-53A73FDE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60C58-1DF7-4E66-BF69-85544A14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9E8F3-6DCA-4003-8F5C-86B00BA8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7CB57-8841-4C97-B3E2-B630354E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0880B-34D8-40F2-B0DC-7713B69A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588D0-E889-4AC6-BF19-C17A5580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7E5DB-1171-4E42-96E8-1DFA33E5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E5578-2AAE-427C-846C-9D4EB7E1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DB2CA-A2E8-4E12-B101-A602601B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57276-1DD1-41FB-A1CF-EC24FC1A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BDD5F-1C16-4571-9ACC-B11D959B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ECD3-48C2-4F5A-BB0F-B26830E7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09F4B-6C22-4D6C-AE94-0B930709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956B2-7335-4479-9610-68B124F8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B972E-047C-4D4B-9955-722FF060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9020D-A579-401D-A32E-FEAA54F0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56A56-608E-4CF6-9E14-C9D11A53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58ED6-8564-4C5A-8753-660570EA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E97E2-EE61-4CAB-9A40-F8D506A5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3F66A-134F-4290-91BD-0ACD8104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6D27A-3CFD-4AAD-A2ED-7A4E6615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D92FA-9822-4005-8566-6DB10F8E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9B8-E0FD-4DED-9C98-BCFA97FB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8664D-BEC6-4D80-B0FB-AF437429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57868-DBC0-4AC5-9FA6-D49921C3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C9000-EBA7-4C62-B07A-480D19CA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B30F6-62B5-4F4C-B0D0-2FB8F931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37D7A-9C6C-4A88-BFD8-3238FD96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AC1C3-BAED-4B3E-80D6-697ED653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41986-06B7-4986-B760-354EC891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E374F-0662-4B37-A8A5-605C3292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24203-8689-412F-B54E-05923380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F7897-70D3-46F4-833E-A8715822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D77E-E307-420B-B8FC-7541D8B2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BEC6E-1D7A-4612-BBCA-FC3A9B6E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95351-E348-4ABA-A734-F4C2C5DE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0DE3C-6196-47A9-A55F-0EBD59CF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D2280-CEDB-4F82-B42F-D997DA35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3411E-0CC5-4261-B6AD-D7490BB6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90031-E708-493D-8189-342AE927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5BE1D-9CFD-4B86-9158-0B1B6F6D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C5B80-332F-45F9-8A6A-4C65A329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15029-4D11-4E24-8332-9034871A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BABD8-1F0C-4540-956D-1A834EDC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26E-4023-4120-84D2-8EE08D96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5F458-4683-47A3-8335-D01462AA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D2AC0-7978-44F1-ADCE-68877AC8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0BD86-F5FD-41E7-BEB1-4083A73F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D3973-38E8-4A7D-9745-1A4817A4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E5424-1CB2-48C8-88E1-6B799E8D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33A08-BD56-411A-A087-DF77926D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8A44F-70E0-44E4-8DD5-E9A5AA00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9AE0B-5D4D-4619-A010-87CB6C86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6306F-C277-4A23-9333-4A33B7AE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28359-36C3-4E34-BFDA-A0F0219B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3C30-DC98-48DE-B0F6-EEA16FCC1F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9C52-6D93-431B-8A42-CC33E7B7B5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136F-F46D-4AE8-A564-FCA69C9FBD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BC5F-E4DA-4617-8658-E18C547410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1DFB-24A3-45CA-B6BB-181B22BACE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CA3E-8AD9-44EB-805D-6AE77BC554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8724-B07C-45F7-B5B7-5B2C23452D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2563-F5BB-4114-8B2A-EFC3081E66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41E2-B24E-46DF-8FCE-574E9BE720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F104-1A6B-47DF-948B-EF357AA964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FD8B-C4E1-4266-87F9-E069203534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5432-42C6-4C43-B91C-E65136DCB9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9D94-561F-456F-9856-376FEE124B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64E1-4A4B-426C-8179-8BDE15EAFB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2B9F-5107-4A30-ABA5-43F4EB3A98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0E09-16D5-4B47-9362-712912EF44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85C9-DFD9-4744-A1DA-FB81A6BBC5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388C-41BD-4910-BEAB-C6C647329E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CFF1-5C2E-4025-9BE7-3BA443972A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A000-1C05-4665-9D5A-972A9D306B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266C-FC46-4C5E-A941-E9C1BE8865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41C7-DBBE-474B-A830-17187116C7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4C34-55B7-4099-A144-EDCF1CD28D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70A2-D077-4B88-B3D6-4FD55CE703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39F9-575F-460C-984F-3945035752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51D6-BD22-4C37-9D77-588212B8FF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0F67-A251-47C2-AFE5-6F626306B2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AC1E-8AF3-44D0-94E2-8E7C30E465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F660-3849-4D0A-862A-ED4E077CB7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357C-41D6-4E00-85F0-5DA59DE0B5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ADF5-5C00-4784-AD1A-31EA8C0E12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08D3-1348-468E-8A1C-8832F47D7E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76B2-7ECF-4505-8940-CBD9FBCEE4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699E-BC1E-4F24-9653-E5FED26633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165B-1B8F-4DBE-B11E-E70EB23CB9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40B3-B9B5-4E89-A888-4A5B1E948F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6C9F-25BB-4678-9673-7B69383496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FE1C-7FCC-40DD-BDB0-C8A5202FF3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2B14-3232-44FA-A8B0-51DEE33148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B1BD-DFAA-4EBA-84F0-D42475D22B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71760" y="1844640"/>
            <a:ext cx="2400480" cy="7142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304920" y="3770280"/>
            <a:ext cx="8534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70658" descr=""/>
          <p:cNvPicPr/>
          <p:nvPr/>
        </p:nvPicPr>
        <p:blipFill>
          <a:blip r:embed="rId1"/>
          <a:stretch/>
        </p:blipFill>
        <p:spPr>
          <a:xfrm>
            <a:off x="914400" y="765000"/>
            <a:ext cx="7315200" cy="2143440"/>
          </a:xfrm>
          <a:prstGeom prst="rect">
            <a:avLst/>
          </a:prstGeom>
          <a:ln w="0">
            <a:noFill/>
          </a:ln>
        </p:spPr>
      </p:pic>
      <p:pic>
        <p:nvPicPr>
          <p:cNvPr id="961" name="图片 70659" descr=""/>
          <p:cNvPicPr/>
          <p:nvPr/>
        </p:nvPicPr>
        <p:blipFill>
          <a:blip r:embed="rId2"/>
          <a:stretch/>
        </p:blipFill>
        <p:spPr>
          <a:xfrm>
            <a:off x="157320" y="3413160"/>
            <a:ext cx="8829360" cy="22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4284720" y="1268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4284720" y="193032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7236000" y="131292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6877080" y="197496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7"/>
          <a:stretch/>
        </p:blipFill>
        <p:spPr>
          <a:xfrm>
            <a:off x="1979640" y="3990960"/>
            <a:ext cx="63972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8"/>
          <a:stretch/>
        </p:blipFill>
        <p:spPr>
          <a:xfrm>
            <a:off x="1835280" y="46530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9"/>
          <a:stretch/>
        </p:blipFill>
        <p:spPr>
          <a:xfrm>
            <a:off x="4932360" y="3962520"/>
            <a:ext cx="63972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0"/>
          <a:stretch/>
        </p:blipFill>
        <p:spPr>
          <a:xfrm>
            <a:off x="4932360" y="462456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1"/>
          <a:stretch/>
        </p:blipFill>
        <p:spPr>
          <a:xfrm>
            <a:off x="8035920" y="3990960"/>
            <a:ext cx="92880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2"/>
          <a:stretch/>
        </p:blipFill>
        <p:spPr>
          <a:xfrm>
            <a:off x="7740720" y="465300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743040" y="1063800"/>
            <a:ext cx="7657920" cy="5533920"/>
          </a:xfrm>
          <a:prstGeom prst="rect">
            <a:avLst/>
          </a:prstGeom>
          <a:ln w="0">
            <a:noFill/>
          </a:ln>
        </p:spPr>
      </p:pic>
      <p:pic>
        <p:nvPicPr>
          <p:cNvPr id="924" name="图片 60429" descr=""/>
          <p:cNvPicPr/>
          <p:nvPr/>
        </p:nvPicPr>
        <p:blipFill>
          <a:blip r:embed="rId2"/>
          <a:stretch/>
        </p:blipFill>
        <p:spPr>
          <a:xfrm>
            <a:off x="252360" y="44280"/>
            <a:ext cx="3240000" cy="9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738360" y="1914480"/>
            <a:ext cx="7667280" cy="3029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2484360" y="1944720"/>
            <a:ext cx="496728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2484360" y="256536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2627280" y="3198960"/>
            <a:ext cx="496728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2556000" y="378936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6"/>
          <a:stretch/>
        </p:blipFill>
        <p:spPr>
          <a:xfrm>
            <a:off x="2627280" y="4437000"/>
            <a:ext cx="4967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8373" descr=""/>
          <p:cNvPicPr/>
          <p:nvPr/>
        </p:nvPicPr>
        <p:blipFill>
          <a:blip r:embed="rId1"/>
          <a:stretch/>
        </p:blipFill>
        <p:spPr>
          <a:xfrm>
            <a:off x="509760" y="1685880"/>
            <a:ext cx="8124480" cy="34862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7093080" y="1916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3822840" y="2349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2987640" y="2781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503244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6"/>
          <a:stretch/>
        </p:blipFill>
        <p:spPr>
          <a:xfrm>
            <a:off x="6156360" y="364500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7"/>
          <a:stretch/>
        </p:blipFill>
        <p:spPr>
          <a:xfrm>
            <a:off x="2987640" y="4552920"/>
            <a:ext cx="1871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328680" y="1185840"/>
            <a:ext cx="8486640" cy="44863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5148360" y="200340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5219640" y="260820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5148360" y="324180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5219640" y="384660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5207040" y="447984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5278320" y="5084640"/>
            <a:ext cx="295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6324" descr=""/>
          <p:cNvPicPr/>
          <p:nvPr/>
        </p:nvPicPr>
        <p:blipFill>
          <a:blip r:embed="rId1"/>
          <a:stretch/>
        </p:blipFill>
        <p:spPr>
          <a:xfrm>
            <a:off x="671400" y="1828800"/>
            <a:ext cx="7801200" cy="3200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5651640" y="4205160"/>
            <a:ext cx="28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5300" descr=""/>
          <p:cNvPicPr/>
          <p:nvPr/>
        </p:nvPicPr>
        <p:blipFill>
          <a:blip r:embed="rId1"/>
          <a:stretch/>
        </p:blipFill>
        <p:spPr>
          <a:xfrm>
            <a:off x="709560" y="985680"/>
            <a:ext cx="7724880" cy="48866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5003640" y="2637000"/>
            <a:ext cx="345600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5091120" y="5243400"/>
            <a:ext cx="345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4277" descr=""/>
          <p:cNvPicPr/>
          <p:nvPr/>
        </p:nvPicPr>
        <p:blipFill>
          <a:blip r:embed="rId1"/>
          <a:stretch/>
        </p:blipFill>
        <p:spPr>
          <a:xfrm>
            <a:off x="250920" y="63360"/>
            <a:ext cx="3867120" cy="648000"/>
          </a:xfrm>
          <a:prstGeom prst="rect">
            <a:avLst/>
          </a:prstGeom>
          <a:ln w="0">
            <a:noFill/>
          </a:ln>
        </p:spPr>
      </p:pic>
      <p:grpSp>
        <p:nvGrpSpPr>
          <p:cNvPr id="951" name="组合 54279"/>
          <p:cNvGrpSpPr/>
          <p:nvPr/>
        </p:nvGrpSpPr>
        <p:grpSpPr>
          <a:xfrm>
            <a:off x="1332000" y="755640"/>
            <a:ext cx="6105600" cy="5991120"/>
            <a:chOff x="1332000" y="755640"/>
            <a:chExt cx="6105600" cy="5991120"/>
          </a:xfrm>
        </p:grpSpPr>
        <p:pic>
          <p:nvPicPr>
            <p:cNvPr id="952" name="图片 54276" descr=""/>
            <p:cNvPicPr/>
            <p:nvPr/>
          </p:nvPicPr>
          <p:blipFill>
            <a:blip r:embed="rId2"/>
            <a:stretch/>
          </p:blipFill>
          <p:spPr>
            <a:xfrm>
              <a:off x="1332000" y="755640"/>
              <a:ext cx="6105600" cy="59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图片 54278" descr=""/>
            <p:cNvPicPr/>
            <p:nvPr/>
          </p:nvPicPr>
          <p:blipFill>
            <a:blip r:embed="rId3"/>
            <a:stretch/>
          </p:blipFill>
          <p:spPr>
            <a:xfrm>
              <a:off x="4487760" y="1450800"/>
              <a:ext cx="863640" cy="522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4" name="直接连接符 54280"/>
          <p:cNvSpPr/>
          <p:nvPr/>
        </p:nvSpPr>
        <p:spPr>
          <a:xfrm>
            <a:off x="4500720" y="1844640"/>
            <a:ext cx="792000" cy="4464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直接连接符 54281"/>
          <p:cNvSpPr/>
          <p:nvPr/>
        </p:nvSpPr>
        <p:spPr>
          <a:xfrm flipV="1">
            <a:off x="4500720" y="1700280"/>
            <a:ext cx="863280" cy="16574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直接连接符 54282"/>
          <p:cNvSpPr/>
          <p:nvPr/>
        </p:nvSpPr>
        <p:spPr>
          <a:xfrm>
            <a:off x="4529160" y="4869000"/>
            <a:ext cx="792000" cy="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直接连接符 54283"/>
          <p:cNvSpPr/>
          <p:nvPr/>
        </p:nvSpPr>
        <p:spPr>
          <a:xfrm flipV="1">
            <a:off x="4500720" y="3213000"/>
            <a:ext cx="863280" cy="3168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2231" descr=""/>
          <p:cNvPicPr/>
          <p:nvPr/>
        </p:nvPicPr>
        <p:blipFill>
          <a:blip r:embed="rId1"/>
          <a:stretch/>
        </p:blipFill>
        <p:spPr>
          <a:xfrm>
            <a:off x="295200" y="919080"/>
            <a:ext cx="8553600" cy="5019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900000" y="5343480"/>
            <a:ext cx="597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11:2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