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D44-8173-42B7-9EA4-3096482A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B4D-9A20-42D8-A87B-63F8E547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BA39F-5C42-47D5-B00A-919A2D29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3B06B-F450-4639-98BF-9CF97206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4924F-B48B-47ED-88B7-3DEDBF1B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96F4E-0446-4BDF-A8AB-3B65C84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C48DB-009D-43B0-9434-9DC3B5E7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1A0B4-D9A6-4E54-9C5B-9EB700F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2F162-9CF0-483C-A9CA-3F0DD5D8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ACB9F-7203-494A-8EAD-8963DC81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1EF7-94A7-408A-A0D2-A8207E27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201A9-FAC8-4BB7-9136-9B50A378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E8F-0D75-49AE-B8F9-FCD467F7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AD262-B2F5-48B1-87C3-2538764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33448-387A-4C06-9D35-62798DED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FE89C-BC60-4919-B07C-3544DAE5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45901-5C3E-4EF9-8DB1-FED9E51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6FF68-91CB-454F-8FC8-1DD4A0F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33F03-D8EC-4ACE-A799-7F9605FD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A800-41E2-461E-BC71-058B280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EBB49-6B16-4D8A-A0A9-F080FD6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240A4-C7E8-4FC5-A374-9ADF6F1E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861AB-6219-474A-BC3A-5489CC8F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543-077F-4626-82FD-421A8B93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6B496-D9CB-4E62-90A6-5985FD58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5E17-7EBC-4E86-A009-9FE508F0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2270-73F2-46A1-8CAE-A15C985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4BABC-DD7B-4322-9870-8729DB63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B86B1-38F7-467D-8863-BE224BA2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568BF-D00B-43A9-B535-A8D14A33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D93C-4A08-42EA-B933-E7AF601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6F5C4-B3A5-4AF6-9C57-6556ECE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67FFC-8458-4C81-B799-F8E7CC5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25FA2-3E3B-462D-A25C-CAC56F1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C07-68A1-42BA-B5E5-8EACC014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422B-03F3-4809-B7B3-CF79AD10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42DD3-E463-4C55-9EC9-DA611F8A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CB00D-640B-4895-8513-19F812A5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17973-2C33-41DF-8DDB-5F00D0A7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8DDC4-6584-4F90-B1D1-43A0DE21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43C96-DCC7-44B7-8EEA-084CB257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F25FD-E10F-485A-977D-C9E2C14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B2287-8C0F-4EA9-BE19-24A79ED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B3C26-E36D-460E-BFBC-92B6FD5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56B28-6B05-4AB2-B370-80094402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207F-8DDC-414A-BCC6-5F71B72C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32838-2CAB-4962-8539-CF483C52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06873-F14B-4127-A6D2-B118EA8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258C6-30B8-4CDB-B248-C6B30F23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7B293-A1A7-4F94-909D-F2C15C1A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85D3A-0B3A-44D5-9106-2C95F490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403F2-BAB7-4AB0-A70F-2EB8D322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59750-678C-449C-BFE6-984AA9B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91148-C036-4239-A54E-EDCAE45C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23A4F-6A0E-4C7E-ACEA-8C83963E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CD99F-AE7C-4D7C-9699-80857841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AA07-0528-4630-A9AE-340BFF72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7B050-2721-4AE0-9336-A81B1360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87C55-F46D-4317-A303-008DA5D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82FF2-B239-4CBF-BF6A-D1675D94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EDE54-2F11-405C-BB08-08517129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2BEE2-6FA4-4054-8317-EE674AC9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B6F8A-5D2E-4051-9999-721FE298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CD63C-5F73-4AA7-9FFE-26E33195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6EB83-87C5-4296-A9D2-18A23512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7D969-87E8-4A05-84B6-F1425BE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3CE70-97E3-4E9A-BF63-DB90257C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984E-C9E6-4171-9D7A-EEEF2A57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5C8F7-D537-4CD7-BE23-BCA476F9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24A3F-320D-4485-94D4-091AC51A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B31FC-4B73-41B7-AD4F-90B298B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78EA9-D802-4372-A4FE-B1A0C9EE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45994-082A-4FFF-A1A7-7639AEE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054BF-4AA8-4AEB-9954-FA78B206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C38CA-A69D-4816-A4B5-68AD0059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834F9-9835-4A80-B759-ACFA168B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98021-3307-4864-BAE7-7400A6E7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58046-88C6-4EC5-A98E-A0F198C7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E8C8-586C-447C-B135-61CABFB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D31B6-718D-4718-811E-9140736E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B4F91-21F6-4E91-9B7E-213E3413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3ECED-480E-4463-B8C9-7B24557A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08813-F677-462D-83BB-A1EDB58A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F13FD-9D53-4B90-A979-2D831434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0D33D-BF12-4F96-8DCA-917BEEB0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42AF2-2ECC-498D-A73E-32C116C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8DCED-FBE6-4D1A-AEDF-4E32D99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9CF33-55B1-4B3B-8F24-F4471BFD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2D689-CACF-4F93-9789-941DE13E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D18-9B95-410C-B0A0-A3B98D86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F98C8-34BB-4265-AE4F-4A32CA9E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675DA-27C1-4918-ABF4-64381EC8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00400-73CE-447B-A8EF-1A9B1A53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D3A37-350B-4A14-81F2-1CFCAA86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156C6-956A-46B9-8308-9758F520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19D79-F791-4A06-959E-82A272D4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24D1B-FC0D-481A-ACFC-E1055D94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AAC92-7ED8-4CDF-B2DD-54721DC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6422B-AA8A-49DD-9BC9-B3143801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19864-E689-405F-A22B-AAD3C6C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90D0-71B4-47CC-9837-6335C68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EAE6B-BFDF-412F-944A-DC0AD011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EE367-E949-4235-9646-3868B03A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05E42-C96F-43DC-AEEF-DA094973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84BF6-599D-4648-9CC1-EFE1F246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59153-410F-4C7A-85CD-ECBB976D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071CF-BC0B-487A-99B7-887AE66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66A14-9642-4BA9-8ED1-756F5870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C87EA-2CFE-422E-BB35-47B5FA61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68D6F-034E-45F8-AF09-5FB349EE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3BD94-BA28-4DA7-B915-4C1B25B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4EC-CBFB-43CE-A904-C49E526C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8C8F-BAB0-470E-AF36-384829A6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DD36A-27A3-4FF7-B04E-8F5DDC13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44850-3B5E-4946-A0AD-5C094BE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B4177-67FE-460C-B44A-D5D1965D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24822-1F92-4C7E-B1A4-6E9EC549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4B8F0-107A-47D1-A2F7-62DF37B3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F1979-7816-435C-AF4D-32DD6A3C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C004E-B530-4061-AA1E-177A44D6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37F5E-F4E6-41EA-9F60-052CB675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8E373-055F-4399-A701-494DA3F4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1E2E9-EDD2-4690-B210-5ED4C3E4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84CB-1D22-418D-BF8E-C40D87A6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A4101-1184-4785-A374-96396DF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3F6B3-CFF7-4FD7-A7EA-61A9DC79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7AF29-89EB-4F96-94F3-4399482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2EA30-CA16-4521-BE60-1DC253BE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8E008-59A2-4B0F-AF00-3878A0A6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88490-7737-47AA-944A-24F9BCBD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1FCC1-53F4-4BB8-8F4B-1AA4C7DF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BACBE-2036-4F0E-B80F-C7025CF4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09B04-7142-4E2B-80F6-20BD8414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EE54E-1F1B-44FA-A6FE-E498CFD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C56C-ED6B-47FD-B2B4-F3DC0E6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CF473-D0ED-4ADA-BFC4-CDDDA1B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DEB05-E26A-4F87-B072-00BC3FE7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B8EAD-DC1E-4D1F-8044-E481B06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D17BE-4BCF-4C7F-B443-82479EC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6637D4-7CEB-4D1C-B5DB-77E0FBEF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21A1C-8DCE-43D7-B6A7-36FC4646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C23B2-288B-46B1-AB5F-0173B9E7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556C3-4ED9-45D5-AE96-B527DA82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58A3C-C60E-4A8A-8AAE-A24383F1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8A00D-AF21-496E-9177-CDA46F11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F920-12A7-4928-AA08-F135D4B0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B1460-5307-4989-B791-A3DB5FD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FBB4F-4BBC-4823-A8BE-5B338914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8F7F0-52A4-473C-9C72-B386960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FBB3F-5418-44A3-8EC5-5443AF3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4810E-655D-433F-910B-865DFF05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44853-44E6-40C7-9B8E-E4F9E9C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92FEB-84CC-496A-8751-90A68EC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D36B0-78E5-4C26-9C87-F0E1831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52B34-3D22-46EE-9902-58935F12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A030A-367A-4B77-8339-CEA423AC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306-2FDA-4203-9EE5-0477628D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ED564-40EE-48FE-BB4C-4FAD8516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038E2-3D86-4F50-A575-16ED819E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7CF7A-C9F3-42E8-B96A-C45C567F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D29F0-7034-4F5A-8C2C-97C204DE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CD150-99AE-476C-B5A2-E37D4EA2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C3407-1440-4D50-BD3B-91A3A3B1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34864C-693A-4EE4-B8DF-DCB1CDBB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B564E-8E1C-42A6-A27C-7B4758E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9CC82-229B-4C7A-A51B-A661C742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3F7173-8CFE-49A9-AB7B-ECFCF0F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C630-DF2A-4DDB-BC5D-880D488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5186D-359D-4D28-BC3A-05E8D9FB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63A54-238F-44CB-AD05-E94769F8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7ED44-5B06-45A2-ABDD-A32022C4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A727-79DE-4F3D-B6E1-BDB7082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041E-33C7-488B-A875-3429E297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C908-8548-426A-9657-27AB3131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8A06-CC2A-4BBF-8BA7-149FA629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E7F-3B15-49D4-9E75-3621A60E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14F5-34F7-429B-B4D3-66BFF938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3DE2-F2D1-47CF-A2A8-FABF76E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A56B-3111-4DCC-B665-E7A24CAD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A03B-3B7B-4D3D-B9D2-C1C59C1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E6F9-E81D-48AE-829D-4B0DBC75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499A-25A3-4552-A9C6-CC2B940C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FE46-7516-445B-B354-C8443CB7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EE0F-6F49-4771-9D84-A78531D2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C932-011E-454E-8B2C-74CC906D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1224-09DE-455F-ADF3-B7835B2A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4C1-6988-4C08-BADF-2091A35D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2552-BB27-4B5F-8EBE-BDBD73C9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B4AC-413A-42EA-A5B8-0131FAEC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0FAA-8AE9-4135-9966-7BDA8E05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8FC4A-7ADE-4371-B629-89A87308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0EF4-FDAC-48D3-B360-6AA8E70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094C-F67D-4C78-BA3D-EB50211D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7F5E-CABF-4ED6-96F4-1AE2ACA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001D-1CE4-419F-96F6-F002C516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1251-2D88-4066-884D-4EF43828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04ED-C467-454C-82F4-0D6A9508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805-960B-4F9A-AEFE-E4485FE4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3D61-3CF0-433C-9271-3BC4A16D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3D55-E62F-4763-8B45-D9D7CA50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618E-02A0-44C7-8F33-288030C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E73F-2844-44A6-A2F7-5D08051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EA564-F8E2-4EC6-98D9-A769BF3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F898-C996-4C95-849F-2E90A967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7FA95-0144-46C9-B9D7-D35A274F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D06B-E540-4A86-9FDF-8F9D9C1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070E3-14B3-447D-8634-EEA90669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6260-FA03-4603-AC62-726097CD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F7C-BF58-4020-AE54-DAEF223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7ACA-3EAB-4C9C-9BC7-18B429A8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6E6C0-68AC-41BB-B158-C3D60FAB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9DE3-A5F7-40B7-8E2C-5CB9EB7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5B15-4717-49E7-990E-0F3FF109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A9768-AECE-4FA8-BD6E-E0926FD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72CF5-B2FE-47D5-AD26-60903FFD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E318E-E8D0-477D-B665-C0D433B7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91DA0-4EF6-46DE-AF96-6F8FC30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6F6A0-3464-439B-B373-7B7273B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8BDDA-9DEF-4A40-B182-609ED4B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2F0-C6DB-403C-9192-523B2D66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0921-1B0A-4FA6-B6DD-F4777B02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8EB7-97D9-493C-A787-0A6170B9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90230-707B-4A13-9A25-96C4FCF0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006DC-C419-4C0A-932B-116DE8F0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84BD7-FD7E-40A8-83CF-D37CC7E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90B2E-C478-44DE-8F59-609E229D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2FBC-E5FF-4FEF-8DDA-622710DF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B23B9-6C24-4AFA-8403-46DA5892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F46BC-55BC-4399-9C32-782A208E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04EC4-3F8D-422F-B6A4-B80FF873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89D-1254-4580-A2DC-2ACB015E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7E095-E3D0-400E-8CD5-0EB737A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8E225-0C12-469E-AEA8-6F188D8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10DA-1C2E-4440-890C-F5BC0747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ADAA-143C-4227-8691-4169FFB8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793A1-102D-48E8-B4FA-05C57CDD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EC9F-4F7A-4308-9B56-E6344620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267C1-D836-4ED1-8B06-2101225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C52E2-DF6B-4E95-910C-76C03C29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C4BA6-43D1-4736-A6C2-882A86F5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F8223-79A9-4040-830C-434E95AF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601-E5A7-41FD-B7B6-373617A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DC56E-D164-49D9-AF80-6D6FC746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E826-20AC-462E-B9BD-3DF497CD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284AA-87AD-44F8-A347-589958D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BE3BB-6055-4130-A2C7-797B500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BBA2-7382-486B-88B3-D08F8A6D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8D5A-DA4F-44AF-AA91-1736941D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C3FC-E967-4930-BC6B-1751CB62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9F750-B346-4781-A760-4E8DD460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3EAF5-9D59-4380-831F-DACF9532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0C53E-A5D8-4F9A-93B2-939CB85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202F-F089-46FE-9513-65DD575EF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5394-3915-462F-9023-F59DC40DFF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AA71-BE57-45CB-A22D-119CCE523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4BF4-A868-4CF3-B4D6-841FA1DF33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9E24-723D-4447-BDAB-F7760A221C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B348-78E2-44E8-9E65-7D8FCD835D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2CA8-8466-4562-811F-42F6DD34B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339-C5F6-466D-A42D-B2814D12D4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C09-0C54-4A62-AD20-03E18A5DEF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4971-9486-40E7-A8F2-AD1EFA8B3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6A9-0021-4032-AC50-9C16D7309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8A5D-A7E1-471A-9136-D38B7DB82E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EE3E-C371-4D97-A96F-90A09B028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A185-BB6E-48CD-BB1D-381D9E61F6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FA2-4AEC-41CA-B96E-58CB92AA8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A94F-7A22-444B-8ABB-4CF1A183E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6E4D-295D-4734-A9D9-8A5CB697A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6D8F-9B86-4F56-9637-BFF7CEB34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C37-985C-4DED-AD28-4C4882229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427-8149-45C9-8879-653ACF018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0F9D-C80E-46D0-A522-A437532328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B344-469A-4746-85F2-2D085284E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5B3-8961-4491-BDFA-D7D4BC202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B2A4-1368-4187-BC52-6BD84858D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EDF-1710-4EB1-9B9B-5D27D5786C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4FB9-B518-4A79-BCF5-288D86F94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0985-31F6-415A-80E5-1B4B2E353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601F-C54A-414D-85CB-8545C142AE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511B-FEA0-4F1C-998D-81781D712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20C3-31E2-42E3-89DF-18CB0375E0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7E78-45DF-494F-BAD4-D524649266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7C5E-F8D1-4FB4-97DF-021902D6E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803-1E1D-4073-92C1-0858EE6F6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B0DB-AC32-4D6D-8EB1-F1AA3EAF9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840-3972-4B91-8665-16673FE286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1716-D1C2-4BA4-A684-43C02B585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A96D-5A1A-4C65-8773-66474F7890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927-1067-4F78-806A-456A8ADC56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0B52-E9BC-40A1-8238-C385570F81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ABE-1AD2-4D8C-8754-77A42ECD5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24080" y="1268280"/>
            <a:ext cx="6495840" cy="11145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362400" y="3071880"/>
            <a:ext cx="2419200" cy="71424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914400" y="4427640"/>
            <a:ext cx="73152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290520" y="1625760"/>
            <a:ext cx="8562960" cy="49719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29" descr=""/>
          <p:cNvPicPr/>
          <p:nvPr/>
        </p:nvPicPr>
        <p:blipFill>
          <a:blip r:embed="rId2"/>
          <a:stretch/>
        </p:blipFill>
        <p:spPr>
          <a:xfrm>
            <a:off x="179280" y="250920"/>
            <a:ext cx="4191120" cy="1162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1863720" y="2651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427640" y="2679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6948360" y="2693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7539120" y="41925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877080" y="41925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62420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5594400" y="41925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497520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431316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3665520" y="399096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9410" descr=""/>
          <p:cNvPicPr/>
          <p:nvPr/>
        </p:nvPicPr>
        <p:blipFill>
          <a:blip r:embed="rId1"/>
          <a:stretch/>
        </p:blipFill>
        <p:spPr>
          <a:xfrm>
            <a:off x="604800" y="990720"/>
            <a:ext cx="7934400" cy="4876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627280" y="22334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5003640" y="227664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7956720" y="2276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1187280" y="292428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3564000" y="288144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5364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7236000" y="35002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1692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334800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507672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6732720" y="414972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4"/>
          <a:stretch/>
        </p:blipFill>
        <p:spPr>
          <a:xfrm>
            <a:off x="1547640" y="479736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5"/>
          <a:stretch/>
        </p:blipFill>
        <p:spPr>
          <a:xfrm>
            <a:off x="3564000" y="479736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6"/>
          <a:stretch/>
        </p:blipFill>
        <p:spPr>
          <a:xfrm>
            <a:off x="586728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7"/>
          <a:stretch/>
        </p:blipFill>
        <p:spPr>
          <a:xfrm>
            <a:off x="6227640" y="5445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8373" descr=""/>
          <p:cNvPicPr/>
          <p:nvPr/>
        </p:nvPicPr>
        <p:blipFill>
          <a:blip r:embed="rId1"/>
          <a:stretch/>
        </p:blipFill>
        <p:spPr>
          <a:xfrm>
            <a:off x="606600" y="585720"/>
            <a:ext cx="7829280" cy="6105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4284720" y="62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700360" y="1268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580000" y="1859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588000" y="2492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3924360" y="3716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6084720" y="371628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6516720" y="43657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6659640" y="50133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3132000" y="56610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7524720" y="56610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2"/>
          <a:stretch/>
        </p:blipFill>
        <p:spPr>
          <a:xfrm>
            <a:off x="1042920" y="62229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7352" descr=""/>
          <p:cNvPicPr/>
          <p:nvPr/>
        </p:nvPicPr>
        <p:blipFill>
          <a:blip r:embed="rId1"/>
          <a:stretch/>
        </p:blipFill>
        <p:spPr>
          <a:xfrm>
            <a:off x="324000" y="814320"/>
            <a:ext cx="8496000" cy="5229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4140360" y="227664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6645240" y="2276640"/>
            <a:ext cx="16416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3348000" y="3514680"/>
            <a:ext cx="25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6732720" y="350028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7"/>
          <a:stretch/>
        </p:blipFill>
        <p:spPr>
          <a:xfrm>
            <a:off x="1835280" y="4149720"/>
            <a:ext cx="244944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8"/>
          <a:stretch/>
        </p:blipFill>
        <p:spPr>
          <a:xfrm>
            <a:off x="1908000" y="5445000"/>
            <a:ext cx="164160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9"/>
          <a:stretch/>
        </p:blipFill>
        <p:spPr>
          <a:xfrm>
            <a:off x="4211640" y="5445000"/>
            <a:ext cx="164160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0"/>
          <a:stretch/>
        </p:blipFill>
        <p:spPr>
          <a:xfrm>
            <a:off x="6342120" y="5473800"/>
            <a:ext cx="16412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6324" descr=""/>
          <p:cNvPicPr/>
          <p:nvPr/>
        </p:nvPicPr>
        <p:blipFill>
          <a:blip r:embed="rId1"/>
          <a:stretch/>
        </p:blipFill>
        <p:spPr>
          <a:xfrm>
            <a:off x="309600" y="592200"/>
            <a:ext cx="8524800" cy="60386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766764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774072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7726320" y="48117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7696080" y="61516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55300" descr=""/>
          <p:cNvPicPr/>
          <p:nvPr/>
        </p:nvPicPr>
        <p:blipFill>
          <a:blip r:embed="rId1"/>
          <a:stretch/>
        </p:blipFill>
        <p:spPr>
          <a:xfrm>
            <a:off x="343080" y="1380960"/>
            <a:ext cx="8458200" cy="514368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55301" descr=""/>
          <p:cNvPicPr/>
          <p:nvPr/>
        </p:nvPicPr>
        <p:blipFill>
          <a:blip r:embed="rId2"/>
          <a:stretch/>
        </p:blipFill>
        <p:spPr>
          <a:xfrm>
            <a:off x="250920" y="169920"/>
            <a:ext cx="4066920" cy="11714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2050920" y="5345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2195640" y="599292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5940360" y="533088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6"/>
          <a:stretch/>
        </p:blipFill>
        <p:spPr>
          <a:xfrm>
            <a:off x="6084720" y="5978520"/>
            <a:ext cx="18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54276" descr=""/>
          <p:cNvPicPr/>
          <p:nvPr/>
        </p:nvPicPr>
        <p:blipFill>
          <a:blip r:embed="rId1"/>
          <a:stretch/>
        </p:blipFill>
        <p:spPr>
          <a:xfrm>
            <a:off x="790560" y="1523880"/>
            <a:ext cx="7562880" cy="38102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2"/>
          <a:stretch/>
        </p:blipFill>
        <p:spPr>
          <a:xfrm>
            <a:off x="1692360" y="406224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3"/>
          <a:stretch/>
        </p:blipFill>
        <p:spPr>
          <a:xfrm>
            <a:off x="1735200" y="4753080"/>
            <a:ext cx="172728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4"/>
          <a:stretch/>
        </p:blipFill>
        <p:spPr>
          <a:xfrm>
            <a:off x="5838840" y="403380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5"/>
          <a:stretch/>
        </p:blipFill>
        <p:spPr>
          <a:xfrm>
            <a:off x="5881680" y="472428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52231" descr=""/>
          <p:cNvPicPr/>
          <p:nvPr/>
        </p:nvPicPr>
        <p:blipFill>
          <a:blip r:embed="rId1"/>
          <a:stretch/>
        </p:blipFill>
        <p:spPr>
          <a:xfrm>
            <a:off x="328680" y="880920"/>
            <a:ext cx="8486640" cy="55724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3"/>
          <a:stretch/>
        </p:blipFill>
        <p:spPr>
          <a:xfrm>
            <a:off x="3132000" y="5243400"/>
            <a:ext cx="5042160" cy="4478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4"/>
          <a:stretch/>
        </p:blipFill>
        <p:spPr>
          <a:xfrm>
            <a:off x="2916360" y="5905440"/>
            <a:ext cx="504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0:1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