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39D1-7A54-4B02-8625-4DF2E1270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AC04-C0FA-442C-B98B-0C3084F7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77A42-A4A2-4278-97AD-04FDA12C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C42914-4BF9-4979-86F9-19BC43A3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C3C2E-FB41-476B-8434-48A2332A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93379-1C25-4A02-9218-C5DFE824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F1FBC-2F0E-4533-9252-A731042C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65C99-E681-4F68-9914-A74FFA8E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F8E6E-75C4-4CE4-A899-9601DA99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883E28-26A1-4913-90ED-D3856751F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02A50-4CB0-4F14-A7CE-374379BEA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82E7B4-6FAA-4705-B08D-88C36EAE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9ECB-4668-4B5F-A62E-E8D146D05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A754FD-C3A0-48F9-B6D4-CDA8B444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903D8-DC14-4640-B29C-07129D90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F620A-B399-4D9E-AF30-B283887A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23744-0A2E-46F1-8429-4C944538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5F223-8FE2-4B1B-90C9-D7D214FE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1071FC-88BE-434D-884B-07FF8B04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AA165-1D26-4E87-AC73-4AEB58D6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73A6CB-31A7-4EC8-9BC0-39A50DAF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208BA3-7FDF-4A13-BDC6-C9922482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A2C41-43C6-46B9-9415-F71F3AFD8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C2C2-50C3-4EA5-ABDD-4A517FCAF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134CCA-20E9-4B61-AD24-F9E9EE4EF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7413F-0021-4D89-B084-2F74C4162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1109D-B99C-4CA8-B814-0BF8F5A7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32102-521C-4688-B5E9-C24CBD0A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4DDCC-A6E5-4850-A994-E92BDEDF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9C53C-35ED-45C3-97D7-02FB3ACE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818D2-1658-4049-9C18-A57DBC76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08D8D-E8FB-4256-BDDE-C7D05DF6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06084-C60A-4F58-B228-594E4C4C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C96B1-880B-4902-9C60-760F1D50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9B3D-C9CE-44D1-9450-D2D7BBEA7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0F7BA-7F34-48E1-BB5C-02580CB3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43DEA-D73A-4F52-AA90-AB5F3263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8BDA3-4392-4ECB-ADE2-57508A08D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D52713-0C6C-4FE2-83FF-36DCA6643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E70E69-CD77-4EA2-A3FE-D9FF13DD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FFDF0E-3C34-4E77-B25E-500C696C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A8647D-5380-44D6-ADD5-417949AB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C04334-480B-4DCD-880B-FE0426B6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6854E3-657D-4904-BFD3-15CF35DF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F275EF-9CA8-409C-81CC-DA5EE05D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9716-7689-463A-9022-0A0FA531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ECFC70-CBDB-4ACD-B58D-AD224CC8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73D8C9-3252-4682-8885-A646705C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15A800-5377-4C8C-931B-998AC2E2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F16E2E-604C-4E3E-97AA-AC95E96D6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ABD79A-E4E0-4BBC-A623-3EC05C72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28A2D7-F401-4C1B-92F0-F2381CAFB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0CAE9E-C323-4BFF-8E10-59B6E24E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8E1AE6-58FF-4BE5-B57F-5E4FFCB3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EE3F33-1456-4908-BEF4-73404B29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22FF5B-3C14-4DBB-B795-EE76BF6D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47B2-1B45-4A8C-87C4-E54650AA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717E11-9131-41AC-B1D8-ED96624A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D89503-5545-40EF-B9E2-690EF0C9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6EE8EC-02E9-4442-B910-4508F539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38F6BE-BD81-4F88-BE10-36CC6F4B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67A115-F390-4407-BAEC-525C6C68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F8CCC3-CD9D-4683-8ACA-D16C55F26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D84DD4-70BF-4085-A3A8-BD6D699DE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B30D47-22FD-44A1-8A24-EDA50134E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019CC3-3879-4266-A52A-9B71E35B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0D8EBF-5333-4496-9FA7-85E9D520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A093-78E8-42A1-A769-EC90561B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CE7101-E449-4531-9F80-64A44410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39FFFF-16D1-4DFF-A94D-8B6FCD1B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58A6A1-B054-4CE5-B883-D1E7DD05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05CE50-017A-4A35-8F52-77D7DFF0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BCB316-36D4-4DED-95CD-9BD9BF3F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B4CBE7-2AF5-4A4D-8A71-5C6437D8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7D1039-4A2E-49CA-ABD4-59EE452F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F3121B-17EE-447A-8A64-ACFEE9783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2BB0D0-212B-4D0E-89D0-5FD6689A2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1ADB19-93ED-4A88-9232-A1897B1B4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97A0-FE94-474E-9BFA-0C1C184E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D610E9-5C09-43BA-ACE3-FEB725A4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2E494D-C78B-4E5B-8EFF-80A6551D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D09FB4-B8EF-4751-B844-9AA4D53B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D806F6-4F18-4C91-B8F8-6B493634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CD7DE0-525B-4A52-B66E-21A8B959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39DFA4-36C5-4C04-B4E0-6B9AE81A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D4BF7D-1CFC-4493-9B49-E5AD518E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1ED355-45C5-4DCE-95B6-53EF60B4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BC6B7D-D887-4460-9210-35E3B790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376A9E-9154-4486-9AC0-8167806C3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F56E-51EA-4545-804E-EEDF2C1B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82E286-A0C3-4A7C-9B87-50D21716B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9BD3B2-C403-4118-BAD4-C0118008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9F8EA5-1CFE-4B5D-B9A1-8342A953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E5B83D-861F-43CC-AD45-30566397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52A732-838A-4D14-9AD2-1EFB4F14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4EBC07-4E99-4B42-8A57-69C38764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70A233-A0DE-4F5C-B2FE-7171C8BE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8149FE-C647-44FD-9BFC-32546660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F4465E-D411-4774-B0A8-1C82FF3F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6E10C5-9712-48DE-9A30-98481685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5A9F-9CEC-4CC5-8732-3D6DF211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E05724-46DC-4D29-A573-2669D8C6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F0E26E-8362-496B-BA75-E5894E20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E3DA3C-57B5-44D3-8647-E3B86D5AA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81446E-177A-4E08-A57E-2CDE1C8F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A30407-7F65-4A2E-A4F1-22A093CE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13E01D-7F61-4EBF-A640-F4F360CA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5EFD1C-FE36-4171-8320-9251E13F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1285CF-5EB8-41DE-85C5-0B3F7A47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7C1B0C-BA05-4E01-B9EE-BF1066FA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8ACDD2-9FAC-48A9-9F2C-BF9733B4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6D3B-61EE-4600-967D-2DB06393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BB0D-3C2F-4534-900A-3525BC5A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36CC11-44EC-497F-B992-CAE0096E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F1E95B-B751-4FBE-9FC9-DE8D53EA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065214-4E60-4BE4-8972-F24612A8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365692-717B-493A-81B9-00505C166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EF1496-9EA7-4499-9EAC-2D67DB221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7641D7-9E60-4116-BAF1-A4F608C4E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07A308-C5FA-46A6-86F1-2582A82F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36BDB1-6290-48DC-B402-C99C72F1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81A333-3B62-4DCC-A7ED-2A2F49AF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726C6B-D39E-4AF0-9B02-CF904F89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6523-B82C-40FF-9CC3-0C4AE7A0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9B25F3-F44E-4138-9FC7-5AFB5E2A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AE8912-038C-483F-8108-D536C2C4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1CC00C-9FC3-489B-9FF8-62BEBC68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6D36B3-060E-499C-B913-DC383730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3B92BE-BF95-423C-86DB-6498DEB2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E041C1-A270-4F05-8701-F69F452F7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1D5A47-0FA5-4CDB-AA28-B15BE3CEB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1C1AAF-D5B2-4DFE-893E-22ED2C03F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9111E7-9535-464A-8316-A6029F0B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1CC6FF-126D-43ED-92A9-07E08CE6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4F71-4CE3-48C4-A619-03AD38F3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79560E-4B36-4BA6-99D4-39D9322F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CAC77E-67A9-46B2-BFE7-CA744D9D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0C50F6-7336-4002-B1C1-7E7C7EC7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FF6214-338D-4E9C-9F68-26F209DF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A18B78-DC1B-4FEB-8EBA-86B72ADD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EF9FB3-59C4-4163-976C-D878A236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3CB00F-5219-481C-AC1D-10F53D5C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A0A6B5-7041-4BD4-8C11-75E276D16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C67E76-EDF1-475D-AC03-B07B950EA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9F562C-F741-43BD-BC97-74558C1A1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474B-683F-4C50-8E02-3D2BAB395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23FC87-B89A-41BE-8F14-5AF6F2BA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EFCB27-631B-41D2-8059-8CCCA882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C54FDE-D548-4277-81A9-B6CE47A7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AAC1D5-290D-4E50-9731-27C148DD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8EE6DE-ECE9-4FA3-97A5-997AE19C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1971D3-D9FA-40BE-82EC-B8970285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18FAF6-A64A-4EFE-B4FE-0F2A4DF1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B4C0A0-F1B9-4D91-96CA-6BAB2E7A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41D6B8-0C52-48BE-A5F8-73A7166B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B1D4DA-7237-4863-BCEF-D9FF5EEE1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628E-C5C8-4EC7-9A09-A2849D1CC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964C1D-EBAF-470E-9E82-A089284BA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B618A8-9EC6-4023-A8AF-7CB175BBF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89ADCC-E1DC-427D-AB59-81BF5501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0EA7E4-2860-4AFA-8C9C-CB7CD795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CAC9F5-7EE9-4625-B847-A0CD60E0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7DB731-9161-4BCB-97E7-86F1B949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83206E-E37D-41CB-8EDD-8E658411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04C6EF-F9E9-4EBD-B3B3-29F5E169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481F3F-7F5D-4B8B-BBC8-3901E814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A69A63-5334-4FC4-A33B-945D7A95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CEBC4-D252-4DAE-84D9-DCA11812E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648A6E-00CC-4865-820A-2F118260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69777B-6E7C-46DE-9F8B-ADA9105B6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DCE885-3740-4726-BC7E-57C77EF2B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D6C38-E6C4-4C37-A56B-01223633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AE2EC-2AF9-4C78-838D-47BFBC04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DCBA0-269C-4C1B-8546-D970D59F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7FFF0-25AF-47F2-B7A8-C7BDF69A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8EEC-22BC-4ABD-9083-F8EA619D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9A074-8382-4207-BAF9-3F999465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ABAF7-EBA8-4A25-829B-69C0EA5E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D6509-E386-46D1-A46B-95B3F664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371A8-5208-4E18-A8FF-B9F135F2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8E0B7-856B-4EF4-A7AF-BFD0DA80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B19C6-BB3F-430E-B910-4ABDE8BFD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8042A-B883-4BDB-AD06-A91A5F0B8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8DA9A-3324-41DA-B28D-B2EDF1050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C0599-40D8-4431-B7DA-033E080F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43470-124C-43D8-91D4-1DBE73B2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BF13-A566-48F0-A024-324835F0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CE08E-BE06-4526-B174-82BF0148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B6D87-1267-4EC5-8E55-352A40D6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1A216-A613-47E7-86E2-953A56EE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F82F8-228E-41BA-BAB5-5107E718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165E1-7862-4770-A592-477EB833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A8EAB-DAAA-4542-9116-F4CCC8B8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2542A-F07E-4AD4-A077-283ABF29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F069F-11CC-40CE-B213-8A587DB1A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C81F1-656E-4F16-8C6B-FACA653F7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F71DD-C9D6-4F77-AA96-8CD57748B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70FC-0165-4343-A908-4DF3C0A4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79921-2CE6-4851-93A5-9CB7265B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BE6B7-4BCE-4640-B3F6-7DE0462D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0D5BA-689F-41E4-95B2-E5072CA9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310EC-7425-489B-8C75-2EC4E133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DBD8A-1B65-4248-BA1D-E9CA9EBF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A975D-C21D-4E9C-81BA-7ABCBD43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78F3D-AFE6-4A30-AF06-1CE84C7D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04B4F-24D1-4854-A3D6-9891EC6E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E554F-6DFC-403A-8CA2-9C2745AC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C00F5-7D17-4A89-A179-947859B2F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D6A2-6611-4269-B46F-B0A784E3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55D1D-EE3B-4D21-AFBE-C921C9F01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C72A3-0DC7-4639-8520-116FE9155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C2C08-FF42-4A28-A993-52B20FF3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91E0F-495E-4333-B8DB-212214B5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DF26E-5C00-4F5C-B94E-3C101BBC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5F1DC-EC47-4CF2-878E-84BB1FED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80582-D0AC-4099-AAC8-615923C9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7ED84-A491-482D-9537-5B52A5FD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D13A1-82F6-4D59-ADF4-54AA8ED3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E476E-9F72-432A-99ED-78919C26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EFBD-CC6C-4C66-87A6-811D1C9F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61067-FBAD-4C58-AC77-430541F2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32EB4-ADFC-48A8-A07D-7AA1A720C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7944A-547C-46C2-94C0-D2CE95C22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68C30-F90F-4406-9699-DFA97A2E8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A6EC0-46B5-4FFD-AF99-7BF65417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A11B8-04B7-4B73-AA55-C89363AE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4CD71-E57F-468B-B4CD-63083399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D5432-118B-417F-984C-A519025F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44455-3D94-4BC8-921A-AE861825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CBC6C-29D2-46E0-A4C0-0143493A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7FC8-CFA6-41D3-83D7-84A28089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92677-EC1B-45BB-BB53-2D108151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CE44D-8872-4BC6-A90E-E0976940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F2F90-B7BA-4528-960A-30BF5635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7C5ED-A6D0-410D-963B-09E0D27C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DBFC2-9F30-4685-9B95-8F4A2E0B0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686FA-2643-4443-9AC4-A8B208B22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1E433-E822-42F7-9BD5-3DB95AA0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3F480-A72E-426E-B809-FE65A453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C51E6-146D-4CA7-B4AE-9705A4E8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D04BD-6F79-4501-956B-CE059B60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4AE9-2FA1-44F4-BCD4-F112771C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7D1B3-751A-4161-9054-FEF9737A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F9423-19C5-4A1A-AF6D-F782F81C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3EAEF-465C-4AE8-8AE7-79C3968E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2CE76-FDAD-43D2-B563-0D190DFC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A0D4C-9CEE-4E99-B868-384F1812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EFB47-17B1-49D5-885D-B56C77989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9B33D-06FF-4134-8545-1F18A799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9C9641-451F-4609-B35D-B048F00DF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22F65-8D2D-4E11-96E6-051259D0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48BF7-B2A1-4EB1-A3D6-E3C8B7F1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8F34-5F98-4677-92AC-A3B36EC119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65AA-8BEA-426F-9DB3-8638D7F337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E0DA-1B8A-4FDF-B8BB-B7C417F039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680C-66E0-4734-B2E0-053E0B2EC1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8116-623A-41E5-917F-229B9826F2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AA50-CF26-4D96-8379-6E7FDAE84B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0F57-B2EC-438C-8808-6CC50C116F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35BD-6B4B-43FC-A66A-84D9B8050D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8033-F057-4E8D-A23C-4705BCE51E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EB65-62DA-4515-B2C2-3397D4FBE8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A2BA-11E0-414F-886F-42BD1CD421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2E2D-59CC-490B-85C5-FF99C5BE81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BE1C-B842-44A0-97D5-94347AA431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C5A5-38FF-4083-A092-7CDC705DD7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1766-68FD-4E3A-8E1C-05BB979318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4E95-8A73-4B61-BC95-9111292F57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7B5A-6AEC-4AFC-A663-DF3DDFE58B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13C7-D3B5-4562-AB80-55FEE9F52C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9659-4BB0-4685-B25A-B2CADDAC65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833E-7C47-4E65-9F0B-56BA75A718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5668-9524-4D19-93A4-B6DF3D0DC6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5598-291B-4AAF-AC40-D621FED459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8C9E-DBD3-45D4-8D7E-7B6057DB46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55C9-4524-4A83-B13F-24639AE548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BEB5-2CCB-40E6-B001-094A3B6034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C36A-ABE2-4DC8-8A41-226E718185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7716-FF4C-4CF1-A99D-423A843F0B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C253-F917-45FB-9199-031FD63C4B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E09B-7F73-40F8-913A-736733D903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3026-ADF5-4B61-9F8A-E417BFF170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1C4D-2B1B-4809-B3C8-0F04F6F1FC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E561-5895-4351-A930-910E80AB05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5F5C-0680-4987-92AE-CAC53C3FE8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5607-EB7E-47D9-AF00-4054083A51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4DDE-9C71-4DD9-B577-558DE25C86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FE47-FF26-4604-AD46-6282622ECB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4E8B-448C-4BA5-AEA0-C82FB2E313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7C51-91DB-44EC-A398-1A4C50D535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96D6-7C98-4C88-B979-D1D9FCABC1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071A-D7A9-437C-8C16-28F104AE82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328920" y="2060640"/>
            <a:ext cx="2486160" cy="81900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247680" y="3684600"/>
            <a:ext cx="864864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69633" descr=""/>
          <p:cNvPicPr/>
          <p:nvPr/>
        </p:nvPicPr>
        <p:blipFill>
          <a:blip r:embed="rId1"/>
          <a:stretch/>
        </p:blipFill>
        <p:spPr>
          <a:xfrm>
            <a:off x="590400" y="1819440"/>
            <a:ext cx="7963200" cy="32191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4067280" y="2795760"/>
            <a:ext cx="3457440" cy="4474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4067280" y="4437000"/>
            <a:ext cx="3457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68609" descr=""/>
          <p:cNvPicPr/>
          <p:nvPr/>
        </p:nvPicPr>
        <p:blipFill>
          <a:blip r:embed="rId1"/>
          <a:stretch/>
        </p:blipFill>
        <p:spPr>
          <a:xfrm>
            <a:off x="299880" y="1690560"/>
            <a:ext cx="8544240" cy="347688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"/>
          <a:stretch/>
        </p:blipFill>
        <p:spPr>
          <a:xfrm>
            <a:off x="900000" y="3844800"/>
            <a:ext cx="6264360" cy="4478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900000" y="4508640"/>
            <a:ext cx="6264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67585" descr=""/>
          <p:cNvPicPr/>
          <p:nvPr/>
        </p:nvPicPr>
        <p:blipFill>
          <a:blip r:embed="rId1"/>
          <a:stretch/>
        </p:blipFill>
        <p:spPr>
          <a:xfrm>
            <a:off x="933480" y="1052640"/>
            <a:ext cx="7277040" cy="222876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67586" descr=""/>
          <p:cNvPicPr/>
          <p:nvPr/>
        </p:nvPicPr>
        <p:blipFill>
          <a:blip r:embed="rId2"/>
          <a:stretch/>
        </p:blipFill>
        <p:spPr>
          <a:xfrm>
            <a:off x="404640" y="3695760"/>
            <a:ext cx="8334720" cy="21812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3"/>
          <a:stretch/>
        </p:blipFill>
        <p:spPr>
          <a:xfrm>
            <a:off x="4327560" y="16858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4"/>
          <a:stretch/>
        </p:blipFill>
        <p:spPr>
          <a:xfrm>
            <a:off x="4154400" y="2276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5"/>
          <a:stretch/>
        </p:blipFill>
        <p:spPr>
          <a:xfrm>
            <a:off x="7093080" y="167148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6"/>
          <a:stretch/>
        </p:blipFill>
        <p:spPr>
          <a:xfrm>
            <a:off x="7093080" y="227664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7"/>
          <a:stretch/>
        </p:blipFill>
        <p:spPr>
          <a:xfrm>
            <a:off x="2124000" y="4292640"/>
            <a:ext cx="792360" cy="4474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8"/>
          <a:stretch/>
        </p:blipFill>
        <p:spPr>
          <a:xfrm>
            <a:off x="2124000" y="4869000"/>
            <a:ext cx="792360" cy="4474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9"/>
          <a:stretch/>
        </p:blipFill>
        <p:spPr>
          <a:xfrm>
            <a:off x="5076720" y="4292640"/>
            <a:ext cx="792360" cy="44748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10"/>
          <a:stretch/>
        </p:blipFill>
        <p:spPr>
          <a:xfrm>
            <a:off x="5292720" y="486900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1"/>
          <a:stretch/>
        </p:blipFill>
        <p:spPr>
          <a:xfrm>
            <a:off x="8028000" y="423540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2"/>
          <a:stretch/>
        </p:blipFill>
        <p:spPr>
          <a:xfrm>
            <a:off x="7885080" y="4927680"/>
            <a:ext cx="792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395280" y="809640"/>
            <a:ext cx="8353440" cy="57150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2411280" y="37512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6531120" y="37450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5897520" y="566100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9410" descr=""/>
          <p:cNvPicPr/>
          <p:nvPr/>
        </p:nvPicPr>
        <p:blipFill>
          <a:blip r:embed="rId1"/>
          <a:stretch/>
        </p:blipFill>
        <p:spPr>
          <a:xfrm>
            <a:off x="600120" y="1509840"/>
            <a:ext cx="7943760" cy="38383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2"/>
          <a:stretch/>
        </p:blipFill>
        <p:spPr>
          <a:xfrm>
            <a:off x="2325600" y="184464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3"/>
          <a:stretch/>
        </p:blipFill>
        <p:spPr>
          <a:xfrm>
            <a:off x="6113520" y="18446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4"/>
          <a:stretch/>
        </p:blipFill>
        <p:spPr>
          <a:xfrm>
            <a:off x="5349960" y="290988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5"/>
          <a:stretch/>
        </p:blipFill>
        <p:spPr>
          <a:xfrm>
            <a:off x="2973240" y="3386160"/>
            <a:ext cx="735120" cy="3841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6"/>
          <a:stretch/>
        </p:blipFill>
        <p:spPr>
          <a:xfrm>
            <a:off x="2987640" y="3789360"/>
            <a:ext cx="735120" cy="3841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7"/>
          <a:stretch/>
        </p:blipFill>
        <p:spPr>
          <a:xfrm>
            <a:off x="5003640" y="4221000"/>
            <a:ext cx="73512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8373" descr=""/>
          <p:cNvPicPr/>
          <p:nvPr/>
        </p:nvPicPr>
        <p:blipFill>
          <a:blip r:embed="rId1"/>
          <a:stretch/>
        </p:blipFill>
        <p:spPr>
          <a:xfrm>
            <a:off x="309600" y="1257480"/>
            <a:ext cx="8524800" cy="43434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2541600" y="25653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3"/>
          <a:stretch/>
        </p:blipFill>
        <p:spPr>
          <a:xfrm>
            <a:off x="6746760" y="256536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4"/>
          <a:stretch/>
        </p:blipFill>
        <p:spPr>
          <a:xfrm>
            <a:off x="2397240" y="3701880"/>
            <a:ext cx="431640" cy="3844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5"/>
          <a:stretch/>
        </p:blipFill>
        <p:spPr>
          <a:xfrm>
            <a:off x="6588000" y="3701880"/>
            <a:ext cx="432000" cy="3844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6"/>
          <a:stretch/>
        </p:blipFill>
        <p:spPr>
          <a:xfrm>
            <a:off x="2584440" y="48117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7"/>
          <a:stretch/>
        </p:blipFill>
        <p:spPr>
          <a:xfrm>
            <a:off x="6602400" y="482616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7352" descr=""/>
          <p:cNvPicPr/>
          <p:nvPr/>
        </p:nvPicPr>
        <p:blipFill>
          <a:blip r:embed="rId1"/>
          <a:stretch/>
        </p:blipFill>
        <p:spPr>
          <a:xfrm>
            <a:off x="728640" y="1976400"/>
            <a:ext cx="7686720" cy="29052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1258920" y="4076640"/>
            <a:ext cx="6985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6324" descr=""/>
          <p:cNvPicPr/>
          <p:nvPr/>
        </p:nvPicPr>
        <p:blipFill>
          <a:blip r:embed="rId1"/>
          <a:stretch/>
        </p:blipFill>
        <p:spPr>
          <a:xfrm>
            <a:off x="519120" y="2119320"/>
            <a:ext cx="8105760" cy="26193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1042920" y="4264200"/>
            <a:ext cx="77058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5300" descr=""/>
          <p:cNvPicPr/>
          <p:nvPr/>
        </p:nvPicPr>
        <p:blipFill>
          <a:blip r:embed="rId1"/>
          <a:stretch/>
        </p:blipFill>
        <p:spPr>
          <a:xfrm>
            <a:off x="314280" y="61920"/>
            <a:ext cx="8515440" cy="67341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7093080" y="3514680"/>
            <a:ext cx="1582560" cy="447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7093080" y="4365720"/>
            <a:ext cx="1582560" cy="4474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7121520" y="5229360"/>
            <a:ext cx="1582920" cy="447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7121520" y="6093000"/>
            <a:ext cx="15829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4276" descr=""/>
          <p:cNvPicPr/>
          <p:nvPr/>
        </p:nvPicPr>
        <p:blipFill>
          <a:blip r:embed="rId1"/>
          <a:stretch/>
        </p:blipFill>
        <p:spPr>
          <a:xfrm>
            <a:off x="638280" y="2790720"/>
            <a:ext cx="7867440" cy="12765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5148360" y="2867040"/>
            <a:ext cx="2736720" cy="4478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3059280" y="3530520"/>
            <a:ext cx="2665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2231" descr=""/>
          <p:cNvPicPr/>
          <p:nvPr/>
        </p:nvPicPr>
        <p:blipFill>
          <a:blip r:embed="rId1"/>
          <a:stretch/>
        </p:blipFill>
        <p:spPr>
          <a:xfrm>
            <a:off x="252360" y="762120"/>
            <a:ext cx="8639280" cy="53337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"/>
          <a:stretch/>
        </p:blipFill>
        <p:spPr>
          <a:xfrm>
            <a:off x="4356000" y="3844800"/>
            <a:ext cx="1728720" cy="4478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4356000" y="5516640"/>
            <a:ext cx="2664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12:50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