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B53-FFCC-42EB-BC68-AE2809C8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B48-CA16-4E13-AD54-54DAC791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D7129-AB14-41FF-8757-0F6FFC3C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41D42-41F9-485A-95A7-06A9DAD8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E65E6-01A7-462F-91E5-56A2B5B3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EF51B-B88D-4AAB-84E4-1E06C1BD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DA618-2746-4714-ABA2-C060A2EF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3015F-FD2A-4C83-A3B8-669DB9FE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58207-C113-4093-BE3E-5BFAE1C0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525E1-978C-4062-BEE6-53308F8F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6663A-F564-4C48-B89E-6EEA6441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DB23B-F69A-4C83-8BD4-FC73F57D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200-97DC-4609-A959-8CADFD83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22724-EEFB-4E6F-84E9-F3276D7C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DD678-7D02-4ACD-81B7-612BBC19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934AE-1CB2-49F5-A2A9-08408FE3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53EDE-19D8-4697-9266-DA5C36FF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8F4F3-4B88-4E04-B377-DF984D1E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EDA1A-0147-492B-AC7D-0ABAED80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73F56-DE50-4FC4-AFAD-AE852802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CC0A7-BF5F-4AEC-9CAB-EB797016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71A9C-E0B3-4126-8F1B-F951A6AB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96A9F-820F-4A5C-BF94-D731429D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512-7439-446D-A76D-B8463B58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3EADE-F15C-4467-9DA7-D395A80A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944FC-4539-4C59-9FD2-2512A04A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1A5BF-56FA-4E85-8721-25B0343D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DACD2-DDEF-4415-84FF-F12ACBA6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91258-E4EF-46A4-87F9-A4840195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60ADF-B149-47A2-973A-C2EC7024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9D002-4383-450C-8A27-B6FC1B4C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3DF80-5F27-4290-9DA7-39C900B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65DBD-48D9-4F2F-BF5F-83574D5D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5D018-B728-419C-8A58-69D5F0D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9843-B03B-4D90-8EBE-608F6FF2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0991B-897B-4F54-8D68-1B71628E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91790-A8BE-4372-A1F7-6A4A61F8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D60B2-AA49-4DEB-925D-F6DF62DF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9890C-C6B1-4492-81B9-4BA15142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2D5FB-9FA4-48FB-824A-C4D1DE5B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4F7BF-6094-4289-B407-C60EB97C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4B0DC-7E5D-4ADB-A292-938FE859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89739-5B62-4410-8B60-1519302C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DFDAF-0FF3-41CC-8704-4EF671C9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6BBB4-3DAE-4C59-84C5-B7DF9C8A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8C42-603F-4367-8A37-ED080DD0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66335-B896-4A85-8B8B-22354798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BE311-D9D9-4EF6-8A39-410CF313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CF8D9-973A-43CE-ACA5-FB7333B0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F6823-07F5-4C1E-8764-7124752F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807FC-94E7-42D7-A9CA-00C0BBE0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139D9-6923-4D41-8CD2-0D75488F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CC5DF-50EE-415E-A3D5-CB7689ED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A1D0E-2CCE-40E3-9EE5-339AC520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8B223-B066-47A7-BD18-4C13214B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6A24F-AB56-4036-B82C-F8D5978F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E2B8-2548-42F4-868D-DEB229CE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50659-D6B1-4D01-A08B-730C7CB8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F721A-7C65-4878-9C99-E1C8FF68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E5024-A788-491E-BD45-DE04A5A3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F8157-DC93-4E79-869B-A2B74911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9EFE4E-7ED3-4C95-AE89-BD886CCC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1D19C-3E3A-44E3-9ABB-F6F64027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7D8BE-DBA4-42CD-9789-E9CCA13B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C3771-37D2-4628-BEA5-CA4C7F3D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190D8-60E5-41CE-BDDA-C6BC3C13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174C9-883A-4A20-BDF9-AF674EE4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6F17-1978-4D46-B2B5-EF59EF7E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9A1F7-5A5F-4AA0-91DA-37E85B31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23A54-E029-4D2C-8CCB-FA635B67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D8ED5-A3D7-480F-968F-8E94AEA4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AA516-8FFC-4FF9-9492-6ADF84E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7A8FA-DA7E-4DCC-AAEF-CD03AF9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B5D3D-ACCA-4774-8609-F0886B89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87839-1E5E-4B69-8689-AC75A91B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ACF5D-2F1A-4506-83E5-525543D7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5E86C-2F04-47D9-AF16-38244D91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24DB0-C6C4-45C0-AB90-90D36F15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0198-76B6-4BBA-B44C-8D7B1E3A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E573C-248E-4EEB-8FA9-567C8F0B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F692C-13B4-4C07-A57B-D50CA515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0CA62-DD0E-47B4-9CB3-F9EEA29C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9D7F6-E463-4A7A-8356-EC83BB68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9976AD-11A2-44F4-BD40-28C2C0A5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DAF1E-F94B-44DD-AD92-F72A33E6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3CBA5-C224-47A2-9701-7DDC733B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D2766-3939-42B3-AC06-1F6E9E58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CE90B-4EA5-4810-8CDD-16D7E644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FCCFC-F9B0-4D6F-93DA-8905659D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8467-2C7C-4FCD-8C22-147F3AA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FDBEF-6804-401A-9516-474D1893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708F8-AF1D-43D7-8C93-2FD4DCD9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D60F39-C846-4E2C-B9F1-5B2D5D00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EBB90-CC15-4016-A5A4-94AC82C0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1F7D9-700C-47EF-B9F4-E099B8DA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99AFBF-6CA8-4D9C-A42A-60ED9683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12410-D1ED-4B84-A0F5-AFA3BE52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EB4E6-751B-4A58-9110-A8925A50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2A9F26-C858-408F-85D7-A971CD9F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0F558-6748-48A8-ACC9-C3F65EDE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D395-F17E-4000-9A5E-3F95588C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62769-2994-4A63-B4D1-202DD49C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5CACA-2A59-4DE2-A489-0C19B30E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756B1-7C2A-4B22-856D-130C395D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BF5134-1036-40EB-8A81-078D4039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2EDFA-1AA1-4664-B7D0-4E5D8C8A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04363-2E3D-4D5F-8929-87D8DCF1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A4965-164B-42C5-B625-F14D5E70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808DF-3F5B-48BE-8CC9-C0D5CA17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1395A-E180-4C10-B94F-87AD4039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1C688-8FDE-4A54-9AF2-9C92926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19E-11FF-4FFB-BD3D-12122952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786E-8FEC-47E2-ADE4-56DC9AF2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3DCD9-AE25-441F-BF00-64EA4E3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643F6-E093-4D1D-82C3-918B4B5A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05C90-236B-4A10-ACF9-7A838185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F2B2B-6A3E-4EA5-993F-7D09F1F5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9497A-A3D2-4EA4-A4BB-2FFB1F31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44DB4-4B3E-4978-9AF1-D6DEEFD2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72932-F2E0-4DF0-B3CF-61445B64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04CF15-745B-491F-B93E-FC07303D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49F1CF-EEE2-402F-8399-56B99B06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201176-AE15-48D0-A6FA-FC4537C8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A68A-8E1A-494D-9182-F6745CA8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7F04C-70E8-45E9-B127-4CD04408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C3DF6-973B-4708-AD6A-66FB759E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C90F5-F6A2-4784-88C0-D90AD978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0FBBC-3D42-4032-86F3-AB696251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7CE64-EEFC-4D9B-B73E-FBF0179E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85B25-9872-4E54-AD52-81C96B31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C7E05-3D8F-413D-9A5A-D1802F19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2A4EC2-68FF-4A61-8398-7165FA46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097F5B-DBDE-4D7B-A5A0-65F6EE5B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6A489-F87E-4446-A3DF-2AD4FC45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DA5C-0F84-4BBA-9085-DECA34A7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5F5DB-2DCC-4DB0-98D5-CB74E6D4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086EE5-7BAB-49C7-8F5F-3339618A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8AEB51-1687-4F9B-B034-26BAE9FF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EE814-7303-4286-B6BC-25932FB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AF7BD-48FC-4991-8484-10778ACA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C16862-1749-4568-9E28-B2944B52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754A9-EFBC-4AB8-9FB0-DD15450C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4C6C25-2D3F-48FA-8E20-A7399DA9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003DDD-7C7D-469F-AF57-B37F879B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9B8178-BCF9-4811-9675-45EADC62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BEE9-1E76-42D3-997F-E18D57ED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D0F429-EF03-4DC5-841C-8CF06B1E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7B3D00-0E30-4CBD-8881-9059B358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F77CC-9D36-4700-946B-3D325C53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B5C90-D7E7-4096-AE6F-3E62C86E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B8089F-15E2-4DCA-AB82-FF9A42A3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586248-3BE8-4834-AD37-0153F060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25D92B-B57A-4589-8BDA-FBA8ADE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3C734-575E-4AC3-9BAE-AE101C0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9781F5-3AE7-4BAF-85CA-E6CF3E21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BA171A-2B4F-47F5-B561-1290ADC0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BAE5-13C7-4987-BE3D-ED9124DA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0CE841-D552-4F3D-B002-423D24F6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2E7B4-AE95-40C5-8F06-ABDFA0D6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76E2CB-740E-45CE-AB89-6E993ECD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45CB75-51D1-4384-877E-6981A50C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6D625-7C0D-4E41-8A33-8FBC27D1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F853B-CC29-4796-AF49-0F58D178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95178C-EA80-404F-AC4B-776ACFCA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205334-9ED3-4F55-B15E-46D65105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B672D7-0589-4B3B-9645-C619AC4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88E3E8-E376-453B-976A-189D8C8D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A064-65A7-41D6-8F2D-18648319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91A933-5F50-4223-9AE4-31F800A4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54409-238D-4DF9-A359-495B6C15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3CB6F-17EC-479E-B6AC-76CB46F2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353B-CBF2-438D-BC4C-422DDA78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85BA-9E44-4560-97BC-CA2C13A8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8A73-AE29-41A4-B7EE-0E39B19B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C7563-834D-4557-A686-A60705AF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0C9-B898-45DD-B944-B8E8F37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635A-17C7-4B03-BBC9-1147B18B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D6AF-375C-472A-BE8E-3EE4FF1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309B-D375-486C-B96A-D52FDC6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A99B-CE26-4BF2-A58A-8304B451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9041-34D0-4E6B-8EEF-F854C8CA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8682-1D20-4759-9E3D-60587D6A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E9F61-BEC4-4375-B9CF-94297F0B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87E64-8883-4CB0-B0A8-CC2ED5D2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83B53-2331-4629-8E76-E03BF37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977B-F419-4E9B-8554-98217A31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612-26C5-4CCA-9942-0E62ACE6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E1E93-BFCE-4104-9E24-2D3E3B19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D867-3308-46F1-8DB1-21D81BF7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8D2F-5395-4843-9106-A4A9142F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37DDC-2B3F-49F6-9FCB-216CBCE8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CCE0-1E6A-4051-87C5-3DC8A1BB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B24D5-8C58-4B73-879A-F65C3598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AB23C-E5E5-4462-9BBF-A63B3958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B77D-5418-4E70-92F0-07C828F7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7023-D680-4E93-B4B2-96C5A4EF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CCCC-EBC2-40CE-BE77-6452D2BC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12C-9D55-4361-96BC-448B85EC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B645B-8E9B-4643-8E7C-5A8445F7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5435B-E635-43BE-8C52-6009C08B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EEAB-153A-4186-A865-A920E675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17DDC-E643-4099-9342-A1F708FE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DB021-88C6-4687-9998-3B65D1AD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AF129-08F5-4819-98A2-3AD2823C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C06B1-5565-40B8-8FAC-81E8878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F5DC6-E049-423E-B00B-5C2C4CE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FC764-E77B-494B-AF28-A024877C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41BFC-0AD1-4CA6-92BE-551B9682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609-8F9C-41F7-965C-389C3853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62423-2F09-4BC2-80C1-3BC2378D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5442C-C9D3-45C6-8B4C-54D1774A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C26AE-4556-48FC-BB3D-255E3E9C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481ED-61BE-4571-86C6-3733BE40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8F2EE-7A91-40C7-8DB6-782A2E0B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6D866-9F6E-4241-BCA6-CD4F18D0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87E80-490E-4D93-845B-66AFFCF3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1F44-09B1-40F2-8E9A-0B138B06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A2FCA-AC53-476F-8B8B-C7E26CD7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0F8E0-6731-40E2-AB06-21A4D18B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5BF-EEE7-45F0-B3C6-278B27C4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351DF-FFBA-47FB-850B-0EF0FEED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843A3-CA00-4721-865F-24D68A1B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5D8BE-538B-4CE6-AE2E-56895DD6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113D-F5DE-43DE-84C0-9BA1FB6B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486A0-9868-45EB-9142-6A28EFB7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0F82-51C9-4BB9-8CAB-C4ACE9C8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A49AA-B1FA-4878-A16D-0EAF54A9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143D7-2079-4BAE-BE55-231EB8A3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48EE7-28E0-47CA-A31A-81B35AA6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78A21-2971-4B22-88F7-6102E606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75D-EB70-4BC2-9A90-7BDA6248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B7990-9F38-4CAE-A37F-374D4BD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BE677-21EC-4499-85D4-A0774AD8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AC2E8-9886-477D-8C1B-624B6FDC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403AC-4EB1-4275-8B89-CD0AA0F6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FAC6C-FD08-4558-9DF5-6C002E2D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CCCBF-D10E-4DA2-9E55-7A9B58D7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5786F-47F9-4712-AAF3-BC1550E2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67E96-4921-4B79-A644-F44FEFFF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BB01E-2D96-4D97-BA8C-6A0E6B3B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39505-EA73-4810-8514-75B8A084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362-52E7-4B5E-99CC-328C34C7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1A8C7-B292-462A-AF4F-609BF27D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C722E-74FB-4603-AFAF-56BF220D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7BFF8-ED4F-49C2-9B93-F59C083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DF8A9-A163-43EC-9250-6861DD5F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AD569-F284-481D-B6CD-6DEB786F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37CFA-DD97-4C9A-9D34-A508E1D7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359A4-4F34-4F12-AF6C-02590320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CE045-A118-47CE-A565-5213717E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5566D-2851-4AB1-8AB0-C8FF2ACB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3203A-82DA-499B-87F7-169B0BDC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45FB-042B-4AB0-B5D2-29D8CA21BC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3F9E-849F-4C3D-8BF8-770FD9D98D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0564-EBA2-405C-8621-986B752F2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EF54-5E19-4C0B-B3CD-9018B10DA4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1DC-500E-4992-8F47-0999029557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D540-93F4-4C8C-99BB-355E78ABF7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0AA1-698F-42C8-AB8A-896F18A2B7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4F43-65DF-4112-A5E7-FC0A8041E2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6510-7905-429A-B00F-57A7DD9897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D3BD-D6E1-4AAA-AC09-B3FA41DDF5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5486-D7BF-41F2-AF6A-08CAE2977C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A3C-4ADF-42B3-ADBA-4A0B12F35B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C020-8E3B-438F-A61A-112A4638FB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7568-33F0-437B-AD08-40D018C85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72B3-3D7C-43DC-AC30-BB696CB647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B9D5-B630-45FD-BB51-908582C622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2365-FF41-455B-B0DA-696A6E8121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C9C9-2C01-477C-8DB0-EB67BBB31C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3BD1-E3F2-414B-B407-75D57DD765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5345-F9E8-4788-BE08-EB88110051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DF1E-DE0C-45DA-9B5A-B2C48B9283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5D56-666A-4993-8232-F7C2866637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C45B-B76A-499C-B25B-2B01B967D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3E5A-2C97-4FD9-9286-75358C60B6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D39E-13F0-42C5-A345-0C303E0C52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E7BA-7471-4874-ACF7-76B1873971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712A-9AC5-4C2E-B67D-B9D1802F34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ECC0-207A-464F-8A17-E80D0334AA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88E1-DFD3-4726-A964-BBB74CC61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AF0A-5657-4FA8-BEDB-BA8E43805A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2D96-AB38-4819-B644-E358039600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E361-1A13-481B-8DB6-16FCCF037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672F-756A-4D8B-9F2C-D0DEF8A0A1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F439-EF3D-4D3A-843C-6E5E03773A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4A4E-DB69-41A3-AD3B-FA2C5E8EEF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7933-3A99-4E5B-8655-C25A87D14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40C8-248B-416E-B9F1-FD4F9BCE26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DDB5-3AC8-4F73-BB3E-16F7DF911A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26BA-462F-492E-82AA-F39645916D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E732-D0A1-451A-BEEF-D854D8BFB4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133800" y="1952640"/>
            <a:ext cx="2876400" cy="8287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14200" y="3487680"/>
            <a:ext cx="871560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9633" descr=""/>
          <p:cNvPicPr/>
          <p:nvPr/>
        </p:nvPicPr>
        <p:blipFill>
          <a:blip r:embed="rId1"/>
          <a:stretch/>
        </p:blipFill>
        <p:spPr>
          <a:xfrm>
            <a:off x="1181160" y="907920"/>
            <a:ext cx="6781680" cy="221940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69634" descr=""/>
          <p:cNvPicPr/>
          <p:nvPr/>
        </p:nvPicPr>
        <p:blipFill>
          <a:blip r:embed="rId2"/>
          <a:stretch/>
        </p:blipFill>
        <p:spPr>
          <a:xfrm>
            <a:off x="309600" y="3394080"/>
            <a:ext cx="8524800" cy="2266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4356000" y="22050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7164360" y="148428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7192800" y="21621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1835280" y="39337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1706400" y="4653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5162400" y="394812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0"/>
          <a:stretch/>
        </p:blipFill>
        <p:spPr>
          <a:xfrm>
            <a:off x="5003640" y="4653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1"/>
          <a:stretch/>
        </p:blipFill>
        <p:spPr>
          <a:xfrm>
            <a:off x="8352000" y="3933720"/>
            <a:ext cx="61272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2"/>
          <a:stretch/>
        </p:blipFill>
        <p:spPr>
          <a:xfrm>
            <a:off x="8172360" y="4653000"/>
            <a:ext cx="61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62080" y="744480"/>
            <a:ext cx="8619840" cy="5924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771640" y="3933720"/>
            <a:ext cx="17290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203640" y="472428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203640" y="5516640"/>
            <a:ext cx="1728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973240" y="6237360"/>
            <a:ext cx="172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57280" y="1533600"/>
            <a:ext cx="8029440" cy="37908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5508720" y="1671480"/>
            <a:ext cx="180000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4702320" y="2568600"/>
            <a:ext cx="517320" cy="4017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2757600" y="2997360"/>
            <a:ext cx="446040" cy="401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6588000" y="3025800"/>
            <a:ext cx="446040" cy="4017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2728800" y="3457440"/>
            <a:ext cx="446040" cy="4017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3132000" y="3889440"/>
            <a:ext cx="446400" cy="401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6415200" y="3875040"/>
            <a:ext cx="446040" cy="401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3535200" y="4292640"/>
            <a:ext cx="446400" cy="401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0"/>
          <a:stretch/>
        </p:blipFill>
        <p:spPr>
          <a:xfrm>
            <a:off x="4341960" y="4724280"/>
            <a:ext cx="44604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414360" y="1238400"/>
            <a:ext cx="8315280" cy="4381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7221600" y="3097080"/>
            <a:ext cx="138276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236000" y="3990960"/>
            <a:ext cx="138240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7236000" y="4811760"/>
            <a:ext cx="13824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295200" y="660240"/>
            <a:ext cx="8553600" cy="6153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2771640" y="3933720"/>
            <a:ext cx="165600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6659640" y="3933720"/>
            <a:ext cx="165564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2771640" y="6237360"/>
            <a:ext cx="180036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630840" y="6222960"/>
            <a:ext cx="16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419040" y="1905120"/>
            <a:ext cx="8305920" cy="30477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2340000" y="4276800"/>
            <a:ext cx="151128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502320" y="4292640"/>
            <a:ext cx="1511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458640" y="189000"/>
            <a:ext cx="8506080" cy="145728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5301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886280" cy="139068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55302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7334280" cy="4371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6227640" y="3371760"/>
            <a:ext cx="165744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6084720" y="4221000"/>
            <a:ext cx="165744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6156360" y="5084640"/>
            <a:ext cx="165744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6156360" y="5950080"/>
            <a:ext cx="165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1116000" y="803160"/>
            <a:ext cx="6867360" cy="6010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5219640" y="4205160"/>
            <a:ext cx="244800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5148360" y="6151680"/>
            <a:ext cx="244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2231" descr=""/>
          <p:cNvPicPr/>
          <p:nvPr/>
        </p:nvPicPr>
        <p:blipFill>
          <a:blip r:embed="rId1"/>
          <a:stretch/>
        </p:blipFill>
        <p:spPr>
          <a:xfrm>
            <a:off x="314280" y="1619280"/>
            <a:ext cx="8515440" cy="36194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6121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4:57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