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368-7957-4F96-B6C6-056D49C4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581-3DCA-4BE9-940D-BB6D7CB8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33DD8-2FA2-4231-B099-D254EDC8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D1AC5-9F5E-4297-9CB5-66A8A239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74767-6DC1-482B-8F2C-F4ED6171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D7A49-CE2F-4A69-885C-DAE40009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06581-F29C-4EA6-A35C-3738AEAA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F4BB2-DF92-48E7-8028-6B68D306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6E23C-3BDB-47D7-8351-16DC8BA1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E042B-C02C-4A0C-861C-D8DF0FE2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01FA2-5F74-49A5-A69C-4FEC3DEF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E2E4B-E9F1-424C-90BB-54ECD20E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B50-4788-41A9-8FDF-44FF714C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42CE7-46F9-48B6-882E-974D15D2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088F7-1E61-458F-A0E4-250AA2A9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41C7B-32A3-4CCD-BA73-650A8481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15562-612B-4D46-91FF-0D0ADEB4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6C419-000E-42EA-AA58-9D2D2FC2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95BCB-3F19-45B2-A303-0A421DBD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D12A2-9DE4-4985-999F-F553ACD9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E4260-48EF-4825-AB64-0DAA2946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40CDA-F69E-44E1-9E4E-8AA86E75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B50B1-71AB-4339-922A-929F14D9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4FC7-4CE5-4F3A-91EF-AC47EAC2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14F9E-875F-409B-8A5E-C4D10F11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1D32F-F2F4-476B-A44D-2820A255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D8C28-E289-49B8-A409-940042F1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BF8D8-7CC7-4CEC-82E9-DEED4D48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E1D59-60B8-422D-AC72-B7CA8A08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FCC1C-586A-4FB1-961F-40A13859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983F6-9BAD-4B69-AC68-C071600D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4806E-73D0-400C-A4B6-336416E8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6655A-E3BD-4141-B370-9245825B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2BA94-4944-4E59-A3D4-CDFAD97E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5A5F-3364-4927-B7DD-E7B17475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323B4-F2D5-4D86-8732-A4A9BE3D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FE4E5-2553-4605-8F16-5DB4FB2C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7D893-F97B-453A-8EF0-8A29467F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F58EA-4220-4E7C-B0B6-6E46D339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1FEDA-6746-44A1-8267-A618539D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03A5E-9559-45BF-AB3F-BBECEF3C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D7F49-A44D-40B0-A872-B542C8EA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97F39-3770-4FFF-8C4D-4C2D8E97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C5BCB-B151-4B40-AD52-F369D435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10C45-631B-4C95-9BC6-C8D02423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170F-80C5-4AA5-81F5-85EE497A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6C2DB-4FC2-4AEC-B973-E71A6833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46B70-0B3A-4B05-9961-A3B4C8EB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A6D28-EBA9-4552-8251-E0BE88A5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615FB-E9BD-4BCB-87E3-398633F5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75F3E-7B5E-4AFC-A509-0320CAE2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87DE4-D6CD-4226-9C6A-ED92EE11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847FC0-06CC-48F1-9B2C-41DB7C4D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F13CBD-9CD0-4339-808D-B112105B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DE3AB-6834-4222-B6DC-F0E14CEE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84641-896E-4D3E-AD95-5154A49A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CC59-968B-402D-88EB-55991560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95440-E031-4984-9112-F1B80E87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1AEFE-4079-4DE7-93D2-5D18FF4D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685F2-28A8-4DED-A99F-B31B10B8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8BB03-2E41-4C3E-9CD4-CE1FF86E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AEB09-A26F-449F-82DA-D7E25502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FC1A2-AB01-4DCE-94DD-DCE44E49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1D8F2-CDB4-4C27-80B9-4F2F0D36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BFB5A2-5EF9-453C-8012-2A2C8B0E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FFEE40-3E1F-4F8D-B8F5-F0645C30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43621-1093-4776-B4A7-2E556E63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3E8B-9670-4C74-867B-BD72AC22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D3CEAF-C62E-47D7-9B91-8E4021E8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4BF8D3-6C71-43C3-AA5A-941174CC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51868-1BAC-4DA2-8CB0-642DC584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1B7E72-819F-4BDE-8216-A65E69A9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04511-E7E8-4C7F-BB46-691DB835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5AA137-49F2-4487-9824-0C834C2E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3C6F79-9067-4303-AE14-4053C106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EB3B73-584E-48F1-8DCD-56380A69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71E414-1876-4E1F-BEB9-9633B202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CBDBA-62CB-436B-88F3-F8F8C084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8C8A-47DD-48E9-880B-13E02FBB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7CF840-F3E0-4C89-A351-B5419D4B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F349AA-ABAA-42F5-8DEF-041F4C72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9B1A67-BF08-4808-80AB-E49C9DC1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F4AA00-814B-4A74-9CC2-8C542705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448C85-2EBC-4E60-9746-826E89B9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CC5B0-8227-436F-A0EE-20D428DF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AE77D2-8F85-4035-9E0F-3C3C3FA9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8CA52A-A0F9-40AC-B2B4-3D760E00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560EFA-30A6-4B14-BEC2-2141841E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ADB887-7F0A-4EA2-977A-9EFE50D7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103B-4E62-494D-BB7D-8C265D5F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FB45BF-5967-4596-ABF1-A652BEC5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408E57-AB97-4D8E-B395-3F680D49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DAC463-6341-460D-9645-DD7ED795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0C8CF1-CDFF-4983-B9A0-37B16688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3A5928-264E-41E5-B89E-88F5F039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A8D4CF-4B6B-4ACA-8541-6AF4B111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42F60-75DE-4FF4-BDBF-FECB9F14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992180-0454-47E4-A109-7BE49E1A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1481FA-5D59-4E2A-BD69-A438A5AB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9F6BDF-C239-476A-AE1D-34008107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437D-F7D9-4D57-87B3-8546EAF0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AB9462-5B1A-491F-B752-2154D219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64AFDE-2C7A-4647-981E-CC4C83A9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1F33A5-A568-48B7-BEF6-3DA24CC0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D82BF6-2BDA-4E33-BE88-E331A9CA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9F7D2-C80D-4BD4-908E-2EF8035B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6B1D04-90FF-49F3-9918-318C2133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EF118B-E549-4843-931E-32DB92B5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D15A7D-9B72-48A8-85F0-D73708FA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5E57AF-DC15-436F-A1ED-93D96289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7BFF67-12B2-4958-8B20-EAE4B7AC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AD8-B264-47B2-BD46-9E7D5367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1E68-ED97-475B-91C2-4F507027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4929DF-2114-421A-8873-8ECAD99A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293CED-A1AE-4FE3-B80E-DC880D0A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2DF853-F928-4F52-9712-80AC8373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E25BB8-BE5D-4A9B-A9F9-263FE9E2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6BD70A-67E1-420F-9296-9C4EA5D5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A907AE-8777-4844-88A8-0CB5F475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0FE4AE-9B50-4321-9669-7EA781A6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5A4E9C-FA6E-4621-8C43-6134C85B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846D2D-4510-4B20-A5AB-E534B0BF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BA9FA5-8558-4C13-BCAD-F9E4B057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51AE-287C-4A27-BF22-48FBB7DC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7D6D39-6816-488E-A54C-F25A353B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3D7190-8D3F-4DC3-892B-CC28FF94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883287-53B4-4E67-B183-C6173D52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A43CA8-3C38-4357-B946-DA7600D4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6DD02C-CCDF-4E31-8AE6-839D51BB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44E8EA-6E78-4DDB-A1E4-0ADD5D50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8F50F3-F951-4F16-8BFB-E8060D78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2EB957-C9BF-4B87-BB6F-8E97713B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41A693-F347-46E8-A2FD-7F6D84E7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43250B-7C01-487B-90A3-0D620E80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FEBF-052C-4594-AC28-46C1C13D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5629E3-4170-430D-ADF6-2F58776A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68C84F-4AC1-4207-807F-F0673906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1535C4-C77D-43A1-95F1-A2879C32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C1FAF8-9CB3-43F7-B3E1-83A78D59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B4FEF7-C28B-412C-8F3C-115B47C4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835892-353C-4BDD-9CFF-86AE0617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C3D26D-6F2E-470E-84F3-0EDF55D0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046EEE-0D3E-41D4-A3D3-B33368CA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704EB1-BB0D-45C8-8A0F-E63D2840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396A89-0A01-443A-A5BF-813D4EC5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E991-C75D-45D6-9A25-08B69B58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488EFF-C7FC-4C5E-A930-49C1E7A5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914E87-33A4-4C79-939C-4119A6BD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F8A52B-F6BE-402C-AE88-7E6B6E4E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8A1AA9-EF69-4FD4-8EE1-1E525D8A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A073DE-E825-4356-B9CA-572D2593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31EB53-0078-4324-945A-92497346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0C9BD8-6956-4380-B059-D58958BE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D117AF-ED13-4D84-AA6E-02272997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215A38-908D-4DE9-9919-806A4A5B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D3788C-CE45-4CA6-B545-18C650DC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CD09-88A8-4303-8415-FF9F3355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E9ABA5-2CE3-4A88-AC09-3E3469A8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9BF387-B829-4AE1-8FA6-8323CFEE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9BCA80-A84A-4584-BAB1-F22E6E7C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D7611D-7294-4C38-9F50-2B3159C7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DCEE5E-6161-4B32-B9C9-65606726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9002C5-D796-40BD-842A-7F1C65F6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8828B2-883A-4D63-A7CE-9A35DDD0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5DFCBD-0833-4DC6-9974-6561CE83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EFA84C-7EF1-4102-A4C9-3E68016B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2ED841-71C1-43EF-B3DC-836531E8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87238-F3C3-41CB-92CA-445F9B5C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758968-0D47-4EEA-BA8F-F3CA11BB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71CC6A-79D4-4C73-9A45-80C40A45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641D86-BD5A-43B0-9C7E-A2FA1B3B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F7ADB7-0A5D-479E-8C3C-10819BD6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F18641-51CE-4A64-8D83-98869C45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40B6E8-9BC5-4275-A4B6-E94A5FB1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1E521A-A0C9-4894-B82A-EB2374B2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3E5CCA-E491-470F-9702-CF38951A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AE8AB0-0654-41C4-934E-47175059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4BD277-8F13-4C82-AE12-7EFBF44A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BC0AE-AD61-4C83-AA1B-0056EA46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0051E4-A0F0-45A8-AA37-164651C1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5B5B97-F7ED-46CA-BF37-6311D51F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8C8978-B43B-479F-82F5-93B5A335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6D2055-925F-4A11-ADAE-AC5FC603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85E747-CCBD-4CC9-BCAA-37AA5959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3FC623-574C-473A-81D8-6BE3A9B0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102F40-021E-4DD5-891B-02DF784B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A6E434-738E-4AEB-AB10-807D243E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825338-87DA-4D44-8478-A2F0A454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4C531B-E2A7-4BCC-8B7F-5F753D4C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A38FF-1994-4E46-9ADF-77D4FF5B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2C7BCC-2140-45A6-BCB7-7E932977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259492-721D-4142-9044-C81235BB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A48D5A-C5A6-4681-8E02-7372D7C3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9FBA99-4FDD-45EF-A722-273910FA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F216CA-E211-4486-A7D2-E954617C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516202-A933-4FD7-AC92-13D28494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9E8537-749A-4A83-ACB7-4B714BD2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100AF-0665-40CF-8BE0-E1C4781D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07C6D-2C42-41B4-A9A6-C6E9C7E7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D5E-CEDD-4B74-852B-1AD85AAA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B2FC4-2F9E-4C40-BE6B-F4E71D1D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FB2B-1232-4C88-930C-2E4899FD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4720F-19CC-4E4A-922F-D6AA419F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D1EC3-E7FC-49FA-ADFA-48AA5FB6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BFE8B-594E-4442-9672-92F70BCC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4655-B348-4E34-BD5D-49389B00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268C7-B958-4A66-BEC2-028A8785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F3DED-D949-4848-A369-93F6E0D1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CFFD-7856-4A84-815F-0FA16924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5B02A-C531-4187-8F5D-8B59BB5F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8B3-BFBD-4B26-B0E6-0B6A7E41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BADC6-6B2E-4F38-B55F-3091B90D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8ABBD-8165-4938-9795-B6547F42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9FE55-1750-4263-B1DA-58F0B128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D3208-60F6-4207-97A6-91BAAD9A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431D3-F6EC-4524-9D87-A00B106C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FB78D-CF22-4B03-8099-18C2BAF3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27B79-BF4A-490A-9490-48C7B266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69F03-0060-40BF-A54A-91D4D30D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503D3-1B45-4053-B5EA-9E8E7853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80FFF-5F95-4B72-B76B-A15078D6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C30-5120-4578-8594-14AAC78D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D5B52-8A11-40CB-B49F-4826B3D9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84CEE-497E-49E6-96D5-CCFF9BF7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B3CE8-A857-48C2-9C90-B16C4B88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78B17-EC80-45F3-92CA-08C02ACB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87800-9EDB-4038-895F-05BCDBFC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909E3-1449-41E5-921E-BDD46C7D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0092C-240F-4030-9930-5848D1CC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5B37B-E422-4593-8D0E-93F11F2E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48C3F-4DA7-4EB1-81BE-C1F72AEF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5E339-3133-462C-B6DA-BCCD2711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ECA-2887-4B81-A435-3F4973A1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5E79D-6AEE-45A9-A437-02EC96D8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16AC9-190F-4116-BCB3-D4962B73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6A357-33C9-4A5E-8BE3-C145CA50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B00A5-9B8F-4289-916F-95CD7A58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9EE40-B093-406D-AB69-87982833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31CB0-B655-4929-A928-63B4C056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DF5F4-0275-4DE1-9847-0AF92CF5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A9574-7B89-4093-A483-617EC712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DD8B7-6F9B-49AC-9C8B-1A41DA80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251C8-9AF6-4A23-8E4F-67D466EF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140-2486-467A-9B0D-B2FD8D7A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F89BC-C5D1-4715-A653-A172B588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296ED-5FF0-4182-9B13-E5D446AD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3D6A5-E9D9-46CD-9EF4-9819ABC5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85D49-9E77-471E-B573-96D69CCD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B95A1-DF60-4669-994F-4BA9B1EE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84C9A-5DCB-4DE1-8E40-B398DEFF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55B35-2FAB-491C-94F6-EE7137BA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B7505-C42D-4CE6-A29D-B2887BE8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5B98E-AB6D-4A38-8222-267AE041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69634-E4E8-4516-B33D-B9BC2640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CFE-E6DA-414E-B37B-673E581F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E3657-DD8F-4494-A442-44E60F6D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2B321-0688-4EDE-88F2-99F10EFF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48E3E-6C40-426C-AB8C-F9B92D58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99DCD-FB24-4A9E-BD20-B29801EB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7414E-E32A-416B-9F44-A4FCFFA0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73B51-34C7-4F19-9DFA-E3A91A9A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E3D95-B221-4A7A-9ED7-4F5CC45B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141FB-6BF2-4928-B4F3-265D4C5B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E8DE7-573A-422D-A385-D7AE038D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E8054-3D52-462C-A213-AC3D9C74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0B6-809F-4179-89FB-DB1CD6D0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A6A95-C58A-4EBE-AAF8-B2022018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66F70-570A-448C-BB74-D6CCAB93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D9E23-448B-472C-8639-925F8136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9BE14-E6E9-4D06-9635-ADEF30F6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D5135-B000-4BAD-870F-2077D4AD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B5565-B92E-4276-95C0-17E772C4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4D451-23F4-4E49-82DD-51549FC5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EB85C-4E02-4FC7-B771-C159E622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24C26-8306-4B99-B7B4-666E7E4D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F99D2-31DA-40AD-B1E9-DB655E9B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ACCF-A8F9-445D-84A7-5DFB8E670C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A649-9365-4D95-84C3-C509DC7BA6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4F6B-C834-478D-8D12-84B5264685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D63E-88CC-473B-B91C-4F0D6364C8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A7F4-2676-4921-AFC5-4A03558E9B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A189-1003-4BC0-8332-9E2CD1E27A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74A2-3E02-4439-91B9-CC233946E5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DBB0-E543-44FF-8D49-F9C2040166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73AB-4544-49B5-A42F-E43260E6E6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250B-1E74-4C81-9923-B1C70593DB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83B4-41A4-4300-AF8D-7DDF70FD7D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8E45-710E-4453-AE40-30AA076A55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53AE-3C76-49DC-8E46-5098A8C766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C8FB-F67C-4AB8-8720-510ED86A51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A9A9-BC54-4461-92FA-5CC2C38F0F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461B-D641-44CB-9C4E-F960F61ED5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6845-A577-4B7B-A64B-EFEF1F564D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43BC-2F91-4975-9BBC-F9FB16B4CE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204B-EE54-46B3-9892-38540102C3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94B6-3F69-4901-B027-D0522157D4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A64D-83D9-4169-83C6-D00F919BB0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811A-4160-4F1A-820D-097BFDFA5D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99C9-9ED5-4B7A-973F-48BA53843C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F0FE-BF5F-4822-ADE2-39D569C1EA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757B-4467-4B86-8AA4-04B555B4B5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C4DF-2A7D-486E-A25F-07D748602E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A250-A12D-4744-A46A-93FB9F458E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CDC8-A94E-420D-91B5-B0F47C0F02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756B-552D-4ED2-948A-034340143D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799B-0DA8-49D4-8827-7D658DA3CD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ABD5-6AAD-4929-A086-4F370E29D0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C780-6FC1-4215-B8E0-1A2E4C9042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0779-B321-4271-A93A-943D09A32D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FB3F-9BFA-4369-9515-C6141FA807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18F8-8DFF-4982-BC12-09EA992098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3AC7-66B5-4D71-AB20-CFBD3D7007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0AE8-D3F8-4801-AFAA-3671950AD7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5BC8-FA20-45E2-B61B-15A93C2CB3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2935-6FE4-48DD-B4BE-44C559525F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8382-6048-485C-AF70-E6D3878635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D328-6E6E-49C0-B290-48C8DBFBC4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3771-32FA-4603-B341-1EECF4D549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460440" y="3124080"/>
            <a:ext cx="82216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252360" y="1386000"/>
            <a:ext cx="86392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1190520" y="1509840"/>
            <a:ext cx="6762960" cy="3838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5472360" cy="4474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1116000" y="2421000"/>
            <a:ext cx="5472000" cy="4474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1042920" y="3141720"/>
            <a:ext cx="5472360" cy="4474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5"/>
          <a:stretch/>
        </p:blipFill>
        <p:spPr>
          <a:xfrm>
            <a:off x="1042920" y="4005360"/>
            <a:ext cx="5472360" cy="4474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6"/>
          <a:stretch/>
        </p:blipFill>
        <p:spPr>
          <a:xfrm>
            <a:off x="1116000" y="4797360"/>
            <a:ext cx="669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893960" y="879480"/>
            <a:ext cx="5514840" cy="58197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4859280" y="5214960"/>
            <a:ext cx="1152720" cy="6476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788000" y="5935680"/>
            <a:ext cx="1152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1" descr=""/>
          <p:cNvPicPr/>
          <p:nvPr/>
        </p:nvPicPr>
        <p:blipFill>
          <a:blip r:embed="rId1"/>
          <a:stretch/>
        </p:blipFill>
        <p:spPr>
          <a:xfrm>
            <a:off x="704880" y="1662120"/>
            <a:ext cx="7734240" cy="35337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2"/>
          <a:stretch/>
        </p:blipFill>
        <p:spPr>
          <a:xfrm>
            <a:off x="4788000" y="3846600"/>
            <a:ext cx="2879640" cy="4474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3"/>
          <a:stretch/>
        </p:blipFill>
        <p:spPr>
          <a:xfrm>
            <a:off x="5148360" y="4537080"/>
            <a:ext cx="2879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728640" y="1305000"/>
            <a:ext cx="7686720" cy="424800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5003640" y="3500280"/>
            <a:ext cx="15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5580000" y="4221000"/>
            <a:ext cx="15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4"/>
          <a:stretch/>
        </p:blipFill>
        <p:spPr>
          <a:xfrm>
            <a:off x="6372360" y="4911840"/>
            <a:ext cx="151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214200" y="833400"/>
            <a:ext cx="8715600" cy="57913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3132000" y="2290680"/>
            <a:ext cx="1584360" cy="663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3132000" y="3011400"/>
            <a:ext cx="1584360" cy="663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3132000" y="3732120"/>
            <a:ext cx="1584360" cy="663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5"/>
          <a:stretch/>
        </p:blipFill>
        <p:spPr>
          <a:xfrm>
            <a:off x="3132000" y="4437000"/>
            <a:ext cx="1584360" cy="663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6"/>
          <a:stretch/>
        </p:blipFill>
        <p:spPr>
          <a:xfrm>
            <a:off x="3087720" y="5127480"/>
            <a:ext cx="1584360" cy="663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7"/>
          <a:stretch/>
        </p:blipFill>
        <p:spPr>
          <a:xfrm>
            <a:off x="3073320" y="5862600"/>
            <a:ext cx="158436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1547640" y="1281240"/>
            <a:ext cx="6048720" cy="42955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5076720" y="1266840"/>
            <a:ext cx="18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5076720" y="1989000"/>
            <a:ext cx="18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5076720" y="2738520"/>
            <a:ext cx="187164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5148360" y="3471840"/>
            <a:ext cx="18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5148360" y="4149720"/>
            <a:ext cx="18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5076720" y="4869000"/>
            <a:ext cx="1871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243000" y="1438200"/>
            <a:ext cx="8658000" cy="39816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3132000" y="481176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7308720" y="4811760"/>
            <a:ext cx="1295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438120" y="746280"/>
            <a:ext cx="8267760" cy="5981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1374840" y="17431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2065320" y="1728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2757600" y="17589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566748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6357960" y="17589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7"/>
          <a:stretch/>
        </p:blipFill>
        <p:spPr>
          <a:xfrm>
            <a:off x="7050240" y="178920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8"/>
          <a:stretch/>
        </p:blipFill>
        <p:spPr>
          <a:xfrm>
            <a:off x="7740720" y="17589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9"/>
          <a:stretch/>
        </p:blipFill>
        <p:spPr>
          <a:xfrm>
            <a:off x="1389240" y="43927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10"/>
          <a:stretch/>
        </p:blipFill>
        <p:spPr>
          <a:xfrm>
            <a:off x="2079720" y="43783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1"/>
          <a:stretch/>
        </p:blipFill>
        <p:spPr>
          <a:xfrm>
            <a:off x="2771640" y="44085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2"/>
          <a:stretch/>
        </p:blipFill>
        <p:spPr>
          <a:xfrm>
            <a:off x="2843280" y="266544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3"/>
          <a:stretch/>
        </p:blipFill>
        <p:spPr>
          <a:xfrm>
            <a:off x="5667480" y="43797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14"/>
          <a:stretch/>
        </p:blipFill>
        <p:spPr>
          <a:xfrm>
            <a:off x="6357960" y="4365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15"/>
          <a:stretch/>
        </p:blipFill>
        <p:spPr>
          <a:xfrm>
            <a:off x="7050240" y="43959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16"/>
          <a:stretch/>
        </p:blipFill>
        <p:spPr>
          <a:xfrm>
            <a:off x="7740720" y="4365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17"/>
          <a:stretch/>
        </p:blipFill>
        <p:spPr>
          <a:xfrm>
            <a:off x="6948360" y="2679840"/>
            <a:ext cx="13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18"/>
          <a:stretch/>
        </p:blipFill>
        <p:spPr>
          <a:xfrm>
            <a:off x="2843280" y="530064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9"/>
          <a:stretch/>
        </p:blipFill>
        <p:spPr>
          <a:xfrm>
            <a:off x="2771640" y="6078600"/>
            <a:ext cx="13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0"/>
          <a:stretch/>
        </p:blipFill>
        <p:spPr>
          <a:xfrm>
            <a:off x="7005600" y="527220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1"/>
          <a:stretch/>
        </p:blipFill>
        <p:spPr>
          <a:xfrm>
            <a:off x="6934320" y="604980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142920" y="1752480"/>
            <a:ext cx="8858160" cy="33530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3851280" y="278136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6372360" y="278136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4067280" y="3645000"/>
            <a:ext cx="1441440" cy="447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6659640" y="3645000"/>
            <a:ext cx="1441440" cy="447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4859280" y="443700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7"/>
          <a:stretch/>
        </p:blipFill>
        <p:spPr>
          <a:xfrm>
            <a:off x="6805440" y="4437000"/>
            <a:ext cx="1511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5:0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