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3E5-77D0-435C-8C93-54B8D799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C7D-F83C-4070-95A1-7104E45F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2BDD2-D14C-419E-A43D-C96A2DC5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FF233-9B70-4E4D-941C-0F8556EB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B084D-D702-4155-9D5F-9D887CD9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44FC0-C23B-4351-BB53-D5F2AB4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A4112-0CB1-48DD-8215-7DC21135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198D2-5FAC-4631-8166-05172DC1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A8524-CAB5-459A-A3F1-AE54D2A2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C2BA4-9BE4-43A2-B109-54AB1E5B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A15AC-6D63-444E-A0DC-1E94BEC5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4D7D9-4D1B-49B9-8140-A7610004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7E7C-39A7-4C1D-878A-248659C6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869B-54CE-4E99-B9C5-0924F92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E66EF-F427-417A-9D80-200B2C5E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5CF27-23AF-4D1A-8B1D-53D41670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F8C9A-D3D5-45BE-941E-22B1B28D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6827B-54AC-4D43-9131-34F025B9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014F0-3BB4-4886-A3E5-D63C844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4AD70-71A7-4BBD-A511-B019FEF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CDB7A-7448-4370-AA8D-C2EE4A2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B9EB6-0D96-4D64-99D6-4010E8FB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86777-BDCB-4BB2-ACA8-EF88918F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9FF-7D3D-430D-94FD-BE10F470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2A5BE-FA7F-444A-BF4B-8CE3ADAE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EBC5D-1E7E-4133-AAB5-22D878AD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89489-600A-46D9-A5EE-50E83B21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179D4-36F7-4AA3-A499-1BAF3A31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003EC-EE6F-45EB-902E-59F63BD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F5E72-C9B5-46E1-A290-63FB2CA2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8BF8F-DF06-40E9-8358-3AFF89F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D6B57-A085-49B4-A5A5-9F15F535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550FC-27B9-4DB7-BE9F-28455FA5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127F8-EF29-4B4A-8983-A3EAAE5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7002-C064-4237-92C6-1907832D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F0283-0D47-4D30-A10C-5D6D08E1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655B1-F49F-4DF6-B7CF-C79DE9BE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71C3B-4830-456E-A73B-C4F452E1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03308-E502-408A-8E24-2C5438C1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6C9AF-77F5-4BDC-B7BC-009DC34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1552-8BBF-4268-8670-D2CEA2D1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0D90F-AEFB-4705-BA42-6E87DB75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41916-1941-4D60-AA74-49ED829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3C262-4346-4135-864B-F8C03F3D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619BB-7FFC-459D-B446-C4E704C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90E2-BCAF-4FD8-B0AA-6E896A6A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12CB7-FEDB-487D-8193-477983C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4D9E1-4B65-49F6-A895-3119232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0A826-59AF-440A-B0BF-A9177A31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5AB43-8093-4EBB-95FB-6CDD5CC9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F55FD-F9B2-47EA-8EC6-0CA27FB5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9A464-B622-446F-AF00-2A4AD901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C61AE-34F6-42A9-991C-DE1BDDE6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AD9DD-5367-4AAC-B79E-8C63394D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B3449-62A2-4832-A4FB-EB8A8F9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5DC2A-A0E9-4E41-8E6D-AF242C7B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3E5C-4E96-4DDE-A4DF-325E4D8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11889-5487-4B6B-920F-01D70F08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D9E1E-B9A6-47BF-BC25-6C9F5BC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4CB76-F68D-43AC-A77D-AB52C0FF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6CFCB-8346-4BDC-B59B-EA07169E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DB0735-CF2E-4EEA-869F-25CF91FB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807C7D-D4BA-4316-8F3C-54A68E00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8C798-820F-407F-8C99-37347BEA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A4DC5-8139-4737-84D8-C7F07AC9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98966-36F0-4990-B15C-9B5FE96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3F9D2-37A3-4DA3-8C19-41A05286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3C9F-3A18-4DA1-A843-078CA37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C3E68-D732-49BB-ABE2-93C07FA0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7EAF6E-0970-4D6F-8428-E942DFB2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348D4-482C-457B-A6C1-15F932C4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67D15-1CB4-4843-96EF-5AC2DA70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AB5AE-0931-489E-AA0C-1009CEF2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A51E5-5B27-4AF2-B94A-866F4D10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B9A00-21E4-46E9-831C-BA83DDE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C6BF7-1A6A-4857-B607-51B6BF9C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B9940-A6C1-4762-BE74-BC718204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8061B-CBA8-478F-BC3E-811A981B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E609-E1D1-46EE-9D07-D43D8D16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39FD43-80A6-46F1-89DF-909971C7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3071EE-87EE-4000-A922-93DEAC4F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809BF-FCB6-4811-9189-E083054E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94B26-CCD7-465A-83E6-25DBD0C1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ADF99-9C2C-4D28-A5DB-1228E6C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9A1DA-0864-4332-8892-E2D01680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A9AB0E-B02C-44B3-9F78-E9CB325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83888-CFA8-4FEF-BF49-432EB8CC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891430-3057-4069-A264-9467CBB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FB18A-37A6-4DDF-9D51-8692563A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B4DB-99BB-4E69-8C25-D72A3910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BE6829-2EE0-4451-B7CD-86534277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ABA870-E1FF-466D-8DC5-00B4BF3F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47D116-9453-4891-9774-65826CA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FBD06E-C071-4AAA-B833-5973F305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54682-5C9E-445C-9567-437DDA5E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39C9B-B827-4887-BCB7-7D15DB5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B1B62-ACDF-43CC-9F54-A2C41A73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AFD50-12DC-4EEF-8073-B13275E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945925-DDD0-42EE-898E-D195F09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6F52D-08B1-48ED-BDBE-9AE6679D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9CBC-A81F-48AF-AA48-1A87DD2B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CB831-A082-4D10-9462-4369807B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0F6379-73B9-42C5-89FE-046B0D74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D799C9-1EC5-411C-A4B1-1127C9AB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F0408-CDB0-45E9-9C46-4F018C5B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542A9-C9F6-433B-9812-8AA2A7D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419E2-B410-4A5F-B0EA-0E695699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EBA70-D0AE-48A5-ABB0-A6A4A820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46F0A-FADC-4BD5-B876-04DD52C7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3E896C-22FB-491C-8215-5B8E9EB3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5567F-2344-49FF-A949-C288F70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268-8424-4EA2-967A-4DC7EBF6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9FCC-5570-47DE-8843-D827969F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94062-2926-4DCF-9277-B1B688A6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4B549-FF6E-4888-9D6E-5E779317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DAADD-B2A5-43C3-ABFC-E8C2689A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93914-9490-47C6-A41D-D141D5A2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647EA9-3ADD-4ED3-84AB-64881B5B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74CF9D-BDF7-4C3A-A4F8-98013AA9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8261ED-EAC9-451C-82A3-70084E4D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A21A9-321F-466C-89C7-61EE375D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1DED1-2D31-4F03-A728-0AFCB23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CF37B-8CD2-4192-91A0-AA55968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D034-111E-4632-97B9-E171241C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3E71DE-5503-42E8-9DEE-2B129CAE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A4E3FA-BCE2-4DE1-B370-61D0D31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F05277-C674-450F-80BB-0E4DB5A6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762DCC-4F91-4890-B9F1-3C0A945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22216-867E-4B4C-A07C-4C71AE3E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990E91-BCCA-4F14-BCC3-FBE6E852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B4514-4C06-418C-B08C-879B5B25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F3329-6A15-42BC-8458-9EE9EA0C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BB6A7-DFE9-4776-B1C8-4E559BF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1609DF-95DD-4A2F-8F02-18F228F2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7CE5-FB49-44D3-9721-10986781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A0B56-09F7-4639-95CD-4124EB6B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6A776-AE09-4508-BBB8-1823E7B2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85D2B6-C920-4EFE-A0FE-B29BB56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7AE7BA-A528-4950-82FF-5543652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8114AF-29E6-4615-80FB-62F695BB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A79A2E-3AEE-4743-BB65-C23B2DF7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2DE676-530B-4776-8D4F-814A9150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36841-D41A-4648-A424-E43DA730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C799AC-197D-41B9-88B3-B6DCDD5E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784FE-50D9-49D7-8655-C35224A0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BC7E-C599-4553-AE16-37D66DB3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13C7E0-1F95-4ED2-9E50-4DD0C5D1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20308-2C39-4AD7-B251-AE018FF6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DBED3-8E91-46B9-95EB-B5624675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AF48B3-87E7-4E72-AE03-B0D3DB1F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F768E5-5FBB-4717-8BF5-9BE1A6D0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378FC-9306-401F-8633-9A33CB3D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217EC-2BFC-4BF3-B16B-F17953D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5B3E49-56D7-42BD-BE3D-B456710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A901D3-17E1-4B4D-A8EE-13F7B7E6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EB72DC-5E7B-4F60-AAF7-856D3D5F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12D7-216B-4358-BA5C-5FE6B4B9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D9AF9-9D19-4DC2-AF61-88BC6B6E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7DCA0A-0CDD-4273-A070-2126DA3F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33AD6-458D-4B6C-B90D-91797F8E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E3EF2B-EFF0-4404-AFDA-0C96A062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A1071-D3AD-495E-B28A-5B8E9994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4EFAF-4DE4-4CD5-A2B9-764B1F33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5F5F50-F73A-45BE-BFC4-45FDD31F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00279-F966-4886-9345-1FE6C2B4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ECEF9E-9E3B-4DFE-BB7B-821F554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3E82A5-D6D5-423E-8191-DA18CA5D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0F70A-5811-41B4-A851-733CCBC0E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0B77B-A7E2-4ABF-804F-31F25355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0278F-DFFB-4051-AFA6-A86D1176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3E03D2-F797-45EF-BF56-0D3B170C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E6EAF-D362-4A00-993F-2FAE4D3D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61A7B-F9BE-424A-84DB-7B84D1F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6E0CD-D4AA-43C0-84C0-33FD6065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B999-6418-4578-B3F5-6A71DE00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6A7-379D-40EC-A3DF-86C496BF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4D54-693A-43A9-A9B3-22AB7128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A194-511E-4EBC-90E4-2A0D4BC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C213-7000-471A-A488-9235FCC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518B-AE46-4A04-8FE6-CD999A9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00A2-CE9A-4A63-A50F-EA82B15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23DE-D0AF-4FBE-8105-77C2E02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0A207-BC5D-48FD-BB74-2C5A4E08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E3F30-DEC7-4096-959B-D055C0B7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4209A-CF6E-4E12-9DC0-B55AB646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28E6-7F74-4555-8D12-D3F288C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FA6-A929-4B5C-9CB7-CBF02D3E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5B69-69B8-4BB5-87C8-799B062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DEC0B-87E9-4BD4-B755-F9506FC8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8048-0375-4307-B99D-E2D4FC1E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3EDB-837F-4E61-A65A-BE79091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7E83A-BE1A-4C85-BE4A-0C3792C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E2175-4DA5-4EEC-A7CE-A44FDE5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707C-7290-4843-805D-C52B2C51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5C20-1D90-438D-BECF-28EEC04C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B1233-3696-4C46-A13D-0D705A76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D5E2-BC4D-4E7D-8FA7-B007A3E1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29B-50DC-434E-9C18-C8B1FD0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9FBF2-F6CC-4DD0-8EB6-52C81455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BDB1F-40AA-4C38-AA3D-CFFA077A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E1DFE-4EE7-4542-9940-CC9927A3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D44E-F76F-4EBC-BC9C-5718F5CF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F4B1F-708D-4C11-8AA6-5783F7E6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5FCC-10F2-496A-8B75-E4E6260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9C05-C8C9-44F2-98CE-858DF0D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43D90-5CE3-465D-8721-B573296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0A04B-7ACA-433C-AB60-9C2F071A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60251-50AE-456C-BB6B-8A8A055A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43E-9AEA-412F-AFA6-E6F9ADB6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9F93-D6FF-4ABB-A288-30B0FAEE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2639-C81A-401C-947B-47C57AB1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62AE8-2FA3-4CE8-9301-B8E057F1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82A6-DD60-4715-95BD-6041B169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A7B2C-B9A3-44C8-BC85-B4D4B700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838D1-98B3-443D-8165-78809CB7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67295-4259-4799-A626-4E1F5C7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F5D73-AE89-45E0-80BC-5A0AC8BB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CC73-A099-4FA3-92F5-972A8A82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CC58C-9B20-42F0-8800-1C1912E0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538-A4DD-448D-8723-3400F44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C7F8-BF46-4BC8-B510-8A65218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5B17B-EDA7-4917-9D98-6671731E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7C6DC-F1B9-4DAF-B1A9-86357752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49078-953C-4A14-A770-82A98B8E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8B06-C965-47AF-A8FB-6DABF2CC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F3A9F-D800-4619-A361-7D09A82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05AA8-311E-44FD-A0DA-78175D0E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3AA30-E6B4-42FF-A7C3-FA4F31DD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D7110-2580-4D6C-8104-40EECE07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45F7F-4079-4746-9C54-9B66D24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CEC-74B9-44ED-87DB-89810E0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AB6C7-88DC-4781-B3BA-848346C2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553DF-2DE6-4706-A2FA-C858959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CFB4-DB34-4589-86D7-B37609EE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E1B3-3A13-4405-9602-B22F1BC6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8DBDA-B39A-423F-98FC-1353F24F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787D-F668-4D6E-BD3B-EC237111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00D73-D795-46B0-B651-775DEEA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88688-8EFB-4947-A302-114150D3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9F91-6A15-466A-B110-2AD86E1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C4934-E333-43DA-8D2E-597E40A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D88-DC4E-4126-B9DE-DE7A4542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D6F5A-B8B2-4E3E-B631-F799120A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D61C0-D4DD-484E-B170-86BABA48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C8BF3-6B11-4B26-BADF-B55E59E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E666B-B975-4F07-801D-F939C20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5837-F380-4C4A-8099-440FCF6A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E2CBE-6749-4F6B-9CDA-EFD0FBB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E8694-FF2E-4BF9-98EA-00D3530F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B9F8E-7B43-411F-B569-831D0996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FE01E-CA5B-49C0-8B8C-CC17B805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CDAD2-D492-4719-82C1-CC6C92C1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C707-5FE4-43EC-BE82-2B403972E8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A86D-00EE-46AC-8706-A4841B84F9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56A3-45F3-43E3-9781-C24FDA2F7B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338-8571-4E25-AF0C-598976EF06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1D5B-ABD4-49FC-813C-5587A9CB42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6BC2-E1B6-461B-B83F-D25B90774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1CB9-D435-4E40-AE8B-800A268121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859C-0716-4BB3-8F5B-B13F94F0B0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B343-AD50-43E2-8716-EE345088A8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E281-0F26-4658-BBDF-3A5DAA2405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DD8-B563-482A-BC3D-9C2AA997ED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82FE-43BC-468F-857F-430CD63E5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FE7-B877-4F06-9070-5AD10B0266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72C6-E69E-40D8-8790-A7BA47DDF0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7AB-E458-4C11-ABBA-E32C9FD99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E472-A83D-4C95-81AA-6F2195E0F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D8F-2943-4D10-9B23-99922D5AD8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D8E9-F04A-4605-A95D-77B8FD233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631E-CBB6-4C9A-A4AC-387AE6C55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42D2-11E0-40B9-89EA-96C0B4573C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1BE3-54D0-4D94-AE90-ACEE8D284F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DB1-59DC-4495-87B0-870F1F001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EC58-049A-4FD7-B25E-15AE36C23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B48E-C5E8-4898-BA8D-D94FE3984E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40AE-6FD0-4F7E-9080-FA4CA7A1C9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7297-6C54-40E4-9446-347BF5C0F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8F11-B2E1-45AF-A8AE-00D24803B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09E1-5D1E-44F4-A1A6-6468E3404D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5B5-4A60-4747-AA0E-ED1C08619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1B72-0332-4B8B-ACEC-DD259B58D3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3085-66F5-46C5-82D6-DB75E7688A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66AC-510B-4F9C-AE7F-E82FA423AF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BE8D-419D-461D-9BD7-259A0F3828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9EAC-0843-4F11-890B-4DC3D80AA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EB8-D341-43EB-B80E-A8AABCB086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C55F-A472-4DB4-9B2E-6C09C42BF9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971C-B4BD-49A7-9D28-98899C747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1A47-1389-40AA-B717-84BDC2278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1FA0-AEB4-4900-9AE6-BB653B403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DEB4-A788-419D-9DEC-4C02CA4BED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71560" y="3057480"/>
            <a:ext cx="5600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9633" descr=""/>
          <p:cNvPicPr/>
          <p:nvPr/>
        </p:nvPicPr>
        <p:blipFill>
          <a:blip r:embed="rId1"/>
          <a:stretch/>
        </p:blipFill>
        <p:spPr>
          <a:xfrm>
            <a:off x="285840" y="1766880"/>
            <a:ext cx="8572320" cy="33242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900000" y="327024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00000" y="3890880"/>
            <a:ext cx="511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9" descr=""/>
          <p:cNvPicPr/>
          <p:nvPr/>
        </p:nvPicPr>
        <p:blipFill>
          <a:blip r:embed="rId1"/>
          <a:stretch/>
        </p:blipFill>
        <p:spPr>
          <a:xfrm>
            <a:off x="314280" y="666720"/>
            <a:ext cx="8515440" cy="5857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771640" y="541656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516720" y="54450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276720" y="6093000"/>
            <a:ext cx="136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652320" y="733320"/>
            <a:ext cx="7839360" cy="57913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187280" y="14558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116000" y="2133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1116000" y="276696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1042920" y="472428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971640" y="540216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971640" y="6035760"/>
            <a:ext cx="49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600120" y="1671480"/>
            <a:ext cx="7943760" cy="3515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3924360" y="175752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755640" y="2421000"/>
            <a:ext cx="1655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5580000" y="4019400"/>
            <a:ext cx="237672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2700360" y="4494240"/>
            <a:ext cx="23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781200" y="1576440"/>
            <a:ext cx="7581600" cy="3705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4500720" y="2608200"/>
            <a:ext cx="36716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67164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4443480" y="3948120"/>
            <a:ext cx="367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880920" y="1576440"/>
            <a:ext cx="7382160" cy="3705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3708360" y="2133720"/>
            <a:ext cx="4608720" cy="934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722760" y="3213000"/>
            <a:ext cx="322560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3708360" y="3889440"/>
            <a:ext cx="32259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0" descr=""/>
          <p:cNvPicPr/>
          <p:nvPr/>
        </p:nvPicPr>
        <p:blipFill>
          <a:blip r:embed="rId1"/>
          <a:stretch/>
        </p:blipFill>
        <p:spPr>
          <a:xfrm>
            <a:off x="314280" y="958680"/>
            <a:ext cx="8515440" cy="5134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042920" y="3052800"/>
            <a:ext cx="583416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900000" y="3716280"/>
            <a:ext cx="583416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971640" y="4307040"/>
            <a:ext cx="583380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26920" y="4998960"/>
            <a:ext cx="799308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276120" y="806400"/>
            <a:ext cx="8591760" cy="52866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233352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826920" y="35733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900000" y="4221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826920" y="4840200"/>
            <a:ext cx="5400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24000" y="814320"/>
            <a:ext cx="8496000" cy="52293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288144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3995640" y="2924280"/>
            <a:ext cx="288144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1042920" y="354348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826920" y="4149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900000" y="4797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755640" y="5445000"/>
            <a:ext cx="705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4:4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