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D21-5F0A-488B-A11D-498FB426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2D3-62DE-469E-974C-9509EACC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E2674-E2D4-497D-B397-D2EB267C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8C334-5736-4452-A830-53BAC042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76C85-880B-42FB-857B-DF0598FA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30415-8C5D-4520-9A27-8ACCD8D3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F0C6C-19CD-40AD-84F1-1AA7D2E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10147-83D9-4BCA-B81E-84BB9FC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56215-838B-4F88-AD34-F9E3ECAF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178FE-BAEF-45DE-836E-6A16F974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3CFE9-F5C1-4EC5-B6B5-ABE8457F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ED8C5-14DF-46A5-B05D-10AE6CBE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246-582F-4CE6-9C55-C82A3674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2D7F3-1461-4A53-96B2-BA8E6C08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3C154-ADB0-4F74-B450-89D5DDF9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1FE9D-7314-4BE6-A107-D0E6C533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45A85-2A98-4921-8B7F-C7013F86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CB366-F30E-47E4-94BA-89771BDD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89163-D9C9-48FC-AD32-16915AE3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E0BA7-A65E-44D0-AABF-46D777BE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D2A0D-DFEF-4535-86F4-E6B26BA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BB935-97EC-48C6-9E57-5FD766CC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D2B9F-7E6D-4A1E-B63C-660C349D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FA0-33CF-4889-9302-399760A1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DD1E3-DA0F-4726-A6E9-4BC3D817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3D1E1-DF58-47F7-AA5B-47989C28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3112A-AA4E-4D4F-9503-22779541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20DE7-8CA7-4DA4-A5A3-2E771459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48418-51E0-4257-B2E0-2B00BBDE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A5B4F-D31E-4D70-BD23-5432FF24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0C5BA-D799-4E61-9C54-8393DCF6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4D38A-B7B4-4A40-B725-3BE97D85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4DD00-0F6D-4501-AEF1-F993264F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AB925-492E-4E72-A753-BD30A3B1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D099-9BBC-42C5-9DA1-22A77219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1C5E3-FF1D-421B-A4C6-D2302847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17EAA-9965-44DC-966F-973ADCC9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65DE4-97EF-4F2D-95DE-D5DD6022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82053-F41F-47A4-B298-4408FE44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AAE3F-C3FB-4348-9790-AE4E9E2E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5553D-1C2A-4354-9CB5-89289854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FB60E-0C4D-4726-BB8D-DA59A304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C0E07-0376-4C7B-A073-90D5018A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B96DB-9209-4D09-96DF-BDAACF8D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134FE-FA53-4AF9-AE46-892009EE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51B8-1E20-4839-A522-CE98FE2B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F5154-F8B0-400B-BE7D-86DEF7D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84BC3-9B49-4687-B5E4-77934D3B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DABB4-9C8F-432E-96E0-1E82FE6E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07190-8D4D-4B8B-934E-681284C0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FFF66-2C85-4A42-825E-E42DB6C5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761F7-F11B-41E9-80E4-29C86829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8AA4D-8E90-4135-B8AE-F3BD5B35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ECBFA-0F0D-4E04-AC37-70158F51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5D4ED-9181-4BEA-BE16-973CC3F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F5A43-6273-4E65-87FE-800F4EB1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BF34-CE1E-4BA7-8D79-5F7A04CF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9192F-0039-4E3E-BCD9-7255B631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E5AE6-E72C-482A-99BB-9BF55D83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3F62E-3324-4568-B7BD-A4BFEFD5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9F9C3-4C61-4A8F-B4F3-9375BD47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41A63-4631-4A8D-9D5A-CC1F7318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3C94B-200F-44F7-B05C-B30E17A8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A1617-0CD7-4E1D-BCA7-34D4F477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7FED2-45AB-4D5A-96F1-6E5927F6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357AF-2179-4CCB-8D6B-EEFC0A82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38700-1160-476F-9E0E-BC7E7978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CBAF-9A8E-4237-83D5-BC99DD1C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0AE26-C961-416A-BD2C-7AB8FBCC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FE86F-4B5B-4BA0-87D0-BA2C8957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C6D11-1222-4C39-AC6A-36A01E8A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76198D-A314-40F5-8383-19B231E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5A0D1-DBD3-4E07-ADD3-7E90DAD8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6B092-3F4E-4E59-BC4F-C6B375E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27AE1-301F-40C7-8A4B-16355118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B45E8-BECE-4461-A465-6C6C7721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33903-5811-4345-A6CE-36B53A4C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D4EBCC-D4FD-4780-8A21-DDC425DC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71AF-CD21-43AA-9D5E-35C957A8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59D2E-364B-438D-9BFA-2BD23FE2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521F6-1D5A-4406-AF55-181CBA5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84092-D39A-42FF-A550-370AD00B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11D7D-9C31-4805-BE41-F5E33106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3E5CB-E906-4A63-A7B4-0EA739D1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124D2-6833-457F-8FCA-76E02146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072D4-89BF-415A-B91F-4DD3E79B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34F26-1AA6-40C2-8E2D-8C10EA0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A1777-A396-4955-96A5-AEBA1C81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E9B6A-4B24-430B-9B4D-776E6208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E628-1EB7-43B6-A676-1A62D2F2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57E14-1C42-4179-9174-49B9D205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50D59-7723-41C6-94B2-D0E391E6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8DA5A-CC45-4630-ACD2-D3EFA579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9C1A0-9855-4124-B8CD-8403B7BF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1FFCF-1924-4926-B25D-F93A6E30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B3C63-1A95-4403-B619-B27A3496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2E888-070A-4F9B-8330-E02B27EF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2E32C-D3D1-4ED8-BC19-736EC3EC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244E5-7467-4A9B-999B-5B5491E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C4793-0A42-435D-861C-E221B13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E186-396C-4FD9-B490-870BF6D0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24DE4-017C-465F-A55F-7D5AECB2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D023E-93B0-42D7-8085-592A268F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8DC09-A734-403E-A233-0287EAE6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25C2F-059D-46C5-B8FE-A3BBD61F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6C6CEE-ECB3-4F7F-8426-09F02250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B0A871-5A17-41A5-8E12-AF9B883E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C4C35-78F8-4C4B-85C0-8CAFB78F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8F942-5246-45F7-A707-9A0855DD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595505-F5D7-46FB-AF9A-2537694E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D7742-2032-4E9E-AAA6-CEBACB3E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1C8-DEE8-4A64-9C1E-6BA42726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5A4B-C2C3-48A3-9103-1E6EEFF9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A2FD8-06DD-4EF5-BC07-FC73C3A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C2B64-6AD8-4456-A415-3A4C4C8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B1945-471B-44DF-AE36-1A4247DA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3D3C9-4B7C-4C5D-81AE-09786B9E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9F7E5D-4789-42F8-9862-0FDA65D7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88EFEE-10F6-40A2-85AA-78618672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D00988-61CA-4831-A123-9CED0E72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819EF-0F52-4BCE-B777-B1B7398D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D65723-0606-4910-B4A6-7F72F31F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496A6-EA27-481F-A363-61E1B6AD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70C1-0DE1-41DF-8D15-75A08A2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CC81B-9F7C-4A30-891C-72312866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D7BBFE-FB84-4130-B3CD-E7BAF824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18937-6279-4C94-88C4-FC16EC9E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7447C-873F-495A-8128-F0F41CFC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8B9FC-4CD2-428E-B5EC-02C0E806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EF5BB-CF2A-4786-BB1F-CAE6E7C7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8A1B01-0C4E-4E21-A691-0ADA2169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9A660-610E-45A4-9A9D-97CF148C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DD64B-D181-4653-9691-AF31A204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6FF03A-2EF0-42B4-9F29-FE3AB7C4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7B2A-C911-4476-93F7-1AA74C0B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324F1-C325-43D0-908B-674EBF57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136EB6-A1E1-4E97-9016-36282AC0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B73BEF-8872-44C0-8E0D-57201200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DBD05-0268-430F-84DB-B0A0FABD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623CA0-7FE4-407B-80C4-5AF4AFAF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8905F-8591-4850-914D-DE836400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A59B5-D466-4477-BAB9-FF8F2F25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BEAFE1-EE70-4C8F-BE3B-D5C3A228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23B7C-00D7-48E2-9640-1C6403C4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9ECEB-53C0-479E-AADF-272A85FC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DC5E-1C95-4DD7-84D6-53877D9F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4E424-D871-4838-B019-923546F1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D81CFC-3596-4DBA-AD84-804CBE8B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ED338-C6B4-4BA5-99A1-2D89D7AB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23AACC-C002-451E-A0DB-15E17B8A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420A3-5486-47E3-A927-CA7378EC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88FAE-6643-4C33-A471-47208836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F80AD9-3B14-445C-A75F-E92A9DB9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29369B-3442-4712-875A-9DDCABE4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4E97D8-A63B-483F-8DE7-2592E123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20F2D-D423-433B-8407-9F9DBF4A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9F96-B2CD-4B75-A377-990E81E7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4BDC6-4B24-4241-B8E3-288C4E28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8593B-D347-4A91-B87D-2C1F84F4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81FC92-828B-45F9-949F-06BB1CB3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DF0515-77E0-478B-B588-C6D3214C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3AB233-47BE-44F7-9755-788A3FBA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5B5D9B-CE92-4A31-ADC7-20D2F5FC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D18BD8-9E98-4CFE-89EF-D85BA58D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FF40B-046E-46CD-8B2C-60715F6E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653A4F-5D06-4594-B26D-40158ED9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BB829-42F6-4078-ACC2-32FC3B3E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DA3E-C256-45E6-B6ED-9F8D8345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FC0CCF-96CD-4F22-82D4-B11EFD78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3C1DC7-D191-4AAD-992B-B5113712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624CB9-0AFE-4E49-B6BB-0185D489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3DE7-EB14-4C8D-9638-B5DF145A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9702-E9FA-4186-8248-7D0E160A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C913-C966-42C9-89BD-666A2755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5D78-FEF6-4809-950C-716C8E9D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5E4-0B1D-4D78-AA8B-77B2EBF5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FE0D-2C3A-4980-A237-737093A8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D10D-C2BA-43A2-9F2B-6D5E60F9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3804-4B05-46CA-8C95-F479CC6C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0C6B-BF0C-41B9-A141-26D187F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85C3-2310-440B-972F-D2E57759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44C0-61C3-4646-87E4-3E080995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6FA4-B090-44A9-BD9E-75D124BD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A32E5-3A64-4039-9036-94876730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36AF2-A736-41AC-BC0B-5948EBDE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763D3-274F-431B-915B-F01601E6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516-4467-408A-9D71-9A2A9CF9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E7D2-74AA-43A9-BFF9-41E80F97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3525-A9F6-4729-BE5E-E6998CCF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33A64-34AB-49C6-A705-70A2D2C0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9670-BAC0-4C3B-90AC-E101518E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A631-79AA-43BC-9DAD-C3B69719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80CF1-0912-41E6-BB81-FF58AD53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37DB8-3502-4EE6-8FF5-055597C6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DF715-4154-4052-953D-698DD570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FD49B-8196-41B6-A898-4C4C2CAF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4CBB2-E5BB-411E-9F03-A2A0B550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8F0-64A7-4E0E-BD17-66A7D64E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0E403-05BF-4DEF-9715-38F70056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6B437-4AEA-4E98-A1A8-B4D1CF47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53A13-8D4D-4852-967B-B578ACA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80EF3-A770-4321-B843-890B3CD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22AFF-8A9C-430B-B305-C67BE967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C844-FE03-4604-A5A9-9CFE8ED6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9538B-3869-4966-8DCD-0C89AAC2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E73BA-C673-419E-B47E-2BCF21E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8E12A-3329-48F1-933D-F2A91556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03985-68BA-4CF4-BF38-6E3749CB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278-30E7-4DC4-85F4-14F6A83B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5BD4D-B41D-4BCB-9AEE-C17FA40F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73DCD-8359-4893-B809-83312FE7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BCA1F-E6DD-40FE-AA09-3C113C38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78E72-7539-4B36-B594-F09E3FF7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8146B-74BB-43CD-96D9-9FF146F4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2AB5A-FE2A-436F-B387-280C54AA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CC09A-342D-435C-8479-AE8EB449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ECA5-6A3F-4622-ADB5-ECEB76A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0903E-C498-4ED5-83B5-6BFAC8DF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2358-F5B8-4AE3-A0F9-8701C914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535-8C63-44ED-AA51-5B1B6489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840A-0D9B-432E-9056-D01FA145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AB384-38D7-4208-AF83-17138FAC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13ED1-BEAF-4FBD-9251-D49AE51E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1952A-8C25-496F-8642-A2FF5264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80E59-CD0F-44EF-A985-7BCDD410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7FF4D-AF21-45E8-B6A8-101148C1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60FA3-A167-4D0E-9195-88754542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93720-B79C-40DD-87CC-CA55410E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85124-BC8F-4A1F-85B0-F093DD8C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1132-7205-4428-B704-D34FD4B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D04-8470-4604-AEA3-E7A04ED6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8E4B-1AC6-4A87-AE62-2EDC8C15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FBD02-258A-4FB3-ACC4-EE8E882C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C3D10-38BF-4231-A946-D03D7B12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6C87-C7BE-4818-9199-C9272286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1621E-6ACA-48BD-A6F1-A244AC0B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EBA77-2B8E-4ED5-A000-EC35B8C4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0771F-8952-45EF-9D23-FBF3F032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49942-9387-4BD3-9220-3B93B8F8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BC0FD-E3ED-411D-B94B-C3C61CE2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56DD0-BF0E-4988-81AB-2A2313FC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A79-EAFB-4658-8B17-73B17A1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ADC08-1079-429E-B760-A797D8DA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FED04-CCFD-4EA8-B9F0-E821510F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4DEFB-CBAB-4243-B349-31F225E3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37740-9137-4B69-83FB-96A2806D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2C753-CCB8-441B-AC1B-82A89569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0A9D7-2097-47DB-B831-3EE2FC12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BE051-D4F6-4B0B-8F38-FEC580EB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6486E-4A5F-4A89-A1DC-57788994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6F26B-48A5-4978-9DAB-D0A1160D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4E261-5373-49FF-85C9-845DCD92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6D9E-6B81-48B5-B271-DD602D07C2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00EF-8FE8-47A5-ACF4-12EADEFE74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F425-4231-4CE1-88AD-BE4188377B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1976-36EC-4DA4-958F-2DC99B71C4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8480-818B-478E-AC5C-B5A61B762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B0AC-6417-4733-8240-8BEDB3F7B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671D-A0BB-4636-9FFE-DD77C42FBA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A42C-2A00-440B-A86D-0FE9F55EFF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29C8-2E3E-40CC-B28A-15EF2B1227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AE87-BECF-4681-8193-3E44E6EEEF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1E01-CF01-4852-AB58-1A4BCABB45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8971-DBBC-47AD-9217-064A97AEF4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9ED8-B358-46A7-A16E-1EE8C771F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00CD-D86D-4507-85F4-34794F772C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E8DC-ADD2-4A62-868B-7EBBB4130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4C40-2A1F-4DFE-BE7D-F53416C0E8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3602-C214-47BC-A907-41D52D200C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FC7D-90CD-48EA-8D5A-E78F66C70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5330-045B-40ED-A672-802A55BAFA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62A4-BD10-46C2-999E-40D065730B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FA90-DCD6-481D-9540-9B78C12CD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DEFB-CE2F-49EA-A192-AEBC95B243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AB74-003E-4546-84E8-3CA9215E57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25C6-891E-4646-AAEF-28B2916C4D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F319-2795-44CD-B913-C3814EE5B3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9197-EBD4-48D5-954B-9E19D5EE62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B4A4-EA15-4BD5-A0C7-BD8BEBE6B3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71F8-0F94-441D-BC4F-D741ACD729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D404-84EE-4982-83F8-38A80B2AD0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ED93-5B73-4BD1-A799-45EDD77CAA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6093-9D11-435E-8EA6-F234830F86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B57E-B20E-4739-A403-670FE860C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9E2D-37C9-4B0D-B5A3-4A7F706AFF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0B7E-6B1B-4E01-80B4-6CCC1E8961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A764-4176-4C91-B293-D52255B0FF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BF7E-1A31-4FB0-AE33-4767EB25F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A1A6-A7E5-4377-A836-2AE3A51E7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861B-B8D5-416E-905E-25D3F871B4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18FC-D2AC-4A41-AA15-13FB481273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D153-94F2-4544-8EDB-65C9A85E17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2790720" cy="12668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81727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9880" y="343080"/>
            <a:ext cx="8544240" cy="6172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908000" y="165744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979640" y="230508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979640" y="292428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1979640" y="422100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164360" y="422100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3276720" y="486900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8223120" y="4854600"/>
            <a:ext cx="75564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1533600" y="5473800"/>
            <a:ext cx="75564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6732720" y="5445000"/>
            <a:ext cx="107928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4859280" y="6093000"/>
            <a:ext cx="10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9410" descr=""/>
          <p:cNvPicPr/>
          <p:nvPr/>
        </p:nvPicPr>
        <p:blipFill>
          <a:blip r:embed="rId1"/>
          <a:stretch/>
        </p:blipFill>
        <p:spPr>
          <a:xfrm>
            <a:off x="314280" y="800280"/>
            <a:ext cx="8515440" cy="57243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3564000" y="142704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7020000" y="14270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1908000" y="2060640"/>
            <a:ext cx="108144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6443640" y="20606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7740720" y="414972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7812000" y="4797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8"/>
          <a:stretch/>
        </p:blipFill>
        <p:spPr>
          <a:xfrm>
            <a:off x="7812000" y="6006960"/>
            <a:ext cx="719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8373" descr=""/>
          <p:cNvPicPr/>
          <p:nvPr/>
        </p:nvPicPr>
        <p:blipFill>
          <a:blip r:embed="rId1"/>
          <a:stretch/>
        </p:blipFill>
        <p:spPr>
          <a:xfrm>
            <a:off x="347760" y="974880"/>
            <a:ext cx="8448480" cy="5190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4716360" y="2867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619280" y="545940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2916360" y="465300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4211640" y="54594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5364000" y="4653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6659640" y="5445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7812000" y="4581360"/>
            <a:ext cx="79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7352" descr=""/>
          <p:cNvPicPr/>
          <p:nvPr/>
        </p:nvPicPr>
        <p:blipFill>
          <a:blip r:embed="rId1"/>
          <a:stretch/>
        </p:blipFill>
        <p:spPr>
          <a:xfrm>
            <a:off x="314280" y="487440"/>
            <a:ext cx="8515440" cy="6181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98480" y="2463840"/>
            <a:ext cx="4392720" cy="42480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456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6324" descr=""/>
          <p:cNvPicPr/>
          <p:nvPr/>
        </p:nvPicPr>
        <p:blipFill>
          <a:blip r:embed="rId1"/>
          <a:stretch/>
        </p:blipFill>
        <p:spPr>
          <a:xfrm>
            <a:off x="343080" y="985680"/>
            <a:ext cx="8458200" cy="4886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2124000" y="540216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6156360" y="5430960"/>
            <a:ext cx="10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919080" y="1747800"/>
            <a:ext cx="7305840" cy="3362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2050920" y="4581360"/>
            <a:ext cx="144144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6372360" y="4522680"/>
            <a:ext cx="144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4276" descr=""/>
          <p:cNvPicPr/>
          <p:nvPr/>
        </p:nvPicPr>
        <p:blipFill>
          <a:blip r:embed="rId1"/>
          <a:stretch/>
        </p:blipFill>
        <p:spPr>
          <a:xfrm>
            <a:off x="704880" y="1185840"/>
            <a:ext cx="7734240" cy="448632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54277" descr=""/>
          <p:cNvPicPr/>
          <p:nvPr/>
        </p:nvPicPr>
        <p:blipFill>
          <a:blip r:embed="rId2"/>
          <a:stretch/>
        </p:blipFill>
        <p:spPr>
          <a:xfrm>
            <a:off x="3189240" y="1960560"/>
            <a:ext cx="3581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638920" cy="197172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2232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600600" cy="20383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35600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211640" y="227664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738036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466040" y="227664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2050920" y="374508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1835280" y="459576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4788000" y="373068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5003640" y="465300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8317080" y="386064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7596360" y="4638600"/>
            <a:ext cx="5029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0:0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