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FFD-E165-4A5B-8AFE-2DC98D99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146-13CB-401A-AF3C-071BA957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DF6E0-1AAB-4EA8-B6CB-A49394D1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3AF97-D583-425B-BFC1-60898EE8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69BBC-BA8F-4FC3-BAAF-05FC9E8D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F6897-5706-4F8F-9281-8AF2870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D96CB-A37F-4967-B88C-44370956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53761-E66C-4CFE-9372-6D612AAA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DCF27-0AD4-4108-999B-D7311664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EC389-7192-46B0-9A21-173D6B55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B03F4-873E-4B48-A79D-A23B6E2C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E4ACC-E770-417D-AC27-702F9565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21C-6E28-48B2-9BF7-C253969B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9DA10-F0E6-4B6B-80E4-042B45CD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D036D-6DE8-49EB-B08F-01DCB588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81B4D-7450-4EA5-A5F1-D2CE896F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B7B96-671B-459C-A9F3-A67D646B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E74AB-6566-427E-8647-6890F576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3F8BA-3C48-4256-BB0C-AD274FDE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C980A-8DCA-4FA6-AD22-AE27653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3DC60-C3C0-42A5-8780-45C83F26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1215C-0E9F-47D4-B28F-0BAB020C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6776B-FA77-41DA-B28D-E3038A3A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577-F5DF-4ABC-8E0C-759D5410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CB1E2-593A-4B0B-938E-6F8FF967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2C4C2-90DE-4C20-BC7C-C2D3687D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50200-6750-4718-955B-E70CE9D5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203D6-2685-4A78-BC8B-260906B3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BEEC6-C161-4DDD-B45F-D7D14083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7CF3D-1C7C-41D2-B331-D533EB1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05A82-0B83-4CF7-AB3F-9B98008B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2DC63-CAD3-4D16-A051-10BEEBB3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DA771-3787-434C-8E34-FFEDB4E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DCE95-6D0E-454A-B9BA-9C6A2637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4032-BD4A-410B-AFAF-024BDFBC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270DB-7F31-455B-B6ED-157697C8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BBC68-1C74-495C-911B-87BBAB4B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23086-E2E7-4C85-B28F-E941CCBD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C11BE-AB6D-4F0D-8F20-D4C1A27A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D7FEF-F53D-4EAC-A547-9A386E0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88DAE-8998-4401-AED3-DAD83001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5C8B7-A003-4753-9575-8E5045FA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10280-C093-490D-B5B5-2284A18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5D34F-092A-47DD-A4EB-B68C2C1D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66809-DCDA-4503-928D-6F480890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ABE4-0572-425B-B6E4-05731D19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D53A9-8010-475A-B486-F2D85FF3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E4E18-6C3A-447A-9318-B206AD3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8C9EF-C6E3-4DBA-B644-7FCA3F43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B8694-A6B6-412E-8D16-34FAD5D1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CC340-582E-4451-ADDC-CE55CF60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FE4AE-44AA-4106-BB01-A0E67468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43791-F13C-450C-A9A2-DFCC1F11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749ED-1E6F-4408-ADE8-FFFFA147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32007-79B6-4B54-B83C-81816106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3DED7-FC20-4BDB-9B45-41D2987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FE28-891D-4ABE-842A-72D8BCF5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261E4-78A7-4C41-A12F-E1C567D7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E42B1-87E3-4EF6-9B63-442FF43F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F664E-1C75-4D85-8F14-4B953C2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959DF-D516-46F1-BC3F-498ED7E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74B6C-18F7-4FF1-A0E9-DCEAC4FB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A2314-C0C2-42AC-9371-288FF68D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D2F4E-BC18-44DF-B537-C4AE4047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CEF3B-E9F2-4596-80EE-D072831E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C62CF-B48D-4A2D-80A8-5BBB0B5E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9993A-7C44-46A8-AA52-464625CF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CD7E-337D-42FF-BB80-E384D07A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B88D7-57DB-4CB5-877C-D295CD77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46732-BCF2-4582-8B08-CF37EC13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01BC6-6457-4875-9CC0-2EB9DE93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5E492-5D8F-4F74-94EF-6F1B0F63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1E259-15EE-4F0F-B8BE-37369302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73487-5B65-4E4B-98A6-23AAC6A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B3737-7431-4243-A79B-25625DC3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07CCA-F004-47E2-B7D1-538D6EF8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7360F-09BC-4E51-B6D2-4C21D0A8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6EBB6-EF53-4081-BD41-1E8D0610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9031-5C2C-487A-AB6C-233A424D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CDCEB-ADF7-443A-9397-92C4A7A2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FEC23-C966-40AF-AE06-0A03B643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EC227-C1DC-4C74-B1A0-B1A550AC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C279A-FCB5-4DDD-9EAB-78B2DB4B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159FA-3889-412C-8646-90627DAC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500DAA-10D3-44D8-ADFA-15F910F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58DDC-18DE-4493-9087-E8B692A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C2663-47C1-4184-BCB5-94717FC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D79DC-8E85-4924-8E5B-19E25408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E7223-984B-4511-9413-C1FC6DAD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9DD1-3F7D-420A-B78B-A47871A8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2A333-7749-4997-8381-CFD9B406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E0F47-3C3B-40DE-8A63-803F2143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5BBA6-4FD5-4BED-891D-2B94225E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9E4CF-6DDB-4211-8274-FE178DA7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097D7-4995-427D-9487-0AEDCC96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68467E-80A2-4B0C-A796-5D174C73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C5FDF-4CDC-46CF-8073-EE3F1AC4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8DEC6-C4B7-47C8-8B93-126BC155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79E6E-8890-453B-BB48-A8CFFE9B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AC095-2E92-439A-9513-CF4F91C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70D4-52E9-48E4-BEDE-7E7FBCD0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C336A-B8C8-40FE-935F-BDA1C1FB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44EC75-784A-419C-9468-E79CDDB3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DC218-AF02-42C0-8543-084D3951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12B23-FA63-4AEE-B744-9FC3450A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5A27D-3634-43BC-AB6B-51A49449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90CB4-F2E9-49AB-9207-0491570B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8634A-B9DB-45BA-B721-71C1D3C5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49D5F-D043-41A0-A22F-AC44DB6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A9821-467D-4625-888F-F26174B6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4D8CD-7783-421D-A936-F660B3E8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C72-885D-4C5D-8F64-499BFEB2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2216-31B6-4507-BD03-948562B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A99EF-4B93-403F-9555-6F1F4348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F6B39-C2DC-4AAA-AC6D-20F92EA5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10127B-1022-484B-BD3E-529AA955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59651-8B1E-467C-BF5A-55A21F72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CFB6E-D8B1-40DC-B6EB-5468E5F7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3F890C-C3E0-4933-985C-A0D4048E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E61BE-0DE2-470F-90F0-13336B0F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A63C0-7F5D-459F-94A9-00F75152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4C30DD-03F9-43DA-95F2-EC555EBD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22CFC-9A23-486E-A183-A9CBB070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55F1-7CC6-40CB-8EB1-7077850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1287D-0E2E-4BC6-A0DA-0C17635D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46326-5E7D-4C76-A47E-21251AC4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71CF7-8270-4145-9132-3006C155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9C73C6-8465-45E8-A793-13B68387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73B4C-8B47-4815-892F-D6554D3E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80092-72E9-484A-B417-3B10762E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32D7A-4CC9-4578-B1EE-E35F626F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BA11C-0409-4F21-BA96-39423B73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04DE2-F225-4AA3-BAA5-9ED7F0A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CFB57-FE34-4878-A07E-5AE6D49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5BD2-1320-4766-81A1-B4FDE92D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BBCCB-E5C2-4F5D-B149-A64E32DE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1399A-7351-4258-983D-3402E0FF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EC078-EE66-4CDB-80E7-0A5B63FF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7112F1-31FC-43BD-B269-2AE1BC28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6B85B-B6E9-439E-AE5D-FF30248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29D7CE-BEA1-4CA6-8208-F27BE5FA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9177F-4BBD-4901-98D8-9B7D3101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2BB87-AA85-4E28-A50D-455A6C4A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689ED-E195-46BB-9D54-BFE7C7F2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5F1FE-27FA-4279-97CF-FBAC8FBD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F08B-7415-4C43-9146-3A7BD210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63DB6-3E56-41E7-A2C8-B5F3411B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A53DA-1C18-4B3F-93A5-BDBD292A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89904-038F-4331-9993-89DCC3BC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20066-9086-4D6C-AF6D-670C0057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AFFFD-17D0-48F5-A672-699B0D20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7E2615-5FC7-4FE0-B184-1B3C769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7CD2F-1B46-4CA2-B9EC-15C6CAAA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B364C-D4F4-48C1-8894-7B63247D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D67A1-E7CE-415E-97E1-ED63E27D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67BCB-BAE2-45C0-8B9C-D3FD156E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2D35-5E08-48B4-B452-8435132F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9A963-470C-4825-809B-4D2914B0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F25C10-CA45-43AC-B941-888CACF6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A9D3C7-07AE-440C-ABF3-E52B4A06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26A623-74CE-4B7D-88F2-406EA569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A3A09-8CFA-41D6-BA42-0C91AEBB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2FBF05-D441-4E72-9EDD-BF308C88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B2AF3-6697-4231-ACDC-0FBFE9F1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1B741-DEF9-4385-A09A-F6E384E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EC9D0-8BB7-4F86-85F3-A110D9FE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B7A007-8F24-448A-ADA4-FE99A65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D99C2-6DF8-4A38-B223-E23F353D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4B69A5-97B2-4F74-A318-FE509050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868A3-849D-4F92-912B-937AE7C1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0292E6-5E16-4E40-B9D5-1764FDAD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A719-00F4-49DA-9DE6-9C065793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EDB7-938B-46DB-965F-C012FA98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B6E2-23E5-4375-9AA9-BF2FBCCC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2374-8952-49B0-AC6D-80171EE6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68D-E270-4A45-BCC2-9C239F4F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2ECFD-B8A3-431C-8263-5303F840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628E-A389-4EA8-96FB-3598973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41DD-79B5-40C1-A11D-652A6900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EE0A-4FBE-4C0B-AC98-09EFE2B5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D2DE-55F1-4A5D-8866-4A00AA8A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AD1E-187B-4E66-AA02-A79F908F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36FB-1910-4851-A8A7-CBD82A6A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17B57-59B4-432C-983D-9015C986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3539-E29D-494E-AAE9-DB0D7DD8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F7512-EADD-4DC8-8394-2699FBBB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B09-B075-4A05-9877-D65B11BA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5B6C-A4AC-4A9D-AFBC-F2D09182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827B-EDB4-4B37-AC7D-708D6351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0D14-F828-4BB8-8ACA-EAFC58FF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84642-0939-4F43-B1C9-2D10AD46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5A694-0421-4624-AD72-D2A11770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8AE7-BE5C-4A19-80B0-DC730F8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9E780-B532-43E4-8497-52272617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35972-55B5-4B36-8CCB-2BF0A2F5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9957B-061F-4716-A061-7831D8A6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17EF-F184-4E8A-8D19-45DAB8A2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9A2-465F-4C29-8733-AE49F437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2CDC-6EE8-4D98-9416-9E1E79A5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49FA-C768-4BC3-AC0A-474E03F4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13ADD-0194-4702-88F5-B4FB9BF0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577B6-4AC1-4E3A-9509-CE56358F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F0EA-EC31-4AA6-BEAF-EF1266E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A70DC-7212-4E00-83B0-0E1E224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1D5D6-21FA-4794-886F-5210BD3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40AD-B429-4D92-BC31-F150F187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9D80-E892-4606-A5DC-5C5A2470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7CF66-A783-4858-ACA4-337E339D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B94-76EE-4876-B79D-4F7C6E2D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3F02D-0197-4BF4-85BF-C5B30D36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6E4C-BF13-4987-98A9-84CAEBE9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F920F-23BF-4071-872D-022CC9B7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83014-0852-4DD7-8B47-1392A5E3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6CA39-7E18-4DE2-B441-9A84F431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067E-9831-4E48-B7BC-BDE571AE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0B489-7F1E-4AD4-B210-66C2852F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C63F-FACD-407E-8B66-9654D332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CA50D-5E00-4F73-85E4-27CDD2E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4D66-8E73-483D-A29D-D1E0B472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11F-3B6B-4540-B65D-8F0A2F53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A91AF-AE40-4FE7-A1BD-1B34B19B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E21A-41E0-4EFA-9F2D-AC02E3D4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2DE91-D76A-4707-B396-EFBB675A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6B918-4C6C-4187-A6CF-E984585F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DA822-EA8A-4162-9B8E-48A3604D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15BBC-1425-4D9F-B121-700DCF69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D78BB-46DA-404B-814C-CA254633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36ED6-2072-4575-ABFA-A7CE9E8F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E271-2C24-4D63-8360-CD5D8D05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6CDC0-CA1C-4A93-AA6F-AAAFEA8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261-990B-4179-BAF9-6A5FF0A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7264E-E752-4A12-93E6-1404AE5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E18F1-C1CF-4C2B-92CC-1326A8A4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BB4E9-DA08-4227-A7EC-0CF63301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4EA7B-EE95-424F-A118-E426B161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7541B-C7E4-4A72-A31D-3B2F1EAD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E7E16-2B01-4399-8E2C-9D49E4F5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2E7F4-9CB6-4190-A56D-EA91D1BE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B9BA2-E1D6-4AD9-AC65-58521404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22E5F-8636-4C80-8252-90EBEF95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0649D-5CBD-411A-9248-EFC13D19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877-48F0-4D67-ABAE-127E7C53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4B678-7334-4618-8AC6-6B729195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EBD1E-2358-4AF9-816A-7BC63C1A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91E08-61EF-4887-A813-01355CD9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80D3-5F77-4D08-BC22-0A709F9A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15EF6-E7D6-475C-8591-8B5CEFDF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B863B-A612-432C-A7D1-6B007E1F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CDCB8-5251-4FDB-B7AD-6A51CC13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EC5D3-72C4-4992-8CE3-8663D646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7E022-FE0C-4382-A55D-5F0CC350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9F674-41F3-4A25-AEA5-5349B139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168A-4353-46F7-9457-089C120FBA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F355-AE05-46CA-9B7B-282873AC0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FC2D-27EC-4AEB-B688-41B26E696E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3D7D-822E-47A9-A126-5439E463CB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9AC2-FC9C-4133-BBA9-CEBE269BF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6541-2DAB-4A1B-A784-926C158AA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F97F-1010-4118-9AD2-8F0E5F06B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32C9-6E13-4990-9315-12D19D0A73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060A-0E17-4663-B44C-6BBDA872ED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FE25-F654-407B-B010-C8938F938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0DCA-6A7E-4D23-8587-9672183E54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7631-640C-45A8-A081-28382B8F8A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6A38-B693-4B50-BADD-97B8613352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A7F7-E5BD-4E33-A74D-D3978B7DED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5AE0-44BE-4A81-AD66-3079C97796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6313-B8A5-4753-814B-CCB33BBB25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9363-236B-4D78-A9D5-D8270BF07E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B56C-4B47-4E07-BA89-2861675B6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A020-7DE6-4EFB-A90C-EF0CFA7EBF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FFC0-EFF0-4E6B-AD8D-D78EB4D148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D14D-7242-4C7B-921B-E076F5388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6DF0-E71D-45AD-A2B4-8E977DF09D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E16C-BC5F-4335-8B56-CD6652A55C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7DF1-36BF-4DAE-89A9-DF0AF6491F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C890-4DD1-48C3-ACBC-E1969B899F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64FB-221C-4C8D-840D-BDCB20372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7F2D-B02C-45CB-9FB0-E07449C39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A9BC-F974-400C-9B0C-9AA421984F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FFCB-05C0-48F9-957A-D846F0E850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F740-5C84-405C-BAF7-0C9047B50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4960-388B-465F-891B-EB034D2EEB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ADC5-B3E5-43B3-9831-D8AC2264D7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74B5-8C13-412A-8226-98FE0D169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05A-921D-400D-BF29-1E9BCF3FFD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643C-3F7E-4AD8-A0E2-57F133A838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E952-4CD9-4B60-AC60-06A60A11EA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D752-17B2-42D4-BB09-6249A8F1AE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D39C-E091-4C5D-9CF8-D55A5A4926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C5F2-D3B6-4D52-B5E8-FA6CFEB072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33A2-F0FC-423D-B7B8-7EC9BE9001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57440" y="2938320"/>
            <a:ext cx="58291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9633" descr=""/>
          <p:cNvPicPr/>
          <p:nvPr/>
        </p:nvPicPr>
        <p:blipFill>
          <a:blip r:embed="rId1"/>
          <a:stretch/>
        </p:blipFill>
        <p:spPr>
          <a:xfrm>
            <a:off x="652320" y="752400"/>
            <a:ext cx="7839360" cy="5772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611280" y="735120"/>
            <a:ext cx="806436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611280" y="1384200"/>
            <a:ext cx="8064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539640" y="2060640"/>
            <a:ext cx="806472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539640" y="2724120"/>
            <a:ext cx="8064720" cy="1857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539640" y="4581360"/>
            <a:ext cx="80647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2440" y="880920"/>
            <a:ext cx="8439120" cy="5096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211640" y="472428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08720" y="551664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914400" y="1528920"/>
            <a:ext cx="7315200" cy="3800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4716360" y="4724280"/>
            <a:ext cx="129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390600" y="1595520"/>
            <a:ext cx="8362800" cy="3666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484360" y="450864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4500720" y="2781360"/>
            <a:ext cx="165564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4572000" y="4465800"/>
            <a:ext cx="165564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6588000" y="278136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6659640" y="3645000"/>
            <a:ext cx="165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324000" y="1895400"/>
            <a:ext cx="8496000" cy="30672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5689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318960" y="1509840"/>
            <a:ext cx="8506080" cy="3838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971640" y="3989520"/>
            <a:ext cx="583236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971640" y="4738680"/>
            <a:ext cx="583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314280" y="852480"/>
            <a:ext cx="8515440" cy="5153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87280" y="2476440"/>
            <a:ext cx="4608720" cy="952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71640" y="354348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042920" y="422100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900000" y="486900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755640" y="5546880"/>
            <a:ext cx="53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295200" y="1300320"/>
            <a:ext cx="8553600" cy="4257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4321080" cy="1152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900000" y="351468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826920" y="4869000"/>
            <a:ext cx="7274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299880" y="619200"/>
            <a:ext cx="8544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3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